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204-9176-4BEF-953F-517CBA90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A58-82C2-4686-A4C7-895062A5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6D9-A4BA-4B2C-BDAA-6A793428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545-6259-4679-B0B6-DC46A079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D766-1FF4-4DA8-B26A-C72A5CE1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753C-099E-47D0-B149-4A19D0BE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3C8B-AC80-4582-9592-EF54E726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B77C-9813-4FF6-8AB7-4A18F38B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F506-D35F-4B32-A9C1-FE80DB6D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D61A-F185-4D9E-B744-1A76461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1717-3972-4FC3-835C-1A144243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C74-324A-4E82-9C3E-425AA4BB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ACCF-E843-4567-BB1C-63210C70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EA63-1E0F-404E-8C32-5CB15E6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7767-93CB-4EE4-85D4-E6A6D892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02E7-765D-4258-8F46-352C1EE7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3D16-FEE4-4CFE-B549-D2D4DA1E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6B0-DBA0-417F-A68C-7BBF77B9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9F0-4B36-49C4-A49F-2E5F28A7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C1F-08C9-425D-8497-AC564FDE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B32-2A9E-43F5-9364-290784EA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A8F-28F5-4A58-A5A7-EAF7888D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A4B-DA08-4EAE-BCF0-8CC27163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F88-D663-46F1-B0D5-00429528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\Рабочий стол\Копия СВЕТОФОРЧИК\Копия (2) г7ш78вак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9C8A-1D8C-4500-8C69-11E4E041E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F69D-6854-4313-AB90-4A0A744AA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c02b"/>
                </a:solidFill>
                <a:latin typeface="Arial Black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275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В дороге всем ребя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Мы светим с давних пор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Мы три родные бр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аш доми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 Black"/>
              </a:rPr>
              <a:t>Светоф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59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Красный, </a:t>
            </a:r>
            <a:r>
              <a:rPr b="1" lang="ru-RU" sz="2000" spc="-1" strike="noStrike">
                <a:solidFill>
                  <a:srgbClr val="e3c02b"/>
                </a:solidFill>
                <a:latin typeface="Arial"/>
              </a:rPr>
              <a:t>жёлт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ee51"/>
                </a:solidFill>
                <a:latin typeface="Arial"/>
              </a:rPr>
              <a:t>зелёный,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Он на всех глядит в упо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Перекрёсток оживлён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Неспокоен светоф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Старики идут и дети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Не бегут и не спеш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Светофор для всех на све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Настоящий друг и бра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 тебе помоч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ь пройти опасны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ит день и ноч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ee51"/>
                </a:solidFill>
                <a:latin typeface="Calibri"/>
              </a:rPr>
              <a:t>Зелён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e3c02b"/>
                </a:solidFill>
                <a:latin typeface="Calibri"/>
              </a:rPr>
              <a:t>жёлт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крас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а красный свет –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дороги н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3c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3c02b"/>
                </a:solidFill>
                <a:latin typeface="Calibri"/>
              </a:rPr>
              <a:t>На жёлтый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подожд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гда горит </a:t>
            </a:r>
            <a:r>
              <a:rPr b="1" i="1" lang="ru-RU" sz="3200" spc="-1" strike="noStrike">
                <a:solidFill>
                  <a:srgbClr val="20ee51"/>
                </a:solidFill>
                <a:latin typeface="Calibri"/>
              </a:rPr>
              <a:t>зелёный св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частливого пут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По сигналу светофо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Через улицу идё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И кивают нам шофё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«Проходите, подождё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6120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Красный гла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орит в упор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то строгий светофо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ид он грозный напуска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льше ехать не пускает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ождал шофёр  немножк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нова выглянул в окош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офор на это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казал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20ee51"/>
                </a:solidFill>
                <a:latin typeface="Calibri"/>
              </a:rPr>
              <a:t>зелёный глаз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мигнул и говор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 Ехать можно путь откры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машинка"/>
          <p:cNvPicPr/>
          <p:nvPr/>
        </p:nvPicPr>
        <p:blipFill>
          <a:blip r:embed="rId1"/>
          <a:stretch/>
        </p:blipFill>
        <p:spPr>
          <a:xfrm>
            <a:off x="3851280" y="5203800"/>
            <a:ext cx="2089080" cy="1393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пешеходный переход"/>
          <p:cNvPicPr/>
          <p:nvPr/>
        </p:nvPicPr>
        <p:blipFill>
          <a:blip r:embed="rId1"/>
          <a:stretch/>
        </p:blipFill>
        <p:spPr>
          <a:xfrm>
            <a:off x="1258920" y="1916280"/>
            <a:ext cx="4968720" cy="4389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8T18:35:59Z</dcterms:created>
  <dc:creator>Федотова Виктория Александровна</dc:creator>
  <dc:description/>
  <dc:language>en-US</dc:language>
  <cp:lastModifiedBy>User</cp:lastModifiedBy>
  <dcterms:modified xsi:type="dcterms:W3CDTF">2011-01-04T14:19:33Z</dcterms:modified>
  <cp:revision>7</cp:revision>
  <dc:subject/>
  <dc:title>Слайд 1</dc:title>
</cp:coreProperties>
</file>