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568-ECCB-4660-A748-830F5C7A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E8E-A3F8-4B1F-8F31-B498A7AA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F32-D076-45C1-9B3B-E32C0B5E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57D-9D60-4373-9853-0CCD45AB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7E30-50B1-4777-BB91-7C30D0C9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6167-25CD-4344-AC90-422BAB7C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0B72-F65B-45D0-A619-C6C15C8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73E1-FB63-4582-9CA0-BD809F4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2C22-D441-4901-9A2C-886771F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7293-8F05-4A34-B7A4-0D863651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BB1F-367E-44A3-B051-1DD03C9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25D-2C60-4CC3-96EF-85AB9C89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601-1D5C-434E-B44A-95993E8A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6578-BBD2-4BD0-BE83-E289EAC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8AD6-AC90-468D-A3B5-1ECBA5BB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D459-AB74-4C37-983E-2FBCF711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8FD-2B4D-41E4-9016-A22406B6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C37-E087-4E1C-BFDA-1FDF2624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A33-F6CC-4DDD-8FC3-E66E35B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B59-273F-450B-A859-C0FD1160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601-9067-472B-99C7-75594C6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AFC-5BAC-4039-9FEF-58ED5DE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512-64F6-4910-A7B4-CCD77EC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443-1D75-4179-BD75-11D2564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Копия СВЕТОФОРЧИК\Копия (2) г7ш78вак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2E5-99F5-4411-932B-CD7386079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4C3-B0F9-40F1-A9E2-8818BD7B5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c02b"/>
                </a:solidFill>
                <a:latin typeface="Arial Black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 дороге всем ребя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светим с давних по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три родные б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ш дом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 Black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59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Красный, </a:t>
            </a:r>
            <a:r>
              <a:rPr b="1" lang="ru-RU" sz="2000" spc="-1" strike="noStrike">
                <a:solidFill>
                  <a:srgbClr val="e3c02b"/>
                </a:solidFill>
                <a:latin typeface="Arial"/>
              </a:rPr>
              <a:t>жёл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ee51"/>
                </a:solidFill>
                <a:latin typeface="Arial"/>
              </a:rPr>
              <a:t>зелёный,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Он на всех глядит в уп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Перекрёсток оживлён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спокоен светоф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тарики идут и дет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 бегут и не спеш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ветофор для всех на све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астоящий друг и бра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 тебе пом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ь пройти опас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т день и но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ee51"/>
                </a:solidFill>
                <a:latin typeface="Calibri"/>
              </a:rPr>
              <a:t>Зелё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3c02b"/>
                </a:solidFill>
                <a:latin typeface="Calibri"/>
              </a:rPr>
              <a:t>жёлт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 красный свет –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роги н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3c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c02b"/>
                </a:solidFill>
                <a:latin typeface="Calibri"/>
              </a:rPr>
              <a:t>На жёлты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дож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гда горит </a:t>
            </a:r>
            <a:r>
              <a:rPr b="1" i="1" lang="ru-RU" sz="3200" spc="-1" strike="noStrike">
                <a:solidFill>
                  <a:srgbClr val="20ee51"/>
                </a:solidFill>
                <a:latin typeface="Calibri"/>
              </a:rPr>
              <a:t>зелёный св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частливого пут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По сигналу светоф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Через улицу идё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И кивают нам шофё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«Проходите, подождё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6120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асный гла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орит в упор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трогий светоф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ид он грозный напуск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льше ехать не пускае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ождал шофёр  немножк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нова выглянул в окош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офор на это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каза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0ee51"/>
                </a:solidFill>
                <a:latin typeface="Calibri"/>
              </a:rPr>
              <a:t>зелёный гла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мигнул и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 Ехать можно путь откры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машинка"/>
          <p:cNvPicPr/>
          <p:nvPr/>
        </p:nvPicPr>
        <p:blipFill>
          <a:blip r:embed="rId1"/>
          <a:stretch/>
        </p:blipFill>
        <p:spPr>
          <a:xfrm>
            <a:off x="3851280" y="5203800"/>
            <a:ext cx="208908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пешеходный переход"/>
          <p:cNvPicPr/>
          <p:nvPr/>
        </p:nvPicPr>
        <p:blipFill>
          <a:blip r:embed="rId1"/>
          <a:stretch/>
        </p:blipFill>
        <p:spPr>
          <a:xfrm>
            <a:off x="1258920" y="1916280"/>
            <a:ext cx="4968720" cy="4389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8:35:59Z</dcterms:created>
  <dc:creator>Федотова Виктория Александровна</dc:creator>
  <dc:description/>
  <dc:language>en-US</dc:language>
  <cp:lastModifiedBy>User</cp:lastModifiedBy>
  <dcterms:modified xsi:type="dcterms:W3CDTF">2011-01-04T14:19:33Z</dcterms:modified>
  <cp:revision>7</cp:revision>
  <dc:subject/>
  <dc:title>Слайд 1</dc:title>
</cp:coreProperties>
</file>