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A26-5027-4E60-A256-6187F778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CB3-FD35-46A1-A294-CBB0A2B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63B-5187-4239-B8B4-4B11D120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2EE-223D-4FDA-A3B7-7F24F186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BE6C-7104-4F9B-8D07-114C55EC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AA7C-3F00-4897-9653-58F76A4E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8E9-1D0F-4012-AC8A-51A67C6D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14C4-EFCD-4642-9A9D-61028D78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859D-5145-46F7-8231-FCAAE6CE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F1B7-402E-448C-9E7F-C9892CB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7D75-7D05-4071-BE9E-6297AC3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661-6228-4535-8DE4-2A922851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BDA8-F7C7-4E87-BA83-37BCCC8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57C6-4394-4CAD-B74A-DCD797C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CFEC-D79E-461C-AA02-0B0DD017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A38E-B9F6-4F64-931B-65637376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8BA0-F932-4368-AE4B-A7D728E2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F6D-0CE4-4445-AEB2-178DC3AB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E45-6877-46D6-B52B-3F66DC66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E0E-6C73-4DCE-80F5-D3DE7B5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90C-AB9F-4339-A4D1-D3160302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782-4371-41B1-B5EB-44F46693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DBB-0BF1-4726-B15E-BD51121A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C1A-FA7C-4A83-8835-2AD7772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Копия СВЕТОФОРЧИК\Копия (2) г7ш78вак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81CC-5F74-4E7F-85BB-EAF64284D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C2A8-85D7-410E-879B-8CAD0F3F2B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c02b"/>
                </a:solidFill>
                <a:latin typeface="Arial Black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В дороге всем ребя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Мы светим с давних по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Мы три родные бр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аш дом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504d"/>
                </a:solidFill>
                <a:latin typeface="Arial Black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59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Красный, </a:t>
            </a:r>
            <a:r>
              <a:rPr b="1" lang="ru-RU" sz="2000" spc="-1" strike="noStrike">
                <a:solidFill>
                  <a:srgbClr val="e3c02b"/>
                </a:solidFill>
                <a:latin typeface="Arial"/>
              </a:rPr>
              <a:t>жёл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ee51"/>
                </a:solidFill>
                <a:latin typeface="Arial"/>
              </a:rPr>
              <a:t>зелёный,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Он на всех глядит в уп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Перекрёсток оживлён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еспокоен светоф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Старики идут и дет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е бегут и не спеш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Светофор для всех на све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Arial"/>
              </a:rPr>
              <a:t>Настоящий друг и бра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 тебе помоч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ь пройти опасны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т день и ноч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ee51"/>
                </a:solidFill>
                <a:latin typeface="Calibri"/>
              </a:rPr>
              <a:t>Зелё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e3c02b"/>
                </a:solidFill>
                <a:latin typeface="Calibri"/>
              </a:rPr>
              <a:t>жёлт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рас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а красный свет –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дороги н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3c0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3c02b"/>
                </a:solidFill>
                <a:latin typeface="Calibri"/>
              </a:rPr>
              <a:t>На жёлтый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подожд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огда горит </a:t>
            </a:r>
            <a:r>
              <a:rPr b="1" i="1" lang="ru-RU" sz="3200" spc="-1" strike="noStrike">
                <a:solidFill>
                  <a:srgbClr val="20ee51"/>
                </a:solidFill>
                <a:latin typeface="Calibri"/>
              </a:rPr>
              <a:t>зелёный св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частливого пут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По сигналу светофо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Через улицу идё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И кивают нам шофёр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0e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ee51"/>
                </a:solidFill>
                <a:latin typeface="Arial"/>
              </a:rPr>
              <a:t>«Проходите, подождё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6120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Красный гла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орит в упор-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то строгий светоф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ид он грозный напуск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льше ехать не пускает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ождал шофёр  немножк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нова выглянул в окош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офор на это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казал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0ee51"/>
                </a:solidFill>
                <a:latin typeface="Calibri"/>
              </a:rPr>
              <a:t>зелёный глаз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мигнул и говор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 Ехать можно путь откры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машинка"/>
          <p:cNvPicPr/>
          <p:nvPr/>
        </p:nvPicPr>
        <p:blipFill>
          <a:blip r:embed="rId1"/>
          <a:stretch/>
        </p:blipFill>
        <p:spPr>
          <a:xfrm>
            <a:off x="3851280" y="5203800"/>
            <a:ext cx="208908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Arial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пешеходный переход"/>
          <p:cNvPicPr/>
          <p:nvPr/>
        </p:nvPicPr>
        <p:blipFill>
          <a:blip r:embed="rId1"/>
          <a:stretch/>
        </p:blipFill>
        <p:spPr>
          <a:xfrm>
            <a:off x="1258920" y="1916280"/>
            <a:ext cx="4968720" cy="43891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18:35:59Z</dcterms:created>
  <dc:creator>Федотова Виктория Александровна</dc:creator>
  <dc:description/>
  <dc:language>en-US</dc:language>
  <cp:lastModifiedBy>User</cp:lastModifiedBy>
  <dcterms:modified xsi:type="dcterms:W3CDTF">2011-01-04T14:19:33Z</dcterms:modified>
  <cp:revision>7</cp:revision>
  <dc:subject/>
  <dc:title>Слайд 1</dc:title>
</cp:coreProperties>
</file>