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6.jpeg" ContentType="image/jpeg"/>
  <Override PartName="/ppt/media/image15.jpeg" ContentType="image/jpeg"/>
  <Override PartName="/ppt/media/image1.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99133-BD03-48E3-B40D-FEAAB6558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2E1C-1DF8-4024-A934-DBFBC9528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CCF24-D41D-4160-B79C-A77A701B9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4D7A3-D554-409C-AA76-B8FCB8239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497D0-C4BE-4C84-8028-FD09DB495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11421-1C58-4E23-A7F1-CC443A88D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15B58-CD52-4496-A3AA-AF4D34C61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071A8-F1A1-41E3-9A4B-AED9E407A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6E829-C054-46C1-AE4A-7DBBC7A71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502E8-44FA-4B62-9A7D-EAA8C7A00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3F051-3B01-4806-9E85-6CE9C852C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39891-C81B-4979-88B0-F9450556C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30B61-46ED-4A4B-9576-81104053D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79B39-F706-4004-9CBD-C8E84AE01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83375-4A3E-4F6F-ABC5-B1AE75F2E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896E9-3091-4A79-B804-CF9306426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7E24D-A9C2-406E-83F5-D1FED35A9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BE69F6-A86A-4C50-A85E-D77B9CD8EB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7EAC4-C741-4A17-BB93-D5EFD5775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2F7A6F-D088-4D8F-8854-937D0A86A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1E68A-46F0-4090-9DE2-71F986023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2E166-41CA-4454-9F0B-54FF1608FE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0B7C5-2B36-4F12-A2AF-3FD8CE159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E42143-8A55-4F45-A3C0-72F8769BBE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0B46C-C4C4-42CB-B72E-14DB33F89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C51AD-D0C9-448B-9B1B-76AA59E64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5B72A-1EC2-4445-BF7F-85E480441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B66C1C-A992-4918-9EDE-885B879AC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BD951C-73F7-41B0-958F-5BB3BF38F6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CDA857-7636-46B9-9280-62866B376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0AF700-6C4E-445B-93F0-22077DDB28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6FACE6-F3AF-482C-A05D-F78F95039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C3B73B-E3DB-48D3-AFB8-4F008653EC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8B556-161D-4959-B708-F38F79B71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7DE7E-B55F-45FD-A7E7-07396E961C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4F127-3BBB-46BA-9F23-C403E91569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9CFBC-F3B1-4F3F-B389-E3598FEB1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6F6FF-86B2-4792-A2AE-EEE871EA8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87737-37E9-4551-AD1D-B705262D6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A9839-FD10-400B-8906-1752B47E9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DD549-FEF3-4DFB-AA53-4CA42F57F0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D46C56-E715-4328-A594-4C012AFBFD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759740-36F9-4D31-A313-1EF2521B28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D3777E-31A1-42A2-BA7E-B13825D230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0A2BA-8024-483E-8922-557EDD5C8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1464DB-09B6-40A7-884F-1DB60A1240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315F8B-0917-496D-80B3-B3608B9C83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ABB0EE-03BB-444D-9530-EC4930F907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DED3A9-F3EB-407D-8976-76F561A5C3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E0893F-7C3C-4FE0-ACB9-3629F8BEA6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D8C82-941D-4BA5-8CCC-B2FFCEF85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B962A-CCFD-4C0B-9570-D0EB09792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441EA-C962-4328-A0F3-4F0D101DB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14825-6473-4F57-A63D-4F182D37F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921AB8-05A3-44A1-9469-DFF7E430F8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1801F-B15C-4C56-A33A-4144BC19B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433598-D111-48D6-8A95-11D34C2384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6C389B-A46E-4D05-9093-B641BB025E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FD320F-F9C8-401A-9CA4-1BA5A60B85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F885D6-1B53-401D-9DD5-878E4523D7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A27658-7E65-44BB-B2F9-4B461A3746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C9D106-195E-490B-8D8F-7324E57AA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C84AAF-6A20-4FCF-A73C-BBA672DBAE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48D6F-0DDB-43BF-B17C-740ABD8C3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56B41-91FC-4CC5-BE43-CDA42859D9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AD1E9F-C3E9-4103-B3F2-925FB7C13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0477A-F451-4E51-9529-A1C9E6DFB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28E4F-FEA4-4F9E-BE8A-40F025DCAE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E4F2B4-AF17-4F99-AFCE-B552D8B179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9486EE-7A9D-4F31-95DF-12283C6291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58FB40-5750-47BA-8AE9-9AEF0C76CF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1A63C9-A3B2-45E1-B6E3-12ED2FBA55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A9571C-038E-4AD4-9024-A1BD42AAC1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DF7A8A-6DD1-433C-821C-EF78D75BD0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0936D3-0325-49C0-A694-FC17117383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AC1205-063F-4112-BE6B-8CD4DB1107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775C7-00BF-4F2C-8733-435D3E2EB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1F1DE-A980-4E96-A3AC-02AF42E6E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7FC86-1EF5-4346-AC85-B9002F204F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0BB7B4-6C33-4C06-B37F-313CD8E1C9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CEB794-F42F-4570-ABB9-FB489380A7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984D5F-459E-4003-ADCA-247EBE522B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83263A-5C73-41A7-8B15-4164FB8B1C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DAEA2-344B-4122-B268-D537E456E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BBA1-004C-4446-B45B-9D2F1FE418D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BB9A-A143-4709-901E-DEE32F07F50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0A47-005F-4EAA-915F-FBCE71B26D7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FCBA-66F9-4036-ABF7-79FFB2922760}"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B205-592D-4FCD-9F5D-024B8217758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C331-3901-4F93-84AE-EE0171BB93C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65F9-D897-457A-8E39-1EAE97AAF8B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4;&#1089;&#1086;&#1079;&#1085;&#1072;&#1085;&#1085;&#1099;&#1077;_&#1089;&#1085;&#1086;&#1074;&#1080;&#1076;&#1077;&#1085;&#1080;&#1103;"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1.i.ua/prikol/pic/6/9/341396_328310.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idel-kastro.ru/nature/vivovoco.nns.ru/VV/JOURNAL/NATURE/08_99/SLEEP1B.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4;&#1088;&#1075;&#1072;&#1085;&#1080;&#1079;&#1084;" TargetMode="External"/><Relationship Id="rId2" Type="http://schemas.openxmlformats.org/officeDocument/2006/relationships/hyperlink" Target="http://ru.wikipedia.org/wiki/&#1048;&#1084;&#1084;&#1091;&#1085;&#1080;&#1090;&#1077;&#1090;_(&#1073;&#1080;&#1086;&#1083;&#1086;&#1075;&#1080;&#1103;)" TargetMode="External"/><Relationship Id="rId3" Type="http://schemas.openxmlformats.org/officeDocument/2006/relationships/hyperlink" Target="http://ru.wikipedia.org/wiki/T-&#1083;&#1080;&#1084;&#1092;&#1086;&#1094;&#1080;&#1090;"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41;&#1077;&#1089;&#1089;&#1086;&#1085;&#1085;&#1080;&#1094;&#1072;"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WordArt 4"/>
          <p:cNvSpPr txBox="1"/>
          <p:nvPr/>
        </p:nvSpPr>
        <p:spPr>
          <a:xfrm>
            <a:off x="1643040" y="285840"/>
            <a:ext cx="6337440" cy="2806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rPr>
              <a:t>Сон </a:t>
            </a:r>
            <a:endPar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319" name="Рисунок 6" descr="d73febca48fd (1).jpg"/>
          <p:cNvPicPr/>
          <p:nvPr/>
        </p:nvPicPr>
        <p:blipFill>
          <a:blip r:embed="rId1"/>
          <a:stretch/>
        </p:blipFill>
        <p:spPr>
          <a:xfrm>
            <a:off x="214200" y="3429000"/>
            <a:ext cx="4389480" cy="2928960"/>
          </a:xfrm>
          <a:prstGeom prst="rect">
            <a:avLst/>
          </a:prstGeom>
          <a:ln w="0">
            <a:noFill/>
          </a:ln>
        </p:spPr>
      </p:pic>
      <p:pic>
        <p:nvPicPr>
          <p:cNvPr id="320" name="Рисунок 7" descr="korpe_600.jpg"/>
          <p:cNvPicPr/>
          <p:nvPr/>
        </p:nvPicPr>
        <p:blipFill>
          <a:blip r:embed="rId2"/>
          <a:stretch/>
        </p:blipFill>
        <p:spPr>
          <a:xfrm>
            <a:off x="4857840" y="2928960"/>
            <a:ext cx="4071960" cy="30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0" y="0"/>
            <a:ext cx="8229600" cy="22860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Corbel"/>
              </a:rPr>
              <a:t>Управление сном</a:t>
            </a:r>
            <a:endParaRPr b="0" lang="en-US" sz="28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Corbel"/>
              </a:rPr>
              <a:t>Иногда спящий человек может отдавать себе отчёт в том, что он находится во сне. Такое состояние называется </a:t>
            </a:r>
            <a:r>
              <a:rPr b="0" lang="ru-RU" sz="2800" spc="-1" strike="noStrike" u="sng">
                <a:solidFill>
                  <a:srgbClr val="8dc765"/>
                </a:solidFill>
                <a:uFillTx/>
                <a:latin typeface="Corbel"/>
                <a:hlinkClick r:id="rId1"/>
              </a:rPr>
              <a:t>осознанное сновидение</a:t>
            </a:r>
            <a:r>
              <a:rPr b="0" lang="ru-RU" sz="2800" spc="-1" strike="noStrike">
                <a:solidFill>
                  <a:srgbClr val="00b0f0"/>
                </a:solidFill>
                <a:latin typeface="Corbel"/>
              </a:rPr>
              <a:t>.</a:t>
            </a:r>
            <a:endParaRPr b="0" lang="en-US" sz="2800" spc="-1" strike="noStrike">
              <a:solidFill>
                <a:srgbClr val="000000"/>
              </a:solidFill>
              <a:latin typeface="Corbel"/>
            </a:endParaRPr>
          </a:p>
        </p:txBody>
      </p:sp>
      <p:pic>
        <p:nvPicPr>
          <p:cNvPr id="340" name="Рисунок 6" descr="full1320896527.jpg"/>
          <p:cNvPicPr/>
          <p:nvPr/>
        </p:nvPicPr>
        <p:blipFill>
          <a:blip r:embed="rId2"/>
          <a:stretch/>
        </p:blipFill>
        <p:spPr>
          <a:xfrm>
            <a:off x="1071720" y="1928880"/>
            <a:ext cx="7024680" cy="46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Летаргический сон</a:t>
            </a:r>
            <a:endParaRPr b="0" lang="en-US" sz="4300" spc="-1" strike="noStrike">
              <a:solidFill>
                <a:srgbClr val="572314"/>
              </a:solidFill>
              <a:latin typeface="Corbel"/>
            </a:endParaRPr>
          </a:p>
        </p:txBody>
      </p:sp>
      <p:sp>
        <p:nvSpPr>
          <p:cNvPr id="342" name=""/>
          <p:cNvSpPr txBox="1"/>
          <p:nvPr/>
        </p:nvSpPr>
        <p:spPr>
          <a:xfrm>
            <a:off x="457200" y="1197000"/>
            <a:ext cx="8229600" cy="54720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5e01"/>
                </a:solidFill>
                <a:latin typeface="Corbel"/>
              </a:rPr>
              <a:t>В мировой практике неоднократно встречаются случаи, когда медики устанавливали факт ложной смерти человека. Хорошо, если такой больной выйдет из состояния мнимой смерти до собственных похорон, но, по всей видимости, иногда в могилах оказываются живые люди... Так, например, при перезахоронении одного старого английского кладбища при вскрытии множества гробов в четырех из них были обнаружены скелеты, лежащие в неестественных позах, в которых их родственники в последний путь проводить никак не могли.</a:t>
            </a:r>
            <a:br>
              <a:rPr sz="2000"/>
            </a:br>
            <a:r>
              <a:rPr b="1" lang="ru-RU" sz="2000" spc="-1" strike="noStrike">
                <a:solidFill>
                  <a:srgbClr val="835e01"/>
                </a:solidFill>
                <a:latin typeface="Corbel"/>
              </a:rPr>
              <a: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333000"/>
            <a:ext cx="5338800" cy="63356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Есть версия, что летаргический сон Николая Гоголя был ошибочно принят за его смерть. К этому выводу пришли, когда при перезахоронении на внутренней обшивке гроба обнаружили царапины, кусочки обшивки были под ногтями Гоголя и изменено положение тела («Перевернулся в гробу»). Однако исследователи не рассматривают эту версию всерьёз </a:t>
            </a:r>
            <a:endParaRPr b="0" lang="en-US" sz="2400" spc="-1" strike="noStrike">
              <a:solidFill>
                <a:srgbClr val="000000"/>
              </a:solidFill>
              <a:latin typeface="Corbel"/>
            </a:endParaRPr>
          </a:p>
        </p:txBody>
      </p:sp>
      <p:pic>
        <p:nvPicPr>
          <p:cNvPr id="344" name="Picture 5" descr="Картинка 5 из 62995"/>
          <p:cNvPicPr/>
          <p:nvPr/>
        </p:nvPicPr>
        <p:blipFill>
          <a:blip r:embed="rId1"/>
          <a:stretch/>
        </p:blipFill>
        <p:spPr>
          <a:xfrm>
            <a:off x="6012000" y="1197000"/>
            <a:ext cx="26859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333000"/>
            <a:ext cx="8229600" cy="60483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20 лет непробудным сном проспала Надежда Лебедин. Так и лежали они рядом - спящая непробудным сном дочь и умирающая мать. Родственники уже надежду потеряли, что хоть одна из них встанет с постели. Но произошло чудо. Надежда Лебедин, дочь, вдруг залилась слезами и открыла глаза спустя 20 лет, как заснула. По деревне пошел ропот. Надежда проснулась в день смерти матери. Людей на похороны собралось видимо-невидимо. Все хотели посмотреть на ожившую. А выглядела она на 34 года, хотя ей уже было 54 года. Она никак не могла поверить, что эти беззубые старушки ее подружки. Без нее появились холодильник, телевизор. Все 20 лет, пока она спала, у нее прощупывался пульс, дыхание было замедленное. Первые два года ей пищу вводили через зонд, но потом Надежда стала сама принимать пищу из ложечки.</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356840" y="-360"/>
            <a:ext cx="700092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     </a:t>
            </a:r>
            <a:r>
              <a:rPr b="1" lang="ru-RU" sz="4000" spc="-1" strike="noStrike">
                <a:solidFill>
                  <a:srgbClr val="572314"/>
                </a:solidFill>
                <a:latin typeface="Corbel"/>
              </a:rPr>
              <a:t>Правила хорошего сна</a:t>
            </a:r>
            <a:endParaRPr b="0" lang="en-US" sz="4000" spc="-1" strike="noStrike">
              <a:solidFill>
                <a:srgbClr val="572314"/>
              </a:solidFill>
              <a:latin typeface="Corbel"/>
            </a:endParaRPr>
          </a:p>
        </p:txBody>
      </p:sp>
      <p:sp>
        <p:nvSpPr>
          <p:cNvPr id="347" name=""/>
          <p:cNvSpPr txBox="1"/>
          <p:nvPr/>
        </p:nvSpPr>
        <p:spPr>
          <a:xfrm>
            <a:off x="5214600" y="857160"/>
            <a:ext cx="3714840" cy="6215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4853"/>
                </a:solidFill>
                <a:latin typeface="Arial"/>
                <a:ea typeface="Arial"/>
              </a:rPr>
              <a:t>1. Придерживайтесь регулярного времени подъема с постели даже в выходные дни.</a:t>
            </a:r>
            <a:br>
              <a:rPr sz="1600"/>
            </a:br>
            <a:br>
              <a:rPr sz="1600"/>
            </a:br>
            <a:r>
              <a:rPr b="0" lang="ru-RU" sz="1600" spc="-1" strike="noStrike">
                <a:solidFill>
                  <a:srgbClr val="1c4853"/>
                </a:solidFill>
                <a:latin typeface="Arial"/>
                <a:ea typeface="Arial"/>
              </a:rPr>
              <a:t>2. Старайтесь ложиться в постель только при появлении сонливости.</a:t>
            </a:r>
            <a:br>
              <a:rPr sz="1600"/>
            </a:br>
            <a:br>
              <a:rPr sz="1600"/>
            </a:br>
            <a:r>
              <a:rPr b="0" lang="ru-RU" sz="1600" spc="-1" strike="noStrike">
                <a:solidFill>
                  <a:srgbClr val="1c4853"/>
                </a:solidFill>
                <a:latin typeface="Arial"/>
                <a:ea typeface="Arial"/>
              </a:rPr>
              <a:t>3. Если Вы не можете заснуть в течение 20 минут, покиньте спальню и займитесь каким-либо спокойным делом в другом месте. Не позволяйте себе заснуть вне спальни. Возвращайтесь в постель только тогда, когда появится сонливость. Повторяйте эти действия столько раз, сколько потребуется в течение ночи.</a:t>
            </a:r>
            <a:endParaRPr b="0" lang="en-US" sz="16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200"/>
            </a:br>
            <a:br>
              <a:rPr sz="1200"/>
            </a:br>
            <a:endParaRPr b="0" lang="en-US" sz="1600" spc="-1" strike="noStrike">
              <a:solidFill>
                <a:srgbClr val="000000"/>
              </a:solidFill>
              <a:latin typeface="Corbel"/>
            </a:endParaRPr>
          </a:p>
        </p:txBody>
      </p:sp>
      <p:pic>
        <p:nvPicPr>
          <p:cNvPr id="348" name="Рисунок 7" descr="student_leniwy_320.jpg"/>
          <p:cNvPicPr/>
          <p:nvPr/>
        </p:nvPicPr>
        <p:blipFill>
          <a:blip r:embed="rId1"/>
          <a:stretch/>
        </p:blipFill>
        <p:spPr>
          <a:xfrm>
            <a:off x="1000080" y="1857240"/>
            <a:ext cx="4476960" cy="33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999720" y="142560"/>
            <a:ext cx="7497720" cy="6429240"/>
          </a:xfrm>
          <a:prstGeom prst="rect">
            <a:avLst/>
          </a:prstGeom>
          <a:noFill/>
          <a:ln w="0">
            <a:noFill/>
          </a:ln>
        </p:spPr>
        <p:txBody>
          <a:bodyPr anchor="t">
            <a:normAutofit fontScale="99000"/>
          </a:bodyPr>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4853"/>
                </a:solidFill>
                <a:latin typeface="Arial"/>
                <a:ea typeface="Arial"/>
              </a:rPr>
              <a:t>    </a:t>
            </a:r>
            <a:r>
              <a:rPr b="0" lang="ru-RU" sz="1800" spc="-1" strike="noStrike">
                <a:solidFill>
                  <a:srgbClr val="1c4853"/>
                </a:solidFill>
                <a:latin typeface="Arial"/>
                <a:ea typeface="Arial"/>
              </a:rPr>
              <a:t>4. Избегайте дневного сна. Если Вы ложитесь спать днем, то старайтесь это делать в одно и то же время и спать не более одного часа. Для большинства людей наиболее приемлемое время — около 15:00.</a:t>
            </a:r>
            <a:br>
              <a:rPr sz="1800"/>
            </a:br>
            <a:br>
              <a:rPr sz="1800"/>
            </a:br>
            <a:r>
              <a:rPr b="0" lang="ru-RU" sz="1800" spc="-1" strike="noStrike">
                <a:solidFill>
                  <a:srgbClr val="1c4853"/>
                </a:solidFill>
                <a:latin typeface="Arial"/>
                <a:ea typeface="Arial"/>
              </a:rPr>
              <a:t>5. Установите расслабляющий ритуал, предшествующий сну, например, теплая ванна, легкая закуска или десять минут чтения.</a:t>
            </a:r>
            <a:br>
              <a:rPr sz="1800"/>
            </a:br>
            <a:br>
              <a:rPr sz="1800"/>
            </a:br>
            <a:r>
              <a:rPr b="0" lang="ru-RU" sz="1800" spc="-1" strike="noStrike">
                <a:solidFill>
                  <a:srgbClr val="1c4853"/>
                </a:solidFill>
                <a:latin typeface="Arial"/>
                <a:ea typeface="Arial"/>
              </a:rPr>
              <a:t>6. Поддерживайте регулярную физическую активность. Выполняйте интенсивные физические нагрузки в более ранние часы, по крайней мере, за шесть часов до сна, а легкие упражнения — по крайней мере, за четыре часа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1c4853"/>
                </a:solidFill>
                <a:latin typeface="Arial"/>
                <a:ea typeface="Arial"/>
              </a:rPr>
              <a:t>7. Сохраняйте регулярный режим дня. Регулярное время приема пищи, лекарственных препаратов, выполнения повседневных обязанностей и других видов активности помогает внутренним часам организма более ровно работать.</a:t>
            </a:r>
            <a:br>
              <a:rPr sz="1800"/>
            </a:br>
            <a:br>
              <a:rPr sz="1800"/>
            </a:br>
            <a:r>
              <a:rPr b="0" lang="ru-RU" sz="1800" spc="-1" strike="noStrike">
                <a:solidFill>
                  <a:srgbClr val="1c4853"/>
                </a:solidFill>
                <a:latin typeface="Arial"/>
                <a:ea typeface="Arial"/>
              </a:rPr>
              <a:t>8. Хотя легкий прием пищи перед сном может способствовать крепкому сну, избегайте приемов большого количества пищи.</a:t>
            </a:r>
            <a:br>
              <a:rPr sz="1800"/>
            </a:br>
            <a:br>
              <a:rPr sz="1800"/>
            </a:br>
            <a:r>
              <a:rPr b="0" lang="ru-RU" sz="1800" spc="-1" strike="noStrike">
                <a:solidFill>
                  <a:srgbClr val="1c4853"/>
                </a:solidFill>
                <a:latin typeface="Arial"/>
                <a:ea typeface="Arial"/>
              </a:rPr>
              <a:t>9. Избегайте приема кофеина за шесть часов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138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Здоровый сон</a:t>
            </a:r>
            <a:endParaRPr b="0" lang="en-US" sz="4300" spc="-1" strike="noStrike">
              <a:solidFill>
                <a:srgbClr val="572314"/>
              </a:solidFill>
              <a:latin typeface="Corbel"/>
            </a:endParaRPr>
          </a:p>
        </p:txBody>
      </p:sp>
      <p:sp>
        <p:nvSpPr>
          <p:cNvPr id="351" name=""/>
          <p:cNvSpPr txBox="1"/>
          <p:nvPr/>
        </p:nvSpPr>
        <p:spPr>
          <a:xfrm>
            <a:off x="-360" y="1285560"/>
            <a:ext cx="4357800" cy="535788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637f26"/>
                </a:solidFill>
                <a:latin typeface="Corbel"/>
              </a:rPr>
              <a:t>Кровать</a:t>
            </a:r>
            <a:br>
              <a:rPr sz="2500"/>
            </a:br>
            <a:r>
              <a:rPr b="0" lang="ru-RU" sz="2500" spc="-1" strike="noStrike">
                <a:solidFill>
                  <a:srgbClr val="637f26"/>
                </a:solidFill>
                <a:latin typeface="Corbel"/>
              </a:rPr>
              <a:t>Постель должна использоваться только для сна: работа, чтение и разговоры мешают организму расслабиться.  Матрас должен быть в меру твердый – это полезно для позвоночника, тело ночью находится в прямом положении и не затекает, не устает. Лучше всего, если на каждого спящего приходится расстояние полуторной кровати. </a:t>
            </a:r>
            <a:br>
              <a:rPr sz="2500"/>
            </a:br>
            <a:r>
              <a:rPr b="0" lang="ru-RU" sz="2500" spc="-1" strike="noStrike">
                <a:solidFill>
                  <a:srgbClr val="637f26"/>
                </a:solidFill>
                <a:latin typeface="Corbel"/>
              </a:rPr>
              <a:t> </a:t>
            </a:r>
            <a:endParaRPr b="0" lang="en-US" sz="2500" spc="-1" strike="noStrike">
              <a:solidFill>
                <a:srgbClr val="000000"/>
              </a:solidFill>
              <a:latin typeface="Corbel"/>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pic>
        <p:nvPicPr>
          <p:cNvPr id="352" name="Рисунок 3" descr="157052-foxixol.jpg"/>
          <p:cNvPicPr/>
          <p:nvPr/>
        </p:nvPicPr>
        <p:blipFill>
          <a:blip r:embed="rId1"/>
          <a:stretch/>
        </p:blipFill>
        <p:spPr>
          <a:xfrm>
            <a:off x="4500720" y="1214280"/>
            <a:ext cx="4243320" cy="35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Прямоугольник 6"/>
          <p:cNvSpPr/>
          <p:nvPr/>
        </p:nvSpPr>
        <p:spPr>
          <a:xfrm>
            <a:off x="714240" y="214200"/>
            <a:ext cx="842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душка</a:t>
            </a:r>
            <a:r>
              <a:rPr b="0" lang="ru-RU" sz="1800" spc="-1" strike="noStrike">
                <a:solidFill>
                  <a:srgbClr val="000000"/>
                </a:solidFill>
                <a:latin typeface="Arial"/>
              </a:rPr>
              <a:t> </a:t>
            </a:r>
            <a:br>
              <a:rPr sz="1800"/>
            </a:br>
            <a:br>
              <a:rPr sz="1800"/>
            </a:br>
            <a:r>
              <a:rPr b="0" lang="ru-RU" sz="1800" spc="-1" strike="noStrike">
                <a:solidFill>
                  <a:srgbClr val="000000"/>
                </a:solidFill>
                <a:latin typeface="Arial"/>
              </a:rPr>
              <a:t>Постарайтесь привыкнуть спать по возможности на самой низкой подушке. Ни в коем случае нельзя пользоваться большой подушкой, туго набитой перьями. При этом голова постоянно находится в неестественно согнутом положении, что может привести к головным болям и проблемам с позвоночником. Можно использовать специальные контурные подушки.</a:t>
            </a:r>
            <a:br>
              <a:rPr sz="1800"/>
            </a:br>
            <a:br>
              <a:rPr sz="1800"/>
            </a:br>
            <a:r>
              <a:rPr b="0" i="1" lang="ru-RU" sz="1800" spc="-1" strike="noStrike">
                <a:solidFill>
                  <a:srgbClr val="000000"/>
                </a:solidFill>
                <a:latin typeface="Arial"/>
              </a:rPr>
              <a:t>Постельное белье</a:t>
            </a:r>
            <a:br>
              <a:rPr sz="1800"/>
            </a:br>
            <a:br>
              <a:rPr sz="1800"/>
            </a:br>
            <a:r>
              <a:rPr b="0" lang="ru-RU" sz="1800" spc="-1" strike="noStrike">
                <a:solidFill>
                  <a:srgbClr val="000000"/>
                </a:solidFill>
                <a:latin typeface="Arial"/>
              </a:rPr>
              <a:t>Желательно использовать мягкое хлопчатобумажное белье. Атласные простыни конечно красивы, но слишком скользят и не пропускают воздух. Не используйте никакой синтетики. Последнее время появились данные о том, что темные расцветки белья способствуют лучшему качеству с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Прямоугольник 8"/>
          <p:cNvSpPr/>
          <p:nvPr/>
        </p:nvSpPr>
        <p:spPr>
          <a:xfrm>
            <a:off x="714240" y="4272120"/>
            <a:ext cx="7643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вета для спальни</a:t>
            </a:r>
            <a:r>
              <a:rPr b="0" lang="ru-RU" sz="1800" spc="-1" strike="noStrike">
                <a:solidFill>
                  <a:srgbClr val="000000"/>
                </a:solidFill>
                <a:latin typeface="Arial"/>
              </a:rPr>
              <a:t> лучше подбирать спокойных, мягких тонов. Лучше всего, если это будут оттенки зеленого, голубого, синего и фиолетового – они замедляют все активные процессы организма, понижают давление, снижают частоту сердцебиений, а это как раз то, что необходимо перед отходом ко сну. </a:t>
            </a:r>
            <a:endParaRPr b="0" lang="en-US" sz="1800" spc="-1" strike="noStrike">
              <a:solidFill>
                <a:srgbClr val="000000"/>
              </a:solidFill>
              <a:latin typeface="Arial"/>
            </a:endParaRPr>
          </a:p>
        </p:txBody>
      </p:sp>
      <p:sp>
        <p:nvSpPr>
          <p:cNvPr id="355" name="Прямоугольник 9"/>
          <p:cNvSpPr/>
          <p:nvPr/>
        </p:nvSpPr>
        <p:spPr>
          <a:xfrm>
            <a:off x="571680" y="5857920"/>
            <a:ext cx="792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тимальная температура</a:t>
            </a:r>
            <a:r>
              <a:rPr b="0" lang="ru-RU" sz="1800" spc="-1" strike="noStrike">
                <a:solidFill>
                  <a:srgbClr val="000000"/>
                </a:solidFill>
                <a:latin typeface="Arial"/>
              </a:rPr>
              <a:t> в комнате должна быть около 1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714480" y="0"/>
            <a:ext cx="5429160" cy="650088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В чем спать?</a:t>
            </a:r>
            <a:r>
              <a:rPr b="0" lang="ru-RU" sz="2000" spc="-1" strike="noStrike">
                <a:solidFill>
                  <a:srgbClr val="000000"/>
                </a:solidFill>
                <a:latin typeface="Corbel"/>
              </a:rPr>
              <a:t> </a:t>
            </a:r>
            <a:br>
              <a:rPr sz="2000"/>
            </a:br>
            <a:br>
              <a:rPr sz="2000"/>
            </a:br>
            <a:r>
              <a:rPr b="0" lang="ru-RU" sz="2000" spc="-1" strike="noStrike">
                <a:solidFill>
                  <a:srgbClr val="000000"/>
                </a:solidFill>
                <a:latin typeface="Corbel"/>
              </a:rPr>
              <a:t>По мнению медиков и психологов, вопрос, в чем спать, не имеет большого значения. Важно лишь, чтобы тело нормально дышало и ваше ночное одеяние не препятствовало нормальному притоку воздуха и регуляции температуры. Если вам нравится спать в теплой пижаме - спите, удобнее ложиться обнаженным – пожалуйста.</a:t>
            </a:r>
            <a:br>
              <a:rPr sz="2000"/>
            </a:br>
            <a:br>
              <a:rPr sz="2000"/>
            </a:br>
            <a:r>
              <a:rPr b="1" lang="ru-RU" sz="2000" spc="-1" strike="noStrike">
                <a:solidFill>
                  <a:srgbClr val="000000"/>
                </a:solidFill>
                <a:latin typeface="Corbel"/>
              </a:rPr>
              <a:t>Ароматы для засыпания</a:t>
            </a:r>
            <a:br>
              <a:rPr sz="2000"/>
            </a:br>
            <a:br>
              <a:rPr sz="2000"/>
            </a:br>
            <a:r>
              <a:rPr b="0" lang="ru-RU" sz="2000" spc="-1" strike="noStrike">
                <a:solidFill>
                  <a:srgbClr val="000000"/>
                </a:solidFill>
                <a:latin typeface="Corbel"/>
              </a:rPr>
              <a:t>Хорошему сну способствуют </a:t>
            </a:r>
            <a:r>
              <a:rPr b="0" i="1" lang="ru-RU" sz="2000" spc="-1" strike="noStrike">
                <a:solidFill>
                  <a:srgbClr val="000000"/>
                </a:solidFill>
                <a:latin typeface="Corbel"/>
              </a:rPr>
              <a:t>эфирные масла</a:t>
            </a:r>
            <a:r>
              <a:rPr b="0" lang="ru-RU" sz="2000" spc="-1" strike="noStrike">
                <a:solidFill>
                  <a:srgbClr val="000000"/>
                </a:solidFill>
                <a:latin typeface="Corbel"/>
              </a:rPr>
              <a:t> ромашки, чайного дерева, мандариновых листьев и календулы. Нужно капнуть немного эфирного масла на подушку или с двух сторон на кровать или же за 2 часа до сна можно зажечь в комнате аромалампу. А еще можно аккуратно втереть несколько капель в ступни, ладони, затылок или в виски. </a:t>
            </a:r>
            <a:br>
              <a:rPr sz="2000"/>
            </a:br>
            <a:r>
              <a:rPr b="0" lang="ru-RU" sz="2000" spc="-1" strike="noStrike">
                <a:solidFill>
                  <a:srgbClr val="000000"/>
                </a:solidFill>
                <a:latin typeface="Corbel"/>
              </a:rPr>
              <a:t> </a:t>
            </a:r>
            <a:endParaRPr b="0" lang="en-US" sz="2000" spc="-1" strike="noStrike">
              <a:solidFill>
                <a:srgbClr val="000000"/>
              </a:solidFill>
              <a:latin typeface="Corbel"/>
            </a:endParaRPr>
          </a:p>
        </p:txBody>
      </p:sp>
      <p:sp>
        <p:nvSpPr>
          <p:cNvPr id="357" name="Прямоугольник 6"/>
          <p:cNvSpPr/>
          <p:nvPr/>
        </p:nvSpPr>
        <p:spPr>
          <a:xfrm>
            <a:off x="0" y="3718080"/>
            <a:ext cx="4000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узыка для сна</a:t>
            </a:r>
            <a:br>
              <a:rPr sz="1800"/>
            </a:br>
            <a:br>
              <a:rPr sz="1800"/>
            </a:br>
            <a:r>
              <a:rPr b="0" lang="ru-RU" sz="1800" spc="-1" strike="noStrike">
                <a:solidFill>
                  <a:srgbClr val="000000"/>
                </a:solidFill>
                <a:latin typeface="Arial"/>
              </a:rPr>
              <a:t>От бессонницы спасет тихая спокойная музыка с медленным темпом и четким ритмом, которою можно негромко проигрывать перед сном. Например, это могут быть «Грустный вальс» Сибелиуса, «Грезы» Шумана, «Мелодия» Глюка, а также пьесы Чайковского. </a:t>
            </a:r>
            <a:br>
              <a:rPr sz="1800"/>
            </a:br>
            <a:endParaRPr b="0" lang="en-US" sz="1800" spc="-1" strike="noStrike">
              <a:solidFill>
                <a:srgbClr val="000000"/>
              </a:solidFill>
              <a:latin typeface="Arial"/>
            </a:endParaRPr>
          </a:p>
        </p:txBody>
      </p:sp>
      <p:pic>
        <p:nvPicPr>
          <p:cNvPr id="358" name="Рисунок 7" descr="l_106-00033.jpg"/>
          <p:cNvPicPr/>
          <p:nvPr/>
        </p:nvPicPr>
        <p:blipFill>
          <a:blip r:embed="rId1"/>
          <a:stretch/>
        </p:blipFill>
        <p:spPr>
          <a:xfrm>
            <a:off x="214200" y="0"/>
            <a:ext cx="3532320" cy="353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785520" y="3142800"/>
            <a:ext cx="8148600" cy="335772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Ванна</a:t>
            </a:r>
            <a:br>
              <a:rPr sz="2200"/>
            </a:br>
            <a:br>
              <a:rPr sz="2200"/>
            </a:br>
            <a:r>
              <a:rPr b="0" lang="ru-RU" sz="2200" spc="-1" strike="noStrike">
                <a:solidFill>
                  <a:srgbClr val="000000"/>
                </a:solidFill>
                <a:latin typeface="Corbel"/>
              </a:rPr>
              <a:t>Если хотите как следует расслабиться перед сном, приготовьте теплую ванну, желательно со специальными ароматами. Температура воды при этом не должна превышать 37°C и принимать ее нужно минимум 20 минут: за это время вода постепенно охладится, температура тела понизится, а это как раз то, что нужно для сна. Не любите лежать в ванной и нет времени на ее приготовление, примите </a:t>
            </a:r>
            <a:r>
              <a:rPr b="0" i="1" lang="ru-RU" sz="2200" spc="-1" strike="noStrike">
                <a:solidFill>
                  <a:srgbClr val="000000"/>
                </a:solidFill>
                <a:latin typeface="Corbel"/>
              </a:rPr>
              <a:t>душ</a:t>
            </a:r>
            <a:r>
              <a:rPr b="0" lang="ru-RU" sz="2200" spc="-1" strike="noStrike">
                <a:solidFill>
                  <a:srgbClr val="000000"/>
                </a:solidFill>
                <a:latin typeface="Corbel"/>
              </a:rPr>
              <a:t> – журчание воды само по себе снимает напряжение и усыпляет.</a:t>
            </a:r>
            <a:endParaRPr b="0" lang="en-US" sz="2200" spc="-1" strike="noStrike">
              <a:solidFill>
                <a:srgbClr val="000000"/>
              </a:solidFill>
              <a:latin typeface="Corbel"/>
            </a:endParaRPr>
          </a:p>
        </p:txBody>
      </p:sp>
      <p:pic>
        <p:nvPicPr>
          <p:cNvPr id="360" name="Рисунок 3" descr="4722.jpg"/>
          <p:cNvPicPr/>
          <p:nvPr/>
        </p:nvPicPr>
        <p:blipFill>
          <a:blip r:embed="rId1"/>
          <a:stretch/>
        </p:blipFill>
        <p:spPr>
          <a:xfrm>
            <a:off x="3786120" y="285840"/>
            <a:ext cx="3857760" cy="31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22" name=""/>
          <p:cNvSpPr txBox="1"/>
          <p:nvPr/>
        </p:nvSpPr>
        <p:spPr>
          <a:xfrm>
            <a:off x="539640" y="1412640"/>
            <a:ext cx="7499520" cy="4800600"/>
          </a:xfrm>
          <a:prstGeom prst="rect">
            <a:avLst/>
          </a:prstGeom>
          <a:noFill/>
          <a:ln w="0">
            <a:noFill/>
          </a:ln>
        </p:spPr>
        <p:txBody>
          <a:bodyPr anchor="t">
            <a:normAutofit/>
          </a:bodyPr>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зентация по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одуль «Здоровый образ жизни»)</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ыполнена Дерябиной Викторией, ученицей 11 А класса </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БОУ СОШ № 44 г. Томска</a:t>
            </a: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подаватель-организатор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айстер Т.Н.</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Вопросы для закрепления</a:t>
            </a:r>
            <a:endParaRPr b="0" lang="en-US" sz="4300" spc="-1" strike="noStrike">
              <a:solidFill>
                <a:srgbClr val="572314"/>
              </a:solidFill>
              <a:latin typeface="Corbel"/>
            </a:endParaRPr>
          </a:p>
        </p:txBody>
      </p:sp>
      <p:sp>
        <p:nvSpPr>
          <p:cNvPr id="362" name=""/>
          <p:cNvSpPr txBox="1"/>
          <p:nvPr/>
        </p:nvSpPr>
        <p:spPr>
          <a:xfrm>
            <a:off x="1434960" y="1447560"/>
            <a:ext cx="7499520" cy="4800600"/>
          </a:xfrm>
          <a:prstGeom prst="rect">
            <a:avLst/>
          </a:prstGeom>
          <a:noFill/>
          <a:ln w="0">
            <a:noFill/>
          </a:ln>
        </p:spPr>
        <p:txBody>
          <a:bodyPr anchor="t">
            <a:normAutofit fontScale="90000"/>
          </a:bodyPr>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ет ли человек обойтись без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но ли пить кофе, колу  перед сном?</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ая температура хорошо подходи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 называется состояние, когда человек понимает, что спит?</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Необходимая продолжительность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В чем заключается главная функци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цвета спальни лучше подходя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подушки правильно использовать?</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ароматы лучше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ой писатель был похоронен ошибочно?</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Сон</a:t>
            </a:r>
            <a:endParaRPr b="0" lang="en-US" sz="4300" spc="-1" strike="noStrike">
              <a:solidFill>
                <a:srgbClr val="572314"/>
              </a:solidFill>
              <a:latin typeface="Corbel"/>
            </a:endParaRPr>
          </a:p>
        </p:txBody>
      </p:sp>
      <p:sp>
        <p:nvSpPr>
          <p:cNvPr id="324" name=""/>
          <p:cNvSpPr txBox="1"/>
          <p:nvPr/>
        </p:nvSpPr>
        <p:spPr>
          <a:xfrm>
            <a:off x="457200" y="1599840"/>
            <a:ext cx="4186080" cy="463716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orbel"/>
              </a:rPr>
              <a:t>-  это торможение основных отделов коры больших полушарий, благодаря которому происходит отдых нейронов и восстановление их работоспособности</a:t>
            </a:r>
            <a:endParaRPr b="0" lang="en-US" sz="2800" spc="-1" strike="noStrike">
              <a:solidFill>
                <a:srgbClr val="000000"/>
              </a:solidFill>
              <a:latin typeface="Corbel"/>
            </a:endParaRPr>
          </a:p>
        </p:txBody>
      </p:sp>
      <p:pic>
        <p:nvPicPr>
          <p:cNvPr id="325" name="Picture 4" descr="Картинка 12 из 628498">
            <a:hlinkClick r:id="rId1"/>
          </p:cNvPr>
          <p:cNvPicPr/>
          <p:nvPr/>
        </p:nvPicPr>
        <p:blipFill>
          <a:blip r:embed="rId2"/>
          <a:stretch/>
        </p:blipFill>
        <p:spPr>
          <a:xfrm>
            <a:off x="4643280" y="1857240"/>
            <a:ext cx="431964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Природа сна</a:t>
            </a:r>
            <a:endParaRPr b="0" lang="en-US" sz="4300" spc="-1" strike="noStrike">
              <a:solidFill>
                <a:srgbClr val="572314"/>
              </a:solidFill>
              <a:latin typeface="Corbel"/>
            </a:endParaRPr>
          </a:p>
        </p:txBody>
      </p:sp>
      <p:sp>
        <p:nvSpPr>
          <p:cNvPr id="327" name=""/>
          <p:cNvSpPr txBox="1"/>
          <p:nvPr/>
        </p:nvSpPr>
        <p:spPr>
          <a:xfrm>
            <a:off x="456840" y="1599840"/>
            <a:ext cx="4259160" cy="4637160"/>
          </a:xfrm>
          <a:prstGeom prst="rect">
            <a:avLst/>
          </a:prstGeom>
          <a:noFill/>
          <a:ln w="0">
            <a:noFill/>
          </a:ln>
        </p:spPr>
        <p:txBody>
          <a:bodyPr anchor="t">
            <a:normAutofit fontScale="99000"/>
          </a:bodyPr>
          <a:p>
            <a:pPr marL="361080" indent="-279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ff"/>
                </a:solidFill>
                <a:latin typeface="Corbel"/>
              </a:rPr>
              <a:t>Фазы сна</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едленный сон </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ышцы расслаблены, дыхание ровное, сердцебиение замедленно)</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быстрый сон</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ритм сердечной деятельности повышается, глазные яблоки под закрытыми веками в движении)</a:t>
            </a:r>
            <a:endParaRPr b="0" lang="en-US" sz="2400" spc="-1" strike="noStrike">
              <a:solidFill>
                <a:srgbClr val="000000"/>
              </a:solidFill>
              <a:latin typeface="Corbel"/>
            </a:endParaRPr>
          </a:p>
        </p:txBody>
      </p:sp>
      <p:pic>
        <p:nvPicPr>
          <p:cNvPr id="328" name="Picture 5" descr="Картинка 7 из 8355">
            <a:hlinkClick r:id="rId1"/>
          </p:cNvPr>
          <p:cNvPicPr/>
          <p:nvPr/>
        </p:nvPicPr>
        <p:blipFill>
          <a:blip r:embed="rId2"/>
          <a:stretch/>
        </p:blipFill>
        <p:spPr>
          <a:xfrm>
            <a:off x="4714920" y="1357200"/>
            <a:ext cx="417348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13840"/>
            <a:ext cx="8229600" cy="7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ccff"/>
                </a:solidFill>
                <a:latin typeface="Corbel"/>
              </a:rPr>
              <a:t>Структура сна</a:t>
            </a:r>
            <a:endParaRPr b="0" lang="en-US" sz="3900" spc="-1" strike="noStrike">
              <a:solidFill>
                <a:srgbClr val="572314"/>
              </a:solidFill>
              <a:latin typeface="Corbel"/>
            </a:endParaRPr>
          </a:p>
        </p:txBody>
      </p:sp>
      <p:sp>
        <p:nvSpPr>
          <p:cNvPr id="330" name=""/>
          <p:cNvSpPr txBox="1"/>
          <p:nvPr/>
        </p:nvSpPr>
        <p:spPr>
          <a:xfrm>
            <a:off x="457200" y="1071720"/>
            <a:ext cx="8229600" cy="5054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Сон — особое состояние сознания человека и животных, включающее в себя ряд стадий, закономерно повторяющихся в течение ночи. Появление этих стадий обусловлено активностью различных структур мозг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У здорового человека сон начинается с первой стадии медленного сна, которая длится 5-10 минут. Затем наступает 2-я стадия, которая продолжается около 20 минут. Ещё 30-45 минут приходится на период 3-4 стадий. После этого спящий снова возвращается во 2-ю стадию медленного сна, после которой возникает первый эпизод быстрого сна, который имеет короткую продолжительность — около 5 минут. Вся эта последовательность называется циклом. Первый цикл имеет длительность 90-100 минут. Затем циклы повторяются, при этом уменьшается доля медленного сна и постепенно нарастает доля быстрого сна , последний эпизод которого в отдельных случаях может достигать 1 часа. В среднем, при полноценном здоровом сне отмечается пять полных циклов. Последовательность смены стадий и их длительность удобно представлять в виде гипнограммы, которая наглядно отображает структуру сна пациент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836280"/>
            <a:ext cx="8229600" cy="5289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7f26"/>
                </a:solidFill>
                <a:latin typeface="Corbel"/>
              </a:rPr>
              <a:t>Регулярная смена сна и бодрствования - это необходимый суточный цикл любого живого организма. 1/3 жизни человек проводит во сне. Без сна жизнь невозможна. В проведенных опытах собака без пищи могла прожить 20-25 дней, хотя при этом теряла 50% веса, а собака, лишенная сна погибала на 12 день, хотя в весе теряла всего 5%. Бессонница мучительна. Неслучайно в древнем Китае приговаривали к смертной казни лишением сна.</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8760" y="-21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Функции сна</a:t>
            </a:r>
            <a:endParaRPr b="0" lang="en-US" sz="4300" spc="-1" strike="noStrike">
              <a:solidFill>
                <a:srgbClr val="572314"/>
              </a:solidFill>
              <a:latin typeface="Corbel"/>
            </a:endParaRPr>
          </a:p>
        </p:txBody>
      </p:sp>
      <p:sp>
        <p:nvSpPr>
          <p:cNvPr id="333" name=""/>
          <p:cNvSpPr txBox="1"/>
          <p:nvPr/>
        </p:nvSpPr>
        <p:spPr>
          <a:xfrm>
            <a:off x="285480" y="928440"/>
            <a:ext cx="800100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Главная - Сон обеспечивает отдых </a:t>
            </a:r>
            <a:r>
              <a:rPr b="0" lang="ru-RU" sz="2800" spc="-1" strike="noStrike" u="sng">
                <a:solidFill>
                  <a:srgbClr val="8dc765"/>
                </a:solidFill>
                <a:uFillTx/>
                <a:latin typeface="Corbel"/>
                <a:hlinkClick r:id="rId1"/>
              </a:rPr>
              <a:t>организма</a:t>
            </a:r>
            <a:r>
              <a:rPr b="0" lang="ru-RU" sz="2800" spc="-1" strike="noStrike">
                <a:solidFill>
                  <a:srgbClr val="2a6d7d"/>
                </a:solidFill>
                <a:latin typeface="Corbel"/>
              </a:rPr>
              <a:t>.</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способствует переработке и хранению информации. Сон (особенно медленный) облегчает закрепление изученного материала, быстрый сон реализует подсознательные модели ожидаемых событий.</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 это приспособление организма к изменению освещённости (день-ночь).</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восстанавливает </a:t>
            </a:r>
            <a:r>
              <a:rPr b="0" lang="ru-RU" sz="2800" spc="-1" strike="noStrike" u="sng">
                <a:solidFill>
                  <a:srgbClr val="8dc765"/>
                </a:solidFill>
                <a:uFillTx/>
                <a:latin typeface="Corbel"/>
                <a:hlinkClick r:id="rId2"/>
              </a:rPr>
              <a:t>иммунитет</a:t>
            </a:r>
            <a:r>
              <a:rPr b="0" lang="ru-RU" sz="2800" spc="-1" strike="noStrike">
                <a:solidFill>
                  <a:srgbClr val="2a6d7d"/>
                </a:solidFill>
                <a:latin typeface="Corbel"/>
              </a:rPr>
              <a:t> путём активизации </a:t>
            </a:r>
            <a:r>
              <a:rPr b="0" lang="ru-RU" sz="2800" spc="-1" strike="noStrike" u="sng">
                <a:solidFill>
                  <a:srgbClr val="8dc765"/>
                </a:solidFill>
                <a:uFillTx/>
                <a:latin typeface="Corbel"/>
                <a:hlinkClick r:id="rId3"/>
              </a:rPr>
              <a:t>T-лимфоцитов</a:t>
            </a:r>
            <a:r>
              <a:rPr b="0" lang="ru-RU" sz="2800" spc="-1" strike="noStrike">
                <a:solidFill>
                  <a:srgbClr val="2a6d7d"/>
                </a:solidFill>
                <a:latin typeface="Corbel"/>
              </a:rPr>
              <a:t>, борющимися с простудными и вирусными заболеваниями.</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28760" y="-214200"/>
            <a:ext cx="82296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Corbel"/>
              </a:rPr>
              <a:t>Необходимая Продолжительность сна</a:t>
            </a:r>
            <a:endParaRPr b="0" lang="en-US" sz="3200" spc="-1" strike="noStrike">
              <a:solidFill>
                <a:srgbClr val="572314"/>
              </a:solidFill>
              <a:latin typeface="Corbel"/>
            </a:endParaRPr>
          </a:p>
        </p:txBody>
      </p:sp>
      <p:sp>
        <p:nvSpPr>
          <p:cNvPr id="335" name=""/>
          <p:cNvSpPr txBox="1"/>
          <p:nvPr/>
        </p:nvSpPr>
        <p:spPr>
          <a:xfrm>
            <a:off x="0" y="928800"/>
            <a:ext cx="5500800" cy="5000400"/>
          </a:xfrm>
          <a:prstGeom prst="rect">
            <a:avLst/>
          </a:prstGeom>
          <a:noFill/>
          <a:ln w="0">
            <a:noFill/>
          </a:ln>
        </p:spPr>
        <p:txBody>
          <a:bodyPr anchor="t">
            <a:normAutofit fontScale="92000"/>
          </a:bodyPr>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35e01"/>
                </a:solidFill>
                <a:latin typeface="Corbel"/>
              </a:rPr>
              <a:t>Необходимая продолжительность сна</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обычно составляет 6—8 часов в сутки, но возможны изменения в довольно широких границах (4-10 часов). При нарушениях сна его длительность может составлять от нескольких минут до нескольких суток.</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у новорожденных, взрослых и пожилых людей составляет 12—16, 6—8 и 4—6 ч в сутки соответственно. Длительность сна менее 5 ч или нарушение физиологической структуры считаются факторами риска </a:t>
            </a:r>
            <a:r>
              <a:rPr b="0" lang="ru-RU" sz="2200" spc="-1" strike="noStrike" u="sng">
                <a:solidFill>
                  <a:srgbClr val="8dc765"/>
                </a:solidFill>
                <a:uFillTx/>
                <a:latin typeface="Corbel"/>
                <a:hlinkClick r:id="rId1"/>
              </a:rPr>
              <a:t>бессонницы</a:t>
            </a:r>
            <a:r>
              <a:rPr b="0" lang="ru-RU" sz="2200" spc="-1" strike="noStrike">
                <a:solidFill>
                  <a:srgbClr val="835e01"/>
                </a:solidFill>
                <a:latin typeface="Corbel"/>
              </a:rPr>
              <a:t>.</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36" name="Рисунок 7" descr="76412164_4034513_sleep2.jpg"/>
          <p:cNvPicPr/>
          <p:nvPr/>
        </p:nvPicPr>
        <p:blipFill>
          <a:blip r:embed="rId2"/>
          <a:stretch/>
        </p:blipFill>
        <p:spPr>
          <a:xfrm>
            <a:off x="5429160" y="1357200"/>
            <a:ext cx="3314880" cy="49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85840" y="21420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5e01"/>
                </a:solidFill>
                <a:latin typeface="Corbel"/>
              </a:rPr>
              <a:t>В среднем человек может обойтись без сна не более 3 суток.</a:t>
            </a:r>
            <a:endParaRPr b="0" lang="en-US" sz="3600" spc="-1" strike="noStrike">
              <a:solidFill>
                <a:srgbClr val="000000"/>
              </a:solidFill>
              <a:latin typeface="Corbel"/>
            </a:endParaRPr>
          </a:p>
        </p:txBody>
      </p:sp>
      <p:pic>
        <p:nvPicPr>
          <p:cNvPr id="338" name="Рисунок 3" descr="7.jpg"/>
          <p:cNvPicPr/>
          <p:nvPr/>
        </p:nvPicPr>
        <p:blipFill>
          <a:blip r:embed="rId1"/>
          <a:stretch/>
        </p:blipFill>
        <p:spPr>
          <a:xfrm>
            <a:off x="1500120" y="1714680"/>
            <a:ext cx="6381720" cy="42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5:33:31Z</dcterms:created>
  <dc:creator>Maloikin</dc:creator>
  <dc:description/>
  <dc:language>en-US</dc:language>
  <cp:lastModifiedBy>Николай</cp:lastModifiedBy>
  <dcterms:modified xsi:type="dcterms:W3CDTF">2012-06-26T06:24:00Z</dcterms:modified>
  <cp:revision>19</cp:revision>
  <dc:subject/>
  <dc:title>Слайд 1</dc:title>
</cp:coreProperties>
</file>