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8E9-11AC-492C-9FF2-AF7213B1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DBB-828F-4776-9BEA-5E45F587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84F-BD63-494E-B1E6-6D5BAB67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544-71CC-4911-B3E2-66E3B5E7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36D5-E59A-44DD-9DEF-30EB8F24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288B-4238-437D-9D57-607C4FEB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3946-F564-4445-866D-A6A8F1EF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5719-ACB8-4848-A8E0-75A1571E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9C95-D5C2-4B3B-875D-5C0D160E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0703-8028-47C7-8586-A8E5EFD0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52A8-79F6-454D-954B-9FED29F7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791-64C1-4F9E-ABE6-41928F2A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3E8D-72AA-489A-BB84-C3235FFA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25BC-3696-45D0-B12A-3B76C251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C227-B690-4ED1-91F7-AAECA1F9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50DE-45FC-47CA-A2B0-19A06C72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30EC-61D4-453A-9F63-C5B857FE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D0B-23AF-4154-8A8C-D480C0DA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14A-CE81-4497-8711-1F8A1471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BBA-9B14-4DB7-A2EF-BA00A85C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5FC-FE02-4083-B8B6-C07238D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12A-2904-454E-A113-454597D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442-02F4-40D6-A792-D420E7A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676-894A-445E-87DE-243D6D47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E3A4-9100-4220-B398-486FD0FAE7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F685-EAEA-4190-A832-6CF348D1A64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6564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67c1"/>
                </a:solidFill>
                <a:latin typeface="Comic Sans MS"/>
              </a:rPr>
              <a:t>Рисуем Снегурочку и Деда Мороз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422520" cy="472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42252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3530880" cy="4876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0"/>
            <a:ext cx="6858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сположи лист вертик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черти от центра вертикальную ли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этой оси нарисуй разметки будущих героев, как на образ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814000">
            <a:off x="304920" y="2209320"/>
            <a:ext cx="1982520" cy="152640"/>
          </a:xfrm>
          <a:prstGeom prst="rightArrow">
            <a:avLst>
              <a:gd name="adj1" fmla="val 50000"/>
              <a:gd name="adj2" fmla="val 324705"/>
            </a:avLst>
          </a:prstGeom>
          <a:solidFill>
            <a:srgbClr val="198f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457200"/>
            <a:ext cx="228600" cy="228600"/>
          </a:xfrm>
          <a:prstGeom prst="donut">
            <a:avLst>
              <a:gd name="adj" fmla="val 25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530880" cy="4876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20814000">
            <a:off x="3733920" y="2209320"/>
            <a:ext cx="1982520" cy="152640"/>
          </a:xfrm>
          <a:prstGeom prst="rightArrow">
            <a:avLst>
              <a:gd name="adj1" fmla="val 50000"/>
              <a:gd name="adj2" fmla="val 3247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-0.1 L 0.09166 0.58912 E">
                                      <p:cBhvr>
                                        <p:cTn id="12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-0.1 L 0.09166 0.58912 E">
                                      <p:cBhvr>
                                        <p:cTn id="25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380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80880"/>
            <a:ext cx="5410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негурочке наметим Глаза, рот, шапку 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 Морозу – глаза, нос, рот, мешок 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475080" cy="480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3475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8077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мечаем дальше: Снегурочке – шапку, воротник, челку, косу с бантом, оторочку меха на шубе, муфту. Тщательнее прорисовываем глаза и 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 Морозу – усы, брови, бороду, шапку, воротник, мешок, мех на рукавах и подоле, валенки и по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24440" y="1600200"/>
            <a:ext cx="3530520" cy="4876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195560" y="1600200"/>
            <a:ext cx="355896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5228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рисовываем всё более че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тираем лишни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 Мороз и Снегурочка готовы!  Можно раскраш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30520" cy="487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69840" y="1523880"/>
            <a:ext cx="34783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3808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отово! Твой рисунок можно на выстав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476520" cy="480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34210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4:41:49Z</dcterms:created>
  <dc:creator>Лена</dc:creator>
  <dc:description/>
  <dc:language>en-US</dc:language>
  <cp:lastModifiedBy>NBPro</cp:lastModifiedBy>
  <dcterms:modified xsi:type="dcterms:W3CDTF">2011-12-05T16:57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