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5C5-AFBC-4F6F-B170-2A1FD87A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D6F-231B-436E-95FE-A266658A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D38-2D9B-4376-8217-35108808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65E-FE5E-4722-B994-B3B18A39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10F0-48B7-494F-94B2-A4A0CDF3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CDCD-E323-4F05-B839-B3FBF33E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6371-986E-4337-8137-ABA050D2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0662-B8D7-4F03-B7D9-2F608EF6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B736-71D1-46C6-8943-F3256A21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27ED-E3AA-47E0-B7D0-CD2BECCA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1D94-37AC-4E3F-B813-E1342A6F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54C-DACD-4C71-A545-A6CE4F25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8E52-33C6-4BA2-9017-CD15F8B9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4E13-DF4E-4690-8C77-96D4D595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8B34-0D40-473E-BC19-445637FA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A738-D833-48D9-B785-C2696A21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76A3-3AA2-4DEA-98F6-95658C48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C90-AEFD-487B-AC40-F5515E25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DCD-DC30-41CE-AE31-F75D5B43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AA5-963D-4349-AFF2-D39E5310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D8C-BFC3-4631-AF8C-A11BE8F6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A98-97CC-408B-8072-2A979C2D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55B-D57B-49BD-9148-99ABAEA1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57B-AE2A-429E-B5BC-BFCD289B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E531-BB00-4F9F-A4BB-1BF5D89F49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2A89-F2E8-41BF-B791-FC0E040FC4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6564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67c1"/>
                </a:solidFill>
                <a:latin typeface="Comic Sans MS"/>
              </a:rPr>
              <a:t>Рисуем Снегурочку и Деда Мороз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422520" cy="472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42252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3530880" cy="4876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0"/>
            <a:ext cx="6858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сположи лист вертик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очерти от центра вертикальную ли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этой оси нарисуй разметки будущих героев, как на образ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814000">
            <a:off x="304920" y="2209320"/>
            <a:ext cx="1982520" cy="152640"/>
          </a:xfrm>
          <a:prstGeom prst="rightArrow">
            <a:avLst>
              <a:gd name="adj1" fmla="val 50000"/>
              <a:gd name="adj2" fmla="val 324705"/>
            </a:avLst>
          </a:prstGeom>
          <a:solidFill>
            <a:srgbClr val="198f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457200"/>
            <a:ext cx="228600" cy="228600"/>
          </a:xfrm>
          <a:prstGeom prst="donut">
            <a:avLst>
              <a:gd name="adj" fmla="val 25000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530880" cy="4876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20814000">
            <a:off x="3733920" y="2209320"/>
            <a:ext cx="1982520" cy="152640"/>
          </a:xfrm>
          <a:prstGeom prst="rightArrow">
            <a:avLst>
              <a:gd name="adj1" fmla="val 50000"/>
              <a:gd name="adj2" fmla="val 32470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-0.1 L 0.09166 0.58912 E">
                                      <p:cBhvr>
                                        <p:cTn id="12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-0.1 L 0.09166 0.58912 E">
                                      <p:cBhvr>
                                        <p:cTn id="25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380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80880"/>
            <a:ext cx="5410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негурочке наметим Глаза, рот, шапку 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ду Морозу – глаза, нос, рот, мешок 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475080" cy="480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34750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8077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мечаем дальше: Снегурочке – шапку, воротник, челку, косу с бантом, оторочку меха на шубе, муфту. Тщательнее прорисовываем глаза и 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ду Морозу – усы, брови, бороду, шапку, воротник, мешок, мех на рукавах и подоле, валенки и по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24440" y="1600200"/>
            <a:ext cx="3530520" cy="4876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195560" y="1600200"/>
            <a:ext cx="355896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152280"/>
            <a:ext cx="69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рисовываем всё более че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тираем лишние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д Мороз и Снегурочка готовы!  Можно раскраш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30520" cy="4876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69840" y="1523880"/>
            <a:ext cx="34783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3808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отово! Твой рисунок можно на выстав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476520" cy="480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34210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4:41:49Z</dcterms:created>
  <dc:creator>Лена</dc:creator>
  <dc:description/>
  <dc:language>en-US</dc:language>
  <cp:lastModifiedBy>NBPro</cp:lastModifiedBy>
  <dcterms:modified xsi:type="dcterms:W3CDTF">2011-12-05T16:57:2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