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ADF-7C7F-4C2E-A97F-921C26CF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B35-BBF9-4C96-927C-0C67E606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242-2987-4081-96BD-95A1E8B2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684-8507-4543-818F-90886A98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02EE-1F6A-49B9-8511-465126D0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DBD4-F5AF-43F9-8652-4B836EC8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8A8C-F7CF-499F-BAF1-410CF463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7470-997F-49DD-B7F7-A7F7CDFB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54A1-DCB7-4A23-BAD8-87D9B246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9B51-4C01-4A72-8AE2-E847C351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7386-9EEF-4B82-84C8-A6B43CF1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B30-4871-4D59-81B6-7EDF8646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888C-BB4F-403D-B904-0032619F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A715-585D-4762-8DCE-E73AE100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1CC0-289D-4B57-8211-038B6329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9A02-DD5B-4709-BC4C-2244AADF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317F-AFDB-47CD-9F99-55B32339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7B1-4797-4A97-9AC5-DA10F567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A5B-B1B1-428F-91B5-632D6B0E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4DF-5239-4EB1-89DD-0E3A0208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114-F27D-4E11-97DA-949E08E3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64F-3089-4525-902B-AB7B8FAB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A9D-6F74-4744-BD27-5819F52D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0E7-8711-41BD-873C-ED59BFC7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E699-857C-447A-82D4-B49FDDB9FD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6EB2-C739-4AC0-94C5-550AE5F2BCA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6564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67c1"/>
                </a:solidFill>
                <a:latin typeface="Comic Sans MS"/>
              </a:rPr>
              <a:t>Рисуем Снегурочку и Деда Мороз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422520" cy="472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42252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3530880" cy="4876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0"/>
            <a:ext cx="6858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сположи лист вертик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очерти от центра вертикальную ли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этой оси нарисуй разметки будущих героев, как на образ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814000">
            <a:off x="304920" y="2209320"/>
            <a:ext cx="1982520" cy="152640"/>
          </a:xfrm>
          <a:prstGeom prst="rightArrow">
            <a:avLst>
              <a:gd name="adj1" fmla="val 50000"/>
              <a:gd name="adj2" fmla="val 324705"/>
            </a:avLst>
          </a:prstGeom>
          <a:solidFill>
            <a:srgbClr val="198f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457200"/>
            <a:ext cx="228600" cy="228600"/>
          </a:xfrm>
          <a:prstGeom prst="donut">
            <a:avLst>
              <a:gd name="adj" fmla="val 25000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530880" cy="4876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20814000">
            <a:off x="3733920" y="2209320"/>
            <a:ext cx="1982520" cy="152640"/>
          </a:xfrm>
          <a:prstGeom prst="rightArrow">
            <a:avLst>
              <a:gd name="adj1" fmla="val 50000"/>
              <a:gd name="adj2" fmla="val 3247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-0.1 L 0.09166 0.58912 E">
                                      <p:cBhvr>
                                        <p:cTn id="12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-0.1 L 0.09166 0.58912 E">
                                      <p:cBhvr>
                                        <p:cTn id="25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380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80880"/>
            <a:ext cx="5410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негурочке наметим Глаза, рот, шапку 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ду Морозу – глаза, нос, рот, мешок 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475080" cy="480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34750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8077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мечаем дальше: Снегурочке – шапку, воротник, челку, косу с бантом, оторочку меха на шубе, муфту. Тщательнее прорисовываем глаза и 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ду Морозу – усы, брови, бороду, шапку, воротник, мешок, мех на рукавах и подоле, валенки и по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24440" y="1600200"/>
            <a:ext cx="3530520" cy="4876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195560" y="1600200"/>
            <a:ext cx="355896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152280"/>
            <a:ext cx="69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рисовываем всё более че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тираем лишни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д Мороз и Снегурочка готовы!  Можно раскраш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30520" cy="4876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69840" y="1523880"/>
            <a:ext cx="34783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3808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отово! Твой рисунок можно на выстав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476520" cy="480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34210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4:41:49Z</dcterms:created>
  <dc:creator>Лена</dc:creator>
  <dc:description/>
  <dc:language>en-US</dc:language>
  <cp:lastModifiedBy>NBPro</cp:lastModifiedBy>
  <dcterms:modified xsi:type="dcterms:W3CDTF">2011-12-05T16:57:2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