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415D-0CDF-4B34-9427-B702E2A89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488680" y="505584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B08C-6497-4B89-9AB7-7B8F98DC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63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B2C6-EEBB-45E2-AE29-6B42893BE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6696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4524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48868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56696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4524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A580-7BFB-4338-8D05-6DD6BBB5D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A278F-EABF-4D5D-835C-D52963A01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9BA2-3A48-4A26-A9D8-F790BAC6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82F09-97A2-4979-AEFF-4C4EB9EB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5EC3F-9BC1-4A63-9095-79875B0A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749D-D696-4275-B239-B2A445F7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2455920" y="596880"/>
            <a:ext cx="6192720" cy="166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BF31-D373-43E5-833F-573F89A9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B1E4-ACA2-41FD-A53D-12CCA2A7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C1B0-49AA-4234-A95C-B640EDFC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3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8981-C326-468B-ADDF-CCBAF8FF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38CF3-6AA0-499C-B5BB-516B621F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488680" y="505584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5CA9-64A8-4DD5-99B5-E3EB4022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63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C2F6-4EAB-4651-A078-811906CCC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6696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64524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248868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56696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64524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8FC9-E051-4260-BB6D-830EAC31F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3104-C55B-49D3-9485-A7DC2C36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EC3A-1237-4F42-A363-A5B675EC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9A15-A838-4A63-8603-DFC4BE07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455920" y="596880"/>
            <a:ext cx="6192720" cy="166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BE86-DFB4-4DF4-9A9E-B03989FD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6ECB-08F3-495D-B498-58B46FDF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3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75C7-EC57-4096-9853-E144C7CE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BC65-FEF7-4645-B645-8FF2BE1A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6107-2574-4E80-B91D-64BF0D73B8EF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A343-5244-4F1E-9421-07F5D24A594E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447920" y="1752480"/>
            <a:ext cx="62481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бёнок и природ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22860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                 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Планирование  проектной деятельности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Группа:  Старшая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Тема  проекта: « Ребенок и  природа»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Цель  проекта .   Воспитание и формирование у детей осознанного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Отношения  к ценностям  здорового  образ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Жизни  и  личной безопасности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Программные задачи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Познавательная: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Расширять  представления детей о разнообразии природного мира(деревья, цветы, ягоды, грибы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Узнавать и различать полезные и ядовитые растения, растения, которые приносят пользу человеку, умение видеть то, что представляет  опасность для жизни и здоровья людей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Развить познавательную активность, творческие способности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Речевая: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Обогащать речь детей существительными обозначающими  предметы  природного  окружения,  активизировать речь детей прилагательными( признаки, свойства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Совершенствовать диалогическую речь,  развивать монологическую и интонационную выразительность речи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Формировать  связную  речь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228600"/>
            <a:ext cx="9144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оспитательная: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Учить заботиться  о природе, поддерживать чистоту в экологической среде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Формировать умения уважительного  отношения к мнению  других детей и высказывать свою точку зрения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оспитывать у детей интерес  и бережное отношение к природе, родному краю и умение вести  в различных  жизненных ситуациях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Итоговое мероприятие: туристский поход в Буфферный парк «В гости к Хозяйке Леса»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Длительность проекта:  два месяц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Дата  проведения:   26  сентября  2011г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Ф.И.О. ответственного за итоговое мероприятие: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оспитатель  старшей гр.-Золотарева Татьяна Николаевн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Физ.руководитель –Кольцова Ирина Владимировн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Участники мероприятия: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оспитатель старшей гр.- Никишина Антонина Петровн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тарший воспитатель –Золотухина Лариса Михайловн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Музыкальный руководитель- Голубева Ирина Михайловн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90720" y="-694440"/>
            <a:ext cx="617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  <a:ea typeface="Times New Roman"/>
              </a:rPr>
              <a:t>         </a:t>
            </a:r>
            <a:r>
              <a:rPr b="1" lang="en-US" sz="1600" spc="-1" strike="noStrike">
                <a:solidFill>
                  <a:srgbClr val="006699"/>
                </a:solidFill>
                <a:latin typeface="Arial"/>
                <a:ea typeface="Times New Roman"/>
              </a:rPr>
              <a:t>Паутинка   проекта по ОБЖ тема «Ребенок и природа»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143000" y="762120"/>
          <a:ext cx="6858000" cy="7665840"/>
        </p:xfrm>
        <a:graphic>
          <a:graphicData uri="http://schemas.openxmlformats.org/drawingml/2006/table">
            <a:tbl>
              <a:tblPr/>
              <a:tblGrid>
                <a:gridCol w="1371600"/>
                <a:gridCol w="1317600"/>
                <a:gridCol w="1257480"/>
                <a:gridCol w="1420560"/>
                <a:gridCol w="149076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О «Физическая культура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О «Здоровье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О « Познание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О «Коммуникация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О « Чтение художественной  литературы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Организованная деятельность с детьми  2 раза в неделю;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Игры с элементами соревнований («кто быстрее добежит», «попади в кольцо» ит.д.)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Игры эстафеты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бег змейкой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метание в цель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Подвижные игры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Садовник и цветы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Поймай  грибок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 Мы – веселые ребята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 Пугало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Основные движения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перепрыгивание через кочки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упражнение на равновесие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ходьба по шнуру, приставляя пятку одной ноги  к носку другой;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пролезание в обруч.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Забота о здоровье.  Беседы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навыки личной гигиены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чистота и здоровье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Утренняя гимнастика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Комп.№ 2,3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логоритмик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( см карт)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физпауза, физминутк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( см. карт)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Дидактическая игра « Туалетные принадлежности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К.Чуковский «Мойдодыр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С.Михалков «Про   Мимозу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Алгоритм одевания на прогулку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Катание на самокате, велосипеде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Валеология       « Мой нос»,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Правильное питание»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Информация для родителей   « Здоровый образ жизни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Наблюдения на прогулке,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Экскурсия по территории детского сада и ближайшее окружение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Организованная деятельность с детьми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Деревья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Съедобные и ядовитые грибы и ягоды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Лекарственные растения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Насекомые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Знакомство с компасом» -прошлое компас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 Мы –туристы»- виды туризма, что такое туризм, поход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Организованная деятельность с детьми по экологии  с использованием элементов ТРИЗ и РТВ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рганизованная деятельность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разучивание стихотворений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 Костяника –ягодка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Боровик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Рябинка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Стихотворения с опорой на мнемотаблицу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Одуванчик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Липка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Составление связного рассказа по плану «Деревья»(мнемотаблица)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Продолжение  ситуации «Страшная история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Загадки, считалки, чистоговорки по темам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Пальчиковые игры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Движение и речь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М.Пришвин « Золотой луг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К Бальмонт « За  грибами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Л.Н.Толстой « Как деревья ходят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 Деревья дышат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«С компасом в поход» - газета «Солнечный зайчик» -№ 11 -2010 г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Т.Н.Нуждина «Чудо-всюду» - энциклопедия для малышей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Т.А.Шорыгина   авторские сказки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Муха  Грязнуха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 Секреты лесной мышки»  из серии « Безопасность для малышей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А.Прокофьев «Рябины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1371600" y="1522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Паутинка проекта по ОБЖ тема «Ребёнок и природа»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1523880" y="304920"/>
          <a:ext cx="6080040" cy="9674280"/>
        </p:xfrm>
        <a:graphic>
          <a:graphicData uri="http://schemas.openxmlformats.org/drawingml/2006/table">
            <a:tbl>
              <a:tblPr/>
              <a:tblGrid>
                <a:gridCol w="1216080"/>
                <a:gridCol w="1216080"/>
                <a:gridCol w="1216080"/>
                <a:gridCol w="1215720"/>
                <a:gridCol w="121608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О «Социализация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О « Труд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О «Безопасность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О «Музыка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О «Художественное творчество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Сюжетно-ролевые игры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Семья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Путешествие по городу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Игры на развитие внимания, памяти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Лабиринты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Найди отличия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Собери картинку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Настольно-печатные игры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Собери грибы в лукошко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Что перепутал художник?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Дидактические игры словесные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Знатоки природы»(ядовитые и съедобные грибы,ягоды)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_Дидактические игры с предметами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Собери рюкзак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Виды костров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Дидактические игры грамматического содержания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Назови ласково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Один – много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Самообслуживание:учить детей мыть руки, умываться,складывать и вешать полотенце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Хозяйственно-бытовой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водить порядок на участке детского сада, убирать игрушки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Совместно с родителями изготовление эмблем для поход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Родители и дети: поделки из природного материала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Макет «Насекомые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Организованная деятельность с детьми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Правила поведения на природе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Как правильно вести себя в лесу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Если встретил я осу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Съедобные и ядовитые растения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Растения которые лечат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Рассматривание и рассказывание по картине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Безопасное поведение  в природе»-Стеркин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Беседы: «Берегите природу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Настольно-печатные игры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Правильно ли это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Опасно-безопасно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Как избежать неприятностей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Информация для родителей наглядный материал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Анкета для родителей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Лист согласования проведения похода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Разучивание песен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Вместе весело шагать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В.Шаинский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М.Матусовский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Когда мои друзья со мной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В.Шаинский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М.Танич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Прослушивание аудиозаписи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.Григ «Утро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Хороводные игры « В лесу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Музыкальные игры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Осень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Грибочки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Развлечения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День рождени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Рисование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Деревья» (береза,дуб,липа)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Цветы»(растения)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Насекомые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(комар, оса)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Подгруппа детей –Лепк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 Грибы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Аппликаци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Солнечное лето»-одуванчики(коллективная работа)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Поделки из природного материал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(из колючек лопуха)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Коллаж « В лесу грибы ягоды беру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1522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Модель  взаимодействия  специалистов  к проведению Туристского  похода в старшей  группе ГДОУ № 28 г.Пушкин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-35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447920" y="990720"/>
          <a:ext cx="6078240" cy="7758000"/>
        </p:xfrm>
        <a:graphic>
          <a:graphicData uri="http://schemas.openxmlformats.org/drawingml/2006/table">
            <a:tbl>
              <a:tblPr/>
              <a:tblGrid>
                <a:gridCol w="1742760"/>
                <a:gridCol w="1415880"/>
                <a:gridCol w="1819440"/>
                <a:gridCol w="110016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Воспитатели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Инструктор по физической культуре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Медицинский персонал(врач,медсестра)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Заведующа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Старший воспитатель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I </a:t>
                      </a: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этап    Подготовка  к туристскому походу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4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Проводит познавательную работу: рассматривание картин, иллюстраций, беседы, наблюдения за живыми и неживыми объектами, разучивает стихи, песни, загадки, игры – осуществляет необходимую психологическую подготовку детей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рганизационная работа с родителями по подготовке необходимой одежды, обуви, личного инвентаря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прашивает родителей об отношении  туристскому походу и участие родителей в данном   мероприятии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анкет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лист согласования проведения туристского поход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4. подбор  познавательного материала для проведения Т.П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. осуществляет совместную организованную деятельность с детьми  по подготовке и проведению   туристского    похода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сюжетные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тематические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Физкультурные мероприяти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. индивидуальная физическая подготовка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беседы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подвижные игры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.разрабатывает маршрут Т.П.  с учетом  сезона и подготовленности детей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готовит инвентарь  спортивный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костюмы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атрибуты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5. проходит маршрут похода с воспитателями ( проверка местности на безопасность)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6. рисует схему маршрута Т.П. в Буферный парк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. комплектует  походную  аптечку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. следит за состоянием здоровья детей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. проводит беседы  о правилах  безопасного  поведения  в природных  условиях( детям)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И способах  оказания первой  медицинской  помощи ( педагогам)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. создают условия  для организации нового  вида двигательной деятельности детей  в детском  саду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. утверждают  маршрут туристского  похода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1752480" y="-304920"/>
          <a:ext cx="6078600" cy="4532040"/>
        </p:xfrm>
        <a:graphic>
          <a:graphicData uri="http://schemas.openxmlformats.org/drawingml/2006/table">
            <a:tbl>
              <a:tblPr/>
              <a:tblGrid>
                <a:gridCol w="1743120"/>
                <a:gridCol w="1415880"/>
                <a:gridCol w="1819440"/>
                <a:gridCol w="1100160"/>
              </a:tblGrid>
              <a:tr h="6415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  этап     Проведение  туристского  поход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вместе с детьми  комплектует  команды, организует название команд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кузнечики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божьи коровки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бабочки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контроль качества личного снаряжения: одежда, обувь, питание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участие  с физкультурным руководителем в организации и проведении подвижных игр и игр по желанию детей  на привале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сбор природного материала с детьми для поделок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проводит с воспитателем туристский поход по заранее  намеченному  и утвержденному маршруту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существляет  дифференцированный  подход  в определении физической  и психологической нагрузки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. при необходимости  дает совет по подбору одежды ребенка в зависимости  от погоды  и состояния здоровья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. обеспечивает участие взрослых в проведении  туристского поход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. готовит приказ о выходе  детей за  пределы дошкольного  учреждени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. принимают  участие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2363400" y="4083480"/>
            <a:ext cx="3585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Verdana"/>
                <a:ea typeface="Times New Roman"/>
              </a:rPr>
              <a:t>  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  <a:ea typeface="Times New Roman"/>
              </a:rPr>
              <a:t>                 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  <a:ea typeface="Times New Roman"/>
              </a:rPr>
              <a:t>III </a:t>
            </a:r>
            <a:r>
              <a:rPr b="0" lang="ru-RU" sz="1200" spc="-1" strike="noStrike">
                <a:solidFill>
                  <a:srgbClr val="006699"/>
                </a:solidFill>
                <a:latin typeface="Arial"/>
                <a:ea typeface="Times New Roman"/>
              </a:rPr>
              <a:t> этап    Подведение  итогов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752480" y="4572000"/>
          <a:ext cx="6076800" cy="2616120"/>
        </p:xfrm>
        <a:graphic>
          <a:graphicData uri="http://schemas.openxmlformats.org/drawingml/2006/table">
            <a:tbl>
              <a:tblPr/>
              <a:tblGrid>
                <a:gridCol w="1519200"/>
                <a:gridCol w="1519200"/>
                <a:gridCol w="1519200"/>
                <a:gridCol w="1519200"/>
              </a:tblGrid>
              <a:tr h="261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итоговая  беседа  о туристском походе:   рисунки, рассказы, поделки  из природного материал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рганизует выставку  из  природного материала, рисунков,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фоторепортаж с Т.П.      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С воспитателями участвует  в проведении тематического  родительского  собрания ( круглый стол)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. рекомендации  по нагрузке для детей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. проверка  состояния здоровья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. подводит  итог проделанной работе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. представляет  фотовыставку  поход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yComp</cp:lastModifiedBy>
  <dcterms:modified xsi:type="dcterms:W3CDTF">2011-10-16T12:23:5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