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7EA-C7F9-4BDD-8F54-6FAF3AD5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17A-CCAC-4DE2-A489-B90BAED2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A69-31C4-48B3-B325-30A17267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643-FCC2-4E49-AEC2-316F833C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A6C6-B430-41D2-8EE4-E5A86A0B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9A30-D62F-47F3-8C0F-B85C05DB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AFA1-CF80-4D6E-A2B2-8F11875B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BEE5-A741-41BC-8E67-707F2699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6035-E838-478B-9FCE-D6716A20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32E3-AE11-446B-B5B8-8DAC3829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25BE-56CB-4847-9D24-43601CCD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6AB-A292-4341-9370-0E4D0619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7EA3-4476-4011-8CE8-369C96F4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1BA9-6B8C-4242-B612-A9E509D7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7CF3-E3C4-48F3-9B60-F6B34F0F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647A-8EF3-41CD-B2A1-68B0C404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696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45240" y="427968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48868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56696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45240" y="5055840"/>
            <a:ext cx="19789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A9F6-D61B-4E43-902B-06B4F7A4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8C14-EBE6-49BB-8E48-6E6E0798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62A-7725-4DFD-95BE-3EDB7D39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4F3-6BA8-4C85-9030-641DD438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455920" y="596880"/>
            <a:ext cx="6192720" cy="166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55F2-D880-4BE1-98F3-564CBE1B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73F-9A53-4F39-8D84-89155624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38680" y="505584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77D-C949-4B89-9333-8492E920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8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38680" y="4279680"/>
            <a:ext cx="299952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88680" y="5055840"/>
            <a:ext cx="6147000" cy="7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4682-AFF3-4462-8FC1-AFD382A0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952E-A14C-4D06-A664-9B294A5EE24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C292-C05D-4F4A-B16F-A3A0A2EC656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447920" y="1752480"/>
            <a:ext cx="6248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бёнок и природ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2286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Планирование  проектной деятельност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Группа:  Старша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Тема  проекта: « Ребенок и  природа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Цель  проекта .   Воспитание и формирование у детей осознанного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тношения  к ценностям  здорового  образ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Жизни  и  личной безопасност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рограммные задач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знавательная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Расширять  представления детей о разнообразии природного мира(деревья, цветы, ягоды, грибы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Узнавать и различать полезные и ядовитые растения, растения, которые приносят пользу человеку, умение видеть то, что представляет  опасность для жизни и здоровья людей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Развить познавательную активность, творческие способност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Речевая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богащать речь детей существительными обозначающими  предметы  природного  окружения,  активизировать речь детей прилагательными( признаки, свойства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овершенствовать диалогическую речь,  развивать монологическую и интонационную выразительность реч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Формировать  связную  речь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оспитательная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Учить заботиться  о природе, поддерживать чистоту в экологической среде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Формировать умения уважительного  отношения к мнению  других детей и высказывать свою точку зрения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оспитывать у детей интерес  и бережное отношение к природе, родному краю и умение вести  в различных  жизненных ситуациях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тоговое мероприятие: туристский поход в Буфферный парк «В гости к Хозяйке Леса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лительность проекта:  два месяц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ата  проведения:   26  сентября  2011г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Ф.И.О. ответственного за итоговое мероприятие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оспитатель  старшей гр.-Золотарева Татьяна Николаевн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Физ.руководитель –Кольцова Ирина Владимировн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Участники мероприятия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оспитатель старшей гр.- Никишина Антонина Петровн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тарший воспитатель –Золотухина Лариса Михайловн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узыкальный руководитель- Голубева Ирина Михайловн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90720" y="-694440"/>
            <a:ext cx="617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6699"/>
                </a:solidFill>
                <a:latin typeface="Arial"/>
                <a:ea typeface="Times New Roman"/>
              </a:rPr>
              <a:t>Паутинка   проекта по ОБЖ тема «Ребенок и природа»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43000" y="762120"/>
          <a:ext cx="6858000" cy="7665840"/>
        </p:xfrm>
        <a:graphic>
          <a:graphicData uri="http://schemas.openxmlformats.org/drawingml/2006/table">
            <a:tbl>
              <a:tblPr/>
              <a:tblGrid>
                <a:gridCol w="1371600"/>
                <a:gridCol w="1317600"/>
                <a:gridCol w="1257480"/>
                <a:gridCol w="1420560"/>
                <a:gridCol w="14907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Физическая культур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Здоровье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 Познание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Коммуникаци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 Чтение художественной  литературы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Организованная деятельность с детьми  2 раза в неделю;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Игры с элементами соревнований («кто быстрее добежит», «попади в кольцо» ит.д.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Игры эстафеты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бег змейко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метание в цель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Подвижные игры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адовник и цветы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Поймай  грибок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Мы – веселые ребят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Пугал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Основные движения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ерепрыгивание через кочк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упражнение на равновесие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ходьба по шнуру, приставляя пятку одной ноги  к носку другой;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ролезание в обруч.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Забота о здоровье.  Бесед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навыки личной гигиен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чистота и здоровье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Утренняя гимнастика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омп.№ 2,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логоритмик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 см карт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физпауза, физминутк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 см. карт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Дидактическая игра « Туалетные принадлежности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.Чуковский «Мойдодыр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.Михалков «Про   Мимоз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Алгоритм одевания на прогулку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Катание на самокате, велосипед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Валеология       « Мой нос»,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Правильное питание»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Информация для родителей   « Здоровый образ жизни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Наблюдения на прогулке,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Экскурсия по территории детского сада и ближайшее окружение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Организованная деятельность с детьми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Деревь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ъедобные и ядовитые грибы и ягоды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Лекарственные растени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Насекомые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Знакомство с компасом» -прошлое компас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Мы –туристы»- виды туризма, что такое туризм, поход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Организованная деятельность с детьми по экологии  с использованием элементов ТРИЗ и РТВ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рганизованная деятельность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разучивание стихотворени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Костяника –ягодк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Боровик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Рябинк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Стихотворения с опорой на мнемотаблиц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Одуванчик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Липк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оставление связного рассказа по плану «Деревья»(мнемотаблица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родолжение  ситуации «Страшная истори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Загадки, считалки, чистоговорки по темам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альчиковые игр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Движение и речь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М.Пришвин « Золотой луг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К Бальмонт « За  грибами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Л.Н.Толстой « Как деревья ходят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Деревья дышат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«С компасом в поход» - газета «Солнечный зайчик» -№ 11 -2010 г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Т.Н.Нуждина «Чудо-всюду» - энциклопедия для малыше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Т.А.Шорыгина   авторские сказк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Муха  Грязнух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Секреты лесной мышки»  из серии « Безопасность для малышей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.Прокофьев «Рябины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1371600" y="1522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аутинка проекта по ОБЖ тема «Ребёнок и природа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523880" y="304920"/>
          <a:ext cx="6080040" cy="9674280"/>
        </p:xfrm>
        <a:graphic>
          <a:graphicData uri="http://schemas.openxmlformats.org/drawingml/2006/table">
            <a:tbl>
              <a:tblPr/>
              <a:tblGrid>
                <a:gridCol w="1216080"/>
                <a:gridCol w="1216080"/>
                <a:gridCol w="1216080"/>
                <a:gridCol w="1215720"/>
                <a:gridCol w="12160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Социализаци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 Труд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Безопасность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Музыка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О «Художественное творчеств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Сюжетно-ролевые игры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емь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Путешествие по город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Игры на развитие внимания, памяти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Лабиринты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Найди отличи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обери картинк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Настольно-печатные игры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обери грибы в лукошк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Что перепутал художник?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Дидактические игры словесные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Знатоки природы»(ядовитые и съедобные грибы,ягоды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_Дидактические игры с предметами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обери рюкзак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Виды костров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Дидактические игры грамматического содержания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Назови ласков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Один – мног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Самообслуживание:учить детей мыть руки, умываться,складывать и вешать полотенце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Хозяйственно-бытовой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водить порядок на участке детского сада, убирать игрушки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Совместно с родителями изготовление эмблем для поход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Родители и дети: поделки из природного материал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Макет «Насекомые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Организованная деятельность с детьми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Правила поведения на природе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Как правильно вести себя в лес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Если встретил я ос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ъедобные и ядовитые растения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Растения которые лечат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Рассматривание и рассказывание по картине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Безопасное поведение  в природе»-Стеркин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Беседы: «Берегите природ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Настольно-печатные игры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Правильно ли эт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Опасно-безопасн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Как избежать неприятностей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Информация для родителей наглядный материал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Анкета для родителей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Лист согласования проведения поход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Разучивание песен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Вместе весело шагать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.Шаински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.Матусовски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Когда мои друзья со мной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.Шаински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.Танич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рослушивание аудиозапис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.Григ «Утро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Хороводные игры « В лес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Музыкальные игры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Осень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Грибочки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Развлечения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День рожден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Рисовани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Деревья» (береза,дуб,липа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Цветы»(растения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Насекомые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комар, оса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одгруппа детей –Лепк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 Грибы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Аппликац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«Солнечное лето»-одуванчики(коллективная работа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оделки из природного материал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(из колючек лопуха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Коллаж « В лесу грибы ягоды беру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152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Модель  взаимодействия  специалистов  к проведению Туристского  похода в старшей  группе ГДОУ № 28 г.Пушкин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-3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447920" y="990720"/>
          <a:ext cx="6078240" cy="7758000"/>
        </p:xfrm>
        <a:graphic>
          <a:graphicData uri="http://schemas.openxmlformats.org/drawingml/2006/table">
            <a:tbl>
              <a:tblPr/>
              <a:tblGrid>
                <a:gridCol w="1742760"/>
                <a:gridCol w="1415880"/>
                <a:gridCol w="1819440"/>
                <a:gridCol w="11001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нструктор по физической культур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Медицинский персонал(врач,медсестра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Заведующа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тарший воспитатель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этап    Подготовка  к туристскому поход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водит познавательную работу: рассматривание картин, иллюстраций, беседы, наблюдения за живыми и неживыми объектами, разучивает стихи, песни, загадки, игры – осуществляет необходимую психологическую подготовку детей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рганизационная работа с родителями по подготовке необходимой одежды, обуви, личного инвентаря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прашивает родителей об отношении  туристскому походу и участие родителей в данном   мероприятии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анкет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лист согласования проведения туристского поход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. подбор  познавательного материала для проведения Т.П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осуществляет совместную организованную деятельность с детьми  по подготовке и проведению   туристского    похода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сюжетны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тематически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Физкультурные мероприят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 индивидуальная физическая подготовка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бесед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подвижные игр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.разрабатывает маршрут Т.П.  с учетом  сезона и подготовленности дете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готовит инвентарь  спортивный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костюм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атрибуты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. проходит маршрут похода с воспитателями ( проверка местности на безопасность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. рисует схему маршрута Т.П. в Буферный пар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комплектует  походную  аптечк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 следит за состоянием здоровья дете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. проводит беседы  о правилах  безопасного  поведения  в природных  условиях( детям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 способах  оказания первой  медицинской  помощи ( педагогам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создают условия  для организации нового  вида двигательной деятельности детей  в детском  сад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 утверждают  маршрут туристского  поход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752480" y="-304920"/>
          <a:ext cx="6078600" cy="4532040"/>
        </p:xfrm>
        <a:graphic>
          <a:graphicData uri="http://schemas.openxmlformats.org/drawingml/2006/table">
            <a:tbl>
              <a:tblPr/>
              <a:tblGrid>
                <a:gridCol w="1743120"/>
                <a:gridCol w="1415880"/>
                <a:gridCol w="1819440"/>
                <a:gridCol w="1100160"/>
              </a:tblGrid>
              <a:tr h="6415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этап     Проведение  туристского  поход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месте с детьми  комплектует  команды, организует название команд: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кузнечик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божьи коровк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- бабочк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онтроль качества личного снаряжения: одежда, обувь, питани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участие  с физкультурным руководителем в организации и проведении подвижных игр и игр по желанию детей  на привале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бор природного материала с детьми для поделок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оводит с воспитателем туристский поход по заранее  намеченному  и утвержденному маршруту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существляет  дифференцированный  подход  в определении физической  и психологической нагрузки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при необходимости  дает совет по подбору одежды ребенка в зависимости  от погоды  и состояния здоровья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обеспечивает участие взрослых в проведении  туристского поход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 готовит приказ о выходе  детей за  пределы дошкольного  учреждения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. принимают  участие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363400" y="4083480"/>
            <a:ext cx="3585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  <a:ea typeface="Times New Roman"/>
              </a:rPr>
              <a:t>  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  <a:ea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  <a:ea typeface="Times New Roman"/>
              </a:rPr>
              <a:t>III </a:t>
            </a:r>
            <a:r>
              <a:rPr b="0" lang="ru-RU" sz="1200" spc="-1" strike="noStrike">
                <a:solidFill>
                  <a:srgbClr val="006699"/>
                </a:solidFill>
                <a:latin typeface="Arial"/>
                <a:ea typeface="Times New Roman"/>
              </a:rPr>
              <a:t> этап    Подведение  итогов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52480" y="4572000"/>
          <a:ext cx="6076800" cy="2616120"/>
        </p:xfrm>
        <a:graphic>
          <a:graphicData uri="http://schemas.openxmlformats.org/drawingml/2006/table">
            <a:tbl>
              <a:tblPr/>
              <a:tblGrid>
                <a:gridCol w="1519200"/>
                <a:gridCol w="1519200"/>
                <a:gridCol w="1519200"/>
                <a:gridCol w="1519200"/>
              </a:tblGrid>
              <a:tr h="26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тоговая  беседа  о туристском походе:   рисунки, рассказы, поделки  из природного материал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рганизует выставку  из  природного материала, рисунков,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фоторепортаж с Т.П.      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 воспитателями участвует  в проведении тематического  родительского  собрания ( круглый стол)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рекомендации  по нагрузке для детей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 проверка  состояния здоровья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 подводит  итог проделанной работе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 представляет  фотовыставку  поход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yComp</cp:lastModifiedBy>
  <dcterms:modified xsi:type="dcterms:W3CDTF">2011-10-16T12:23:5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