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F3B-213E-4A2C-B4C4-BADDF524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DCB-92F7-44D1-BF7F-FD246CCD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C65-BCEB-49FC-83AB-FB9A98E6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059-E6AD-4831-975C-DD426C6B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78A-87EC-4E2A-9BA0-BE096412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3D0C-00E4-483A-B6E2-664520EC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61AE-0440-4CB5-8086-A0E9976F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68A4-AE31-40E5-9DF1-19A7AD9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43AD-B768-4E27-BF93-6625C45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46CF-6FD7-462A-8079-50967624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C5F-7AEA-49DE-999B-2D66A57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0E0-6357-418C-962A-EF4DA29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BFC-2283-435C-882F-DAB4005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C381-949F-424F-8F44-EA1C63A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0019-0931-46B3-AA89-FAA53167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8FAC-EED5-481E-A670-04A3CAAB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174-8F11-4419-8E73-123A7249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697-8188-4C64-8BF3-072F710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0D6-90EC-4BD3-ABC1-2A99BA5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204-3C8B-432A-B0E0-EF1E680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542-4AEA-4AC0-A7A0-04754F5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5F7-A7DE-4DA4-9FD1-95195DF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095-28CB-4A0D-AF87-41538488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5BB-8579-4024-8A7F-926333F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61F6-4913-4B5C-9B0B-969E3770CCC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B9CA-04B3-4226-BC9B-A980095FE8F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47920" y="1752480"/>
            <a:ext cx="6248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ёнок и прир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Планирование  проектной деятельност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уппа:  Старш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ема  проекта: « Ребенок и 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Цель  проекта .   Воспитание и формирование у детей осознан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тношения  к ценностям  здорового  образ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зни  и  личной безопас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ограммные зада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знав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сширять  представления детей о разнообразии природного мира(деревья, цветы, ягоды, грибы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знавать и различать полезные и ядовитые растения, растения, которые приносят пользу человеку, умение видеть то, что представляет  опасность для жизни и здоровья люде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вить познавательную активность, творческие способ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ечев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богащать речь детей существительными обозначающими  предметы  природного  окружения,  активизировать речь детей прилагательными( признаки, свойств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вершенствовать диалогическую речь,  развивать монологическую и интонационную выразительность ре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Формировать  связную  реч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ить заботиться  о природе, поддерживать чистоту в экологической среде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рмировать умения уважительного  отношения к мнению  других детей и высказывать свою точку зрени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ывать у детей интерес  и бережное отношение к природе, родному краю и умение вести  в различных  жизненных ситуациях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тоговое мероприятие: туристский поход в Буфферный парк «В гости к Хозяйке Лес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тельность проекта:  два меся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ата  проведения:   26  сентября  2011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.И.О. ответственного за итоговое мероприятие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 старшей гр.-Золотарева Татьяна Николае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из.руководитель –Кольцова Ирина Владими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астники мероприяти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старшей гр.- Никишина Антонина Пет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тарший воспитатель –Золотухина Ларис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льный руководитель- Голубева Ирин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-694440"/>
            <a:ext cx="61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Паутинка   проекта по ОБЖ тема «Ребенок и природа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762120"/>
          <a:ext cx="6858000" cy="7665840"/>
        </p:xfrm>
        <a:graphic>
          <a:graphicData uri="http://schemas.openxmlformats.org/drawingml/2006/table">
            <a:tbl>
              <a:tblPr/>
              <a:tblGrid>
                <a:gridCol w="1371600"/>
                <a:gridCol w="1317600"/>
                <a:gridCol w="1257480"/>
                <a:gridCol w="1420560"/>
                <a:gridCol w="1490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Физическая культур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Здоровь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Познани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Коммуник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Чтение художественной  литератур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  2 раза в неделю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с элементами соревнований («кто быстрее добежит», «попади в кольцо» ит.д.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эстафет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г змейко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етание в цел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Подвиж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адовник и цве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оймай  грибо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 веселые ребят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Пугал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сновные движ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ерепрыгивание через к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пражнение на равновеси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дьба по шнуру, приставляя пятку одной ноги  к носку другой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лезание в обруч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Забота о здоровье. 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выки личной гигиен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чистота и здоровь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тренняя гимнасти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мп.№ 2,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огоритм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физпауза, физминут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.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Дидактическая игра « Туалетные принадлежност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.Чуковский «Мойдодыр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.Михалков «Про   Мимоз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лгоритм одевания на прогулк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Катание на самокате, велосипед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Валеология       « Мой нос»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е питание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  « Здоровый образ жизн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блюдения на прогулке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Экскурсия по территории детского сада и ближайшее окружени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грибы и ягод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екарственн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комство с компасом» -прошлое компас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туристы»- виды туризма, что такое туризм, поход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рганизованная деятельность с детьми по экологии  с использованием элементов ТРИЗ и РТ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ованная деятельность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зучивание стихотворен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Костяника –ягод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оров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ябин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тихотворения с опорой на мнемотаблиц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уванч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ип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оставление связного рассказа по плану «Деревья»(мнемотаблиц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должение  ситуации «Страшная истор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Загадки, считалки, чистоговорки по тема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альчиков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вижение и реч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.Пришвин « Золотой луг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 Бальмонт « За  грибам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.Н.Толстой « Как деревья ходя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Деревья дыш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«С компасом в поход» - газета «Солнечный зайчик» -№ 11 -2010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Т.Н.Нуждина «Чудо-всюду» - энциклопедия для малыш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.А.Шорыгина   авторские сказ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Муха  Грязнух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Секреты лесной мышки»  из серии « Безопасность для малыш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.Прокофьев «Рябин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37160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утинка проекта по ОБЖ тема «Ребёнок и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3880" y="304920"/>
          <a:ext cx="6080040" cy="967428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5720"/>
                <a:gridCol w="1216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Социализ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Труд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Безопаснос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Музы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Художественное творчест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о-ролев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ем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утешествие по го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на развитие внимания, памят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абирин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йди отлич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картинк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грибы в лукошк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Что перепутал художник?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словесны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токи природы»(ядовитые и съедобные грибы,ягоды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_Дидактические игры с предмета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рюкза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иды костров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грамматического содержа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зови ласко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ин – мног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амообслуживание:учить детей мыть руки, умываться,складывать и вешать полотенц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Хозяйственно-бытово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водить порядок на участке детского сада, убирать игруш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овместно с родителями изготовление эмблем для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одители и дети: поделки из природного материал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акет 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а поведения на природ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правильно вести себя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Если встретил я о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астения которые леч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ссматривание и рассказывание по картин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езопасное поведение  в природе»-Стерки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Беседы: «Берегите при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 ли эт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пасно-безопасн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избежать неприятносте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наглядный материа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нкета для родител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Лист согласования проведения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учивание песен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месте весело шага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Матусов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огда мои друзья со мно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Танич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слушивание аудиозапис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.Григ «Утр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роводные игры «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узыкаль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сен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Грибочк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влеч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ень ро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исов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 (береза,дуб,лип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Цветы»(растения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комар, ос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группа детей –Леп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Гриб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ппликац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лнечное лето»-одуванчики(коллективная работ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елки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из колючек лопух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ллаж « В лесу грибы ягоды бер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дель  взаимодействия  специалистов  к проведению Туристского  похода в старшей  группе ГДОУ № 28 г.Пушкин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-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990720"/>
          <a:ext cx="6078240" cy="7758000"/>
        </p:xfrm>
        <a:graphic>
          <a:graphicData uri="http://schemas.openxmlformats.org/drawingml/2006/table">
            <a:tbl>
              <a:tblPr/>
              <a:tblGrid>
                <a:gridCol w="1742760"/>
                <a:gridCol w="1415880"/>
                <a:gridCol w="1819440"/>
                <a:gridCol w="1100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дицинский персонал(врач,медсестр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ведующа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этап    Подготовка  к туристскому похо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познавательную работу: рассматривание картин, иллюстраций, беседы, наблюдения за живыми и неживыми объектами, разучивает стихи, песни, загадки, игры – осуществляет необходимую психологическую подготовку дете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ационная работа с родителями по подготовке необходимой одежды, обуви, личного инвентар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прашивает родителей об отношении  туристскому походу и участие родителей в данном   мероприяти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нке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ист согласования проведения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. подбор  познавательного материала для проведения Т.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существляет совместную организованную деятельность с детьми  по подготовке и проведению   туристского    поход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ы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ематическ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изкультурные мероприят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индивидуальная физическая подготов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вижн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разрабатывает маршрут Т.П.  с учетом  сезона и подготовленности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отовит инвентарь  спортивны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стюм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трибут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. проходит маршрут похода с воспитателями ( проверка местности на безопасность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. рисует схему маршрута Т.П. в Буферный пар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комплектует  походную  аптеч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следит за состоянием здоровь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оводит беседы  о правилах  безопасного  поведения  в природных  условиях( детя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 способах  оказания первой  медицинской  помощи ( педагога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создают условия  для организации нового  вида двигательной деятельности детей  в детском  са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утверждают  маршрут туристского 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752480" y="-304920"/>
          <a:ext cx="6078600" cy="4532040"/>
        </p:xfrm>
        <a:graphic>
          <a:graphicData uri="http://schemas.openxmlformats.org/drawingml/2006/table">
            <a:tbl>
              <a:tblPr/>
              <a:tblGrid>
                <a:gridCol w="1743120"/>
                <a:gridCol w="1415880"/>
                <a:gridCol w="1819440"/>
                <a:gridCol w="1100160"/>
              </a:tblGrid>
              <a:tr h="64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этап     Проведение  туристского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месте с детьми  комплектует  команды, организует название команд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узнечи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ожьи коров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аб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троль качества личного снаряжения: одежда, обувь, пит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частие  с физкультурным руководителем в организации и проведении подвижных игр и игр по желанию детей  на привал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бор природного материала с детьми для подело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с воспитателем туристский поход по заранее  намеченному  и утвержденному маршрут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уществляет  дифференцированный  подход  в определении физической  и психологической нагруз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ри необходимости  дает совет по подбору одежды ребенка в зависимости  от погоды  и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беспечивает участие взрослых в проведении 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готовит приказ о выходе  детей за  пределы дошкольного  учре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инимают  участ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363400" y="4083480"/>
            <a:ext cx="358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III </a:t>
            </a: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этап    Подведение  итогов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4572000"/>
          <a:ext cx="6076800" cy="261612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19200"/>
                <a:gridCol w="1519200"/>
              </a:tblGrid>
              <a:tr h="26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тоговая  беседа  о туристском походе:   рисунки, рассказы, поделки 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ует выставку  из  природного материала, рисунков,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оторепортаж с Т.П.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 воспитателями участвует  в проведении тематического  родительского  собрания ( круглый стол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рекомендации  по нагрузке дл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оверка 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одводит  итог проделанной работ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едставляет  фотовыставку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Comp</cp:lastModifiedBy>
  <dcterms:modified xsi:type="dcterms:W3CDTF">2011-10-16T12:2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