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DC7-8E74-4EAC-B7BA-E87B3963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0FC-1A3C-4967-9615-B4CEBA8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B0D-481F-4CA8-80AE-B77BBB9C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98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98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3BA-85DE-4BA4-89AE-8DF50E58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A113-71B1-42EF-8920-89BADAFC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71D7-BE54-4B02-875E-6BC41D72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7C86-20FA-418C-B40E-C8BAD6F0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BB5-549E-4F74-B970-396D8A78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7C63-C557-41AD-AEBE-00E8E0AE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406-4EFD-42A2-855A-68078020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9DB0-0F9B-469C-B8ED-56D166D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768-9062-4F78-B910-4CEFE6B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0918-AEE9-41CC-84BE-F6BBC17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B176-9671-4C5F-8048-B0BF32D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2809-0838-4503-B108-BD3C2D6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6471-49DE-4502-A42D-32550A5E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98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98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68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9F05-580A-4F9D-B993-A6FFF76A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EF5-39C6-483C-9ACC-37A5CD1F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FAC-BDF1-4993-A22D-9CF65F5E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EFE-5E56-4C4D-A078-23DEDCB8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1E9-82AC-4D82-9292-47328118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2B3-8862-4719-BC77-85EEA7B3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BD8-9DF6-4AE4-B0D8-57E13B4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964320"/>
            <a:ext cx="8353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BF7-13A7-42F7-8A15-1953714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Users\Рустам\AppData\Local\Microsoft\Windows\Temporary Internet Files\Content.IE5\ZUFCTCNM\MP900439210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1f1e"/>
                </a:solidFill>
                <a:latin typeface="Art Nouveau-Bistro"/>
              </a:rPr>
              <a:t>Click to edit the title text format</a:t>
            </a: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9324-43A9-44AD-BE73-76FF26E61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:\Users\Рустам\AppData\Local\Microsoft\Windows\Temporary Internet Files\Content.IE5\ZUFCTCNM\MP900439210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Users\Рустам\AppData\Local\Microsoft\Windows\Temporary Internet Files\Content.IE5\VJYSSXYM\MP900439205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1f1e"/>
                </a:solidFill>
                <a:latin typeface="Art Nouveau-Bistro"/>
              </a:rPr>
              <a:t>Click to edit the title text format</a:t>
            </a:r>
            <a:endParaRPr b="0" lang="en-US" sz="4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5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77A7-DF1D-4E77-89F1-D82AF46DA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Выполнила  учитель технологии высшей категории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Лунегова Е.М. 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 </a:t>
            </a: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МОУ СОШ №3 с. Кочубеевское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 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201</a:t>
            </a:r>
            <a:r>
              <a:rPr b="1" lang="ru-RU" sz="2200" spc="-1" strike="noStrike">
                <a:solidFill>
                  <a:srgbClr val="4f6228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4f6228"/>
                </a:solidFill>
                <a:latin typeface="Calibri Light"/>
              </a:rPr>
              <a:t>г.</a:t>
            </a:r>
            <a:endParaRPr b="0" lang="en-US" sz="2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632523"/>
                </a:solidFill>
                <a:latin typeface="Art Nouveau-Bistro"/>
              </a:rPr>
              <a:t>Правила техники безопасности при работе с тканью</a:t>
            </a:r>
            <a:endParaRPr b="0" lang="en-US" sz="5900" spc="-1" strike="noStrike">
              <a:solidFill>
                <a:srgbClr val="561f1e"/>
              </a:solidFill>
              <a:latin typeface="Art Nouveau-Bist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1f1e"/>
                </a:solidFill>
                <a:latin typeface="Art Nouveau-Bistro"/>
              </a:rPr>
              <a:t>ПРАВИЛА ВНУТРЕННЕГО РАСПОРЯДКА В КАБИНЕТЕ ТЕХНОЛОГИИ</a:t>
            </a:r>
            <a:endParaRPr b="0" lang="en-US" sz="24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684360" y="12682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Входить в класс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Садиться на закреплённые места, отключать сотовые телеф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Начинать работу с инструментами и оборудованием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Не размахивать инструмен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Во время практической работы не отвлекаться и не отвлекать одноклассниц. Нельзя ходить по кабин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Не брать в руки инструменты, назначение которых не извест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По окончании работы навести порядок на рабочем 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8. На перемене выходить из кабин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57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1f1e"/>
                </a:solidFill>
                <a:latin typeface="Art Nouveau-Bistro"/>
              </a:rPr>
              <a:t>при работе с ножницами</a:t>
            </a:r>
            <a:endParaRPr b="0" lang="en-US" sz="36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71720" y="2000160"/>
            <a:ext cx="74628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Хранить ножницы в футляре и в недоступном 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месте для детей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Во время работы не оставлять лезвия ножниц открытыми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Передавать ножницы сомкнутыми лезвиями кольцами вперёд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3579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с иглами, булавками, спицами и крючком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684360" y="1268280"/>
            <a:ext cx="77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Работать с напёрст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Хранить иголки и булавки в определённом месте (специальной коробке, подушечке и т. д.),не оставлять их на рабочем месте, ни в коем случае не брать иголки, булавки в рот и не вкалывать их в одеж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Не пользуйтесь для шитья ржавой игол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Выкройки к ткани прикреплять острыми концами булавок в направлении от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Спицы и крючок хранить в чехле, по окончанию работы убирать их в место, недоступное для маленьки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Куски сломанных иголок или булавок собирать и отдавать учите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3581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4280" y="571680"/>
            <a:ext cx="650088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с электроприборами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785880" y="157176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Перед работой с электроприбором проверить исправность шнура, о неполадках сообщить учите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Включать и выключать электроприборы сухи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руками за корпус ви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Во время работы  стоять на резиновом ков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Не оставлять включенным электроприбор без присмо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Утюг ставить только на специальную жаростойкую подста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Во время работы следить, чтобы шнур не касался подошвы утю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Хранить утюг в вертикальном полож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6762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71320"/>
            <a:ext cx="73454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1f1e"/>
                </a:solidFill>
                <a:latin typeface="Art Nouveau-Bistro"/>
              </a:rPr>
              <a:t>при работе на швейной электромашине</a:t>
            </a:r>
            <a:endParaRPr b="0" lang="en-US" sz="3200" spc="-1" strike="noStrike">
              <a:solidFill>
                <a:srgbClr val="561f1e"/>
              </a:solidFill>
              <a:latin typeface="Art Nouveau-Bistro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395280" y="134136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1. Перед работой волосы убрать под косы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2. Сидеть на всей поверхности стула, слегка наклонив корпус и голову вперёд, перед иг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3. Расстояние от работающего до машинки должно быть 10-1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4. Перед работой удалить из изделия иглы и була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5. На платформе машинки не должно находиться посторонних предм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6. Руки во время работы должны быть на безопасном расстоянии от движущихся деталей машин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7. Запрещается менять движущиеся части машины при включённом оборудовании в се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8. По окончании работы убрать рабочее мес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4:46:33Z</dcterms:created>
  <dc:creator>Пользователь</dc:creator>
  <dc:description/>
  <dc:language>en-US</dc:language>
  <cp:lastModifiedBy>я</cp:lastModifiedBy>
  <dcterms:modified xsi:type="dcterms:W3CDTF">2014-02-20T17:35:12Z</dcterms:modified>
  <cp:revision>10</cp:revision>
  <dc:subject/>
  <dc:title>Слайд 1</dc:title>
</cp:coreProperties>
</file>