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114-8351-4EAF-9829-00A591E1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96432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1844-ACA8-4255-B357-C1F5E26C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167-8187-4039-8BA0-48BF3F3F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984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984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675-04AC-412B-A334-6BCE109F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D723-503C-426D-A593-A7EB8388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68E1-AD37-4149-8899-178463DE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0C0C-D0BD-47A8-B2A2-E4DA3811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59BC-ED46-42F2-950E-4A4AB8A0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4F72-56AA-42C1-9659-777868D5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6920" y="333000"/>
            <a:ext cx="73454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9936-8BC4-434E-B11F-8258E0FC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32EB-A624-4D47-9DCA-AF738039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274-7000-4959-BE80-C19A9D03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A2AC-C921-489B-AEA8-848DAA19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139B-6B51-42AC-9D4C-F85FF4B3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96432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3EE1-4020-4183-B80F-04F1E4A0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CA42-3870-4AD9-9A3A-B87D229C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984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984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AB8A-F852-41BE-9BB7-C8A185BA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2EE-99DB-447A-8969-F7BB0D5F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6A2-734C-4956-8A61-87F9D809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34D-888C-4B17-AC5C-CC7E97CF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6920" y="333000"/>
            <a:ext cx="73454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1B0-25A8-4311-A872-A9819999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508-45AE-4D1E-8F5D-8D1DFE81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24D-6E0B-4194-BB1E-F83576F7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E81-B3A7-4050-84F1-F842CC78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:\Users\Рустам\AppData\Local\Microsoft\Windows\Temporary Internet Files\Content.IE5\ZUFCTCNM\MP900439210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1f1e"/>
                </a:solidFill>
                <a:latin typeface="Art Nouveau-Bistro"/>
              </a:rPr>
              <a:t>Click to edit the title text format</a:t>
            </a: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62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C54E-8E16-4A0E-A4C5-C3D44D4F60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:\Users\Рустам\AppData\Local\Microsoft\Windows\Temporary Internet Files\Content.IE5\ZUFCTCNM\MP900439210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C:\Users\Рустам\AppData\Local\Microsoft\Windows\Temporary Internet Files\Content.IE5\VJYSSXYM\MP900439205[1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1f1e"/>
                </a:solidFill>
                <a:latin typeface="Art Nouveau-Bistro"/>
              </a:rPr>
              <a:t>Click to edit the title text format</a:t>
            </a: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62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6A64-251E-46F4-84D9-E83C4A919F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Выполнила  учитель технологии высшей категории</a:t>
            </a:r>
            <a:endParaRPr b="0" lang="en-US" sz="2200" spc="-1" strike="noStrike">
              <a:solidFill>
                <a:srgbClr val="4f6228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Лунегова Е.М. </a:t>
            </a:r>
            <a:endParaRPr b="0" lang="en-US" sz="2200" spc="-1" strike="noStrike">
              <a:solidFill>
                <a:srgbClr val="4f6228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 </a:t>
            </a: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МОУ СОШ №3 с. Кочубеевское</a:t>
            </a:r>
            <a:endParaRPr b="0" lang="en-US" sz="2200" spc="-1" strike="noStrike">
              <a:solidFill>
                <a:srgbClr val="4f6228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 </a:t>
            </a:r>
            <a:endParaRPr b="0" lang="en-US" sz="2200" spc="-1" strike="noStrike">
              <a:solidFill>
                <a:srgbClr val="4f6228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201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г.</a:t>
            </a:r>
            <a:endParaRPr b="0" lang="en-US" sz="2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26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632523"/>
                </a:solidFill>
                <a:latin typeface="Art Nouveau-Bistro"/>
              </a:rPr>
              <a:t>Правила техники безопасности при работе с тканью</a:t>
            </a:r>
            <a:endParaRPr b="0" lang="en-US" sz="5900" spc="-1" strike="noStrike">
              <a:solidFill>
                <a:srgbClr val="561f1e"/>
              </a:solidFill>
              <a:latin typeface="Art Nouveau-Bist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1f1e"/>
                </a:solidFill>
                <a:latin typeface="Art Nouveau-Bistro"/>
              </a:rPr>
              <a:t>ПРАВИЛА ВНУТРЕННЕГО РАСПОРЯДКА В КАБИНЕТЕ ТЕХНОЛОГИИ</a:t>
            </a:r>
            <a:endParaRPr b="0" lang="en-US" sz="2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684360" y="1268280"/>
            <a:ext cx="807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1. Входить в класс с разрешения учи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2. Садиться на закреплённые места, отключать сотовые телефо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3. Начинать работу с инструментами и оборудованием с разрешения учи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4. Не размахивать инструмен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5. Во время практической работы не отвлекаться и не отвлекать одноклассниц. Нельзя ходить по кабин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6. Не брать в руки инструменты, назначение которых не извест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7. По окончании работы навести порядок на рабочем ме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8. На перемене выходить из кабин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772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439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1f1e"/>
                </a:solidFill>
                <a:latin typeface="Art Nouveau-Bistro"/>
              </a:rPr>
              <a:t>при работе с ножницами</a:t>
            </a:r>
            <a:endParaRPr b="0" lang="en-US" sz="36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71720" y="2000160"/>
            <a:ext cx="74628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Хранить ножницы в футляре и в недоступном 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месте для детей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2. Во время работы не оставлять лезвия ножниц открытыми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3. Передавать ножницы сомкнутыми лезвиями кольцами вперёд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285920" y="1285920"/>
            <a:ext cx="635796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1f1e"/>
                </a:solidFill>
                <a:latin typeface="Art Nouveau-Bistro"/>
              </a:rPr>
              <a:t>при работе с иглами, булавками, спицами и крючком</a:t>
            </a:r>
            <a:endParaRPr b="0" lang="en-US" sz="32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684360" y="1268280"/>
            <a:ext cx="7786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1. Работать с напёрст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2. Хранить иголки и булавки в определённом месте (специальной коробке, подушечке и т. д.),не оставлять их на рабочем месте, ни в коем случае не брать иголки, булавки в рот и не вкалывать их в одеж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3. Не пользуйтесь для шитья ржавой игол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4. Выкройки к ткани прикреплять острыми концами булавок в направлении от себ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5. Спицы и крючок хранить в чехле, по окончанию работы убирать их в место, недоступное для маленьких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6. Куски сломанных иголок или булавок собирать и отдавать учите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35812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4280" y="571680"/>
            <a:ext cx="650088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1f1e"/>
                </a:solidFill>
                <a:latin typeface="Art Nouveau-Bistro"/>
              </a:rPr>
              <a:t>при работе с электроприборами</a:t>
            </a:r>
            <a:endParaRPr b="0" lang="en-US" sz="32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785880" y="1571760"/>
            <a:ext cx="79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1. Перед работой с электроприбором проверить исправность шнура, о неполадках сообщить учите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2. Включать и выключать электроприборы сухи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руками за корпус вил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3. Во время работы  стоять на резиновом ковр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4. Не оставлять включенным электроприбор без присмот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5. Утюг ставить только на специальную жаростойкую подстав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6. Во время работы следить, чтобы шнур не касался подошвы утю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7. Хранить утюг в вертикальном полож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6762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571320"/>
            <a:ext cx="73454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1f1e"/>
                </a:solidFill>
                <a:latin typeface="Art Nouveau-Bistro"/>
              </a:rPr>
              <a:t>при работе на швейной электромашине</a:t>
            </a:r>
            <a:endParaRPr b="0" lang="en-US" sz="32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395280" y="1341360"/>
            <a:ext cx="84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1. Перед работой волосы убрать под косы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2. Сидеть на всей поверхности стула, слегка наклонив корпус и голову вперёд, перед игл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3. Расстояние от работающего до машинки должно быть 10-15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4. Перед работой удалить из изделия иглы и була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5. На платформе машинки не должно находиться посторонних предме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6. Руки во время работы должны быть на безопасном расстоянии от движущихся деталей машин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7. Запрещается менять движущиеся части машины при включённом оборудовании в се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8. По окончании работы убрать рабочее мес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4:46:33Z</dcterms:created>
  <dc:creator>Пользователь</dc:creator>
  <dc:description/>
  <dc:language>en-US</dc:language>
  <cp:lastModifiedBy>я</cp:lastModifiedBy>
  <dcterms:modified xsi:type="dcterms:W3CDTF">2014-02-20T17:35:12Z</dcterms:modified>
  <cp:revision>10</cp:revision>
  <dc:subject/>
  <dc:title>Слайд 1</dc:title>
</cp:coreProperties>
</file>