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B737-9AC3-47ED-B49C-5B3D87066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35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95280" y="3964320"/>
            <a:ext cx="835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0198-7179-46D8-AC0B-794B5B15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407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7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5280" y="3964320"/>
            <a:ext cx="407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5680" y="3964320"/>
            <a:ext cx="407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D082-C836-4962-89CF-46402D901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268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9840" y="1600200"/>
            <a:ext cx="268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4040" y="1600200"/>
            <a:ext cx="268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95280" y="3964320"/>
            <a:ext cx="268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9840" y="3964320"/>
            <a:ext cx="268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4040" y="3964320"/>
            <a:ext cx="268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FAC3-700A-431C-AE90-14E3FE715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446B-9FD6-4FF2-A96F-46DB72265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95280" y="160020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628E2-9148-4620-B3BA-946AF842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E9D2-BF47-499A-BB7F-2E7B70B4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407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7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8B8BF-A3F2-48E4-93A4-F53FD8E1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F5CFC-CC69-4583-8A87-56D07607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26920" y="333000"/>
            <a:ext cx="734544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3795-DDC4-495D-9F14-9BDCC39F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407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7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95280" y="3964320"/>
            <a:ext cx="407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86BF-9F94-45EC-A9C2-F6A44E10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95280" y="160020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ECDF-B45F-4FB0-BBEE-179C409B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407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7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5680" y="3964320"/>
            <a:ext cx="407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E83B-76B4-4A11-9882-63D144E1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407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7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95280" y="3964320"/>
            <a:ext cx="835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0F3E-4428-4C59-949E-C24614BE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35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5280" y="3964320"/>
            <a:ext cx="835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6820-27DE-4309-A953-8D759794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407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7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5280" y="3964320"/>
            <a:ext cx="407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5680" y="3964320"/>
            <a:ext cx="407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31AA-0025-4D87-8137-7DFB48019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268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9840" y="1600200"/>
            <a:ext cx="268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44040" y="1600200"/>
            <a:ext cx="268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95280" y="3964320"/>
            <a:ext cx="268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9840" y="3964320"/>
            <a:ext cx="268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44040" y="3964320"/>
            <a:ext cx="268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1287-B433-4313-A97F-449A1BABE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7F0A-E8CE-4E2E-A0F7-42FB5473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407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7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94DE-B5C7-492B-8AF9-72F93666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4113-6CF8-4274-9FAB-70E3CBB7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26920" y="333000"/>
            <a:ext cx="734544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1575-D694-4469-9FDB-C1F05E06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407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7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5280" y="3964320"/>
            <a:ext cx="407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D29D-E832-4BE5-A6F0-4D133818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407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7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5680" y="3964320"/>
            <a:ext cx="407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8568-A876-4C6D-9954-4EB88150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407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7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95280" y="3964320"/>
            <a:ext cx="835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8B2D-D265-4C44-8950-4FDE91C0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:\Users\Рустам\AppData\Local\Microsoft\Windows\Temporary Internet Files\Content.IE5\ZUFCTCNM\MP900439210[1]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1f1e"/>
                </a:solidFill>
                <a:latin typeface="Art Nouveau-Bistro"/>
              </a:rPr>
              <a:t>Click to edit the title text format</a:t>
            </a: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160020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f62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f62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f622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DE0D-8DA8-4CF5-AAC0-F839E61476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C:\Users\Рустам\AppData\Local\Microsoft\Windows\Temporary Internet Files\Content.IE5\ZUFCTCNM\MP900439210[1]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2" descr="C:\Users\Рустам\AppData\Local\Microsoft\Windows\Temporary Internet Files\Content.IE5\VJYSSXYM\MP900439205[1]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1f1e"/>
                </a:solidFill>
                <a:latin typeface="Art Nouveau-Bistro"/>
              </a:rPr>
              <a:t>Click to edit the title text format</a:t>
            </a: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95280" y="160020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f62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f62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f622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4BBB-ECD0-464D-A3D3-3664DCF7DE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f6228"/>
                </a:solidFill>
                <a:latin typeface="Calibri Light"/>
              </a:rPr>
              <a:t>Выполнила  учитель технологии высшей категории</a:t>
            </a:r>
            <a:endParaRPr b="0" lang="en-US" sz="2200" spc="-1" strike="noStrike">
              <a:solidFill>
                <a:srgbClr val="4f6228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f6228"/>
                </a:solidFill>
                <a:latin typeface="Calibri Light"/>
              </a:rPr>
              <a:t>Лунегова Е.М. </a:t>
            </a:r>
            <a:endParaRPr b="0" lang="en-US" sz="2200" spc="-1" strike="noStrike">
              <a:solidFill>
                <a:srgbClr val="4f6228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f6228"/>
                </a:solidFill>
                <a:latin typeface="Calibri Light"/>
              </a:rPr>
              <a:t> </a:t>
            </a:r>
            <a:r>
              <a:rPr b="1" lang="ru-RU" sz="2200" spc="-1" strike="noStrike">
                <a:solidFill>
                  <a:srgbClr val="4f6228"/>
                </a:solidFill>
                <a:latin typeface="Calibri Light"/>
              </a:rPr>
              <a:t>МОУ СОШ №3 с. Кочубеевское</a:t>
            </a:r>
            <a:endParaRPr b="0" lang="en-US" sz="2200" spc="-1" strike="noStrike">
              <a:solidFill>
                <a:srgbClr val="4f6228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f6228"/>
                </a:solidFill>
                <a:latin typeface="Calibri Light"/>
              </a:rPr>
              <a:t> </a:t>
            </a:r>
            <a:endParaRPr b="0" lang="en-US" sz="2200" spc="-1" strike="noStrike">
              <a:solidFill>
                <a:srgbClr val="4f6228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f6228"/>
                </a:solidFill>
                <a:latin typeface="Calibri Light"/>
              </a:rPr>
              <a:t>201</a:t>
            </a:r>
            <a:r>
              <a:rPr b="1" lang="ru-RU" sz="2200" spc="-1" strike="noStrike">
                <a:solidFill>
                  <a:srgbClr val="4f6228"/>
                </a:solidFill>
                <a:latin typeface="Arial"/>
              </a:rPr>
              <a:t>4</a:t>
            </a:r>
            <a:r>
              <a:rPr b="1" lang="ru-RU" sz="2200" spc="-1" strike="noStrike">
                <a:solidFill>
                  <a:srgbClr val="4f6228"/>
                </a:solidFill>
                <a:latin typeface="Calibri Light"/>
              </a:rPr>
              <a:t>г.</a:t>
            </a:r>
            <a:endParaRPr b="0" lang="en-US" sz="2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85800" y="928440"/>
            <a:ext cx="7772400" cy="26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632523"/>
                </a:solidFill>
                <a:latin typeface="Art Nouveau-Bistro"/>
              </a:rPr>
              <a:t>Правила техники безопасности при работе с тканью</a:t>
            </a:r>
            <a:endParaRPr b="0" lang="en-US" sz="5900" spc="-1" strike="noStrike">
              <a:solidFill>
                <a:srgbClr val="561f1e"/>
              </a:solidFill>
              <a:latin typeface="Art Nouveau-Bist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61f1e"/>
                </a:solidFill>
                <a:latin typeface="Art Nouveau-Bistro"/>
              </a:rPr>
              <a:t>ПРАВИЛА ВНУТРЕННЕГО РАСПОРЯДКА В КАБИНЕТЕ ТЕХНОЛОГИИ</a:t>
            </a:r>
            <a:endParaRPr b="0" lang="en-US" sz="2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100" name="Прямоугольник 2"/>
          <p:cNvSpPr/>
          <p:nvPr/>
        </p:nvSpPr>
        <p:spPr>
          <a:xfrm>
            <a:off x="684360" y="1268280"/>
            <a:ext cx="8072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1. Входить в класс с разрешения учител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2. Садиться на закреплённые места, отключать сотовые телефо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3. Начинать работу с инструментами и оборудованием с разрешения учител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4. Не размахивать инструмент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5. Во время практической работы не отвлекаться и не отвлекать одноклассниц. Нельзя ходить по кабинет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6. Не брать в руки инструменты, назначение которых не извест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7. По окончании работы навести порядок на рабочем мест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8. На перемене выходить из кабине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57728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439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61f1e"/>
                </a:solidFill>
                <a:latin typeface="Art Nouveau-Bistro"/>
              </a:rPr>
              <a:t>при работе с ножницами</a:t>
            </a:r>
            <a:endParaRPr b="0" lang="en-US" sz="36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71720" y="2000160"/>
            <a:ext cx="74628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36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Хранить ножницы в футляре и в недоступном 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       </a:t>
            </a: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месте для детей.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2. Во время работы не оставлять лезвия ножниц открытыми.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3. Передавать ножницы сомкнутыми лезвиями кольцами вперёд.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285920" y="1285920"/>
            <a:ext cx="635796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61f1e"/>
                </a:solidFill>
                <a:latin typeface="Art Nouveau-Bistro"/>
              </a:rPr>
              <a:t>при работе с иглами, булавками, спицами и крючком</a:t>
            </a:r>
            <a:endParaRPr b="0" lang="en-US" sz="32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684360" y="1268280"/>
            <a:ext cx="7786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1. Работать с напёрстк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2. Хранить иголки и булавки в определённом месте (специальной коробке, подушечке и т. д.),не оставлять их на рабочем месте, ни в коем случае не брать иголки, булавки в рот и не вкалывать их в одежд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3. Не пользуйтесь для шитья ржавой иголк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4. Выкройки к ткани прикреплять острыми концами булавок в направлении от себ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5. Спицы и крючок хранить в чехле, по окончанию работы убирать их в место, недоступное для маленьких де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6. Куски сломанных иголок или булавок собирать и отдавать учител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35812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4280" y="571680"/>
            <a:ext cx="650088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61f1e"/>
                </a:solidFill>
                <a:latin typeface="Art Nouveau-Bistro"/>
              </a:rPr>
              <a:t>при работе с электроприборами</a:t>
            </a:r>
            <a:endParaRPr b="0" lang="en-US" sz="32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95" name="Прямоугольник 2"/>
          <p:cNvSpPr/>
          <p:nvPr/>
        </p:nvSpPr>
        <p:spPr>
          <a:xfrm>
            <a:off x="785880" y="1571760"/>
            <a:ext cx="7929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1. Перед работой с электроприбором проверить исправность шнура, о неполадках сообщить учител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2. Включать и выключать электроприборы сухим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руками за корпус вил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3. Во время работы  стоять на резиновом коври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4. Не оставлять включенным электроприбор без присмот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5. Утюг ставить только на специальную жаростойкую подстав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6. Во время работы следить, чтобы шнур не касался подошвы утю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7. Хранить утюг в вертикальном положе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214280" y="1357200"/>
            <a:ext cx="67629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920" y="571320"/>
            <a:ext cx="734544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61f1e"/>
                </a:solidFill>
                <a:latin typeface="Art Nouveau-Bistro"/>
              </a:rPr>
              <a:t>при работе на швейной электромашине</a:t>
            </a:r>
            <a:endParaRPr b="0" lang="en-US" sz="32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98" name="Прямоугольник 2"/>
          <p:cNvSpPr/>
          <p:nvPr/>
        </p:nvSpPr>
        <p:spPr>
          <a:xfrm>
            <a:off x="395280" y="1341360"/>
            <a:ext cx="8496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1. Перед работой волосы убрать под косын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2. Сидеть на всей поверхности стула, слегка наклонив корпус и голову вперёд, перед игл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3. Расстояние от работающего до машинки должно быть 10-15 с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4. Перед работой удалить из изделия иглы и булав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5. На платформе машинки не должно находиться посторонних предмет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6. Руки во время работы должны быть на безопасном расстоянии от движущихся деталей машин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7. Запрещается менять движущиеся части машины при включённом оборудовании в се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8. По окончании работы убрать рабочее мест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14:46:33Z</dcterms:created>
  <dc:creator>Пользователь</dc:creator>
  <dc:description/>
  <dc:language>en-US</dc:language>
  <cp:lastModifiedBy>я</cp:lastModifiedBy>
  <dcterms:modified xsi:type="dcterms:W3CDTF">2014-02-20T17:35:12Z</dcterms:modified>
  <cp:revision>10</cp:revision>
  <dc:subject/>
  <dc:title>Слайд 1</dc:title>
</cp:coreProperties>
</file>