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119-BE7E-4A90-991B-B70AD572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DE1-F77D-4DAF-8213-C7CD21A3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4FC-690B-4E58-B135-FEB82196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DA1-3F90-4B21-812F-40D7B220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1DB5-17BD-4C7D-B5F9-C46FC0ED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662A-861E-48AF-B6F3-9F3675D7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4C81-C757-42EC-8CEB-FB532F9F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CF8A-A4E7-47CD-8250-5C73EBB4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1051-36D5-47CF-AF3D-FC8A15B8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3FEC-D108-4293-9E69-7D6FD90C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28D1-3D8A-405B-A80B-F311E904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F83-A102-4AA3-8B7C-28B9E415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414A-8EA8-4FA8-A584-AE416FE0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1575-13C9-416B-B176-C1EC5BC0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3E97-71E4-4EC8-BE45-6DDE5F61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AF93-91A6-4972-A6E2-E5F971BF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A7C7-1DCA-4A69-8F6C-4CE8846A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8F5-CBC9-4DE1-B6ED-46A79588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1F22-8385-46A8-A2AE-AEB8C7D7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C72-3A77-4250-BC44-F8B1B54F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4E9-0718-408E-A2AA-187036C9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9D6-637B-4C3B-A280-D657231F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AF5-02A2-4C5A-B5F9-2ADDD6DA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AE4-7B7D-4959-98BC-9B0D9D25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B1D1-8A60-44D9-AC04-532B239BFDE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B97F-2602-4D94-AD6F-888192D53E7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dic.academic.ru/pictures/wiki/files/76/Lep_Chelyabinskaya_Oblast.jpg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3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c_geo/z01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les.ostrova.a1tv.ru/files/users/0013/2817/images/view/a414ea6af286c70e.gi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tgk13.ru/img/1204708233-64648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ve-co.com/upload/3203_1237142843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Правила поведения в условиях ЧС природного и техногенного характера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Picture 2" descr="C:\Users\Владимр\Pictures\портрет.jpg"/>
          <p:cNvPicPr/>
          <p:nvPr/>
        </p:nvPicPr>
        <p:blipFill>
          <a:blip r:embed="rId1"/>
          <a:stretch/>
        </p:blipFill>
        <p:spPr>
          <a:xfrm>
            <a:off x="6943680" y="4157640"/>
            <a:ext cx="2097000" cy="260352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9"/>
          <p:cNvSpPr/>
          <p:nvPr/>
        </p:nvSpPr>
        <p:spPr>
          <a:xfrm>
            <a:off x="2214720" y="557208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rbel"/>
              </a:rPr>
              <a:t>Преподаватель ОБЖ МОУ СОШ № 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rbel"/>
              </a:rPr>
              <a:t>Платонов В.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rbel"/>
              </a:rPr>
              <a:t>г. Петропавловск-Камчат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На огромной территории нашей страны возможны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Землетряс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Цун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Наводн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Лесные и торфяные пожар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Ураганы, бури, смерч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Сели (водогрязевые потоки) и оползн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Снежные лавины и занос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Грозы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Но в любом случае попав в зону стихийного бедствия необходимо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Times New Roman"/>
              </a:rPr>
              <a:t>Оценить силу и масштабы стихийного бедств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Times New Roman"/>
              </a:rPr>
              <a:t>Определить его географическую и временную направлен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Times New Roman"/>
              </a:rPr>
              <a:t>Отметить наиболее выгодные с точки зрения безопасности участ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Times New Roman"/>
              </a:rPr>
              <a:t>Составить прогноз развития аварии и самого стихийного бедствия на ближайшие часы и сут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Times New Roman"/>
              </a:rPr>
              <a:t>Учесть возможность повторных ударов стих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Выживание в зоне стихийного бедствия обеспечивается 4-мя основными факторами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Знанием особенностей природных явл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Умением распознать приближение стихийного бедств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Знанием приемов спасения при конкретном стихийном бедств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Психологической подготовкой к действиям в особых сложных услов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Рассмотрим некоторые природные стихийные бедствия, которые чаще других проявляются на территории России и приносят большие беды и жертвы.</a:t>
            </a:r>
            <a:br>
              <a:rPr sz="2400"/>
            </a:br>
            <a:r>
              <a:rPr b="1" lang="en-US" sz="3200" spc="-1" strike="noStrike">
                <a:solidFill>
                  <a:srgbClr val="ff9999"/>
                </a:solidFill>
                <a:latin typeface="Times New Roman"/>
              </a:rPr>
              <a:t>Землетрясения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любом Чрезвычайном происшествии всегда присутствуют определенные факторы опас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3097080" cy="248148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048360" y="1295280"/>
            <a:ext cx="3095640" cy="248148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0" y="4375080"/>
            <a:ext cx="3097080" cy="248292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6119640" y="4435560"/>
            <a:ext cx="3024360" cy="24224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2286000" y="3048120"/>
            <a:ext cx="4724280" cy="37843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2514600" cy="16095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114800" y="-360"/>
            <a:ext cx="50292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99"/>
                </a:solidFill>
                <a:latin typeface="Times New Roman"/>
              </a:rPr>
              <a:t>Получив информацию или почувствовав первые толч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НЕ ПАНИКОВАТЬ!!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Живущим на нижних этажах, необходимо быстро покинуть здание. До разрушительных толчков у Вас в запасе 15-20 сек. Воспользуйтесь этим времене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Живущим выше 2 этажа необходимо быстро занять в квартире безопасное мест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Подальше от окон, падающих стекол и предметов, не стыдитесь залезть под кровать или по сто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Закрыть голову руками и сгруппировать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Помните! Самые опасные места в доме это балконы, лифтовые проемы и лестничные клет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rcRect l="2994" t="23915" r="7381" b="43271"/>
          <a:stretch/>
        </p:blipFill>
        <p:spPr>
          <a:xfrm>
            <a:off x="0" y="1066680"/>
            <a:ext cx="4114800" cy="19051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rcRect l="3320" t="60268" r="7085" b="7697"/>
          <a:stretch/>
        </p:blipFill>
        <p:spPr>
          <a:xfrm>
            <a:off x="0" y="2438280"/>
            <a:ext cx="4114800" cy="19051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1600200" y="3352680"/>
            <a:ext cx="2514600" cy="1552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427" name="" descr=""/>
          <p:cNvPicPr/>
          <p:nvPr/>
        </p:nvPicPr>
        <p:blipFill>
          <a:blip r:embed="rId5"/>
          <a:stretch/>
        </p:blipFill>
        <p:spPr>
          <a:xfrm>
            <a:off x="1219320" y="4343400"/>
            <a:ext cx="1871640" cy="1496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428" name="" descr=""/>
          <p:cNvPicPr/>
          <p:nvPr/>
        </p:nvPicPr>
        <p:blipFill>
          <a:blip r:embed="rId6"/>
          <a:stretch/>
        </p:blipFill>
        <p:spPr>
          <a:xfrm>
            <a:off x="2209680" y="5181480"/>
            <a:ext cx="1800360" cy="1440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Картинка 17 из 8975"/>
          <p:cNvPicPr/>
          <p:nvPr/>
        </p:nvPicPr>
        <p:blipFill>
          <a:blip r:embed="rId1"/>
          <a:stretch/>
        </p:blipFill>
        <p:spPr>
          <a:xfrm>
            <a:off x="5105520" y="4057560"/>
            <a:ext cx="4038480" cy="2800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Картинка 64 из 67"/>
          <p:cNvPicPr/>
          <p:nvPr/>
        </p:nvPicPr>
        <p:blipFill>
          <a:blip r:embed="rId2"/>
          <a:stretch/>
        </p:blipFill>
        <p:spPr>
          <a:xfrm>
            <a:off x="0" y="0"/>
            <a:ext cx="4191120" cy="259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99"/>
                </a:solidFill>
                <a:latin typeface="Times New Roman"/>
              </a:rPr>
              <a:t>Если во время землетрясения Вы на улице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343400" y="609120"/>
            <a:ext cx="49528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Держитесь подальше от здан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Линий электропередач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Столбов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Трубопроводов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Мостов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" descr="Картинка 11 из 4999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990720"/>
            <a:ext cx="4191120" cy="31446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Картинка 8 из 9234"/>
          <p:cNvPicPr/>
          <p:nvPr/>
        </p:nvPicPr>
        <p:blipFill>
          <a:blip r:embed="rId5"/>
          <a:stretch/>
        </p:blipFill>
        <p:spPr>
          <a:xfrm>
            <a:off x="0" y="1981080"/>
            <a:ext cx="4172040" cy="2819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Картинка 8 из 64000"/>
          <p:cNvPicPr/>
          <p:nvPr/>
        </p:nvPicPr>
        <p:blipFill>
          <a:blip r:embed="rId6"/>
          <a:stretch/>
        </p:blipFill>
        <p:spPr>
          <a:xfrm>
            <a:off x="0" y="2971800"/>
            <a:ext cx="4191120" cy="31449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Картинка 48 из 64000"/>
          <p:cNvPicPr/>
          <p:nvPr/>
        </p:nvPicPr>
        <p:blipFill>
          <a:blip r:embed="rId7"/>
          <a:stretch/>
        </p:blipFill>
        <p:spPr>
          <a:xfrm>
            <a:off x="0" y="4059360"/>
            <a:ext cx="41911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0" y="4808520"/>
            <a:ext cx="3333600" cy="20494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Картинка 17 из 8975"/>
          <p:cNvPicPr/>
          <p:nvPr/>
        </p:nvPicPr>
        <p:blipFill>
          <a:blip r:embed="rId2"/>
          <a:stretch/>
        </p:blipFill>
        <p:spPr>
          <a:xfrm>
            <a:off x="6172200" y="4797360"/>
            <a:ext cx="2971800" cy="206064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Картинка 12 из 67"/>
          <p:cNvPicPr/>
          <p:nvPr/>
        </p:nvPicPr>
        <p:blipFill>
          <a:blip r:embed="rId3"/>
          <a:stretch/>
        </p:blipFill>
        <p:spPr>
          <a:xfrm>
            <a:off x="0" y="457200"/>
            <a:ext cx="2971800" cy="21463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Картинка 29 из 67"/>
          <p:cNvPicPr/>
          <p:nvPr/>
        </p:nvPicPr>
        <p:blipFill>
          <a:blip r:embed="rId4"/>
          <a:stretch/>
        </p:blipFill>
        <p:spPr>
          <a:xfrm>
            <a:off x="3276720" y="83808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Times New Roman"/>
              </a:rPr>
              <a:t>А если землетрясение застало вас в движущемся транспорте?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2" name="" descr="Картинка 5 из 67"/>
          <p:cNvPicPr/>
          <p:nvPr/>
        </p:nvPicPr>
        <p:blipFill>
          <a:blip r:embed="rId5"/>
          <a:stretch/>
        </p:blipFill>
        <p:spPr>
          <a:xfrm>
            <a:off x="6324480" y="457200"/>
            <a:ext cx="2819520" cy="21160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То любой транспорт нужно спокойно и быстро остановить по возможности дальше от того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Что может рухнуть от сильных толчк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Высоких зданий, путепроводов, мостов, линий электропередач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Остановив транспорт необходимо открыть все двер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Из машины и автобуса выходить не следует, безопаснее оставаться на своем месте до окончания колебания почв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Не стоит выбивать стекла и рваться в сторону дверей, создавая давку и заведомую опасность трав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Окажите помощь детям, старикам и инвалида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Наводнения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В РФ основными причинами наводнений, на них приходится до 80% всех наводнений, являю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Период весеннего снеготая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Ледоходы на рек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Выпадение обильных ливневых и дождевых осад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Крушение плотин и дам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296280" cy="686268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Смерчи, ураганы, бури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Неисчислимые разрушения и жертвы приносят человечеству ураганы, тайфуны, смер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Скорость ветра при урагане более 30 м/с. Он является одной из мощнейших сил стихии и по своему пагубному воздействию приближается к землетрясе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При буре скорость ветра несколько меньше 15-30 м/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Смерч – восходящие вихри быстро вращающегося возду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450"/>
                            </p:stCondLst>
                            <p:childTnLst>
                              <p:par>
                                <p:cTn id="61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500"/>
                            </p:stCondLst>
                            <p:childTnLst>
                              <p:par>
                                <p:cTn id="62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2200"/>
                            </p:stCondLst>
                            <p:childTnLst>
                              <p:par>
                                <p:cTn id="6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4850"/>
                            </p:stCondLst>
                            <p:childTnLst>
                              <p:par>
                                <p:cTn id="6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Тема.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Чрезвычайные ситуации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Изучаемые вопрос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Определение чрезвычайной ситуации и классификац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rcRect l="3112" t="69419" r="54558" b="7674"/>
          <a:stretch/>
        </p:blipFill>
        <p:spPr>
          <a:xfrm>
            <a:off x="-1440" y="835200"/>
            <a:ext cx="3349440" cy="223812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Так что же необходимо делать при угрозе возникновения урагана, бури, смерча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809880" y="1066680"/>
            <a:ext cx="5486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Закрыть все окна, двери, чердачные помещ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С балконов и лоджий убрать все, что может быть унесено ураган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Выключить газ, потушить огонь в печах. Подготовить фонари, свечи, ламп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Запастись водой, продуктами, держать радио и телевизор включенны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одготовить медицинские и перевязочные материал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Укрыться в защитном сооружении, подвале, погреб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Дома занять внутреннюю комнату, подальше от око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На открытой местности лучше всего укрыться в канаве, яме, овраге, любой выемке, лечь на дно и плотно прижаться к земл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rcRect l="48629" t="69419" r="6966" b="7674"/>
          <a:stretch/>
        </p:blipFill>
        <p:spPr>
          <a:xfrm>
            <a:off x="-1440" y="1292400"/>
            <a:ext cx="3354120" cy="223812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456" name="" descr=""/>
          <p:cNvPicPr/>
          <p:nvPr/>
        </p:nvPicPr>
        <p:blipFill>
          <a:blip r:embed="rId3"/>
          <a:srcRect l="2075" t="9964" r="52927" b="67816"/>
          <a:stretch/>
        </p:blipFill>
        <p:spPr>
          <a:xfrm>
            <a:off x="-4680" y="1757520"/>
            <a:ext cx="3359160" cy="214776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457" name="" descr=""/>
          <p:cNvPicPr/>
          <p:nvPr/>
        </p:nvPicPr>
        <p:blipFill>
          <a:blip r:embed="rId4"/>
          <a:srcRect l="49222" t="9964" r="4891" b="67816"/>
          <a:stretch/>
        </p:blipFill>
        <p:spPr>
          <a:xfrm>
            <a:off x="0" y="2290680"/>
            <a:ext cx="3346560" cy="209700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458" name="" descr=""/>
          <p:cNvPicPr/>
          <p:nvPr/>
        </p:nvPicPr>
        <p:blipFill>
          <a:blip r:embed="rId5"/>
          <a:srcRect l="2223" t="39629" r="52927" b="37224"/>
          <a:stretch/>
        </p:blipFill>
        <p:spPr>
          <a:xfrm>
            <a:off x="6480" y="2890800"/>
            <a:ext cx="3348000" cy="223668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459" name="" descr=""/>
          <p:cNvPicPr/>
          <p:nvPr/>
        </p:nvPicPr>
        <p:blipFill>
          <a:blip r:embed="rId6"/>
          <a:srcRect l="49222" t="39629" r="4891" b="38025"/>
          <a:stretch/>
        </p:blipFill>
        <p:spPr>
          <a:xfrm>
            <a:off x="0" y="3505320"/>
            <a:ext cx="3348000" cy="210816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460" name="" descr=""/>
          <p:cNvPicPr/>
          <p:nvPr/>
        </p:nvPicPr>
        <p:blipFill>
          <a:blip r:embed="rId7"/>
          <a:srcRect l="3261" t="68606" r="52927" b="9964"/>
          <a:stretch/>
        </p:blipFill>
        <p:spPr>
          <a:xfrm>
            <a:off x="0" y="4191120"/>
            <a:ext cx="3351240" cy="212076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461" name="" descr=""/>
          <p:cNvPicPr/>
          <p:nvPr/>
        </p:nvPicPr>
        <p:blipFill>
          <a:blip r:embed="rId8"/>
          <a:srcRect l="49222" t="68606" r="4891" b="9964"/>
          <a:stretch/>
        </p:blipFill>
        <p:spPr>
          <a:xfrm>
            <a:off x="0" y="4835520"/>
            <a:ext cx="3348000" cy="202248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Сели, снежные лавин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При угрозе селя или лавины прежде всег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Плотно закрыть двери и ок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Отключите электричество, воду и газ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Перед этим вынесите из дома воспламеняющиеся и ядовитые веще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А еще лучше закопайте их в яме или погреб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541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Times New Roman"/>
              </a:rPr>
              <a:t>При сходе лавины постарайтесь укрыться за скалой, деревом, лечь на землю, защитив руками голову, дышите через одежду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Times New Roman"/>
              </a:rPr>
              <a:t>При сносе лавиной делайте плавательные движения, чтобы удержаться на поверхност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Times New Roman"/>
              </a:rPr>
              <a:t>При погружении в снег подтяните колени к животу, прикройте рот руками сжатыми в кулаки и подождите прекращения движения лавины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Times New Roman"/>
              </a:rPr>
              <a:t>Определить где верх, где низ, можно по слюне во рту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Times New Roman"/>
              </a:rPr>
              <a:t>Экономя силы, пробирайтесь вверх, перемещая снег под ноги и утаптывая его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99"/>
                </a:solidFill>
                <a:latin typeface="Times New Roman"/>
              </a:rPr>
              <a:t>Итак, мы ознакомились с тем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Что означает Чрезвычайная ситуац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С видами чрезвычайных ситуац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Узнали, что собой представляет ЧС природного характер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Каковы первые признаки ЧС и методами защиты от н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На следующем уроке мы с Вами ознакомимся с ЧС техногенного характера, с основными понятиями ЧС техногенного характера и методами защиты от н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301680" y="9144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ашнее зад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Н. Латчук Глава 4 стр. 5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Ответить на вопросы задания стр. 6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исьменно в тетради выполнить задания 15, 16, 1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2209680" y="4343400"/>
            <a:ext cx="43340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Что это такое – чрезвычайная ситуац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Чрезвычайная ситуация –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это обстановка на определенной территории которая сложилась в результате аварии, опасного природного явления, катастрофы, стихийного бедствия, и может повлечь или повлекла за собой человеческие жертвы, ущерб здоровью людей и окружающей природной среде, значительные материальные потери и нарушение жизнедеятельности люд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Картинка 2 из 3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752480"/>
            <a:ext cx="7086600" cy="46926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406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Чрезвычайную ситуацию можно предвидеть, но чаще всего она возникает внезапно</a:t>
            </a:r>
            <a:r>
              <a:rPr b="0" lang="en-US" sz="1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Город Спитак после землетряс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80520" y="228240"/>
            <a:ext cx="4419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У нас в стране есть областные, районные и прочие управления по ЧС и службы по ЧС, а в масштабе страны – Министерство по Ч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" descr="Картинка 1 из 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04920"/>
            <a:ext cx="2255760" cy="2447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Картинка 169 из 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57880" y="3781440"/>
            <a:ext cx="4686120" cy="30765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0" y="3803760"/>
            <a:ext cx="4114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Эвакуация населения"/>
          <p:cNvPicPr/>
          <p:nvPr/>
        </p:nvPicPr>
        <p:blipFill>
          <a:blip r:embed="rId1"/>
          <a:stretch/>
        </p:blipFill>
        <p:spPr>
          <a:xfrm>
            <a:off x="4724280" y="3719520"/>
            <a:ext cx="4419720" cy="31384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218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В случае предвиденной катастрофы территориальные управления ЧС подают сигнал для населе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нимание всем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”</a:t>
            </a: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это рев сирены и частые гуд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По сигналу </a:t>
            </a:r>
            <a:r>
              <a:rPr b="0" lang="en-US" sz="2400" spc="-1" strike="noStrike">
                <a:solidFill>
                  <a:srgbClr val="ffccff"/>
                </a:solidFill>
                <a:latin typeface="Tahoma"/>
              </a:rPr>
              <a:t>“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Внимание всем</a:t>
            </a:r>
            <a:r>
              <a:rPr b="0" lang="en-US" sz="2400" spc="-1" strike="noStrike">
                <a:solidFill>
                  <a:srgbClr val="ffccff"/>
                </a:solidFill>
                <a:latin typeface="Tahoma"/>
              </a:rPr>
              <a:t>”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 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емедленно включить радио или телевизор для прослушивания экстренных сообще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оинформировать родственников и соседей о случившемс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ивести домой де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Действовать соглас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олученному сообщ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40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943520" y="990720"/>
            <a:ext cx="4200480" cy="23191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4952880" y="3581280"/>
            <a:ext cx="4191120" cy="22510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При необходимости эвакуации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5029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Собрать в небольшой чемодан (рюкзак) вещи первой необходимости: необходимую одежду, документы, деньги, ценности, воду, консервированные и сухие продукты питания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Подготовить квартиру к консервации – закрыть окна, балкон, перекрыть газ, воду, выключить электроэнергию погасить огнь в печах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Приготовить средства индивидуальной защиты и второй комплект ключей для сдачи в РЭУ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Оказать помощь в сборах больным и престарелым проживающим по соседству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5105520" cy="28656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Чрезвычайные ситуации бывают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Природного характ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Спитак (Арм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181480" y="2895480"/>
            <a:ext cx="38102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4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60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Картинка 2 из 93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119320"/>
            <a:ext cx="7848720" cy="47386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imes New Roman"/>
              </a:rPr>
              <a:t>Техногенного характ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Times New Roman"/>
              </a:rPr>
              <a:t>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Times New Roman"/>
              </a:rPr>
              <a:t>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Катастрофа на Чернобыльской АЭ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Чрезвычайные ситуации бывают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04-01T08:28:2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