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984-0CD7-4F96-912A-F2804A98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B67-9057-4554-88EF-B0E7DF1C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489-15B3-4738-9B2E-2E581560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B70-7C12-4C63-B930-FE9B7862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3C3C-1FF0-4996-B0D4-FF305A0A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D34C-BC09-44D6-BFE2-1B2D68B2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2CB8-2D80-4860-833C-50128AF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3F24-450E-452B-850D-7E6BC981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F5E-B797-4842-AA92-0D133738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3158-5489-4F26-808F-C39AC819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37A4-A776-4FAB-B9D4-D9F696B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7E8-3E6A-4B36-800C-6D59E09A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EEB8-DB40-4B92-B769-62AB441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6A6B-D301-4EA0-9329-0DBD3C23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3BB3-8651-409A-BC7C-A5CC0822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36F2-6C71-4188-A09F-3AB418A9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7BF4-BAB0-4AE9-8070-B680253C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8AC-A6D1-4086-BE8B-33C590B9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CAC-276D-49DE-B410-9F6E168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5B5-9F05-4F2F-97FA-3956F05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E7E-5773-4F5A-B83D-0AC0183C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BC6-D092-4CAD-AF4B-15CE32C5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C14-9552-4C16-88E9-06F40F8E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CB2-68BA-4B38-A6A3-3693D58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54CD-BF16-4D6D-8D30-32FD86805B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DB8-11DB-4EA8-AC5A-B8589DDA08F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dic.academic.ru/pictures/wiki/files/76/Lep_Chelyabinskaya_Oblast.jpg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geo/z01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les.ostrova.a1tv.ru/files/users/0013/2817/images/view/a414ea6af286c70e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gk13.ru/img/1204708233-64648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ve-co.com/upload/3203_123714284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Правила поведения в условиях ЧС природного и техногенного характер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Picture 2" descr="C:\Users\Владимр\Pictures\портрет.jpg"/>
          <p:cNvPicPr/>
          <p:nvPr/>
        </p:nvPicPr>
        <p:blipFill>
          <a:blip r:embed="rId1"/>
          <a:stretch/>
        </p:blipFill>
        <p:spPr>
          <a:xfrm>
            <a:off x="6943680" y="4157640"/>
            <a:ext cx="2097000" cy="260352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9"/>
          <p:cNvSpPr/>
          <p:nvPr/>
        </p:nvSpPr>
        <p:spPr>
          <a:xfrm>
            <a:off x="2214720" y="55720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Преподаватель ОБЖ МОУ СОШ № 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Платонов В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rbel"/>
              </a:rPr>
              <a:t>г. Петропавловск-Камчат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На огромной территории нашей страны возможны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Землетряс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Цун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вод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Лесные и торфяные пожар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Ураганы, бури, смерч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ели (водогрязевые потоки) и ополз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Снежные лавины и занос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Грозы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Но в любом случае попав в зону стихийного бедствия необходимо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ценить силу и масштабы стихийного бед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пределить его географическую и временную направлен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Отметить наиболее выгодные с точки зрения безопасности учас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Составить прогноз развития аварии и самого стихийного бедствия на ближайшие часы и сутк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Times New Roman"/>
              </a:rPr>
              <a:t>Учесть возможность повторных ударов стих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Выживание в зоне стихийного бедствия обеспечивается 4-мя основными факторами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нанием особенностей природных яв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Умением распознать приближение стихийного бед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нанием приемов спасения при конкретном стихийном бедств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Психологической подготовкой к действиям в особых сложны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Рассмотрим некоторые природные стихийные бедствия, которые чаще других проявляются на территории России и приносят большие беды и жертвы.</a:t>
            </a:r>
            <a:br>
              <a:rPr sz="2400"/>
            </a:b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Землетрясения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любом Чрезвычайном происшествии всегда присутствуют определенные факторы опас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097080" cy="24814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048360" y="1295280"/>
            <a:ext cx="3095640" cy="248148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0" y="4375080"/>
            <a:ext cx="3097080" cy="248292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119640" y="4435560"/>
            <a:ext cx="3024360" cy="2422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2286000" y="3048120"/>
            <a:ext cx="4724280" cy="37843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2514600" cy="16095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114800" y="-360"/>
            <a:ext cx="50292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Times New Roman"/>
              </a:rPr>
              <a:t>Получив информацию или почувствовав первые толч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НЕ ПАНИКОВАТЬ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Живущим на нижних этажах, необходимо быстро покинуть здание. До разрушительных толчков у Вас в запасе 15-20 сек. Воспользуйтесь этим времен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Живущим выше 2 этажа необходимо быстро занять в квартире безопасное мест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Подальше от окон, падающих стекол и предметов, не стыдитесь залезть под кровать или по сто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Закрыть голову руками и сгруппировать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Помните! Самые опасные места в доме это балконы, лифтовые проемы и лестничные кле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rcRect l="2994" t="23915" r="7381" b="43271"/>
          <a:stretch/>
        </p:blipFill>
        <p:spPr>
          <a:xfrm>
            <a:off x="0" y="1066680"/>
            <a:ext cx="411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rcRect l="3320" t="60268" r="7085" b="7697"/>
          <a:stretch/>
        </p:blipFill>
        <p:spPr>
          <a:xfrm>
            <a:off x="0" y="2438280"/>
            <a:ext cx="4114800" cy="19051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1600200" y="3352680"/>
            <a:ext cx="2514600" cy="15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1219320" y="4343400"/>
            <a:ext cx="1871640" cy="1496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428" name="" descr=""/>
          <p:cNvPicPr/>
          <p:nvPr/>
        </p:nvPicPr>
        <p:blipFill>
          <a:blip r:embed="rId6"/>
          <a:stretch/>
        </p:blipFill>
        <p:spPr>
          <a:xfrm>
            <a:off x="2209680" y="5181480"/>
            <a:ext cx="1800360" cy="1440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Картинка 17 из 8975"/>
          <p:cNvPicPr/>
          <p:nvPr/>
        </p:nvPicPr>
        <p:blipFill>
          <a:blip r:embed="rId1"/>
          <a:stretch/>
        </p:blipFill>
        <p:spPr>
          <a:xfrm>
            <a:off x="5105520" y="4057560"/>
            <a:ext cx="4038480" cy="2800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Картинка 64 из 67"/>
          <p:cNvPicPr/>
          <p:nvPr/>
        </p:nvPicPr>
        <p:blipFill>
          <a:blip r:embed="rId2"/>
          <a:stretch/>
        </p:blipFill>
        <p:spPr>
          <a:xfrm>
            <a:off x="0" y="0"/>
            <a:ext cx="4191120" cy="259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Если во время землетрясения Вы на улиц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343400" y="60912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Держитесь подальше от зда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Линий электропередач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Столб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Трубопроводо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Мостов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" descr="Картинка 11 из 4999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Картинка 8 из 9234"/>
          <p:cNvPicPr/>
          <p:nvPr/>
        </p:nvPicPr>
        <p:blipFill>
          <a:blip r:embed="rId5"/>
          <a:stretch/>
        </p:blipFill>
        <p:spPr>
          <a:xfrm>
            <a:off x="0" y="1981080"/>
            <a:ext cx="4172040" cy="2819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Картинка 8 из 64000"/>
          <p:cNvPicPr/>
          <p:nvPr/>
        </p:nvPicPr>
        <p:blipFill>
          <a:blip r:embed="rId6"/>
          <a:stretch/>
        </p:blipFill>
        <p:spPr>
          <a:xfrm>
            <a:off x="0" y="2971800"/>
            <a:ext cx="4191120" cy="31449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Картинка 48 из 64000"/>
          <p:cNvPicPr/>
          <p:nvPr/>
        </p:nvPicPr>
        <p:blipFill>
          <a:blip r:embed="rId7"/>
          <a:stretch/>
        </p:blipFill>
        <p:spPr>
          <a:xfrm>
            <a:off x="0" y="4059360"/>
            <a:ext cx="4191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4808520"/>
            <a:ext cx="3333600" cy="204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Картинка 17 из 8975"/>
          <p:cNvPicPr/>
          <p:nvPr/>
        </p:nvPicPr>
        <p:blipFill>
          <a:blip r:embed="rId2"/>
          <a:stretch/>
        </p:blipFill>
        <p:spPr>
          <a:xfrm>
            <a:off x="6172200" y="4797360"/>
            <a:ext cx="2971800" cy="206064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Картинка 12 из 67"/>
          <p:cNvPicPr/>
          <p:nvPr/>
        </p:nvPicPr>
        <p:blipFill>
          <a:blip r:embed="rId3"/>
          <a:stretch/>
        </p:blipFill>
        <p:spPr>
          <a:xfrm>
            <a:off x="0" y="457200"/>
            <a:ext cx="2971800" cy="21463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Картинка 29 из 67"/>
          <p:cNvPicPr/>
          <p:nvPr/>
        </p:nvPicPr>
        <p:blipFill>
          <a:blip r:embed="rId4"/>
          <a:stretch/>
        </p:blipFill>
        <p:spPr>
          <a:xfrm>
            <a:off x="3276720" y="83808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Times New Roman"/>
              </a:rPr>
              <a:t>А если землетрясение застало вас в движущемся транспорте?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2" name="" descr="Картинка 5 из 67"/>
          <p:cNvPicPr/>
          <p:nvPr/>
        </p:nvPicPr>
        <p:blipFill>
          <a:blip r:embed="rId5"/>
          <a:stretch/>
        </p:blipFill>
        <p:spPr>
          <a:xfrm>
            <a:off x="6324480" y="457200"/>
            <a:ext cx="2819520" cy="21160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То любой транспорт нужно спокойно и быстро остановить по возможности дальше от тог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Что может рухнуть от сильных толч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Высоких зданий, путепроводов, мостов, линий электропередач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Остановив транспорт необходимо открыть все двер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Из машины и автобуса выходить не следует, безопаснее оставаться на своем месте до окончания колебания поч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Не стоит выбивать стекла и рваться в сторону дверей, создавая давку и заведомую опасность трав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Окажите помощь детям, старикам и инвалид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Наводнени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В РФ основными причинами наводнений, на них приходится до 80% всех наводнений,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Период весеннего снеготая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Ледоходы на рек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Выпадение обильных ливневых и дождевых осад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Крушение плотин и дам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296280" cy="68626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Смерчи, ураганы, бур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Неисчислимые разрушения и жертвы приносят человечеству ураганы, тайфуны, смер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Скорость ветра при урагане более 30 м/с. Он является одной из мощнейших сил стихии и по своему пагубному воздействию приближается к землетрясе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и буре скорость ветра несколько меньше 15-30 м/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Смерч – восходящие вихри быстро вращающегося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50"/>
                            </p:stCondLst>
                            <p:childTnLst>
                              <p:par>
                                <p:cTn id="6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200"/>
                            </p:stCondLst>
                            <p:childTnLst>
                              <p:par>
                                <p:cTn id="6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4850"/>
                            </p:stCondLst>
                            <p:childTnLst>
                              <p:par>
                                <p:cTn id="6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Тема.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Чрезвычайные ситуаци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зуч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Определение чрезвычайной ситуации и классифик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rcRect l="3112" t="69419" r="54558" b="7674"/>
          <a:stretch/>
        </p:blipFill>
        <p:spPr>
          <a:xfrm>
            <a:off x="-1440" y="835200"/>
            <a:ext cx="334944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Так что же необходимо делать при угрозе возникновения урагана, бури, смерч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809880" y="1066680"/>
            <a:ext cx="5486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Закрыть все окна, двери, чердачные помещ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С балконов и лоджий убрать все, что может быть унесено ураган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Выключить газ, потушить огонь в печах. Подготовить фонари, свечи, ламп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Запастись водой, продуктами, держать радио и телевизор включенны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Подготовить медицинские и перевязочные материал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Укрыться в защитном сооружении, подвале, погреб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Дома занять внутреннюю комнату, подальше от око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На открытой местности лучше всего укрыться в канаве, яме, овраге, любой выемке, лечь на дно и плотно прижаться к зем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rcRect l="48629" t="69419" r="6966" b="7674"/>
          <a:stretch/>
        </p:blipFill>
        <p:spPr>
          <a:xfrm>
            <a:off x="-1440" y="1292400"/>
            <a:ext cx="3354120" cy="223812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6" name="" descr=""/>
          <p:cNvPicPr/>
          <p:nvPr/>
        </p:nvPicPr>
        <p:blipFill>
          <a:blip r:embed="rId3"/>
          <a:srcRect l="2075" t="9964" r="52927" b="67816"/>
          <a:stretch/>
        </p:blipFill>
        <p:spPr>
          <a:xfrm>
            <a:off x="-4680" y="1757520"/>
            <a:ext cx="3359160" cy="2147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7" name="" descr=""/>
          <p:cNvPicPr/>
          <p:nvPr/>
        </p:nvPicPr>
        <p:blipFill>
          <a:blip r:embed="rId4"/>
          <a:srcRect l="49222" t="9964" r="4891" b="67816"/>
          <a:stretch/>
        </p:blipFill>
        <p:spPr>
          <a:xfrm>
            <a:off x="0" y="2290680"/>
            <a:ext cx="3346560" cy="209700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8" name="" descr=""/>
          <p:cNvPicPr/>
          <p:nvPr/>
        </p:nvPicPr>
        <p:blipFill>
          <a:blip r:embed="rId5"/>
          <a:srcRect l="2223" t="39629" r="52927" b="37224"/>
          <a:stretch/>
        </p:blipFill>
        <p:spPr>
          <a:xfrm>
            <a:off x="6480" y="2890800"/>
            <a:ext cx="3348000" cy="22366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59" name="" descr=""/>
          <p:cNvPicPr/>
          <p:nvPr/>
        </p:nvPicPr>
        <p:blipFill>
          <a:blip r:embed="rId6"/>
          <a:srcRect l="49222" t="39629" r="4891" b="38025"/>
          <a:stretch/>
        </p:blipFill>
        <p:spPr>
          <a:xfrm>
            <a:off x="0" y="3505320"/>
            <a:ext cx="3348000" cy="21081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60" name="" descr=""/>
          <p:cNvPicPr/>
          <p:nvPr/>
        </p:nvPicPr>
        <p:blipFill>
          <a:blip r:embed="rId7"/>
          <a:srcRect l="3261" t="68606" r="52927" b="9964"/>
          <a:stretch/>
        </p:blipFill>
        <p:spPr>
          <a:xfrm>
            <a:off x="0" y="4191120"/>
            <a:ext cx="3351240" cy="21207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461" name="" descr=""/>
          <p:cNvPicPr/>
          <p:nvPr/>
        </p:nvPicPr>
        <p:blipFill>
          <a:blip r:embed="rId8"/>
          <a:srcRect l="49222" t="68606" r="4891" b="9964"/>
          <a:stretch/>
        </p:blipFill>
        <p:spPr>
          <a:xfrm>
            <a:off x="0" y="4835520"/>
            <a:ext cx="3348000" cy="20224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Сели, снежные лавин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ри угрозе селя или лавины прежде всег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лотно закрыть двери и ок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Отключите электричество, воду и газ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Перед этим вынесите из дома воспламеняющиеся и ядовитые ве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А еще лучше закопайте их в яме или погреб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54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сходе лавины постарайтесь укрыться за скалой, деревом, лечь на землю, защитив руками голову, дышите через одежду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сносе лавиной делайте плавательные движения, чтобы удержаться на поверхност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При погружении в снег подтяните колени к животу, прикройте рот руками сжатыми в кулаки и подождите прекращения движения лавины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Определить где верх, где низ, можно по слюне во рту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Экономя силы, пробирайтесь вверх, перемещая снег под ноги и утаптывая ег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99"/>
                </a:solidFill>
                <a:latin typeface="Times New Roman"/>
              </a:rPr>
              <a:t>Итак, мы ознакомились с тем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Что означает Чрезвычайная ситуац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 видами чрезвычайных ситу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Узнали, что собой представляет ЧС природного характ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Каковы первые признаки ЧС и методами защиты от н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На следующем уроке мы с Вами ознакомимся с ЧС техногенного характера, с основными понятиями ЧС техногенного характера и методами защиты от н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Н. Латчук Глава 4 стр. 5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тветить на вопросы задания стр. 6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исьменно в тетради выполнить задания 15, 16, 1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209680" y="4343400"/>
            <a:ext cx="4334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Что это такое – чрезвычайная ситуац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Чрезвычайная ситуация –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это обстановка на определенной территории которая сложилась в результате аварии, опасного природного явления, катастрофы, стихийного бедствия, и может повлечь или повлекла за собой человеческие жертвы, ущерб здоровью людей и окружающей природной среде, значительные материальные потери и нарушение жизнедеятельности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Картинка 2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752480"/>
            <a:ext cx="7086600" cy="46926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406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Чрезвычайную ситуацию можно предвидеть, но чаще всего она возникает внезапно</a:t>
            </a: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Город Спитак после землетряс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4419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 нас в стране есть областные, районные и прочие управления по ЧС и службы по ЧС, а в масштабе страны – Министерство по Ч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4920"/>
            <a:ext cx="2255760" cy="244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Картинка 169 из 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57880" y="3781440"/>
            <a:ext cx="4686120" cy="30765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0" y="3803760"/>
            <a:ext cx="41148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Эвакуация населения"/>
          <p:cNvPicPr/>
          <p:nvPr/>
        </p:nvPicPr>
        <p:blipFill>
          <a:blip r:embed="rId1"/>
          <a:stretch/>
        </p:blipFill>
        <p:spPr>
          <a:xfrm>
            <a:off x="4724280" y="3719520"/>
            <a:ext cx="4419720" cy="3138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21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В случае предвиденной катастрофы территориальные управления ЧС подают сигнал для насел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нимание всем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это рев сирены и частые гуд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По сигналу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Внимание всем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”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емедленно включить радио или телевизор для прослушивания экстренных сообще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информировать родственников и соседей о случившемс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ести домой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ействовать согл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лученному сообщ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"/>
                            </p:stCondLst>
                            <p:childTnLst>
                              <p:par>
                                <p:cTn id="1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943520" y="990720"/>
            <a:ext cx="4200480" cy="2319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4191120" cy="22510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При необходимости эвакуаци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029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Собрать в небольшой чемодан (рюкзак) вещи первой необходимости: необходимую одежду, документы, деньги, ценности, воду, консервированные и сухие продукты пита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Подготовить квартиру к консервации – закрыть окна, балкон, перекрыть газ, воду, выключить электроэнергию погасить огнь в печах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Приготовить средства индивидуальной защиты и второй комплект ключей для сдачи в РЭУ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cc"/>
                </a:solidFill>
                <a:latin typeface="Times New Roman"/>
              </a:rPr>
              <a:t>Оказать помощь в сборах больным и престарелым проживающим по соседств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5105520" cy="2865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Чрезвычайные ситуации бывают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Спитак (Арм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81480" y="2895480"/>
            <a:ext cx="3810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00"/>
                            </p:stCondLst>
                            <p:childTnLst>
                              <p:par>
                                <p:cTn id="2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Картинка 2 из 9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19320"/>
            <a:ext cx="7848720" cy="4738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imes New Roman"/>
              </a:rPr>
              <a:t>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ccff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Катастрофа на Чернобыльской АЭ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Чрезвычайные ситуации бываю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4-01T08:28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