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7.gif" ContentType="image/gif"/>
  <Override PartName="/ppt/media/image10.jpeg" ContentType="image/jpeg"/>
  <Override PartName="/ppt/media/image2.gif" ContentType="image/gif"/>
  <Override PartName="/ppt/media/image6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2.jpeg" ContentType="image/jpeg"/>
  <Override PartName="/ppt/media/image3.gif" ContentType="image/gif"/>
  <Override PartName="/ppt/media/image1.jpeg" ContentType="image/jpeg"/>
  <Override PartName="/ppt/media/image22.jpeg" ContentType="image/jpeg"/>
  <Override PartName="/ppt/media/image4.gif" ContentType="image/gif"/>
  <Override PartName="/ppt/media/image5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347-7064-4905-83A6-235540A0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024E-B83F-4BB1-B811-82BCEB51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C77-6634-40AB-8C15-99C40CDB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4A19-EC39-40FA-B128-937999E3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A70C-7D55-48F2-B97F-0EB0C2A4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23F-4A43-4FE7-A5C9-AE8D3845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FAA9-8964-46A6-8830-CDF1AE95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DD31-C296-448F-9C11-E3372FB1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937-58EC-4A1F-B84C-C1E32279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A2F2-4B4C-4EF3-BB93-978C0439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56F-11A7-4EDE-AC2E-08667CF2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ED3B-393D-4ABC-A5CD-105D06CC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3F3A-F1E8-4A2D-BE8A-351881E3B1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eople6"/>
          <p:cNvPicPr/>
          <p:nvPr/>
        </p:nvPicPr>
        <p:blipFill>
          <a:blip r:embed="rId1"/>
          <a:stretch/>
        </p:blipFill>
        <p:spPr>
          <a:xfrm>
            <a:off x="5364000" y="4941720"/>
            <a:ext cx="2737080" cy="1671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f111"/>
          <p:cNvPicPr/>
          <p:nvPr/>
        </p:nvPicPr>
        <p:blipFill>
          <a:blip r:embed="rId2"/>
          <a:stretch/>
        </p:blipFill>
        <p:spPr>
          <a:xfrm>
            <a:off x="4572000" y="580536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83"/>
          <p:cNvPicPr/>
          <p:nvPr/>
        </p:nvPicPr>
        <p:blipFill>
          <a:blip r:embed="rId3"/>
          <a:stretch/>
        </p:blipFill>
        <p:spPr>
          <a:xfrm>
            <a:off x="5435640" y="5950080"/>
            <a:ext cx="771480" cy="714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f68"/>
          <p:cNvPicPr/>
          <p:nvPr/>
        </p:nvPicPr>
        <p:blipFill>
          <a:blip r:embed="rId4"/>
          <a:stretch/>
        </p:blipFill>
        <p:spPr>
          <a:xfrm>
            <a:off x="363528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f68"/>
          <p:cNvPicPr/>
          <p:nvPr/>
        </p:nvPicPr>
        <p:blipFill>
          <a:blip r:embed="rId5"/>
          <a:stretch/>
        </p:blipFill>
        <p:spPr>
          <a:xfrm>
            <a:off x="7740720" y="551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f51"/>
          <p:cNvPicPr/>
          <p:nvPr/>
        </p:nvPicPr>
        <p:blipFill>
          <a:blip r:embed="rId6"/>
          <a:stretch/>
        </p:blipFill>
        <p:spPr>
          <a:xfrm>
            <a:off x="1979640" y="5229360"/>
            <a:ext cx="985680" cy="141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f77"/>
          <p:cNvPicPr/>
          <p:nvPr/>
        </p:nvPicPr>
        <p:blipFill>
          <a:blip r:embed="rId7"/>
          <a:stretch/>
        </p:blipFill>
        <p:spPr>
          <a:xfrm>
            <a:off x="2843280" y="5661000"/>
            <a:ext cx="857160" cy="100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f77"/>
          <p:cNvPicPr/>
          <p:nvPr/>
        </p:nvPicPr>
        <p:blipFill>
          <a:blip r:embed="rId8"/>
          <a:stretch/>
        </p:blipFill>
        <p:spPr>
          <a:xfrm>
            <a:off x="324000" y="5848200"/>
            <a:ext cx="85716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f93"/>
          <p:cNvPicPr/>
          <p:nvPr/>
        </p:nvPicPr>
        <p:blipFill>
          <a:blip r:embed="rId9"/>
          <a:stretch/>
        </p:blipFill>
        <p:spPr>
          <a:xfrm>
            <a:off x="1187280" y="5734080"/>
            <a:ext cx="106704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f93"/>
          <p:cNvPicPr/>
          <p:nvPr/>
        </p:nvPicPr>
        <p:blipFill>
          <a:blip r:embed="rId10"/>
          <a:stretch/>
        </p:blipFill>
        <p:spPr>
          <a:xfrm>
            <a:off x="5867280" y="5734080"/>
            <a:ext cx="1067040" cy="933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536400" y="907920"/>
            <a:ext cx="785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242492"/>
                </a:solidFill>
                <a:latin typeface="Bodoni MT Black"/>
              </a:rPr>
              <a:t>Правила </a:t>
            </a:r>
            <a:r>
              <a:rPr b="1" i="1" lang="ru-RU" sz="6000" spc="-1" strike="noStrike">
                <a:solidFill>
                  <a:srgbClr val="242492"/>
                </a:solidFill>
                <a:latin typeface="Eras Bold ITC"/>
              </a:rPr>
              <a:t>поведения</a:t>
            </a:r>
            <a:r>
              <a:rPr b="1" i="1" lang="ru-RU" sz="6000" spc="-1" strike="noStrike">
                <a:solidFill>
                  <a:srgbClr val="242492"/>
                </a:solidFill>
                <a:latin typeface="Bodoni MT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242492"/>
                </a:solidFill>
                <a:latin typeface="Bodoni MT Black"/>
              </a:rPr>
              <a:t>        </a:t>
            </a:r>
            <a:r>
              <a:rPr b="1" i="1" lang="ru-RU" sz="6000" spc="-1" strike="noStrike">
                <a:solidFill>
                  <a:srgbClr val="242492"/>
                </a:solidFill>
                <a:latin typeface="Bodoni MT Black"/>
              </a:rPr>
              <a:t>в городе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28"/>
          <p:cNvPicPr/>
          <p:nvPr/>
        </p:nvPicPr>
        <p:blipFill>
          <a:blip r:embed="rId1"/>
          <a:stretch/>
        </p:blipFill>
        <p:spPr>
          <a:xfrm>
            <a:off x="1116000" y="189000"/>
            <a:ext cx="6121440" cy="40813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265320" y="4305240"/>
            <a:ext cx="3649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 детских площадках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грают детишки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меются девчонки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езвятся мальчишки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 детских площадках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рядок, уют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взрослые там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Чистоту берегут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523400" y="4340160"/>
            <a:ext cx="3586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 собаками, кошками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десь не гуляйте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вора гигиен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сегда соблюдайте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Чтоб день изо дня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ез забот и печали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 детских площадках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етишки играл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20б"/>
          <p:cNvPicPr/>
          <p:nvPr/>
        </p:nvPicPr>
        <p:blipFill>
          <a:blip r:embed="rId1"/>
          <a:stretch/>
        </p:blipFill>
        <p:spPr>
          <a:xfrm>
            <a:off x="1547640" y="333360"/>
            <a:ext cx="5543640" cy="5543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1236240" y="6165720"/>
            <a:ext cx="58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потерялся, обратись к милиционеру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21б"/>
          <p:cNvPicPr/>
          <p:nvPr/>
        </p:nvPicPr>
        <p:blipFill>
          <a:blip r:embed="rId1"/>
          <a:stretch/>
        </p:blipFill>
        <p:spPr>
          <a:xfrm>
            <a:off x="1403280" y="260280"/>
            <a:ext cx="5904000" cy="5904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941480" y="6308640"/>
            <a:ext cx="40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играй на стройплощадке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22б"/>
          <p:cNvPicPr/>
          <p:nvPr/>
        </p:nvPicPr>
        <p:blipFill>
          <a:blip r:embed="rId1"/>
          <a:stretch/>
        </p:blipFill>
        <p:spPr>
          <a:xfrm>
            <a:off x="1403280" y="333360"/>
            <a:ext cx="5832720" cy="5832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2226960" y="6237360"/>
            <a:ext cx="37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подбирай чужие вещи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23б"/>
          <p:cNvPicPr/>
          <p:nvPr/>
        </p:nvPicPr>
        <p:blipFill>
          <a:blip r:embed="rId1"/>
          <a:stretch/>
        </p:blipFill>
        <p:spPr>
          <a:xfrm>
            <a:off x="1332000" y="189000"/>
            <a:ext cx="6048360" cy="6048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935360" y="6313320"/>
            <a:ext cx="47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подходи близко к фейерверку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24б"/>
          <p:cNvPicPr/>
          <p:nvPr/>
        </p:nvPicPr>
        <p:blipFill>
          <a:blip r:embed="rId1"/>
          <a:stretch/>
        </p:blipFill>
        <p:spPr>
          <a:xfrm>
            <a:off x="1332000" y="189000"/>
            <a:ext cx="6048360" cy="6048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394360" y="6286680"/>
            <a:ext cx="35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сиди на подоконнике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2682360" y="147600"/>
            <a:ext cx="373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b9cb5"/>
                </a:solidFill>
                <a:latin typeface="Tahoma"/>
              </a:rPr>
              <a:t>конец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60920" y="4653000"/>
            <a:ext cx="88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Tahoma"/>
              </a:rPr>
              <a:t>Презентация подготовлена на основе игрового дидактического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969696"/>
                </a:solidFill>
                <a:latin typeface="Tahoma"/>
              </a:rPr>
              <a:t>материала «Береги живое» студией «Весна. Дизайн» г. Киров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20"/>
          <p:cNvPicPr/>
          <p:nvPr/>
        </p:nvPicPr>
        <p:blipFill>
          <a:blip r:embed="rId1"/>
          <a:stretch/>
        </p:blipFill>
        <p:spPr>
          <a:xfrm>
            <a:off x="1042920" y="0"/>
            <a:ext cx="7274160" cy="4705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-5040" y="5013360"/>
            <a:ext cx="445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Круглые клумбы цветами пестрят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Двор украшают и радуют взгляд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о не топчи и не порти цветы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Если – к тому же! – садил их не ты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493880" y="5013360"/>
            <a:ext cx="449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ужен букет, так иди покупай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олько вот с клумбы цветы н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рывай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се красотой любоваться хотят-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Клумбы прохожим радуют взгляд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21"/>
          <p:cNvPicPr/>
          <p:nvPr/>
        </p:nvPicPr>
        <p:blipFill>
          <a:blip r:embed="rId1"/>
          <a:stretch/>
        </p:blipFill>
        <p:spPr>
          <a:xfrm>
            <a:off x="1116000" y="404640"/>
            <a:ext cx="7128000" cy="4610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156960" y="5229360"/>
            <a:ext cx="451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усор двор не украшает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н ходить, играть мешает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а и запах неприятны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ак же сделать двор опрятным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727880" y="5157720"/>
            <a:ext cx="399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сть контейнер, вон туд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усор относи всегда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о не рядом, внутрь клади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удет чисто на пути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22"/>
          <p:cNvPicPr/>
          <p:nvPr/>
        </p:nvPicPr>
        <p:blipFill>
          <a:blip r:embed="rId1"/>
          <a:stretch/>
        </p:blipFill>
        <p:spPr>
          <a:xfrm>
            <a:off x="468360" y="189000"/>
            <a:ext cx="4270320" cy="6406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5141160" y="1712880"/>
            <a:ext cx="3827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ихий вечер наступает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ны ребятам навевает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ты ещё гуляеш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домой не убегаеш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старайся не кричат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соседям не мешать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з открытого окн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усть несётся …тишина!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3"/>
          <p:cNvPicPr/>
          <p:nvPr/>
        </p:nvPicPr>
        <p:blipFill>
          <a:blip r:embed="rId1"/>
          <a:stretch/>
        </p:blipFill>
        <p:spPr>
          <a:xfrm>
            <a:off x="250920" y="189000"/>
            <a:ext cx="4192560" cy="6481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4643280" y="4507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593960" y="1496880"/>
            <a:ext cx="4461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переворачивайте урны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Это некрасиво, некультурно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усор по округе разлетится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Чистый город в грязный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евратится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придётся дворникам опят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Этот мусор в урны собирать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о недаром люди говорят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Чисто только там, где не сорят!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24"/>
          <p:cNvPicPr/>
          <p:nvPr/>
        </p:nvPicPr>
        <p:blipFill>
          <a:blip r:embed="rId1"/>
          <a:stretch/>
        </p:blipFill>
        <p:spPr>
          <a:xfrm>
            <a:off x="4427640" y="115920"/>
            <a:ext cx="4452840" cy="6480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230040" y="552600"/>
            <a:ext cx="408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 лавочках так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тдыхать хорошо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о кто-то опять по скамейке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ошёл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снова на ней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сидеть невозможно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ебята! Подумайте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колько же можно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Ходить по скамейкам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их загрязнят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людям уставшим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ешать отдыхать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25"/>
          <p:cNvPicPr/>
          <p:nvPr/>
        </p:nvPicPr>
        <p:blipFill>
          <a:blip r:embed="rId1"/>
          <a:stretch/>
        </p:blipFill>
        <p:spPr>
          <a:xfrm>
            <a:off x="1690560" y="236520"/>
            <a:ext cx="5977080" cy="3984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932840" y="4724280"/>
            <a:ext cx="5357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з окошек мусор не бросайте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ерриторию не засоряйте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едь по тротуарам люди ходят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д ногами мусор ваш находят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авайте себя и других уважат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вор свой беречь, чистоту соблюдать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26"/>
          <p:cNvPicPr/>
          <p:nvPr/>
        </p:nvPicPr>
        <p:blipFill>
          <a:blip r:embed="rId1"/>
          <a:stretch/>
        </p:blipFill>
        <p:spPr>
          <a:xfrm>
            <a:off x="4435560" y="115920"/>
            <a:ext cx="4454280" cy="6481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08880" y="324000"/>
            <a:ext cx="3341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ородские птицы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путники твои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олуби, синицы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алки, воробьи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тих птиц не надо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руг мой, обижать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з больших рогаток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воробьёв стрелят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ворон сердиться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олубей ловить 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тогда всем птицам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танет легче жить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27"/>
          <p:cNvPicPr/>
          <p:nvPr/>
        </p:nvPicPr>
        <p:blipFill>
          <a:blip r:embed="rId1"/>
          <a:stretch/>
        </p:blipFill>
        <p:spPr>
          <a:xfrm>
            <a:off x="4834080" y="260280"/>
            <a:ext cx="3984480" cy="5977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31480" y="1844640"/>
            <a:ext cx="4722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о дворе деревья посадили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 бордюров высятся кусты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тобы было меньше грязи, пыли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ольше свежести и красоты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ерегите же деревья эти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кусты старайтесь не ломат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тобы все – и взрослые, и дети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их тени могли бы отдыхать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4:51:56Z</dcterms:created>
  <dc:creator>Берюхова</dc:creator>
  <dc:description/>
  <dc:language>en-US</dc:language>
  <cp:lastModifiedBy>COMP</cp:lastModifiedBy>
  <dcterms:modified xsi:type="dcterms:W3CDTF">2011-11-06T19:45:45Z</dcterms:modified>
  <cp:revision>14</cp:revision>
  <dc:subject/>
  <dc:title>Слайд 1</dc:title>
</cp:coreProperties>
</file>