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EBA-5158-4338-A678-E5EAC66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C0B-0735-44C1-A944-568E305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9CB-5D9D-429D-A920-CE7961F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1F4-314F-4C31-BD49-93B6A1FB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5DB-7366-4AA1-BEF5-5FC1F87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EE2-2106-406F-BE2D-4DADBB8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8D7-575C-4AB7-BDCC-91C2EEE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B1C-8D26-4890-B0FA-5294B2AC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929-AB3E-4170-B206-A22413A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66-1651-4CD7-8F0F-C8B6293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CFC-CAD7-4873-81CE-A3964C8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B8B-F217-4AD4-B542-49C6633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3DE-F6F2-4211-80C6-57400A841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eople6"/>
          <p:cNvPicPr/>
          <p:nvPr/>
        </p:nvPicPr>
        <p:blipFill>
          <a:blip r:embed="rId1"/>
          <a:stretch/>
        </p:blipFill>
        <p:spPr>
          <a:xfrm>
            <a:off x="5364000" y="4941720"/>
            <a:ext cx="2737080" cy="167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f111"/>
          <p:cNvPicPr/>
          <p:nvPr/>
        </p:nvPicPr>
        <p:blipFill>
          <a:blip r:embed="rId2"/>
          <a:stretch/>
        </p:blipFill>
        <p:spPr>
          <a:xfrm>
            <a:off x="4572000" y="5805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83"/>
          <p:cNvPicPr/>
          <p:nvPr/>
        </p:nvPicPr>
        <p:blipFill>
          <a:blip r:embed="rId3"/>
          <a:stretch/>
        </p:blipFill>
        <p:spPr>
          <a:xfrm>
            <a:off x="5435640" y="59500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68"/>
          <p:cNvPicPr/>
          <p:nvPr/>
        </p:nvPicPr>
        <p:blipFill>
          <a:blip r:embed="rId4"/>
          <a:stretch/>
        </p:blipFill>
        <p:spPr>
          <a:xfrm>
            <a:off x="363528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68"/>
          <p:cNvPicPr/>
          <p:nvPr/>
        </p:nvPicPr>
        <p:blipFill>
          <a:blip r:embed="rId5"/>
          <a:stretch/>
        </p:blipFill>
        <p:spPr>
          <a:xfrm>
            <a:off x="774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51"/>
          <p:cNvPicPr/>
          <p:nvPr/>
        </p:nvPicPr>
        <p:blipFill>
          <a:blip r:embed="rId6"/>
          <a:stretch/>
        </p:blipFill>
        <p:spPr>
          <a:xfrm>
            <a:off x="1979640" y="5229360"/>
            <a:ext cx="98568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77"/>
          <p:cNvPicPr/>
          <p:nvPr/>
        </p:nvPicPr>
        <p:blipFill>
          <a:blip r:embed="rId7"/>
          <a:stretch/>
        </p:blipFill>
        <p:spPr>
          <a:xfrm>
            <a:off x="2843280" y="56610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77"/>
          <p:cNvPicPr/>
          <p:nvPr/>
        </p:nvPicPr>
        <p:blipFill>
          <a:blip r:embed="rId8"/>
          <a:stretch/>
        </p:blipFill>
        <p:spPr>
          <a:xfrm>
            <a:off x="324000" y="58482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f93"/>
          <p:cNvPicPr/>
          <p:nvPr/>
        </p:nvPicPr>
        <p:blipFill>
          <a:blip r:embed="rId9"/>
          <a:stretch/>
        </p:blipFill>
        <p:spPr>
          <a:xfrm>
            <a:off x="1187280" y="5734080"/>
            <a:ext cx="106704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f93"/>
          <p:cNvPicPr/>
          <p:nvPr/>
        </p:nvPicPr>
        <p:blipFill>
          <a:blip r:embed="rId10"/>
          <a:stretch/>
        </p:blipFill>
        <p:spPr>
          <a:xfrm>
            <a:off x="5867280" y="5734080"/>
            <a:ext cx="10670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536400" y="907920"/>
            <a:ext cx="785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Правила </a:t>
            </a:r>
            <a:r>
              <a:rPr b="1" i="1" lang="ru-RU" sz="6000" spc="-1" strike="noStrike">
                <a:solidFill>
                  <a:srgbClr val="242492"/>
                </a:solidFill>
                <a:latin typeface="Eras Bold ITC"/>
              </a:rPr>
              <a:t>поведения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       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в городе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8"/>
          <p:cNvPicPr/>
          <p:nvPr/>
        </p:nvPicPr>
        <p:blipFill>
          <a:blip r:embed="rId1"/>
          <a:stretch/>
        </p:blipFill>
        <p:spPr>
          <a:xfrm>
            <a:off x="1116000" y="189000"/>
            <a:ext cx="6121440" cy="4081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65320" y="4305240"/>
            <a:ext cx="364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грают детишк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меются девчо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звятся мальчиш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рядок, у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взрослые т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ту берегу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523400" y="4340160"/>
            <a:ext cx="3586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аками, кошкам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десь не гуля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а гигиен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соблюд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тоб день изо дн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забот и печал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етишки играл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б"/>
          <p:cNvPicPr/>
          <p:nvPr/>
        </p:nvPicPr>
        <p:blipFill>
          <a:blip r:embed="rId1"/>
          <a:stretch/>
        </p:blipFill>
        <p:spPr>
          <a:xfrm>
            <a:off x="1547640" y="333360"/>
            <a:ext cx="5543640" cy="5543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236240" y="616572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терялся, обратись к милиционер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1б"/>
          <p:cNvPicPr/>
          <p:nvPr/>
        </p:nvPicPr>
        <p:blipFill>
          <a:blip r:embed="rId1"/>
          <a:stretch/>
        </p:blipFill>
        <p:spPr>
          <a:xfrm>
            <a:off x="1403280" y="26028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41480" y="630864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играй на стройплощад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2б"/>
          <p:cNvPicPr/>
          <p:nvPr/>
        </p:nvPicPr>
        <p:blipFill>
          <a:blip r:embed="rId1"/>
          <a:stretch/>
        </p:blipFill>
        <p:spPr>
          <a:xfrm>
            <a:off x="1403280" y="333360"/>
            <a:ext cx="583272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226960" y="62373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бирай чужие вещ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3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935360" y="631332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ходи близко к фейерверк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4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394360" y="628668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сиди на подоконни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682360" y="147600"/>
            <a:ext cx="373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b9cb5"/>
                </a:solidFill>
                <a:latin typeface="Tahoma"/>
              </a:rPr>
              <a:t>конец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0920" y="465300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Презентация подготовлена на основе игрового дидактическог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материала «Береги живое» студией «Весна. Дизайн» г. Киро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"/>
          <p:cNvPicPr/>
          <p:nvPr/>
        </p:nvPicPr>
        <p:blipFill>
          <a:blip r:embed="rId1"/>
          <a:stretch/>
        </p:blipFill>
        <p:spPr>
          <a:xfrm>
            <a:off x="1042920" y="0"/>
            <a:ext cx="7274160" cy="470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-5040" y="501336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руглые клумбы цветами пестрят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вор украшают и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не топчи и не порти цветы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Если – к тому же! – садил их не т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93880" y="5013360"/>
            <a:ext cx="449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ен букет, так иди покуп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вот с клумбы цветы н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рыв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се красотой любоваться хотят-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лумбы прохожим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1"/>
          <p:cNvPicPr/>
          <p:nvPr/>
        </p:nvPicPr>
        <p:blipFill>
          <a:blip r:embed="rId1"/>
          <a:stretch/>
        </p:blipFill>
        <p:spPr>
          <a:xfrm>
            <a:off x="1116000" y="404640"/>
            <a:ext cx="7128000" cy="4610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56960" y="5229360"/>
            <a:ext cx="45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двор не украш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ходить, играть мешае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 и запах неприятны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же сделать двор опрятным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727880" y="5157720"/>
            <a:ext cx="399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контейнер, вон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относи всег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 не рядом, внутрь клад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дет чисто на пут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2"/>
          <p:cNvPicPr/>
          <p:nvPr/>
        </p:nvPicPr>
        <p:blipFill>
          <a:blip r:embed="rId1"/>
          <a:stretch/>
        </p:blipFill>
        <p:spPr>
          <a:xfrm>
            <a:off x="468360" y="189000"/>
            <a:ext cx="4270320" cy="640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141160" y="1712880"/>
            <a:ext cx="382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ихий вечер наступ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ны ребятам навев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ты ещё гуляеш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домой не убегаеш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тарайся не 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оседям не меш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ткрытого ок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несётся …тишина!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3"/>
          <p:cNvPicPr/>
          <p:nvPr/>
        </p:nvPicPr>
        <p:blipFill>
          <a:blip r:embed="rId1"/>
          <a:stretch/>
        </p:blipFill>
        <p:spPr>
          <a:xfrm>
            <a:off x="250920" y="189000"/>
            <a:ext cx="4192560" cy="6481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643280" y="450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593960" y="1496880"/>
            <a:ext cx="4461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ереворачивайте урн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 некрасиво, некультур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по округе разле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ый город в грязны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ра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придётся дворникам оп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т мусор в урны со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недаром люди говорят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 только там, где не сорят!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4"/>
          <p:cNvPicPr/>
          <p:nvPr/>
        </p:nvPicPr>
        <p:blipFill>
          <a:blip r:embed="rId1"/>
          <a:stretch/>
        </p:blipFill>
        <p:spPr>
          <a:xfrm>
            <a:off x="4427640" y="115920"/>
            <a:ext cx="44528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30040" y="55260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лавочках так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ыхать хорош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кто-то опять по скамейк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шёл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нова на не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идеть невозмож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бята! Подумайт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колько же мож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Ходить по скамейк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их загрязн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юдям уставши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ешать отдых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5"/>
          <p:cNvPicPr/>
          <p:nvPr/>
        </p:nvPicPr>
        <p:blipFill>
          <a:blip r:embed="rId1"/>
          <a:stretch/>
        </p:blipFill>
        <p:spPr>
          <a:xfrm>
            <a:off x="1690560" y="236520"/>
            <a:ext cx="5977080" cy="398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32840" y="472428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кошек мусор не брос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ерриторию не засоряйт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по тротуарам люди ходя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 ногами мусор ваш находя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вайте себя и других уваж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 свой беречь, чистоту соблюд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6"/>
          <p:cNvPicPr/>
          <p:nvPr/>
        </p:nvPicPr>
        <p:blipFill>
          <a:blip r:embed="rId1"/>
          <a:stretch/>
        </p:blipFill>
        <p:spPr>
          <a:xfrm>
            <a:off x="4435560" y="115920"/>
            <a:ext cx="4454280" cy="6481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8880" y="324000"/>
            <a:ext cx="3341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родские птиц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утники тво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и, синиц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алки, воробь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их птиц не надо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руг мой, обижа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 больших рогат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воробьёв стреля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ворон серд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ей ловить 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тогда всем птиц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нет легче жи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7"/>
          <p:cNvPicPr/>
          <p:nvPr/>
        </p:nvPicPr>
        <p:blipFill>
          <a:blip r:embed="rId1"/>
          <a:stretch/>
        </p:blipFill>
        <p:spPr>
          <a:xfrm>
            <a:off x="4834080" y="26028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31480" y="1844640"/>
            <a:ext cx="472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 дворе деревья посади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 бордюров высятся кусты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было меньше грязи, пы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ольше свежести и красот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регите же деревья эт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кусты старайтесь не лом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все – и взрослые, и де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их тени могли бы отдых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4:51:56Z</dcterms:created>
  <dc:creator>Берюхова</dc:creator>
  <dc:description/>
  <dc:language>en-US</dc:language>
  <cp:lastModifiedBy>COMP</cp:lastModifiedBy>
  <dcterms:modified xsi:type="dcterms:W3CDTF">2011-11-06T19:45:45Z</dcterms:modified>
  <cp:revision>14</cp:revision>
  <dc:subject/>
  <dc:title>Слайд 1</dc:title>
</cp:coreProperties>
</file>