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EB7A-CE6B-4E93-A55D-4C661681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922C-B613-405F-8520-0F2BEE17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5E8-3D58-45E6-8E84-0517C14D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699-963E-4FA1-B53D-2694FB70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5EC-B3D8-4000-89F3-B1F8D2CD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7DA-E12F-4DD8-8867-DEB94EE5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DBC-6664-4EAF-8ABC-849D63E3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B83-4ACC-49BF-9DA1-0115799C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A44-E4A2-4D65-B8FA-57E7A7F1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EDE-0150-40B0-9E00-64CF7AB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A0C-9EA7-4491-9A34-7161C281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EE7-9C58-4C6C-A164-6319D26C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E91F-E690-4EA0-B122-17E740375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3333ff"/>
                </a:solidFill>
                <a:latin typeface="Century Gothic"/>
              </a:rPr>
              <a:t>Правил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3333ff"/>
                </a:solidFill>
                <a:latin typeface="Century Gothic"/>
              </a:rPr>
              <a:t>безопасног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3333ff"/>
                </a:solidFill>
                <a:latin typeface="Century Gothic"/>
              </a:rPr>
              <a:t>обращ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3333ff"/>
                </a:solidFill>
                <a:latin typeface="Century Gothic"/>
              </a:rPr>
              <a:t> </a:t>
            </a:r>
            <a:r>
              <a:rPr b="0" i="1" lang="en-US" sz="8000" spc="-1" strike="noStrike">
                <a:solidFill>
                  <a:srgbClr val="3333ff"/>
                </a:solidFill>
                <a:latin typeface="Century Gothic"/>
              </a:rPr>
              <a:t>с электричеств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Уходя из дома и даж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из комнаты, надо обязательно выключи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левизор, магнитофон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утюг и другие электроприбор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867280" y="0"/>
            <a:ext cx="3276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икогда не тяни з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электри-ческий пров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укам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Ни в коем случа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не подходи  к оголённым проводам, не дотрагивай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до ни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9-05T09:28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