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865-7774-405A-A4CE-5FE787B5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3D0-B1B7-427F-98DD-C8391F16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141-1ADA-4DC3-A5FF-661AF966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688-967A-4A0E-A834-EC4F2A31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894-44EC-4F47-95BB-53576A2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7C2-2B90-4686-A538-DB242004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D04-C16E-4ED4-B51A-D2891CD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3EB-2D15-4C9B-B705-9F0C4E6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76E-B66C-4CE4-BACA-2AF75640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148-AE59-4A80-AAD6-D05D98D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E62-B9A4-4007-AD82-97E04AD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D29-8123-4754-9C19-5029D01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202-E4EF-49A0-95E7-83375BD3B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Прави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безопасног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обращ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 </a:t>
            </a: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с электричест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ходя из дома и даж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з комнаты, надо обязательно выключ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левизор, магнитофон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тюг и другие электроприбор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7280" y="0"/>
            <a:ext cx="327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икогда не тяни з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электри-ческий про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ука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и в коем случа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 подходи  к оголённым проводам, не дотрагивай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 ни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9-05T09:28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