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37B-650D-4806-BCE2-D59DC0BF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648-10BD-4DD5-978B-5E0CD54E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594-8D33-41DA-A400-48AAB6F5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1F9-72F1-4A5E-95B6-30554F4D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480-1D6C-4580-A01F-E0BDAAFE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8CA-4E12-4032-93BE-9ECC942B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A4D-93B3-4FDC-A4B6-F5EA7760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F8D-2411-4973-9B5E-8F3D1998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427-9A05-4654-818C-A311A64B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024-775E-4EC1-B854-E77CAA6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8AA-743F-4592-ABA4-5F07E5E8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5C7-31BD-4733-B15A-0ED0428D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D8C6-0172-4F7C-903D-FD2C1388C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Правил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безопасног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обращ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 </a:t>
            </a: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с электричеств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ходя из дома и даж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з комнаты, надо обязательно выключ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левизор, магнитофон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тюг и другие электроприбор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7280" y="0"/>
            <a:ext cx="327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икогда не тяни з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электри-ческий пров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ука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и в коем случа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е подходи  к оголённым проводам, не дотрагивай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о ни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9-05T09:28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