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9.png" ContentType="image/png"/>
  <Override PartName="/ppt/media/image30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11.png" ContentType="image/png"/>
  <Override PartName="/ppt/media/image4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51F-1978-4FC5-BACB-EEEE7422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C18-86A6-48F8-A66C-F905B20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4F8-5273-4F1E-B068-1CF4F61B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D54-8C33-4501-B8AF-2D0C16F8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B998A-4F82-438E-8C5B-DAD9153E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317D9-8965-47FC-A35A-2DB7B49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863CF-7BFC-4397-857B-5C84752D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8246A-C2B6-4B4B-BEA8-1093C87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0517E-8CB4-4249-BE35-AF2D9B6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320F-0A78-4BAA-8E06-87E25B4D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C22EF-AF02-4081-9356-763BB294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B84-FA5B-4DE9-AC63-27284932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7F7AC-BB2D-45FF-BD52-BEA0059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5F0A2-7FB3-4217-B180-291E93B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35CC-0E02-459D-99D7-0E1420AC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54F1-D6DE-439E-9385-4A796032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9744-5D74-4124-8BBE-3EBF1328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1ED3-01E3-45CC-875B-BA78FD25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77F2-AAB6-4FD0-A5AE-D186A89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2D9F-7C06-42F8-9FBC-345AB1E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B54E-E6E5-4B4B-A487-510194FB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A878-A973-43A8-A857-B9A3E74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503-665E-4BF3-80BE-92EA6952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D4BB-9FFE-4805-8917-FDA6E06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3914-E901-4F82-B7BF-79519590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DD55-600E-44D7-A4CE-E7C12F0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8061-1479-4EED-95BA-0A9B3AB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3F0E-E14C-4894-8068-309F2A15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FD1D-95CF-4163-BD5D-C1CA9997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077D-8F71-4A0A-BACB-76FA70C4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A63F1-DAB9-4F68-B3C9-77358C17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CD665-D9DB-4E24-BB80-0B41E1D6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93703-30C6-4AD3-949E-CD6C915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584-0E47-4394-A223-E82ABC23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0E26A-7945-4C8F-844B-FD1EB6AB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6299A-B455-4D9A-81F6-4876358D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46AB3-709F-4EBB-AF23-6B0A263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01D87-BAD5-4EAB-B058-F92BFDB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E844A-9FB1-4368-B6F1-4375935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2EC22-C5C0-4F5D-AE84-662D3A3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15E78-DF6C-4F4F-A303-2BC32665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CE027-86ED-4050-97C3-CCCF77AF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1BBB5-1B94-4981-866B-25991046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BD7E-3D13-44A9-82C1-F3BB005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491-D51D-445F-A22A-055FFBF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928D-B2CF-4555-89A5-D7EEC867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80E6-E9B1-4793-B505-6FF5273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EAC1-AA71-48BE-9ECE-85F71D8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085D-D627-49B7-AD01-8491002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0CB1-0BF1-4EFF-BEB5-1315581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124CB-72E9-48E3-86CB-A38C5C58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31688-A043-4027-B5F4-91E9A98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23B1-2010-4B97-BEF9-084E977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DBA1-BC02-4977-A377-9D0AD1BB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1DA4-97BE-4F47-B41B-B8B4B446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9C6-460F-4AAE-B37E-44DFFA12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07E6-90D2-4DEE-843D-B75BADF7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4E8-1F62-4579-B900-A86FF37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7E9-0EEB-41EC-BC6E-9B74E4E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5A3-C454-4B7C-9495-895023D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FEFC-BFA0-4DD9-8704-96997E949BF0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77C-F6A2-480C-A455-885A77A01D7D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920-51EB-4667-9782-7FC41D16CC1A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5CB6-A543-4674-A9B8-5B4F5B3F717B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1CA-65A8-4944-8965-14906FFF4411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kombat.com.ua/" TargetMode="External"/><Relationship Id="rId3" Type="http://schemas.openxmlformats.org/officeDocument/2006/relationships/hyperlink" Target="http://tu160.info/vizivan.html" TargetMode="External"/><Relationship Id="rId4" Type="http://schemas.openxmlformats.org/officeDocument/2006/relationships/hyperlink" Target="http://www.umopit.ru/texts/natur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Фролова м.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преподаватель-организатор ОБЖ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lentachel.ru/image/N4mNYUMbIgNjAVYR.jpg"/>
          <p:cNvPicPr/>
          <p:nvPr/>
        </p:nvPicPr>
        <p:blipFill>
          <a:blip r:embed="rId2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Picture 4" descr="http://www.sarov.net/p/1cp.jpg"/>
          <p:cNvPicPr/>
          <p:nvPr/>
        </p:nvPicPr>
        <p:blipFill>
          <a:blip r:embed="rId3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Головные бо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Тошнота, рво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f.mypage.ru/8f75e7cc3ff39a652aa54b67812e0618_e9a3c84dac5ef79d6eff642a8aeb736c.jpg"/>
          <p:cNvPicPr/>
          <p:nvPr/>
        </p:nvPicPr>
        <p:blipFill>
          <a:blip r:embed="rId2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Вымыть руки с мыл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ttp://img1.1tv.ru/imgsize480x360/PR20090701173230.GIF"/>
          <p:cNvPicPr/>
          <p:nvPr/>
        </p:nvPicPr>
        <p:blipFill>
          <a:blip r:embed="rId2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5" descr="1.jpg"/>
          <p:cNvPicPr/>
          <p:nvPr/>
        </p:nvPicPr>
        <p:blipFill>
          <a:blip r:embed="rId2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0" descr="2.jpg"/>
          <p:cNvPicPr/>
          <p:nvPr/>
        </p:nvPicPr>
        <p:blipFill>
          <a:blip r:embed="rId3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www.snakes-kazakhstan.idhost.kz/images/gaduka4.jpg"/>
          <p:cNvPicPr/>
          <p:nvPr/>
        </p:nvPicPr>
        <p:blipFill>
          <a:blip r:embed="rId2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6F7ECADF0BCF0EAF1D67D94088628B8E.jpg"/>
          <p:cNvPicPr/>
          <p:nvPr/>
        </p:nvPicPr>
        <p:blipFill>
          <a:blip r:embed="rId2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3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6" name="Рисунок 4" descr="8FE1667A9865E15AC83E74B727E5781D.jpg"/>
          <p:cNvPicPr/>
          <p:nvPr/>
        </p:nvPicPr>
        <p:blipFill>
          <a:blip r:embed="rId2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Познакомится с опасными насекомыми змея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их различат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оказывать ПМ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Рисунок 4" descr="kadr-sovet-08_08_04.jpg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i?id=498496182-00-72&amp;n=21"/>
          <p:cNvPicPr/>
          <p:nvPr/>
        </p:nvPicPr>
        <p:blipFill>
          <a:blip r:embed="rId2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4" descr=""/>
          <p:cNvPicPr/>
          <p:nvPr/>
        </p:nvPicPr>
        <p:blipFill>
          <a:blip r:embed="rId1"/>
          <a:stretch/>
        </p:blipFill>
        <p:spPr>
          <a:xfrm>
            <a:off x="231840" y="25560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nstantia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Рисунок 4" descr="3-5-2.jpg"/>
          <p:cNvPicPr/>
          <p:nvPr/>
        </p:nvPicPr>
        <p:blipFill>
          <a:blip r:embed="rId2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Чем опасны энцефалитные клещи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Где используется змеиный яд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http://ru.wikipedia.org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kombat.com.ua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tu160.info/vizivan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umopit.ru/texts/nature.ht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Барри Дэвис «Энциклопедия выживания и спасения», Издательство ВЕЧЕ,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www.stihi.ru/pics/2012/04/03/6798.jpg"/>
          <p:cNvPicPr/>
          <p:nvPr/>
        </p:nvPicPr>
        <p:blipFill>
          <a:blip r:embed="rId2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nstantia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7ac093538eac9bd1e6c00a3dcb80e2be.jpg"/>
          <p:cNvPicPr/>
          <p:nvPr/>
        </p:nvPicPr>
        <p:blipFill>
          <a:blip r:embed="rId2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clip_image001.jpg"/>
          <p:cNvPicPr/>
          <p:nvPr/>
        </p:nvPicPr>
        <p:blipFill>
          <a:blip r:embed="rId3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Рисунок 3" descr="1217270999_image00013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Constantia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Рисунок 3" descr="jalo_s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Фролова М.М.</dc:creator>
  <dc:description/>
  <dc:language>en-US</dc:language>
  <cp:lastModifiedBy>Преподаватель</cp:lastModifiedBy>
  <dcterms:modified xsi:type="dcterms:W3CDTF">2014-03-13T01:59:31Z</dcterms:modified>
  <cp:revision>6</cp:revision>
  <dc:subject/>
  <dc:title>Первая помощь при укусах змей и насекомых</dc:title>
</cp:coreProperties>
</file>