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9.png" ContentType="image/png"/>
  <Override PartName="/ppt/media/image30.jpeg" ContentType="image/jpeg"/>
  <Override PartName="/ppt/media/image6.jpeg" ContentType="image/jpeg"/>
  <Override PartName="/ppt/media/image18.png" ContentType="image/png"/>
  <Override PartName="/ppt/media/image31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11.png" ContentType="image/png"/>
  <Override PartName="/ppt/media/image4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99D-7ABA-4225-89D5-938DA409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D3F-5CFD-413C-8707-4A5F846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373-386E-4509-8AFA-76791272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280-B08D-4B39-A056-EAB8B9C6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F276-44EB-4310-8AE4-0F28ABFD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E0314-8F1E-49F9-BAD1-AC6900D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5E091-C5D1-47BE-80CC-1E10877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2238A-CBF6-40EB-ABC9-610B04D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8944-7BCE-475E-818F-ACD0A27A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5D5EF-AABF-4989-A882-0D93B7BE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8F301-C76D-4D26-84D4-8E5DD23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BFD-817E-43AD-8544-86ED9FF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BC5C-81C6-4DD0-8F16-2E4F127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2D2FB-6D2F-4992-9365-3C7DDC2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A16F5-BD3C-4485-9921-8A12163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9B0ED-7DCE-444F-B447-16677B15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01CB-7964-4F9E-ABCF-AC2DA06C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157E-5B86-41B6-833B-01082734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886E-57F8-496A-8276-9BE7EF4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1B79-7A31-41A6-9E5A-A8221C7C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45C7-AF00-485C-8DB2-EB004070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3804-3E06-4BDD-B1C9-462BE1A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FB0-0C98-463A-A594-52C75583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58F9-513D-401D-BEED-8A458A5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D934-04AB-4EE2-A73E-7B6E535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4039-25B8-45DB-9242-0C3F2C0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3888-B1A5-4A62-8F9D-9704FBA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46F2-AB88-4C91-ABC3-4A0CB52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0A4D7-9A02-4084-BDE3-605A663A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D9FF-D5D4-4ABE-80FE-0DC9BE35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469A3-F378-427F-87F1-1DE642B6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86A7C-408F-4A9F-B5D6-6B59636B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E640F-1887-4A12-BC75-7610D904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D4A-6ED5-4264-AF33-54B1323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434C1-5C46-481E-82D0-99A69DC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4FA42-2E74-4272-B346-61AD19CE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ADE5C-D870-4627-A926-552ECE7B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00DBE-DBA8-4852-AE2F-7F0E094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351FB-E6F3-4544-8D7D-0817169A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70D679-C8E4-40AA-864C-2D23B67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B75D57-1F89-47CF-9824-A204E3D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C9E77-B74A-40A0-8E2D-91BF6AE5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1A9A7-65B3-4601-8EBC-65BDC061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39FA-C63F-4F4F-8444-09D388AE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2C0-9F84-44CF-A235-143965B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5E6C-029F-4386-B92B-90F0899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1ED7-BECD-416B-BBC8-F3FBF0D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7EC2-C6C0-4139-BB25-579D1810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D49E-9308-4FEF-B18C-43A8A16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839EE-C5CC-43A3-80D6-AB3192F0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BD42-98BA-422D-9BF5-28FA07E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596B-766D-4130-832B-81F4CA1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BAE32-75C2-470D-9E62-7286F264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7839-30AD-4CE4-BCE1-0B25F67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2478-E282-4FC4-8B0D-E791C363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66-15B9-4CC9-BDEA-4E0B706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5CF47-F161-410F-8A5E-477166EF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E88-0B63-4747-A10C-86352631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34C-26C3-4A84-84DF-D3C7460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B56-C6E0-46C2-A29D-AC47249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BF3-322D-490E-9893-ACEBB0D35004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DC7-ECD8-4FEB-A21A-4BACCAA497BE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D59-8E94-4171-A578-B81971FA932E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CA46-C269-4146-AAD9-8B83AD543AA3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7202-6C47-4CC3-BFCB-5F5BFCC50563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kombat.com.ua/" TargetMode="External"/><Relationship Id="rId3" Type="http://schemas.openxmlformats.org/officeDocument/2006/relationships/hyperlink" Target="http://tu160.info/vizivan.html" TargetMode="External"/><Relationship Id="rId4" Type="http://schemas.openxmlformats.org/officeDocument/2006/relationships/hyperlink" Target="http://www.umopit.ru/texts/natur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Фролова м.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nstantia"/>
              </a:rPr>
              <a:t>преподаватель-организатор ОБЖ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www.lentachel.ru/image/N4mNYUMbIgNjAVYR.jpg"/>
          <p:cNvPicPr/>
          <p:nvPr/>
        </p:nvPicPr>
        <p:blipFill>
          <a:blip r:embed="rId2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Picture 4" descr="http://www.sarov.net/p/1cp.jpg"/>
          <p:cNvPicPr/>
          <p:nvPr/>
        </p:nvPicPr>
        <p:blipFill>
          <a:blip r:embed="rId3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Головные бо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Тошнота, рво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http://f.mypage.ru/8f75e7cc3ff39a652aa54b67812e0618_e9a3c84dac5ef79d6eff642a8aeb736c.jpg"/>
          <p:cNvPicPr/>
          <p:nvPr/>
        </p:nvPicPr>
        <p:blipFill>
          <a:blip r:embed="rId2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Вымыть руки с мыл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http://img1.1tv.ru/imgsize480x360/PR20090701173230.GIF"/>
          <p:cNvPicPr/>
          <p:nvPr/>
        </p:nvPicPr>
        <p:blipFill>
          <a:blip r:embed="rId2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5" descr="1.jpg"/>
          <p:cNvPicPr/>
          <p:nvPr/>
        </p:nvPicPr>
        <p:blipFill>
          <a:blip r:embed="rId2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реднеазиатская к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аброшенных строениях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0" descr="2.jpg"/>
          <p:cNvPicPr/>
          <p:nvPr/>
        </p:nvPicPr>
        <p:blipFill>
          <a:blip r:embed="rId3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Длина достигает 65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www.snakes-kazakhstan.idhost.kz/images/gaduka4.jpg"/>
          <p:cNvPicPr/>
          <p:nvPr/>
        </p:nvPicPr>
        <p:blipFill>
          <a:blip r:embed="rId2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6F7ECADF0BCF0EAF1D67D94088628B8E.jpg"/>
          <p:cNvPicPr/>
          <p:nvPr/>
        </p:nvPicPr>
        <p:blipFill>
          <a:blip r:embed="rId2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3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спокойте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4" descr=""/>
          <p:cNvPicPr/>
          <p:nvPr/>
        </p:nvPicPr>
        <p:blipFill>
          <a:blip r:embed="rId1"/>
          <a:stretch/>
        </p:blipFill>
        <p:spPr>
          <a:xfrm>
            <a:off x="268200" y="133200"/>
            <a:ext cx="8425080" cy="1293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6" name="Рисунок 4" descr="8FE1667A9865E15AC83E74B727E5781D.jpg"/>
          <p:cNvPicPr/>
          <p:nvPr/>
        </p:nvPicPr>
        <p:blipFill>
          <a:blip r:embed="rId2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Познакомится с опасными насекомыми змея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их различат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46c0a"/>
                </a:solidFill>
                <a:latin typeface="Constantia"/>
              </a:rPr>
              <a:t>Научиться оказывать ПМП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Рисунок 4" descr="kadr-sovet-08_08_04.jpg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i?id=498496182-00-72&amp;n=21"/>
          <p:cNvPicPr/>
          <p:nvPr/>
        </p:nvPicPr>
        <p:blipFill>
          <a:blip r:embed="rId2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4" descr=""/>
          <p:cNvPicPr/>
          <p:nvPr/>
        </p:nvPicPr>
        <p:blipFill>
          <a:blip r:embed="rId1"/>
          <a:stretch/>
        </p:blipFill>
        <p:spPr>
          <a:xfrm>
            <a:off x="231840" y="255600"/>
            <a:ext cx="8474040" cy="115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nstantia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Рисунок 4" descr="3-5-2.jpg"/>
          <p:cNvPicPr/>
          <p:nvPr/>
        </p:nvPicPr>
        <p:blipFill>
          <a:blip r:embed="rId2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Чем опасны энцефалитные клещи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Где используется змеиный яд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http://ru.wikipedia.org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kombat.com.ua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tu160.info/vizivan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umopit.ru/texts/nature.ht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Барри Дэвис «Энциклопедия выживания и спасения», Издательство ВЕЧЕ,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Пч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Слеп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Шерш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4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http://www.stihi.ru/pics/2012/04/03/6798.jpg"/>
          <p:cNvPicPr/>
          <p:nvPr/>
        </p:nvPicPr>
        <p:blipFill>
          <a:blip r:embed="rId2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nstantia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25080" cy="123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7ac093538eac9bd1e6c00a3dcb80e2be.jpg"/>
          <p:cNvPicPr/>
          <p:nvPr/>
        </p:nvPicPr>
        <p:blipFill>
          <a:blip r:embed="rId2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clip_image001.jpg"/>
          <p:cNvPicPr/>
          <p:nvPr/>
        </p:nvPicPr>
        <p:blipFill>
          <a:blip r:embed="rId3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1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2. Сыпь по всему те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3. Головная б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Рисунок 3" descr="1217270999_image00013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6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Constantia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Рисунок 3" descr="jalo_s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24720" cy="1152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Фролова М.М.</dc:creator>
  <dc:description/>
  <dc:language>en-US</dc:language>
  <cp:lastModifiedBy>Преподаватель</cp:lastModifiedBy>
  <dcterms:modified xsi:type="dcterms:W3CDTF">2014-03-13T01:59:31Z</dcterms:modified>
  <cp:revision>6</cp:revision>
  <dc:subject/>
  <dc:title>Первая помощь при укусах змей и насекомых</dc:title>
</cp:coreProperties>
</file>