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9.png" ContentType="image/png"/>
  <Override PartName="/ppt/media/image30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36.png" ContentType="image/png"/>
  <Override PartName="/ppt/media/image37.jpeg" ContentType="image/jpeg"/>
  <Override PartName="/ppt/media/image40.png" ContentType="image/png"/>
  <Override PartName="/ppt/media/image41.jpeg" ContentType="image/jpeg"/>
  <Override PartName="/ppt/media/image45.jpeg" ContentType="image/jpeg"/>
  <Override PartName="/ppt/media/image43.jpeg" ContentType="image/jpeg"/>
  <Override PartName="/ppt/media/image11.png" ContentType="image/png"/>
  <Override PartName="/ppt/media/image46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08E-D713-42C3-AF9A-B99FBE4D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8F1-E3DA-4B39-AAC2-1B4CEA2C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986-9A2E-4547-92A4-C4C576CD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436-E35F-4D48-8E47-73F5E664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F856B-79C3-4A54-9C91-677F6703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1AEA6-8AFA-4FBA-AC6E-5A0C2A35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CF6CD-03B5-4239-8A3A-50DB55FF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E0564-BCB0-4EBE-8545-40C3F836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F7893-512A-4B62-8984-289C60FD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B43DD-0B94-4534-AEEF-268C3E5D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B12B0-5BCC-484B-8718-A32908A7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560-8CBC-4E7E-8011-92FC3B48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9524F-B21E-4BC8-9EAD-02C312A2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115AA-4ABD-48CD-8153-8110F456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17140-6104-4380-AD32-81223A18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2381E-2AF9-42F9-AFC2-612E4360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F2245-15C3-455E-9C9F-9B6E8FFB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4BB88-4C6E-4253-AF5B-9C16C764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5BAB-2FB4-4A04-B49B-826F83AD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ECAD3-07DE-474A-BAFF-ABBDF2B9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5303D-F2FB-41B5-9A5A-9C344AFA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352CF-A7A1-45F0-BB82-02ED548F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A97-AA41-49DD-870E-CF45F4A0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CB99-01BB-419B-8404-FE7BE2BD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C2299-54E1-48F4-ACB2-DD721EA0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B414F-6593-4719-9D20-0F2E4AF4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E27E-D94D-4908-9803-C1BDD399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DD3B-5BC5-42D1-B1EB-AA91FF1E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63984-AF88-4B62-B4B4-F3F025A4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E3730-9A49-4EB5-9BF5-39D00762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C0C827-1CEF-4F2D-B576-7139B3A6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71DE8A-952B-4015-8BC7-1139C5B9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199354-D82C-4A19-BD95-0B53A3CC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BDE-2909-4D78-87AB-3BE7D783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7D05CB-8D8B-4523-9AEA-690E2FAA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5A2A08-8D09-44EA-874B-C20D8684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5F2BB2-2F80-4DB6-8C3E-EEBFFF4F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0CF2DB-1920-4A3E-BA28-6ACBE28D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7B5D0F-91C0-49FB-9721-EA796EDA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A97AC6-3D77-4A29-BEB0-442E3AF5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5DD9E4-4DA2-41DA-B8DF-BF53F433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0B85EF-4CB6-4E47-BDF5-A07A0F92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94926D-1A45-4B20-BC70-93CE968D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BAC60-FEDA-4FB8-934C-97D72E89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BDA-3BD0-4582-B137-6B4E80DB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8DA28-A120-4A1C-9F8E-B78A828F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37CDD-CA2D-482F-897B-62DCEC72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872B8-4EBF-493E-9CBD-3B7F3DFE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12336-528C-4490-A906-5D3B6882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8F957-8C7C-427E-B273-687B6ECC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9C614-4AF2-4801-885C-9AC49D8D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B1E23-D73C-4AB5-9D47-92969682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E3009-DE8A-4511-8F42-35AAA405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C5D12-D471-462B-A76A-E1C1B59C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B65F1-F3E3-4C8A-8B70-1E04A4B9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218-4448-41F6-A806-78AC4EA2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2147C-72A9-4D26-8BD6-3647C535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92F9-6C0F-48A1-B418-9E890487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977-483F-437F-9C8A-9789F558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201-5057-4E9B-B06F-5E0038CB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0F85-0D34-447B-9047-4523C79EA9BC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0CA4-16F1-4130-8C7C-27BFB3991724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EB1E-7120-47A8-9ACB-9FBF979FA5F6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E66B-C739-40E8-860A-5E5423E446D3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711D-227B-4162-83BE-40ABD5A2CA74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hyperlink" Target="http://kombat.com.ua/" TargetMode="External"/><Relationship Id="rId3" Type="http://schemas.openxmlformats.org/officeDocument/2006/relationships/hyperlink" Target="http://tu160.info/vizivan.html" TargetMode="External"/><Relationship Id="rId4" Type="http://schemas.openxmlformats.org/officeDocument/2006/relationships/hyperlink" Target="http://www.umopit.ru/texts/nature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onstantia"/>
              </a:rPr>
              <a:t>Фролова м.м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onstantia"/>
              </a:rPr>
              <a:t>преподаватель-организатор ОБЖ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http://www.lentachel.ru/image/N4mNYUMbIgNjAVYR.jpg"/>
          <p:cNvPicPr/>
          <p:nvPr/>
        </p:nvPicPr>
        <p:blipFill>
          <a:blip r:embed="rId2"/>
          <a:stretch/>
        </p:blipFill>
        <p:spPr>
          <a:xfrm>
            <a:off x="468360" y="1628640"/>
            <a:ext cx="4000320" cy="30672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6" name="Picture 4" descr="http://www.sarov.net/p/1cp.jpg"/>
          <p:cNvPicPr/>
          <p:nvPr/>
        </p:nvPicPr>
        <p:blipFill>
          <a:blip r:embed="rId3"/>
          <a:stretch/>
        </p:blipFill>
        <p:spPr>
          <a:xfrm>
            <a:off x="4716360" y="1628640"/>
            <a:ext cx="4071960" cy="3071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8"/>
          <p:cNvSpPr/>
          <p:nvPr/>
        </p:nvSpPr>
        <p:spPr>
          <a:xfrm>
            <a:off x="539640" y="4869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 укусе клещи вносят в ранку вместе со слю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ирус энцефалита. Укусы клещей можно и не заметить: для человека они безболезненн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Повышение температуры тела, лихорад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Головные бол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Тошнота, рво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евозможность движения мышц лица, шеи, верхних и нижних конечносте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Может закончиться и полным выздоровлением, и смертью больног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ередко человек остается на всю жизнь инвалид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250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4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http://f.mypage.ru/8f75e7cc3ff39a652aa54b67812e0618_e9a3c84dac5ef79d6eff642a8aeb736c.jpg"/>
          <p:cNvPicPr/>
          <p:nvPr/>
        </p:nvPicPr>
        <p:blipFill>
          <a:blip r:embed="rId2"/>
          <a:stretch/>
        </p:blipFill>
        <p:spPr>
          <a:xfrm>
            <a:off x="826920" y="1557360"/>
            <a:ext cx="3581640" cy="27147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onstantia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324000" y="52293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сле укуса следует немедленно обратиться к врачу для введения лекарства, предохраняющего от заболевания. Чем скорее будет удален клещ, тем меньше вероятность заболевания энцефалито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Вымыть руки с мыл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а место, где присосался клещ капнуть каплю масла или вазели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Через 1-2 минуты удалить клеща пинцетом легким покачиванием из стороны в сторону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Место укуса обработать спиртом или йод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емедленно отправить пострадавшего в медицинское учрежд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553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Наиболее велика опасность заражения в мае, июне и первой половине июл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Регулярно проводите само- и взаимоосмотры одежды и тел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Для стоянок выбирайте сухие, незатемненные поляны вдали от кустарников и деревье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25080" cy="1231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http://img1.1tv.ru/imgsize480x360/PR20090701173230.GIF"/>
          <p:cNvPicPr/>
          <p:nvPr/>
        </p:nvPicPr>
        <p:blipFill>
          <a:blip r:embed="rId2"/>
          <a:stretch/>
        </p:blipFill>
        <p:spPr>
          <a:xfrm>
            <a:off x="6804000" y="2492280"/>
            <a:ext cx="151452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5" descr="1.jpg"/>
          <p:cNvPicPr/>
          <p:nvPr/>
        </p:nvPicPr>
        <p:blipFill>
          <a:blip r:embed="rId2"/>
          <a:stretch/>
        </p:blipFill>
        <p:spPr>
          <a:xfrm>
            <a:off x="611280" y="1125360"/>
            <a:ext cx="3071880" cy="21625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325080" y="321300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реднеазиатская коб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рупная змея длиной до 1,6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пространена в южных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ластях Средней Азии: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о-запад Таджикистана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 Узбекистана и Туркмении.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обру можно встретить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едгорьях, долинах рек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ычна среди кустарников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ередко встречается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аброшенных строениях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Рисунок 10" descr="2.jpg"/>
          <p:cNvPicPr/>
          <p:nvPr/>
        </p:nvPicPr>
        <p:blipFill>
          <a:blip r:embed="rId3"/>
          <a:stretch/>
        </p:blipFill>
        <p:spPr>
          <a:xfrm>
            <a:off x="4932360" y="1413000"/>
            <a:ext cx="2771640" cy="24796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7"/>
          <p:cNvSpPr/>
          <p:nvPr/>
        </p:nvSpPr>
        <p:spPr>
          <a:xfrm>
            <a:off x="3995640" y="4076640"/>
            <a:ext cx="484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гадюка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о 75 см длиной.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Гадюка — самая широко распространенная ядовитая змея нашей стра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Гадюку можно встретить в европейской части Росс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Сибири вплоть до Саха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2" descr="8.jpg"/>
          <p:cNvPicPr/>
          <p:nvPr/>
        </p:nvPicPr>
        <p:blipFill>
          <a:blip r:embed="rId1"/>
          <a:stretch/>
        </p:blipFill>
        <p:spPr>
          <a:xfrm>
            <a:off x="611280" y="549360"/>
            <a:ext cx="2843280" cy="19987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5"/>
          <p:cNvSpPr/>
          <p:nvPr/>
        </p:nvSpPr>
        <p:spPr>
          <a:xfrm>
            <a:off x="324000" y="2997360"/>
            <a:ext cx="398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медянка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Широко распространенная в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ина достигает 65 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борьбе с крупной и сильной добычей пускает в ход ядовитые зуб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с помощью которых вводит в жертву парализующий ядовитый секр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Рисунок 8" descr="7.jpg"/>
          <p:cNvPicPr/>
          <p:nvPr/>
        </p:nvPicPr>
        <p:blipFill>
          <a:blip r:embed="rId2"/>
          <a:stretch/>
        </p:blipFill>
        <p:spPr>
          <a:xfrm>
            <a:off x="4788000" y="333360"/>
            <a:ext cx="3997080" cy="24289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7"/>
          <p:cNvSpPr/>
          <p:nvPr/>
        </p:nvSpPr>
        <p:spPr>
          <a:xfrm>
            <a:off x="5076720" y="3068640"/>
            <a:ext cx="35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ошачья змея 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425080" cy="12938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http://www.snakes-kazakhstan.idhost.kz/images/gaduka4.jpg"/>
          <p:cNvPicPr/>
          <p:nvPr/>
        </p:nvPicPr>
        <p:blipFill>
          <a:blip r:embed="rId2"/>
          <a:stretch/>
        </p:blipFill>
        <p:spPr>
          <a:xfrm>
            <a:off x="539640" y="1628640"/>
            <a:ext cx="3791160" cy="38293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nstantia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25080" cy="12319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5" descr="6F7ECADF0BCF0EAF1D67D94088628B8E.jpg"/>
          <p:cNvPicPr/>
          <p:nvPr/>
        </p:nvPicPr>
        <p:blipFill>
          <a:blip r:embed="rId2"/>
          <a:stretch/>
        </p:blipFill>
        <p:spPr>
          <a:xfrm>
            <a:off x="2195640" y="1197000"/>
            <a:ext cx="4762440" cy="328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03" name="Text Box 5"/>
          <p:cNvSpPr/>
          <p:nvPr/>
        </p:nvSpPr>
        <p:spPr>
          <a:xfrm>
            <a:off x="324000" y="4653000"/>
            <a:ext cx="789912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разу после укуса необходимо обеспечить пострадавшему покой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спокойте пострадавш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ранспортируйте его в безопасное, защищенное от непогоды мест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4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425080" cy="12938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648320" y="2420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nstantia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6" name="Рисунок 4" descr="8FE1667A9865E15AC83E74B727E5781D.jpg"/>
          <p:cNvPicPr/>
          <p:nvPr/>
        </p:nvPicPr>
        <p:blipFill>
          <a:blip r:embed="rId2"/>
          <a:stretch/>
        </p:blipFill>
        <p:spPr>
          <a:xfrm>
            <a:off x="395280" y="2421000"/>
            <a:ext cx="4038480" cy="278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Constantia"/>
              </a:rPr>
              <a:t>Задач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Constantia"/>
              </a:rPr>
              <a:t>Познакомится с опасными насекомыми змея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Constantia"/>
              </a:rPr>
              <a:t>Научиться их различать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Constantia"/>
              </a:rPr>
              <a:t>Научиться оказывать ПМ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4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nstantia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9" name="Рисунок 4" descr="kadr-sovet-08_08_04.jpg"/>
          <p:cNvPicPr/>
          <p:nvPr/>
        </p:nvPicPr>
        <p:blipFill>
          <a:blip r:embed="rId2"/>
          <a:stretch/>
        </p:blipFill>
        <p:spPr>
          <a:xfrm>
            <a:off x="539640" y="1628640"/>
            <a:ext cx="381024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4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i?id=498496182-00-72&amp;n=21"/>
          <p:cNvPicPr/>
          <p:nvPr/>
        </p:nvPicPr>
        <p:blipFill>
          <a:blip r:embed="rId2"/>
          <a:stretch/>
        </p:blipFill>
        <p:spPr>
          <a:xfrm>
            <a:off x="826920" y="1989000"/>
            <a:ext cx="3324240" cy="3324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onstantia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4" descr=""/>
          <p:cNvPicPr/>
          <p:nvPr/>
        </p:nvPicPr>
        <p:blipFill>
          <a:blip r:embed="rId1"/>
          <a:stretch/>
        </p:blipFill>
        <p:spPr>
          <a:xfrm>
            <a:off x="231840" y="255600"/>
            <a:ext cx="8474040" cy="115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nstantia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5" name="Рисунок 4" descr="3-5-2.jpg"/>
          <p:cNvPicPr/>
          <p:nvPr/>
        </p:nvPicPr>
        <p:blipFill>
          <a:blip r:embed="rId2"/>
          <a:stretch/>
        </p:blipFill>
        <p:spPr>
          <a:xfrm>
            <a:off x="571680" y="2428920"/>
            <a:ext cx="3809880" cy="286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Укусы каких насекомых опасны для человека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Как называется реакция организма в ответ на укусы насекомых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Чем опасны энцефалитные клещи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Какое действие оказывает на человека змеиный яд в небольшом количестве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Где используется змеиный яд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Как защитить себя от укусов змей, гуляя по лесу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7308720" y="5157720"/>
            <a:ext cx="1143000" cy="139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991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http://ru.wikipedia.org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  <a:hlinkClick r:id="rId2"/>
              </a:rPr>
              <a:t>http://kombat.com.ua/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onstantia"/>
                <a:hlinkClick r:id="rId3"/>
              </a:rPr>
              <a:t>http://tu160.info/vizivan.htm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onstantia"/>
                <a:hlinkClick r:id="rId4"/>
              </a:rPr>
              <a:t>http://www.umopit.ru/texts/nature.htm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Барри Дэвис «Энциклопедия выживания и спасения», Издательство ВЕЧЕ,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99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2925720" cy="4389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4140360" y="1268280"/>
            <a:ext cx="4613040" cy="43563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1259280" y="580536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че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5941800" y="58770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О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8360" y="476280"/>
            <a:ext cx="4770360" cy="31431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1477440" y="3860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Слеп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00680" cy="36766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5436720" y="587700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Шерш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4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http://www.stihi.ru/pics/2012/04/03/6798.jpg"/>
          <p:cNvPicPr/>
          <p:nvPr/>
        </p:nvPicPr>
        <p:blipFill>
          <a:blip r:embed="rId2"/>
          <a:stretch/>
        </p:blipFill>
        <p:spPr>
          <a:xfrm>
            <a:off x="395280" y="1773360"/>
            <a:ext cx="4038480" cy="27381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nstantia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11280" y="5157720"/>
            <a:ext cx="691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акцию организма на укусы насекомых называют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ллергической реакцие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25080" cy="12319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7ac093538eac9bd1e6c00a3dcb80e2be.jpg"/>
          <p:cNvPicPr/>
          <p:nvPr/>
        </p:nvPicPr>
        <p:blipFill>
          <a:blip r:embed="rId2"/>
          <a:stretch/>
        </p:blipFill>
        <p:spPr>
          <a:xfrm>
            <a:off x="428760" y="785880"/>
            <a:ext cx="3214440" cy="2994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clip_image001.jpg"/>
          <p:cNvPicPr/>
          <p:nvPr/>
        </p:nvPicPr>
        <p:blipFill>
          <a:blip r:embed="rId3"/>
          <a:stretch/>
        </p:blipFill>
        <p:spPr>
          <a:xfrm>
            <a:off x="539640" y="4076640"/>
            <a:ext cx="3333960" cy="22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1" name="Text Box 6"/>
          <p:cNvSpPr/>
          <p:nvPr/>
        </p:nvSpPr>
        <p:spPr>
          <a:xfrm>
            <a:off x="3780000" y="18446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знаки укуса насекомых появляются минут через 15-20 после укус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356000" y="386064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1. Повышение температуры 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2. Сыпь по всему те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3. Головная б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nstantia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5" name="Рисунок 3" descr="1217270999_image00013.jpg"/>
          <p:cNvPicPr/>
          <p:nvPr/>
        </p:nvPicPr>
        <p:blipFill>
          <a:blip r:embed="rId2"/>
          <a:stretch/>
        </p:blipFill>
        <p:spPr>
          <a:xfrm>
            <a:off x="611280" y="1628640"/>
            <a:ext cx="38098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6" name="Text Box 7"/>
          <p:cNvSpPr/>
          <p:nvPr/>
        </p:nvSpPr>
        <p:spPr>
          <a:xfrm>
            <a:off x="539640" y="4437000"/>
            <a:ext cx="927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 таких случаях необходима срочная медицинская помощ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так как возникающие отек гортани и удушье смертельно опас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Constantia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9" name="Рисунок 3" descr="jalo_s.jpg"/>
          <p:cNvPicPr/>
          <p:nvPr/>
        </p:nvPicPr>
        <p:blipFill>
          <a:blip r:embed="rId2"/>
          <a:stretch/>
        </p:blipFill>
        <p:spPr>
          <a:xfrm>
            <a:off x="611280" y="1628640"/>
            <a:ext cx="380988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281160" y="255600"/>
            <a:ext cx="8424720" cy="1152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5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8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0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2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3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6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0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3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медрола, или супрастина, или тавиг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3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3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36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37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38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9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40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4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2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43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44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3:31Z</dcterms:created>
  <dc:creator>Фролова М.М.</dc:creator>
  <dc:description/>
  <dc:language>en-US</dc:language>
  <cp:lastModifiedBy>Преподаватель</cp:lastModifiedBy>
  <dcterms:modified xsi:type="dcterms:W3CDTF">2014-03-13T01:59:31Z</dcterms:modified>
  <cp:revision>6</cp:revision>
  <dc:subject/>
  <dc:title>Первая помощь при укусах змей и насекомых</dc:title>
</cp:coreProperties>
</file>