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wmf" ContentType="image/x-wmf"/>
  <Override PartName="/ppt/media/image14.jpeg" ContentType="image/jpeg"/>
  <Override PartName="/ppt/media/image2.png" ContentType="image/png"/>
  <Override PartName="/ppt/media/image17.jpeg" ContentType="image/jpeg"/>
  <Override PartName="/ppt/media/image16.jpeg" ContentType="image/jpeg"/>
  <Override PartName="/ppt/media/image22.jpeg" ContentType="image/jpeg"/>
  <Override PartName="/ppt/media/image1.jpeg" ContentType="image/jpeg"/>
  <Override PartName="/ppt/media/image4.wmf" ContentType="image/x-wm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sldNum" idx="16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578F3-206C-4343-80EE-8F61E1B4056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5C6E5-5876-4756-A5BF-9DB13B6ED77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7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9E6E2-E640-4582-9D56-7604A4FA3D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1A1D92-F34F-40C1-8942-EF60D6E7310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1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CC5FFA-6B12-4F2A-B6AF-72C09D1790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08351-43DA-4EA4-A954-13A5D02D1DD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60785-4077-4978-9961-0966F5F521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017BA-D90C-4C01-9718-9F920407B6E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D0D37-E264-4030-B921-EB4CE7491A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9E3DA-A83F-4A6E-BC2F-84EA6A54327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BA01D-818D-4CC4-B923-10849DF2932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B25B0-C34C-46A0-85BD-6A63CA437F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roid Sans"/>
              </a:rPr>
              <a:t>Я говорю «Добро пожаловать!» в дорожную академию. Туда мы отправимся со школьником. А уроки нам будет преподав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roid Sans"/>
              </a:rPr>
              <a:t>Постовой Светофоркин. Девиз с которым мы с вами отправимся в занимательное путешеств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4B590-3A59-4CAF-AF2F-ADF329BDBF7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8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6874B-263F-477B-A317-E7C7E40645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262CC-78B2-40FE-ADA1-B1F166BEACD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8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689ED8-AE57-4D0E-AB12-006A423E44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31E24-0CA0-4E3A-8831-24AF7E8938E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9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7B8CC-17CB-41AF-832C-0D3E29BCE9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A919B-29F0-4EE8-8C2C-60F48A9983F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9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17073-BE2D-4D2A-9010-07F0F3B03E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AAE93-5B10-4571-9C2A-18D64903F57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0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2DC08-3114-4BCD-8E75-C10E01796E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C5285-D828-49AF-AB0F-60F95A4B424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03189-1EC2-49B8-A9C2-B9EF8F1897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36AEA3-6F2E-4BAD-A3CA-51DD16E29DA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0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FA74D-388C-4DDB-B5D5-79D39B49D6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94C6C-1299-41D5-B67D-FC7DB715C2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C9D74-C5A7-4018-A91D-255E3D3D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67AC8-7C0F-47C8-9E2D-CC5D5D3B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0ECF7-78FE-44C5-93AF-60C2F96FF0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7380C-1E51-4CFF-8626-F9FEEB0F51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3D069-D069-4706-9296-C3E674F2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CB191F-5907-4022-9CB7-7E2293C3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C6FEB4-0FD4-4F70-8366-62F14118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5B19D-65D3-4D0E-A90C-26EBE7E02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3C64D-C58E-4E65-A61B-EE0F36A4D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64A3F-3C42-46F6-914C-ECA44AD3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A3A84-1910-4C22-B9DA-CBDB3051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D4F1B-C482-40A1-9111-7CE9E4D5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FA114-C6F6-4D48-BAE5-C94CAE8B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6CB94-38E1-4411-A8F9-515BDDDE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F584E-AC6D-41B0-8051-7EE8ABAA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57D57-323C-444B-82A0-EEFB2C89AF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0C1A-B9FC-4BBA-972F-14428AE035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600E-5591-46D3-B554-1B93A267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EDDE-4C11-4C43-8CA4-4516976C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6C44-F2E8-4B25-9518-6774BD9E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7475-813B-46FD-AD03-E58635B65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88BED-95A1-4466-91D4-1D22EB68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774A-4275-4624-9DAC-15FD220C9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DE2E-338A-40F4-AE86-5B20484C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51B8-DD76-4B6C-BA9E-744356A0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EE93-9BB3-4DD5-AE4F-639EC5FA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C049-A210-4754-A138-445993DA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3CC5-B41D-45DB-AF08-57A96ABD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CA4B-1EB9-4093-AF2D-787923C748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E7E2BF-F039-4911-9373-9C36635A96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B93F20-1851-4A67-A88D-5B2A3C8F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BB05D6-12BE-42AE-8C22-CCD10689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5EE67-56BF-4530-8637-626D0F63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AC8756-5BD0-406B-BD49-C815151D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161F41-1500-476B-8F7C-AB497D5C3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1FCDD6-A791-4B0F-A178-AD3E5437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DB2EAC-D516-4DE5-95FA-ACEC4205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7FF4CD-57A7-40EC-A1F5-E26CF24F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A9DD04-ED4A-4EBA-809A-C1771606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5084F4-B6C9-465F-BBED-57E29E6B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867AAA-72AD-4EEC-8A2E-B0C79342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698EC4-3973-4ADD-9A0C-4DA6549B4A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9FBA06-AE6C-43F8-BB37-8A015013BC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9F6B5-1C04-4932-A665-C9EEA4397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A6993D-E518-4397-9E5A-0238C94E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DE4C4B-6EAF-4340-8A90-69DCB862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ED8744-5168-456D-82BF-34BDEBC5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B2ECD4-66AE-4158-856F-948A1A39A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0C0031-EFAB-4656-A049-2F9849594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DBB79E-441C-44BC-B48B-3464C6FF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A1640B-07FD-442F-A372-BEB66F44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F802FF-C5BA-4AB5-AFF2-42C63D09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8EC536-82B7-46D8-AA09-EACCCCDC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176116-90DD-429E-939C-935CB4E6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16DE6-3BC0-4AAC-9E85-A319A6D7C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CA73E6-E745-4D17-A070-E02C70EB54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F26C6-6312-4FB0-9472-AB56B62520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82109-67D7-4747-8FC3-F0C9B480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17D25-57CD-4DE5-BE37-5EE11151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89F76-A6A8-4FB6-829C-FB9D8D14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34738-9B78-41F6-9407-C3544DE9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F0A20-DE89-437F-B8D1-307533781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20286-5372-4E4D-8136-CA5D9D55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82208-2796-4416-A296-6536B26A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E9A56-765B-48F8-9348-07394627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A0E3B-EA3A-4F62-8ABF-5F012C72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44C7E-209A-4F58-A1C0-54D29751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C9C67-F2CB-408D-A5F4-A5CFA28D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34227-7840-4C53-97AA-A1B5670BC4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8F5572-C4E7-46EE-89F8-B80FE6FF73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FAF926-00E8-42FA-B9D3-DA50241A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3B9BC1-AA01-4284-9F9F-7C73D6AB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5FDEF5-F0B3-439A-98F3-6C9CA1E0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554FB8-EBA4-4056-985F-E0FDECAB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FD0B88-81B1-4DB8-BA1E-7F9C11C3A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7581B0-2024-40E2-A064-C0473857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4F4A7-0648-44A5-A786-A105F65B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93702A-7409-444E-B184-F17F7E33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44820C-5B21-466B-B15B-8A220633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AA8502-3C87-4619-995C-587FE436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D0E4FE-CB00-482F-9174-14B3DAEC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BA05E0-DCD8-4429-9DAD-02E1E0C84E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067B1-F7CD-45BD-B7FE-A661DCF9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 rot="5400000">
            <a:off x="6995520" y="37353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6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Line 9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1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61503-85B5-4F6B-98F7-7FD27AB4F11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12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3"/>
          </p:nvPr>
        </p:nvSpPr>
        <p:spPr>
          <a:xfrm>
            <a:off x="9097920" y="221760"/>
            <a:ext cx="227952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0"/>
          <p:cNvSpPr/>
          <p:nvPr/>
        </p:nvSpPr>
        <p:spPr>
          <a:xfrm rot="5400000">
            <a:off x="708300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1325520" y="4929120"/>
            <a:ext cx="6033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9448091-93CB-43B7-8B49-41457C005877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5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D148F22-FEC4-4213-A449-9881132744B0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1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15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9096480" y="217080"/>
            <a:ext cx="227952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 rot="5400000">
            <a:off x="708300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8"/>
          </p:nvPr>
        </p:nvSpPr>
        <p:spPr>
          <a:xfrm>
            <a:off x="1339920" y="4929120"/>
            <a:ext cx="6033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122EEDA-9296-4747-9EFF-D8A40B8E31D8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9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0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855D1DA-5737-4BF1-BB1E-313DD1D35C99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2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1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2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332F4B8-F9BC-4300-AD5F-C2347B60B2A6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Oval 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6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7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4C40AE9-A501-4F66-B495-9DDEB3FB0BAF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2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aby.ru/community/view/30500/forum/post/36932489/" TargetMode="External"/><Relationship Id="rId2" Type="http://schemas.openxmlformats.org/officeDocument/2006/relationships/hyperlink" Target="http://nattik.ru/" TargetMode="External"/><Relationship Id="rId3" Type="http://schemas.openxmlformats.org/officeDocument/2006/relationships/hyperlink" Target="http://mars36.ru/archives/415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37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1"/>
          <p:cNvSpPr/>
          <p:nvPr/>
        </p:nvSpPr>
        <p:spPr>
          <a:xfrm>
            <a:off x="2571840" y="3429000"/>
            <a:ext cx="6172200" cy="1785960"/>
          </a:xfrm>
          <a:prstGeom prst="rect">
            <a:avLst/>
          </a:prstGeom>
          <a:solidFill>
            <a:srgbClr val="fe86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entury Schoolbook"/>
              </a:rPr>
              <a:t>ОСТОРОЖНО, УЛИЦА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3924360" y="276120"/>
            <a:ext cx="2928960" cy="2928960"/>
          </a:xfrm>
          <a:prstGeom prst="rect">
            <a:avLst/>
          </a:prstGeom>
          <a:ln w="9360">
            <a:solidFill>
              <a:srgbClr val="fe8637"/>
            </a:solidFill>
            <a:miter/>
          </a:ln>
        </p:spPr>
      </p:pic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5111640" y="5616720"/>
            <a:ext cx="3384720" cy="85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39840" algn="ctr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Schoolbook"/>
              </a:rPr>
              <a:t>Автор: Беляева С.Л., МБОУ СОШ №1 г.о.Красноармейск МО</a:t>
            </a: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2357280" y="4286160"/>
            <a:ext cx="6172200" cy="1859040"/>
          </a:xfrm>
          <a:prstGeom prst="rect">
            <a:avLst/>
          </a:prstGeom>
          <a:noFill/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fff39d"/>
                </a:solidFill>
                <a:latin typeface="Century Schoolbook"/>
              </a:rPr>
              <a:t>И у светофора можно встретить опасность!!!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2" descr=""/>
          <p:cNvPicPr/>
          <p:nvPr/>
        </p:nvPicPr>
        <p:blipFill>
          <a:blip r:embed="rId1"/>
          <a:stretch/>
        </p:blipFill>
        <p:spPr>
          <a:xfrm>
            <a:off x="2357280" y="285840"/>
            <a:ext cx="6000840" cy="3840120"/>
          </a:xfrm>
          <a:prstGeom prst="rect">
            <a:avLst/>
          </a:prstGeom>
          <a:ln w="9360">
            <a:solidFill>
              <a:srgbClr val="fe8637"/>
            </a:solidFill>
            <a:miter/>
          </a:ln>
        </p:spPr>
      </p:pic>
      <p:sp>
        <p:nvSpPr>
          <p:cNvPr id="461" name="Rectangle 3"/>
          <p:cNvSpPr/>
          <p:nvPr/>
        </p:nvSpPr>
        <p:spPr>
          <a:xfrm>
            <a:off x="357120" y="5786280"/>
            <a:ext cx="6000840" cy="76464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Если погас зеленый сигнал для пешехода – нужно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становиться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WordArt 1"/>
          <p:cNvSpPr txBox="1"/>
          <p:nvPr/>
        </p:nvSpPr>
        <p:spPr>
          <a:xfrm>
            <a:off x="2556000" y="1989000"/>
            <a:ext cx="4440240" cy="18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Детям знать положено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Правила дорожные!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Ты, дружок, доверься им: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Будешь цел и невредим!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  <p:sp>
        <p:nvSpPr>
          <p:cNvPr id="463" name="AutoShape 2"/>
          <p:cNvSpPr/>
          <p:nvPr/>
        </p:nvSpPr>
        <p:spPr>
          <a:xfrm>
            <a:off x="228600" y="4876920"/>
            <a:ext cx="8705880" cy="914400"/>
          </a:xfrm>
          <a:custGeom>
            <a:avLst/>
            <a:gdLst>
              <a:gd name="textAreaLeft" fmla="*/ 0 w 8705880"/>
              <a:gd name="textAreaRight" fmla="*/ 8706240 w 87058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5484" h="576">
                <a:moveTo>
                  <a:pt x="5484" y="501"/>
                </a:moveTo>
                <a:lnTo>
                  <a:pt x="5277" y="280"/>
                </a:lnTo>
                <a:lnTo>
                  <a:pt x="5146" y="247"/>
                </a:lnTo>
                <a:lnTo>
                  <a:pt x="5000" y="209"/>
                </a:lnTo>
                <a:lnTo>
                  <a:pt x="4837" y="170"/>
                </a:lnTo>
                <a:lnTo>
                  <a:pt x="4664" y="128"/>
                </a:lnTo>
                <a:lnTo>
                  <a:pt x="4484" y="89"/>
                </a:lnTo>
                <a:lnTo>
                  <a:pt x="4295" y="55"/>
                </a:lnTo>
                <a:lnTo>
                  <a:pt x="4105" y="28"/>
                </a:lnTo>
                <a:lnTo>
                  <a:pt x="3914" y="8"/>
                </a:lnTo>
                <a:lnTo>
                  <a:pt x="3731" y="0"/>
                </a:lnTo>
                <a:lnTo>
                  <a:pt x="3549" y="8"/>
                </a:lnTo>
                <a:lnTo>
                  <a:pt x="3376" y="28"/>
                </a:lnTo>
                <a:lnTo>
                  <a:pt x="3214" y="69"/>
                </a:lnTo>
                <a:lnTo>
                  <a:pt x="3070" y="128"/>
                </a:lnTo>
                <a:lnTo>
                  <a:pt x="2938" y="211"/>
                </a:lnTo>
                <a:lnTo>
                  <a:pt x="2829" y="322"/>
                </a:lnTo>
                <a:lnTo>
                  <a:pt x="2743" y="460"/>
                </a:lnTo>
                <a:lnTo>
                  <a:pt x="2665" y="322"/>
                </a:lnTo>
                <a:lnTo>
                  <a:pt x="2558" y="217"/>
                </a:lnTo>
                <a:lnTo>
                  <a:pt x="2430" y="132"/>
                </a:lnTo>
                <a:lnTo>
                  <a:pt x="2287" y="73"/>
                </a:lnTo>
                <a:lnTo>
                  <a:pt x="2127" y="36"/>
                </a:lnTo>
                <a:lnTo>
                  <a:pt x="1954" y="12"/>
                </a:lnTo>
                <a:lnTo>
                  <a:pt x="1770" y="8"/>
                </a:lnTo>
                <a:lnTo>
                  <a:pt x="1583" y="12"/>
                </a:lnTo>
                <a:lnTo>
                  <a:pt x="1390" y="34"/>
                </a:lnTo>
                <a:lnTo>
                  <a:pt x="1203" y="59"/>
                </a:lnTo>
                <a:lnTo>
                  <a:pt x="1010" y="93"/>
                </a:lnTo>
                <a:lnTo>
                  <a:pt x="828" y="132"/>
                </a:lnTo>
                <a:lnTo>
                  <a:pt x="651" y="170"/>
                </a:lnTo>
                <a:lnTo>
                  <a:pt x="488" y="211"/>
                </a:lnTo>
                <a:lnTo>
                  <a:pt x="339" y="247"/>
                </a:lnTo>
                <a:lnTo>
                  <a:pt x="208" y="280"/>
                </a:lnTo>
                <a:lnTo>
                  <a:pt x="0" y="501"/>
                </a:lnTo>
                <a:lnTo>
                  <a:pt x="26" y="501"/>
                </a:lnTo>
                <a:lnTo>
                  <a:pt x="102" y="499"/>
                </a:lnTo>
                <a:lnTo>
                  <a:pt x="217" y="497"/>
                </a:lnTo>
                <a:lnTo>
                  <a:pt x="364" y="491"/>
                </a:lnTo>
                <a:lnTo>
                  <a:pt x="544" y="487"/>
                </a:lnTo>
                <a:lnTo>
                  <a:pt x="742" y="482"/>
                </a:lnTo>
                <a:lnTo>
                  <a:pt x="955" y="478"/>
                </a:lnTo>
                <a:lnTo>
                  <a:pt x="1173" y="470"/>
                </a:lnTo>
                <a:lnTo>
                  <a:pt x="1394" y="464"/>
                </a:lnTo>
                <a:lnTo>
                  <a:pt x="1608" y="460"/>
                </a:lnTo>
                <a:lnTo>
                  <a:pt x="1812" y="450"/>
                </a:lnTo>
                <a:lnTo>
                  <a:pt x="1994" y="446"/>
                </a:lnTo>
                <a:lnTo>
                  <a:pt x="2147" y="440"/>
                </a:lnTo>
                <a:lnTo>
                  <a:pt x="2270" y="436"/>
                </a:lnTo>
                <a:lnTo>
                  <a:pt x="2356" y="432"/>
                </a:lnTo>
                <a:lnTo>
                  <a:pt x="2392" y="428"/>
                </a:lnTo>
                <a:lnTo>
                  <a:pt x="2428" y="430"/>
                </a:lnTo>
                <a:lnTo>
                  <a:pt x="2456" y="448"/>
                </a:lnTo>
                <a:lnTo>
                  <a:pt x="2461" y="468"/>
                </a:lnTo>
                <a:lnTo>
                  <a:pt x="2441" y="478"/>
                </a:lnTo>
                <a:lnTo>
                  <a:pt x="2412" y="491"/>
                </a:lnTo>
                <a:lnTo>
                  <a:pt x="2401" y="525"/>
                </a:lnTo>
                <a:lnTo>
                  <a:pt x="2410" y="560"/>
                </a:lnTo>
                <a:lnTo>
                  <a:pt x="2441" y="576"/>
                </a:lnTo>
                <a:lnTo>
                  <a:pt x="2743" y="576"/>
                </a:lnTo>
                <a:lnTo>
                  <a:pt x="3045" y="576"/>
                </a:lnTo>
                <a:lnTo>
                  <a:pt x="3078" y="560"/>
                </a:lnTo>
                <a:lnTo>
                  <a:pt x="3085" y="525"/>
                </a:lnTo>
                <a:lnTo>
                  <a:pt x="3072" y="491"/>
                </a:lnTo>
                <a:lnTo>
                  <a:pt x="3045" y="478"/>
                </a:lnTo>
                <a:lnTo>
                  <a:pt x="3023" y="468"/>
                </a:lnTo>
                <a:lnTo>
                  <a:pt x="3029" y="448"/>
                </a:lnTo>
                <a:lnTo>
                  <a:pt x="3056" y="430"/>
                </a:lnTo>
                <a:lnTo>
                  <a:pt x="3094" y="428"/>
                </a:lnTo>
                <a:lnTo>
                  <a:pt x="3132" y="432"/>
                </a:lnTo>
                <a:lnTo>
                  <a:pt x="3214" y="436"/>
                </a:lnTo>
                <a:lnTo>
                  <a:pt x="3336" y="440"/>
                </a:lnTo>
                <a:lnTo>
                  <a:pt x="3492" y="446"/>
                </a:lnTo>
                <a:lnTo>
                  <a:pt x="3678" y="450"/>
                </a:lnTo>
                <a:lnTo>
                  <a:pt x="3878" y="460"/>
                </a:lnTo>
                <a:lnTo>
                  <a:pt x="4089" y="464"/>
                </a:lnTo>
                <a:lnTo>
                  <a:pt x="4313" y="470"/>
                </a:lnTo>
                <a:lnTo>
                  <a:pt x="4533" y="478"/>
                </a:lnTo>
                <a:lnTo>
                  <a:pt x="4746" y="482"/>
                </a:lnTo>
                <a:lnTo>
                  <a:pt x="4944" y="487"/>
                </a:lnTo>
                <a:lnTo>
                  <a:pt x="5120" y="491"/>
                </a:lnTo>
                <a:lnTo>
                  <a:pt x="5269" y="497"/>
                </a:lnTo>
                <a:lnTo>
                  <a:pt x="5384" y="499"/>
                </a:lnTo>
                <a:lnTo>
                  <a:pt x="5459" y="501"/>
                </a:lnTo>
                <a:lnTo>
                  <a:pt x="5484" y="501"/>
                </a:lnTo>
                <a:close/>
              </a:path>
            </a:pathLst>
          </a:cu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3"/>
          <p:cNvSpPr/>
          <p:nvPr/>
        </p:nvSpPr>
        <p:spPr>
          <a:xfrm>
            <a:off x="4648320" y="838080"/>
            <a:ext cx="4022640" cy="4745160"/>
          </a:xfrm>
          <a:custGeom>
            <a:avLst/>
            <a:gdLst>
              <a:gd name="textAreaLeft" fmla="*/ 0 w 4022640"/>
              <a:gd name="textAreaRight" fmla="*/ 4023000 w 4022640"/>
              <a:gd name="textAreaTop" fmla="*/ 0 h 4745160"/>
              <a:gd name="textAreaBottom" fmla="*/ 4745520 h 4745160"/>
            </a:gdLst>
            <a:ahLst/>
            <a:rect l="textAreaLeft" t="textAreaTop" r="textAreaRight" b="textAreaBottom"/>
            <a:pathLst>
              <a:path w="2534" h="2989">
                <a:moveTo>
                  <a:pt x="0" y="280"/>
                </a:moveTo>
                <a:lnTo>
                  <a:pt x="0" y="2989"/>
                </a:lnTo>
                <a:lnTo>
                  <a:pt x="86" y="2851"/>
                </a:lnTo>
                <a:lnTo>
                  <a:pt x="195" y="2740"/>
                </a:lnTo>
                <a:lnTo>
                  <a:pt x="327" y="2657"/>
                </a:lnTo>
                <a:lnTo>
                  <a:pt x="471" y="2598"/>
                </a:lnTo>
                <a:lnTo>
                  <a:pt x="633" y="2557"/>
                </a:lnTo>
                <a:lnTo>
                  <a:pt x="806" y="2537"/>
                </a:lnTo>
                <a:lnTo>
                  <a:pt x="988" y="2529"/>
                </a:lnTo>
                <a:lnTo>
                  <a:pt x="1171" y="2537"/>
                </a:lnTo>
                <a:lnTo>
                  <a:pt x="1362" y="2557"/>
                </a:lnTo>
                <a:lnTo>
                  <a:pt x="1552" y="2584"/>
                </a:lnTo>
                <a:lnTo>
                  <a:pt x="1741" y="2618"/>
                </a:lnTo>
                <a:lnTo>
                  <a:pt x="1921" y="2657"/>
                </a:lnTo>
                <a:lnTo>
                  <a:pt x="2094" y="2699"/>
                </a:lnTo>
                <a:lnTo>
                  <a:pt x="2257" y="2738"/>
                </a:lnTo>
                <a:lnTo>
                  <a:pt x="2403" y="2776"/>
                </a:lnTo>
                <a:lnTo>
                  <a:pt x="2534" y="2809"/>
                </a:lnTo>
                <a:lnTo>
                  <a:pt x="1426" y="132"/>
                </a:lnTo>
                <a:lnTo>
                  <a:pt x="1337" y="110"/>
                </a:lnTo>
                <a:lnTo>
                  <a:pt x="1244" y="88"/>
                </a:lnTo>
                <a:lnTo>
                  <a:pt x="1153" y="67"/>
                </a:lnTo>
                <a:lnTo>
                  <a:pt x="1060" y="49"/>
                </a:lnTo>
                <a:lnTo>
                  <a:pt x="966" y="27"/>
                </a:lnTo>
                <a:lnTo>
                  <a:pt x="873" y="15"/>
                </a:lnTo>
                <a:lnTo>
                  <a:pt x="779" y="4"/>
                </a:lnTo>
                <a:lnTo>
                  <a:pt x="688" y="0"/>
                </a:lnTo>
                <a:lnTo>
                  <a:pt x="597" y="2"/>
                </a:lnTo>
                <a:lnTo>
                  <a:pt x="506" y="12"/>
                </a:lnTo>
                <a:lnTo>
                  <a:pt x="417" y="27"/>
                </a:lnTo>
                <a:lnTo>
                  <a:pt x="329" y="59"/>
                </a:lnTo>
                <a:lnTo>
                  <a:pt x="242" y="94"/>
                </a:lnTo>
                <a:lnTo>
                  <a:pt x="160" y="142"/>
                </a:lnTo>
                <a:lnTo>
                  <a:pt x="76" y="203"/>
                </a:lnTo>
                <a:lnTo>
                  <a:pt x="0" y="28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AutoShape 4"/>
          <p:cNvSpPr/>
          <p:nvPr/>
        </p:nvSpPr>
        <p:spPr>
          <a:xfrm>
            <a:off x="609480" y="838080"/>
            <a:ext cx="4024440" cy="5104080"/>
          </a:xfrm>
          <a:custGeom>
            <a:avLst/>
            <a:gdLst>
              <a:gd name="textAreaLeft" fmla="*/ 0 w 4024440"/>
              <a:gd name="textAreaRight" fmla="*/ 4024800 w 4024440"/>
              <a:gd name="textAreaTop" fmla="*/ 0 h 5104080"/>
              <a:gd name="textAreaBottom" fmla="*/ 5104440 h 5104080"/>
            </a:gdLst>
            <a:ahLst/>
            <a:rect l="textAreaLeft" t="textAreaTop" r="textAreaRight" b="textAreaBottom"/>
            <a:pathLst>
              <a:path w="2535" h="2989">
                <a:moveTo>
                  <a:pt x="2535" y="280"/>
                </a:moveTo>
                <a:lnTo>
                  <a:pt x="2453" y="203"/>
                </a:lnTo>
                <a:lnTo>
                  <a:pt x="2371" y="142"/>
                </a:lnTo>
                <a:lnTo>
                  <a:pt x="2288" y="96"/>
                </a:lnTo>
                <a:lnTo>
                  <a:pt x="2202" y="59"/>
                </a:lnTo>
                <a:lnTo>
                  <a:pt x="2115" y="27"/>
                </a:lnTo>
                <a:lnTo>
                  <a:pt x="2028" y="12"/>
                </a:lnTo>
                <a:lnTo>
                  <a:pt x="1937" y="2"/>
                </a:lnTo>
                <a:lnTo>
                  <a:pt x="1846" y="0"/>
                </a:lnTo>
                <a:lnTo>
                  <a:pt x="1753" y="4"/>
                </a:lnTo>
                <a:lnTo>
                  <a:pt x="1662" y="15"/>
                </a:lnTo>
                <a:lnTo>
                  <a:pt x="1569" y="29"/>
                </a:lnTo>
                <a:lnTo>
                  <a:pt x="1477" y="49"/>
                </a:lnTo>
                <a:lnTo>
                  <a:pt x="1384" y="67"/>
                </a:lnTo>
                <a:lnTo>
                  <a:pt x="1291" y="88"/>
                </a:lnTo>
                <a:lnTo>
                  <a:pt x="1202" y="114"/>
                </a:lnTo>
                <a:lnTo>
                  <a:pt x="1111" y="134"/>
                </a:lnTo>
                <a:lnTo>
                  <a:pt x="0" y="2809"/>
                </a:lnTo>
                <a:lnTo>
                  <a:pt x="131" y="2776"/>
                </a:lnTo>
                <a:lnTo>
                  <a:pt x="280" y="2740"/>
                </a:lnTo>
                <a:lnTo>
                  <a:pt x="443" y="2699"/>
                </a:lnTo>
                <a:lnTo>
                  <a:pt x="620" y="2661"/>
                </a:lnTo>
                <a:lnTo>
                  <a:pt x="802" y="2622"/>
                </a:lnTo>
                <a:lnTo>
                  <a:pt x="995" y="2588"/>
                </a:lnTo>
                <a:lnTo>
                  <a:pt x="1182" y="2563"/>
                </a:lnTo>
                <a:lnTo>
                  <a:pt x="1375" y="2541"/>
                </a:lnTo>
                <a:lnTo>
                  <a:pt x="1562" y="2537"/>
                </a:lnTo>
                <a:lnTo>
                  <a:pt x="1746" y="2541"/>
                </a:lnTo>
                <a:lnTo>
                  <a:pt x="1919" y="2565"/>
                </a:lnTo>
                <a:lnTo>
                  <a:pt x="2079" y="2602"/>
                </a:lnTo>
                <a:lnTo>
                  <a:pt x="2222" y="2661"/>
                </a:lnTo>
                <a:lnTo>
                  <a:pt x="2350" y="2746"/>
                </a:lnTo>
                <a:lnTo>
                  <a:pt x="2457" y="2851"/>
                </a:lnTo>
                <a:lnTo>
                  <a:pt x="2535" y="2989"/>
                </a:lnTo>
                <a:lnTo>
                  <a:pt x="2535" y="28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AutoShape 5"/>
          <p:cNvSpPr/>
          <p:nvPr/>
        </p:nvSpPr>
        <p:spPr>
          <a:xfrm>
            <a:off x="6872400" y="1039680"/>
            <a:ext cx="2087280" cy="4600800"/>
          </a:xfrm>
          <a:custGeom>
            <a:avLst/>
            <a:gdLst>
              <a:gd name="textAreaLeft" fmla="*/ 0 w 2087280"/>
              <a:gd name="textAreaRight" fmla="*/ 2087280 w 2087280"/>
              <a:gd name="textAreaTop" fmla="*/ 0 h 4600800"/>
              <a:gd name="textAreaBottom" fmla="*/ 4601160 h 4600800"/>
            </a:gdLst>
            <a:ahLst/>
            <a:rect l="textAreaLeft" t="textAreaTop" r="textAreaRight" b="textAreaBottom"/>
            <a:pathLst>
              <a:path w="1315" h="2898">
                <a:moveTo>
                  <a:pt x="0" y="0"/>
                </a:moveTo>
                <a:lnTo>
                  <a:pt x="1108" y="2677"/>
                </a:lnTo>
                <a:lnTo>
                  <a:pt x="1315" y="2898"/>
                </a:lnTo>
                <a:lnTo>
                  <a:pt x="115" y="132"/>
                </a:lnTo>
                <a:lnTo>
                  <a:pt x="85" y="132"/>
                </a:lnTo>
                <a:lnTo>
                  <a:pt x="0" y="0"/>
                </a:lnTo>
                <a:close/>
              </a:path>
            </a:pathLst>
          </a:cu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AutoShape 6"/>
          <p:cNvSpPr/>
          <p:nvPr/>
        </p:nvSpPr>
        <p:spPr>
          <a:xfrm>
            <a:off x="254160" y="1042920"/>
            <a:ext cx="2093760" cy="4597560"/>
          </a:xfrm>
          <a:custGeom>
            <a:avLst/>
            <a:gdLst>
              <a:gd name="textAreaLeft" fmla="*/ 0 w 2093760"/>
              <a:gd name="textAreaRight" fmla="*/ 2094120 w 2093760"/>
              <a:gd name="textAreaTop" fmla="*/ 0 h 4597560"/>
              <a:gd name="textAreaBottom" fmla="*/ 4597920 h 4597560"/>
            </a:gdLst>
            <a:ahLst/>
            <a:rect l="textAreaLeft" t="textAreaTop" r="textAreaRight" b="textAreaBottom"/>
            <a:pathLst>
              <a:path w="1319" h="2896">
                <a:moveTo>
                  <a:pt x="0" y="2896"/>
                </a:moveTo>
                <a:lnTo>
                  <a:pt x="208" y="2675"/>
                </a:lnTo>
                <a:lnTo>
                  <a:pt x="1319" y="0"/>
                </a:lnTo>
                <a:lnTo>
                  <a:pt x="1232" y="130"/>
                </a:lnTo>
                <a:lnTo>
                  <a:pt x="1204" y="130"/>
                </a:lnTo>
                <a:lnTo>
                  <a:pt x="0" y="2896"/>
                </a:lnTo>
                <a:close/>
              </a:path>
            </a:pathLst>
          </a:cu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7"/>
          <p:cNvSpPr/>
          <p:nvPr/>
        </p:nvSpPr>
        <p:spPr>
          <a:xfrm>
            <a:off x="225360" y="795240"/>
            <a:ext cx="8763120" cy="4996080"/>
          </a:xfrm>
          <a:custGeom>
            <a:avLst/>
            <a:gdLst>
              <a:gd name="textAreaLeft" fmla="*/ 0 w 8763120"/>
              <a:gd name="textAreaRight" fmla="*/ 8763480 w 8763120"/>
              <a:gd name="textAreaTop" fmla="*/ 0 h 4996080"/>
              <a:gd name="textAreaBottom" fmla="*/ 4996440 h 4996080"/>
            </a:gdLst>
            <a:ahLst/>
            <a:rect l="textAreaLeft" t="textAreaTop" r="textAreaRight" b="textAreaBottom"/>
            <a:pathLst>
              <a:path w="5520" h="3147">
                <a:moveTo>
                  <a:pt x="2761" y="326"/>
                </a:moveTo>
                <a:lnTo>
                  <a:pt x="2770" y="318"/>
                </a:lnTo>
                <a:lnTo>
                  <a:pt x="2848" y="241"/>
                </a:lnTo>
                <a:lnTo>
                  <a:pt x="2932" y="183"/>
                </a:lnTo>
                <a:lnTo>
                  <a:pt x="3010" y="136"/>
                </a:lnTo>
                <a:lnTo>
                  <a:pt x="3098" y="99"/>
                </a:lnTo>
                <a:lnTo>
                  <a:pt x="3179" y="71"/>
                </a:lnTo>
                <a:lnTo>
                  <a:pt x="3267" y="51"/>
                </a:lnTo>
                <a:lnTo>
                  <a:pt x="3358" y="45"/>
                </a:lnTo>
                <a:lnTo>
                  <a:pt x="3449" y="41"/>
                </a:lnTo>
                <a:lnTo>
                  <a:pt x="3540" y="49"/>
                </a:lnTo>
                <a:lnTo>
                  <a:pt x="3632" y="59"/>
                </a:lnTo>
                <a:lnTo>
                  <a:pt x="3725" y="71"/>
                </a:lnTo>
                <a:lnTo>
                  <a:pt x="3818" y="89"/>
                </a:lnTo>
                <a:lnTo>
                  <a:pt x="3909" y="109"/>
                </a:lnTo>
                <a:lnTo>
                  <a:pt x="4001" y="130"/>
                </a:lnTo>
                <a:lnTo>
                  <a:pt x="4094" y="154"/>
                </a:lnTo>
                <a:lnTo>
                  <a:pt x="4180" y="172"/>
                </a:lnTo>
                <a:lnTo>
                  <a:pt x="4256" y="296"/>
                </a:lnTo>
                <a:lnTo>
                  <a:pt x="4272" y="306"/>
                </a:lnTo>
                <a:lnTo>
                  <a:pt x="4293" y="306"/>
                </a:lnTo>
                <a:lnTo>
                  <a:pt x="5473" y="3033"/>
                </a:lnTo>
                <a:lnTo>
                  <a:pt x="5402" y="3031"/>
                </a:lnTo>
                <a:lnTo>
                  <a:pt x="5287" y="3029"/>
                </a:lnTo>
                <a:lnTo>
                  <a:pt x="5138" y="3023"/>
                </a:lnTo>
                <a:lnTo>
                  <a:pt x="4962" y="3019"/>
                </a:lnTo>
                <a:lnTo>
                  <a:pt x="4764" y="3015"/>
                </a:lnTo>
                <a:lnTo>
                  <a:pt x="4551" y="3007"/>
                </a:lnTo>
                <a:lnTo>
                  <a:pt x="4331" y="3001"/>
                </a:lnTo>
                <a:lnTo>
                  <a:pt x="4107" y="2995"/>
                </a:lnTo>
                <a:lnTo>
                  <a:pt x="3896" y="2987"/>
                </a:lnTo>
                <a:lnTo>
                  <a:pt x="3696" y="2981"/>
                </a:lnTo>
                <a:lnTo>
                  <a:pt x="3510" y="2975"/>
                </a:lnTo>
                <a:lnTo>
                  <a:pt x="3354" y="2969"/>
                </a:lnTo>
                <a:lnTo>
                  <a:pt x="3232" y="2964"/>
                </a:lnTo>
                <a:lnTo>
                  <a:pt x="3150" y="2960"/>
                </a:lnTo>
                <a:lnTo>
                  <a:pt x="3116" y="2958"/>
                </a:lnTo>
                <a:lnTo>
                  <a:pt x="3070" y="2960"/>
                </a:lnTo>
                <a:lnTo>
                  <a:pt x="3034" y="2983"/>
                </a:lnTo>
                <a:lnTo>
                  <a:pt x="3025" y="3031"/>
                </a:lnTo>
                <a:lnTo>
                  <a:pt x="3063" y="3048"/>
                </a:lnTo>
                <a:lnTo>
                  <a:pt x="3079" y="3058"/>
                </a:lnTo>
                <a:lnTo>
                  <a:pt x="3085" y="3076"/>
                </a:lnTo>
                <a:lnTo>
                  <a:pt x="3081" y="3098"/>
                </a:lnTo>
                <a:lnTo>
                  <a:pt x="3063" y="3106"/>
                </a:lnTo>
                <a:lnTo>
                  <a:pt x="2761" y="3106"/>
                </a:lnTo>
                <a:lnTo>
                  <a:pt x="2459" y="3106"/>
                </a:lnTo>
                <a:lnTo>
                  <a:pt x="2441" y="3098"/>
                </a:lnTo>
                <a:lnTo>
                  <a:pt x="2441" y="3076"/>
                </a:lnTo>
                <a:lnTo>
                  <a:pt x="2445" y="3058"/>
                </a:lnTo>
                <a:lnTo>
                  <a:pt x="2459" y="3048"/>
                </a:lnTo>
                <a:lnTo>
                  <a:pt x="2499" y="3031"/>
                </a:lnTo>
                <a:lnTo>
                  <a:pt x="2490" y="2983"/>
                </a:lnTo>
                <a:lnTo>
                  <a:pt x="2452" y="2960"/>
                </a:lnTo>
                <a:lnTo>
                  <a:pt x="2405" y="2958"/>
                </a:lnTo>
                <a:lnTo>
                  <a:pt x="2374" y="2960"/>
                </a:lnTo>
                <a:lnTo>
                  <a:pt x="2288" y="2964"/>
                </a:lnTo>
                <a:lnTo>
                  <a:pt x="2165" y="2969"/>
                </a:lnTo>
                <a:lnTo>
                  <a:pt x="2012" y="2975"/>
                </a:lnTo>
                <a:lnTo>
                  <a:pt x="1830" y="2981"/>
                </a:lnTo>
                <a:lnTo>
                  <a:pt x="1626" y="2987"/>
                </a:lnTo>
                <a:lnTo>
                  <a:pt x="1412" y="2995"/>
                </a:lnTo>
                <a:lnTo>
                  <a:pt x="1191" y="3001"/>
                </a:lnTo>
                <a:lnTo>
                  <a:pt x="973" y="3007"/>
                </a:lnTo>
                <a:lnTo>
                  <a:pt x="760" y="3015"/>
                </a:lnTo>
                <a:lnTo>
                  <a:pt x="562" y="3019"/>
                </a:lnTo>
                <a:lnTo>
                  <a:pt x="382" y="3023"/>
                </a:lnTo>
                <a:lnTo>
                  <a:pt x="235" y="3029"/>
                </a:lnTo>
                <a:lnTo>
                  <a:pt x="120" y="3031"/>
                </a:lnTo>
                <a:lnTo>
                  <a:pt x="47" y="3033"/>
                </a:lnTo>
                <a:lnTo>
                  <a:pt x="1231" y="306"/>
                </a:lnTo>
                <a:lnTo>
                  <a:pt x="1250" y="306"/>
                </a:lnTo>
                <a:lnTo>
                  <a:pt x="1268" y="296"/>
                </a:lnTo>
                <a:lnTo>
                  <a:pt x="1348" y="172"/>
                </a:lnTo>
                <a:lnTo>
                  <a:pt x="1432" y="154"/>
                </a:lnTo>
                <a:lnTo>
                  <a:pt x="1521" y="132"/>
                </a:lnTo>
                <a:lnTo>
                  <a:pt x="1615" y="110"/>
                </a:lnTo>
                <a:lnTo>
                  <a:pt x="1706" y="89"/>
                </a:lnTo>
                <a:lnTo>
                  <a:pt x="1797" y="71"/>
                </a:lnTo>
                <a:lnTo>
                  <a:pt x="1892" y="61"/>
                </a:lnTo>
                <a:lnTo>
                  <a:pt x="1979" y="49"/>
                </a:lnTo>
                <a:lnTo>
                  <a:pt x="2072" y="45"/>
                </a:lnTo>
                <a:lnTo>
                  <a:pt x="2163" y="45"/>
                </a:lnTo>
                <a:lnTo>
                  <a:pt x="2252" y="53"/>
                </a:lnTo>
                <a:lnTo>
                  <a:pt x="2339" y="71"/>
                </a:lnTo>
                <a:lnTo>
                  <a:pt x="2423" y="99"/>
                </a:lnTo>
                <a:lnTo>
                  <a:pt x="2508" y="136"/>
                </a:lnTo>
                <a:lnTo>
                  <a:pt x="2590" y="183"/>
                </a:lnTo>
                <a:lnTo>
                  <a:pt x="2667" y="241"/>
                </a:lnTo>
                <a:lnTo>
                  <a:pt x="2748" y="316"/>
                </a:lnTo>
                <a:lnTo>
                  <a:pt x="2761" y="328"/>
                </a:lnTo>
                <a:lnTo>
                  <a:pt x="2759" y="326"/>
                </a:lnTo>
                <a:lnTo>
                  <a:pt x="2759" y="274"/>
                </a:lnTo>
                <a:lnTo>
                  <a:pt x="2692" y="211"/>
                </a:lnTo>
                <a:lnTo>
                  <a:pt x="2612" y="146"/>
                </a:lnTo>
                <a:lnTo>
                  <a:pt x="2525" y="97"/>
                </a:lnTo>
                <a:lnTo>
                  <a:pt x="2437" y="59"/>
                </a:lnTo>
                <a:lnTo>
                  <a:pt x="2346" y="32"/>
                </a:lnTo>
                <a:lnTo>
                  <a:pt x="2255" y="14"/>
                </a:lnTo>
                <a:lnTo>
                  <a:pt x="2163" y="4"/>
                </a:lnTo>
                <a:lnTo>
                  <a:pt x="2072" y="2"/>
                </a:lnTo>
                <a:lnTo>
                  <a:pt x="1979" y="6"/>
                </a:lnTo>
                <a:lnTo>
                  <a:pt x="1886" y="18"/>
                </a:lnTo>
                <a:lnTo>
                  <a:pt x="1793" y="32"/>
                </a:lnTo>
                <a:lnTo>
                  <a:pt x="1699" y="49"/>
                </a:lnTo>
                <a:lnTo>
                  <a:pt x="1606" y="71"/>
                </a:lnTo>
                <a:lnTo>
                  <a:pt x="1515" y="91"/>
                </a:lnTo>
                <a:lnTo>
                  <a:pt x="1424" y="116"/>
                </a:lnTo>
                <a:lnTo>
                  <a:pt x="1333" y="136"/>
                </a:lnTo>
                <a:lnTo>
                  <a:pt x="1321" y="146"/>
                </a:lnTo>
                <a:lnTo>
                  <a:pt x="1242" y="266"/>
                </a:lnTo>
                <a:lnTo>
                  <a:pt x="1222" y="264"/>
                </a:lnTo>
                <a:lnTo>
                  <a:pt x="1206" y="276"/>
                </a:lnTo>
                <a:lnTo>
                  <a:pt x="0" y="3046"/>
                </a:lnTo>
                <a:lnTo>
                  <a:pt x="18" y="3076"/>
                </a:lnTo>
                <a:lnTo>
                  <a:pt x="44" y="3074"/>
                </a:lnTo>
                <a:lnTo>
                  <a:pt x="120" y="3070"/>
                </a:lnTo>
                <a:lnTo>
                  <a:pt x="235" y="3068"/>
                </a:lnTo>
                <a:lnTo>
                  <a:pt x="382" y="3064"/>
                </a:lnTo>
                <a:lnTo>
                  <a:pt x="562" y="3058"/>
                </a:lnTo>
                <a:lnTo>
                  <a:pt x="760" y="3056"/>
                </a:lnTo>
                <a:lnTo>
                  <a:pt x="973" y="3048"/>
                </a:lnTo>
                <a:lnTo>
                  <a:pt x="1191" y="3042"/>
                </a:lnTo>
                <a:lnTo>
                  <a:pt x="1412" y="3037"/>
                </a:lnTo>
                <a:lnTo>
                  <a:pt x="1626" y="3031"/>
                </a:lnTo>
                <a:lnTo>
                  <a:pt x="1830" y="3023"/>
                </a:lnTo>
                <a:lnTo>
                  <a:pt x="2012" y="3019"/>
                </a:lnTo>
                <a:lnTo>
                  <a:pt x="2165" y="3011"/>
                </a:lnTo>
                <a:lnTo>
                  <a:pt x="2288" y="3007"/>
                </a:lnTo>
                <a:lnTo>
                  <a:pt x="2374" y="3003"/>
                </a:lnTo>
                <a:lnTo>
                  <a:pt x="2412" y="2999"/>
                </a:lnTo>
                <a:lnTo>
                  <a:pt x="2445" y="3001"/>
                </a:lnTo>
                <a:lnTo>
                  <a:pt x="2459" y="3007"/>
                </a:lnTo>
                <a:lnTo>
                  <a:pt x="2417" y="3031"/>
                </a:lnTo>
                <a:lnTo>
                  <a:pt x="2399" y="3076"/>
                </a:lnTo>
                <a:lnTo>
                  <a:pt x="2414" y="3127"/>
                </a:lnTo>
                <a:lnTo>
                  <a:pt x="2459" y="3147"/>
                </a:lnTo>
                <a:lnTo>
                  <a:pt x="2761" y="3147"/>
                </a:lnTo>
                <a:lnTo>
                  <a:pt x="3063" y="3147"/>
                </a:lnTo>
                <a:lnTo>
                  <a:pt x="3110" y="3127"/>
                </a:lnTo>
                <a:lnTo>
                  <a:pt x="3125" y="3076"/>
                </a:lnTo>
                <a:lnTo>
                  <a:pt x="3107" y="3031"/>
                </a:lnTo>
                <a:lnTo>
                  <a:pt x="3063" y="3007"/>
                </a:lnTo>
                <a:lnTo>
                  <a:pt x="3076" y="3001"/>
                </a:lnTo>
                <a:lnTo>
                  <a:pt x="3110" y="2999"/>
                </a:lnTo>
                <a:lnTo>
                  <a:pt x="3148" y="3003"/>
                </a:lnTo>
                <a:lnTo>
                  <a:pt x="3232" y="3007"/>
                </a:lnTo>
                <a:lnTo>
                  <a:pt x="3354" y="3011"/>
                </a:lnTo>
                <a:lnTo>
                  <a:pt x="3510" y="3019"/>
                </a:lnTo>
                <a:lnTo>
                  <a:pt x="3696" y="3023"/>
                </a:lnTo>
                <a:lnTo>
                  <a:pt x="3896" y="3031"/>
                </a:lnTo>
                <a:lnTo>
                  <a:pt x="4107" y="3037"/>
                </a:lnTo>
                <a:lnTo>
                  <a:pt x="4331" y="3042"/>
                </a:lnTo>
                <a:lnTo>
                  <a:pt x="4551" y="3048"/>
                </a:lnTo>
                <a:lnTo>
                  <a:pt x="4764" y="3056"/>
                </a:lnTo>
                <a:lnTo>
                  <a:pt x="4962" y="3058"/>
                </a:lnTo>
                <a:lnTo>
                  <a:pt x="5138" y="3064"/>
                </a:lnTo>
                <a:lnTo>
                  <a:pt x="5287" y="3068"/>
                </a:lnTo>
                <a:lnTo>
                  <a:pt x="5402" y="3070"/>
                </a:lnTo>
                <a:lnTo>
                  <a:pt x="5477" y="3074"/>
                </a:lnTo>
                <a:lnTo>
                  <a:pt x="5502" y="3076"/>
                </a:lnTo>
                <a:lnTo>
                  <a:pt x="5520" y="3046"/>
                </a:lnTo>
                <a:lnTo>
                  <a:pt x="4322" y="276"/>
                </a:lnTo>
                <a:lnTo>
                  <a:pt x="4302" y="264"/>
                </a:lnTo>
                <a:lnTo>
                  <a:pt x="4283" y="264"/>
                </a:lnTo>
                <a:lnTo>
                  <a:pt x="4200" y="142"/>
                </a:lnTo>
                <a:lnTo>
                  <a:pt x="4192" y="136"/>
                </a:lnTo>
                <a:lnTo>
                  <a:pt x="4102" y="112"/>
                </a:lnTo>
                <a:lnTo>
                  <a:pt x="4009" y="89"/>
                </a:lnTo>
                <a:lnTo>
                  <a:pt x="3918" y="71"/>
                </a:lnTo>
                <a:lnTo>
                  <a:pt x="3823" y="49"/>
                </a:lnTo>
                <a:lnTo>
                  <a:pt x="3729" y="30"/>
                </a:lnTo>
                <a:lnTo>
                  <a:pt x="3636" y="18"/>
                </a:lnTo>
                <a:lnTo>
                  <a:pt x="3540" y="6"/>
                </a:lnTo>
                <a:lnTo>
                  <a:pt x="3449" y="0"/>
                </a:lnTo>
                <a:lnTo>
                  <a:pt x="3358" y="2"/>
                </a:lnTo>
                <a:lnTo>
                  <a:pt x="3263" y="12"/>
                </a:lnTo>
                <a:lnTo>
                  <a:pt x="3176" y="30"/>
                </a:lnTo>
                <a:lnTo>
                  <a:pt x="3083" y="59"/>
                </a:lnTo>
                <a:lnTo>
                  <a:pt x="2994" y="95"/>
                </a:lnTo>
                <a:lnTo>
                  <a:pt x="2910" y="146"/>
                </a:lnTo>
                <a:lnTo>
                  <a:pt x="2825" y="211"/>
                </a:lnTo>
                <a:lnTo>
                  <a:pt x="2759" y="274"/>
                </a:lnTo>
                <a:lnTo>
                  <a:pt x="2761" y="326"/>
                </a:lnTo>
                <a:close/>
              </a:path>
            </a:pathLst>
          </a:custGeom>
          <a:solidFill>
            <a:srgbClr val="ff0000"/>
          </a:solidFill>
          <a:ln w="3240">
            <a:solidFill>
              <a:srgbClr val="80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AutoShape 8"/>
          <p:cNvSpPr/>
          <p:nvPr/>
        </p:nvSpPr>
        <p:spPr>
          <a:xfrm>
            <a:off x="228600" y="762120"/>
            <a:ext cx="8763120" cy="4995720"/>
          </a:xfrm>
          <a:custGeom>
            <a:avLst/>
            <a:gdLst>
              <a:gd name="textAreaLeft" fmla="*/ 0 w 8763120"/>
              <a:gd name="textAreaRight" fmla="*/ 8763480 w 8763120"/>
              <a:gd name="textAreaTop" fmla="*/ 0 h 4995720"/>
              <a:gd name="textAreaBottom" fmla="*/ 4996080 h 4995720"/>
            </a:gdLst>
            <a:ahLst/>
            <a:rect l="textAreaLeft" t="textAreaTop" r="textAreaRight" b="textAreaBottom"/>
            <a:pathLst>
              <a:path w="5520" h="3147">
                <a:moveTo>
                  <a:pt x="2761" y="326"/>
                </a:moveTo>
                <a:lnTo>
                  <a:pt x="2770" y="318"/>
                </a:lnTo>
                <a:lnTo>
                  <a:pt x="2848" y="241"/>
                </a:lnTo>
                <a:lnTo>
                  <a:pt x="2932" y="183"/>
                </a:lnTo>
                <a:lnTo>
                  <a:pt x="3010" y="136"/>
                </a:lnTo>
                <a:lnTo>
                  <a:pt x="3098" y="99"/>
                </a:lnTo>
                <a:lnTo>
                  <a:pt x="3179" y="71"/>
                </a:lnTo>
                <a:lnTo>
                  <a:pt x="3267" y="51"/>
                </a:lnTo>
                <a:lnTo>
                  <a:pt x="3358" y="45"/>
                </a:lnTo>
                <a:lnTo>
                  <a:pt x="3449" y="41"/>
                </a:lnTo>
                <a:lnTo>
                  <a:pt x="3540" y="49"/>
                </a:lnTo>
                <a:lnTo>
                  <a:pt x="3632" y="59"/>
                </a:lnTo>
                <a:lnTo>
                  <a:pt x="3725" y="71"/>
                </a:lnTo>
                <a:lnTo>
                  <a:pt x="3818" y="89"/>
                </a:lnTo>
                <a:lnTo>
                  <a:pt x="3909" y="109"/>
                </a:lnTo>
                <a:lnTo>
                  <a:pt x="4001" y="130"/>
                </a:lnTo>
                <a:lnTo>
                  <a:pt x="4094" y="154"/>
                </a:lnTo>
                <a:lnTo>
                  <a:pt x="4180" y="172"/>
                </a:lnTo>
                <a:lnTo>
                  <a:pt x="4256" y="296"/>
                </a:lnTo>
                <a:lnTo>
                  <a:pt x="4272" y="306"/>
                </a:lnTo>
                <a:lnTo>
                  <a:pt x="4293" y="306"/>
                </a:lnTo>
                <a:lnTo>
                  <a:pt x="5473" y="3033"/>
                </a:lnTo>
                <a:lnTo>
                  <a:pt x="5402" y="3031"/>
                </a:lnTo>
                <a:lnTo>
                  <a:pt x="5287" y="3029"/>
                </a:lnTo>
                <a:lnTo>
                  <a:pt x="5138" y="3023"/>
                </a:lnTo>
                <a:lnTo>
                  <a:pt x="4962" y="3019"/>
                </a:lnTo>
                <a:lnTo>
                  <a:pt x="4764" y="3015"/>
                </a:lnTo>
                <a:lnTo>
                  <a:pt x="4551" y="3007"/>
                </a:lnTo>
                <a:lnTo>
                  <a:pt x="4331" y="3001"/>
                </a:lnTo>
                <a:lnTo>
                  <a:pt x="4107" y="2995"/>
                </a:lnTo>
                <a:lnTo>
                  <a:pt x="3896" y="2987"/>
                </a:lnTo>
                <a:lnTo>
                  <a:pt x="3696" y="2981"/>
                </a:lnTo>
                <a:lnTo>
                  <a:pt x="3510" y="2975"/>
                </a:lnTo>
                <a:lnTo>
                  <a:pt x="3354" y="2969"/>
                </a:lnTo>
                <a:lnTo>
                  <a:pt x="3232" y="2964"/>
                </a:lnTo>
                <a:lnTo>
                  <a:pt x="3150" y="2960"/>
                </a:lnTo>
                <a:lnTo>
                  <a:pt x="3116" y="2958"/>
                </a:lnTo>
                <a:lnTo>
                  <a:pt x="3070" y="2960"/>
                </a:lnTo>
                <a:lnTo>
                  <a:pt x="3034" y="2983"/>
                </a:lnTo>
                <a:lnTo>
                  <a:pt x="3025" y="3031"/>
                </a:lnTo>
                <a:lnTo>
                  <a:pt x="3063" y="3048"/>
                </a:lnTo>
                <a:lnTo>
                  <a:pt x="3079" y="3058"/>
                </a:lnTo>
                <a:lnTo>
                  <a:pt x="3085" y="3076"/>
                </a:lnTo>
                <a:lnTo>
                  <a:pt x="3081" y="3098"/>
                </a:lnTo>
                <a:lnTo>
                  <a:pt x="3063" y="3106"/>
                </a:lnTo>
                <a:lnTo>
                  <a:pt x="2761" y="3106"/>
                </a:lnTo>
                <a:lnTo>
                  <a:pt x="2459" y="3106"/>
                </a:lnTo>
                <a:lnTo>
                  <a:pt x="2441" y="3098"/>
                </a:lnTo>
                <a:lnTo>
                  <a:pt x="2441" y="3076"/>
                </a:lnTo>
                <a:lnTo>
                  <a:pt x="2445" y="3058"/>
                </a:lnTo>
                <a:lnTo>
                  <a:pt x="2459" y="3048"/>
                </a:lnTo>
                <a:lnTo>
                  <a:pt x="2499" y="3031"/>
                </a:lnTo>
                <a:lnTo>
                  <a:pt x="2490" y="2983"/>
                </a:lnTo>
                <a:lnTo>
                  <a:pt x="2452" y="2960"/>
                </a:lnTo>
                <a:lnTo>
                  <a:pt x="2405" y="2958"/>
                </a:lnTo>
                <a:lnTo>
                  <a:pt x="2374" y="2960"/>
                </a:lnTo>
                <a:lnTo>
                  <a:pt x="2288" y="2964"/>
                </a:lnTo>
                <a:lnTo>
                  <a:pt x="2165" y="2969"/>
                </a:lnTo>
                <a:lnTo>
                  <a:pt x="2012" y="2975"/>
                </a:lnTo>
                <a:lnTo>
                  <a:pt x="1830" y="2981"/>
                </a:lnTo>
                <a:lnTo>
                  <a:pt x="1626" y="2987"/>
                </a:lnTo>
                <a:lnTo>
                  <a:pt x="1412" y="2995"/>
                </a:lnTo>
                <a:lnTo>
                  <a:pt x="1191" y="3001"/>
                </a:lnTo>
                <a:lnTo>
                  <a:pt x="973" y="3007"/>
                </a:lnTo>
                <a:lnTo>
                  <a:pt x="760" y="3015"/>
                </a:lnTo>
                <a:lnTo>
                  <a:pt x="562" y="3019"/>
                </a:lnTo>
                <a:lnTo>
                  <a:pt x="382" y="3023"/>
                </a:lnTo>
                <a:lnTo>
                  <a:pt x="235" y="3029"/>
                </a:lnTo>
                <a:lnTo>
                  <a:pt x="120" y="3031"/>
                </a:lnTo>
                <a:lnTo>
                  <a:pt x="47" y="3033"/>
                </a:lnTo>
                <a:lnTo>
                  <a:pt x="1231" y="306"/>
                </a:lnTo>
                <a:lnTo>
                  <a:pt x="1250" y="306"/>
                </a:lnTo>
                <a:lnTo>
                  <a:pt x="1268" y="296"/>
                </a:lnTo>
                <a:lnTo>
                  <a:pt x="1348" y="172"/>
                </a:lnTo>
                <a:lnTo>
                  <a:pt x="1432" y="154"/>
                </a:lnTo>
                <a:lnTo>
                  <a:pt x="1521" y="132"/>
                </a:lnTo>
                <a:lnTo>
                  <a:pt x="1615" y="110"/>
                </a:lnTo>
                <a:lnTo>
                  <a:pt x="1706" y="89"/>
                </a:lnTo>
                <a:lnTo>
                  <a:pt x="1797" y="71"/>
                </a:lnTo>
                <a:lnTo>
                  <a:pt x="1892" y="61"/>
                </a:lnTo>
                <a:lnTo>
                  <a:pt x="1979" y="49"/>
                </a:lnTo>
                <a:lnTo>
                  <a:pt x="2072" y="45"/>
                </a:lnTo>
                <a:lnTo>
                  <a:pt x="2163" y="45"/>
                </a:lnTo>
                <a:lnTo>
                  <a:pt x="2252" y="53"/>
                </a:lnTo>
                <a:lnTo>
                  <a:pt x="2339" y="71"/>
                </a:lnTo>
                <a:lnTo>
                  <a:pt x="2423" y="99"/>
                </a:lnTo>
                <a:lnTo>
                  <a:pt x="2508" y="136"/>
                </a:lnTo>
                <a:lnTo>
                  <a:pt x="2590" y="183"/>
                </a:lnTo>
                <a:lnTo>
                  <a:pt x="2667" y="241"/>
                </a:lnTo>
                <a:lnTo>
                  <a:pt x="2748" y="316"/>
                </a:lnTo>
                <a:lnTo>
                  <a:pt x="2761" y="328"/>
                </a:lnTo>
                <a:lnTo>
                  <a:pt x="2759" y="326"/>
                </a:lnTo>
                <a:lnTo>
                  <a:pt x="2759" y="274"/>
                </a:lnTo>
                <a:lnTo>
                  <a:pt x="2692" y="211"/>
                </a:lnTo>
                <a:lnTo>
                  <a:pt x="2612" y="146"/>
                </a:lnTo>
                <a:lnTo>
                  <a:pt x="2525" y="97"/>
                </a:lnTo>
                <a:lnTo>
                  <a:pt x="2437" y="59"/>
                </a:lnTo>
                <a:lnTo>
                  <a:pt x="2346" y="32"/>
                </a:lnTo>
                <a:lnTo>
                  <a:pt x="2255" y="14"/>
                </a:lnTo>
                <a:lnTo>
                  <a:pt x="2163" y="4"/>
                </a:lnTo>
                <a:lnTo>
                  <a:pt x="2072" y="2"/>
                </a:lnTo>
                <a:lnTo>
                  <a:pt x="1979" y="6"/>
                </a:lnTo>
                <a:lnTo>
                  <a:pt x="1886" y="18"/>
                </a:lnTo>
                <a:lnTo>
                  <a:pt x="1793" y="32"/>
                </a:lnTo>
                <a:lnTo>
                  <a:pt x="1699" y="49"/>
                </a:lnTo>
                <a:lnTo>
                  <a:pt x="1606" y="71"/>
                </a:lnTo>
                <a:lnTo>
                  <a:pt x="1515" y="91"/>
                </a:lnTo>
                <a:lnTo>
                  <a:pt x="1424" y="116"/>
                </a:lnTo>
                <a:lnTo>
                  <a:pt x="1333" y="136"/>
                </a:lnTo>
                <a:lnTo>
                  <a:pt x="1321" y="146"/>
                </a:lnTo>
                <a:lnTo>
                  <a:pt x="1242" y="266"/>
                </a:lnTo>
                <a:lnTo>
                  <a:pt x="1222" y="264"/>
                </a:lnTo>
                <a:lnTo>
                  <a:pt x="1206" y="276"/>
                </a:lnTo>
                <a:lnTo>
                  <a:pt x="0" y="3046"/>
                </a:lnTo>
                <a:lnTo>
                  <a:pt x="18" y="3076"/>
                </a:lnTo>
                <a:lnTo>
                  <a:pt x="44" y="3074"/>
                </a:lnTo>
                <a:lnTo>
                  <a:pt x="120" y="3070"/>
                </a:lnTo>
                <a:lnTo>
                  <a:pt x="235" y="3068"/>
                </a:lnTo>
                <a:lnTo>
                  <a:pt x="382" y="3064"/>
                </a:lnTo>
                <a:lnTo>
                  <a:pt x="562" y="3058"/>
                </a:lnTo>
                <a:lnTo>
                  <a:pt x="760" y="3056"/>
                </a:lnTo>
                <a:lnTo>
                  <a:pt x="973" y="3048"/>
                </a:lnTo>
                <a:lnTo>
                  <a:pt x="1191" y="3042"/>
                </a:lnTo>
                <a:lnTo>
                  <a:pt x="1412" y="3037"/>
                </a:lnTo>
                <a:lnTo>
                  <a:pt x="1626" y="3031"/>
                </a:lnTo>
                <a:lnTo>
                  <a:pt x="1830" y="3023"/>
                </a:lnTo>
                <a:lnTo>
                  <a:pt x="2012" y="3019"/>
                </a:lnTo>
                <a:lnTo>
                  <a:pt x="2165" y="3011"/>
                </a:lnTo>
                <a:lnTo>
                  <a:pt x="2288" y="3007"/>
                </a:lnTo>
                <a:lnTo>
                  <a:pt x="2374" y="3003"/>
                </a:lnTo>
                <a:lnTo>
                  <a:pt x="2412" y="2999"/>
                </a:lnTo>
                <a:lnTo>
                  <a:pt x="2445" y="3001"/>
                </a:lnTo>
                <a:lnTo>
                  <a:pt x="2459" y="3007"/>
                </a:lnTo>
                <a:lnTo>
                  <a:pt x="2417" y="3031"/>
                </a:lnTo>
                <a:lnTo>
                  <a:pt x="2399" y="3076"/>
                </a:lnTo>
                <a:lnTo>
                  <a:pt x="2414" y="3127"/>
                </a:lnTo>
                <a:lnTo>
                  <a:pt x="2459" y="3147"/>
                </a:lnTo>
                <a:lnTo>
                  <a:pt x="2761" y="3147"/>
                </a:lnTo>
                <a:lnTo>
                  <a:pt x="3063" y="3147"/>
                </a:lnTo>
                <a:lnTo>
                  <a:pt x="3110" y="3127"/>
                </a:lnTo>
                <a:lnTo>
                  <a:pt x="3125" y="3076"/>
                </a:lnTo>
                <a:lnTo>
                  <a:pt x="3107" y="3031"/>
                </a:lnTo>
                <a:lnTo>
                  <a:pt x="3063" y="3007"/>
                </a:lnTo>
                <a:lnTo>
                  <a:pt x="3076" y="3001"/>
                </a:lnTo>
                <a:lnTo>
                  <a:pt x="3110" y="2999"/>
                </a:lnTo>
                <a:lnTo>
                  <a:pt x="3148" y="3003"/>
                </a:lnTo>
                <a:lnTo>
                  <a:pt x="3232" y="3007"/>
                </a:lnTo>
                <a:lnTo>
                  <a:pt x="3354" y="3011"/>
                </a:lnTo>
                <a:lnTo>
                  <a:pt x="3510" y="3019"/>
                </a:lnTo>
                <a:lnTo>
                  <a:pt x="3696" y="3023"/>
                </a:lnTo>
                <a:lnTo>
                  <a:pt x="3896" y="3031"/>
                </a:lnTo>
                <a:lnTo>
                  <a:pt x="4107" y="3037"/>
                </a:lnTo>
                <a:lnTo>
                  <a:pt x="4331" y="3042"/>
                </a:lnTo>
                <a:lnTo>
                  <a:pt x="4551" y="3048"/>
                </a:lnTo>
                <a:lnTo>
                  <a:pt x="4764" y="3056"/>
                </a:lnTo>
                <a:lnTo>
                  <a:pt x="4962" y="3058"/>
                </a:lnTo>
                <a:lnTo>
                  <a:pt x="5138" y="3064"/>
                </a:lnTo>
                <a:lnTo>
                  <a:pt x="5287" y="3068"/>
                </a:lnTo>
                <a:lnTo>
                  <a:pt x="5402" y="3070"/>
                </a:lnTo>
                <a:lnTo>
                  <a:pt x="5477" y="3074"/>
                </a:lnTo>
                <a:lnTo>
                  <a:pt x="5502" y="3076"/>
                </a:lnTo>
                <a:lnTo>
                  <a:pt x="5520" y="3046"/>
                </a:lnTo>
                <a:lnTo>
                  <a:pt x="4322" y="276"/>
                </a:lnTo>
                <a:lnTo>
                  <a:pt x="4302" y="264"/>
                </a:lnTo>
                <a:lnTo>
                  <a:pt x="4283" y="264"/>
                </a:lnTo>
                <a:lnTo>
                  <a:pt x="4200" y="142"/>
                </a:lnTo>
                <a:lnTo>
                  <a:pt x="4192" y="136"/>
                </a:lnTo>
                <a:lnTo>
                  <a:pt x="4102" y="112"/>
                </a:lnTo>
                <a:lnTo>
                  <a:pt x="4009" y="89"/>
                </a:lnTo>
                <a:lnTo>
                  <a:pt x="3918" y="71"/>
                </a:lnTo>
                <a:lnTo>
                  <a:pt x="3823" y="49"/>
                </a:lnTo>
                <a:lnTo>
                  <a:pt x="3729" y="30"/>
                </a:lnTo>
                <a:lnTo>
                  <a:pt x="3636" y="18"/>
                </a:lnTo>
                <a:lnTo>
                  <a:pt x="3540" y="6"/>
                </a:lnTo>
                <a:lnTo>
                  <a:pt x="3449" y="0"/>
                </a:lnTo>
                <a:lnTo>
                  <a:pt x="3358" y="2"/>
                </a:lnTo>
                <a:lnTo>
                  <a:pt x="3263" y="12"/>
                </a:lnTo>
                <a:lnTo>
                  <a:pt x="3176" y="30"/>
                </a:lnTo>
                <a:lnTo>
                  <a:pt x="3083" y="59"/>
                </a:lnTo>
                <a:lnTo>
                  <a:pt x="2994" y="95"/>
                </a:lnTo>
                <a:lnTo>
                  <a:pt x="2910" y="146"/>
                </a:lnTo>
                <a:lnTo>
                  <a:pt x="2825" y="211"/>
                </a:lnTo>
                <a:lnTo>
                  <a:pt x="2759" y="274"/>
                </a:lnTo>
                <a:lnTo>
                  <a:pt x="2761" y="326"/>
                </a:lnTo>
                <a:close/>
              </a:path>
            </a:pathLst>
          </a:custGeom>
          <a:solidFill>
            <a:srgbClr val="ff0000"/>
          </a:solidFill>
          <a:ln w="3240">
            <a:solidFill>
              <a:srgbClr val="80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Picture 9" descr=""/>
          <p:cNvPicPr/>
          <p:nvPr/>
        </p:nvPicPr>
        <p:blipFill>
          <a:blip r:embed="rId1"/>
          <a:stretch/>
        </p:blipFill>
        <p:spPr>
          <a:xfrm>
            <a:off x="6659640" y="4365720"/>
            <a:ext cx="1747800" cy="21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1" descr=""/>
          <p:cNvPicPr/>
          <p:nvPr/>
        </p:nvPicPr>
        <p:blipFill>
          <a:blip r:embed="rId1"/>
          <a:stretch/>
        </p:blipFill>
        <p:spPr>
          <a:xfrm>
            <a:off x="-776160" y="-447840"/>
            <a:ext cx="10698120" cy="775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1"/>
          <p:cNvSpPr/>
          <p:nvPr/>
        </p:nvSpPr>
        <p:spPr>
          <a:xfrm>
            <a:off x="647640" y="1152360"/>
            <a:ext cx="612000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1.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ea typeface="DejaVu Sans Condensed"/>
                <a:hlinkClick r:id="rId1"/>
              </a:rPr>
              <a:t>http://www.baby.ru/community/view/30500/forum/post/36932489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nattik.ru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mars36.ru/archives/4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3"/>
          <p:cNvSpPr/>
          <p:nvPr/>
        </p:nvSpPr>
        <p:spPr>
          <a:xfrm>
            <a:off x="1374840" y="1143000"/>
            <a:ext cx="51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«Дисциплина на улице – залог безопасности!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4" descr=""/>
          <p:cNvPicPr/>
          <p:nvPr/>
        </p:nvPicPr>
        <p:blipFill>
          <a:blip r:embed="rId3"/>
          <a:stretch/>
        </p:blipFill>
        <p:spPr>
          <a:xfrm>
            <a:off x="6357960" y="3857760"/>
            <a:ext cx="1608120" cy="2268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"/>
          <p:cNvPicPr/>
          <p:nvPr/>
        </p:nvPicPr>
        <p:blipFill>
          <a:blip r:embed="rId4"/>
          <a:stretch/>
        </p:blipFill>
        <p:spPr>
          <a:xfrm>
            <a:off x="1571760" y="4214880"/>
            <a:ext cx="1152360" cy="187164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6"/>
          <p:cNvSpPr/>
          <p:nvPr/>
        </p:nvSpPr>
        <p:spPr>
          <a:xfrm>
            <a:off x="1357200" y="2000160"/>
            <a:ext cx="6715080" cy="178596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ОСТОРОЖНО, УЛИЦА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Picture 7" descr=""/>
          <p:cNvPicPr/>
          <p:nvPr/>
        </p:nvPicPr>
        <p:blipFill>
          <a:blip r:embed="rId5"/>
          <a:stretch/>
        </p:blipFill>
        <p:spPr>
          <a:xfrm>
            <a:off x="3643200" y="4071960"/>
            <a:ext cx="2000520" cy="2000160"/>
          </a:xfrm>
          <a:prstGeom prst="rect">
            <a:avLst/>
          </a:prstGeom>
          <a:ln w="9360">
            <a:solidFill>
              <a:srgbClr val="fe8637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1.0000054168701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71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71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1"/>
          <p:cNvSpPr/>
          <p:nvPr/>
        </p:nvSpPr>
        <p:spPr>
          <a:xfrm>
            <a:off x="2143080" y="-106200"/>
            <a:ext cx="6172200" cy="1555560"/>
          </a:xfrm>
          <a:prstGeom prst="rect">
            <a:avLst/>
          </a:prstGeom>
          <a:solidFill>
            <a:srgbClr val="e75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39d"/>
                </a:solidFill>
                <a:latin typeface="Century Schoolbook"/>
              </a:rPr>
              <a:t>ДОРОЖНЫЕ ЗНАК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3714840" y="1928880"/>
            <a:ext cx="3071880" cy="40957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3714840" y="20001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"/>
          <p:cNvPicPr/>
          <p:nvPr/>
        </p:nvPicPr>
        <p:blipFill>
          <a:blip r:embed="rId3"/>
          <a:stretch/>
        </p:blipFill>
        <p:spPr>
          <a:xfrm>
            <a:off x="3786120" y="2000160"/>
            <a:ext cx="2927520" cy="3903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"/>
          <p:cNvPicPr/>
          <p:nvPr/>
        </p:nvPicPr>
        <p:blipFill>
          <a:blip r:embed="rId4"/>
          <a:stretch/>
        </p:blipFill>
        <p:spPr>
          <a:xfrm>
            <a:off x="3714840" y="20001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"/>
          <p:cNvPicPr/>
          <p:nvPr/>
        </p:nvPicPr>
        <p:blipFill>
          <a:blip r:embed="rId5"/>
          <a:stretch/>
        </p:blipFill>
        <p:spPr>
          <a:xfrm>
            <a:off x="3786120" y="2000160"/>
            <a:ext cx="2928960" cy="390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7" descr=""/>
          <p:cNvPicPr/>
          <p:nvPr/>
        </p:nvPicPr>
        <p:blipFill>
          <a:blip r:embed="rId6"/>
          <a:stretch/>
        </p:blipFill>
        <p:spPr>
          <a:xfrm>
            <a:off x="3714840" y="1928880"/>
            <a:ext cx="3000240" cy="40003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8" descr=""/>
          <p:cNvPicPr/>
          <p:nvPr/>
        </p:nvPicPr>
        <p:blipFill>
          <a:blip r:embed="rId7"/>
          <a:stretch/>
        </p:blipFill>
        <p:spPr>
          <a:xfrm>
            <a:off x="3714840" y="2000160"/>
            <a:ext cx="3071880" cy="40957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"/>
          <p:cNvPicPr/>
          <p:nvPr/>
        </p:nvPicPr>
        <p:blipFill>
          <a:blip r:embed="rId8"/>
          <a:stretch/>
        </p:blipFill>
        <p:spPr>
          <a:xfrm>
            <a:off x="3714840" y="2000160"/>
            <a:ext cx="3071880" cy="40957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"/>
          <p:cNvPicPr/>
          <p:nvPr/>
        </p:nvPicPr>
        <p:blipFill>
          <a:blip r:embed="rId9"/>
          <a:stretch/>
        </p:blipFill>
        <p:spPr>
          <a:xfrm>
            <a:off x="3786120" y="2000160"/>
            <a:ext cx="3000600" cy="40006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1" descr=""/>
          <p:cNvPicPr/>
          <p:nvPr/>
        </p:nvPicPr>
        <p:blipFill>
          <a:blip r:embed="rId10"/>
          <a:stretch/>
        </p:blipFill>
        <p:spPr>
          <a:xfrm>
            <a:off x="3714840" y="20001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2" descr=""/>
          <p:cNvPicPr/>
          <p:nvPr/>
        </p:nvPicPr>
        <p:blipFill>
          <a:blip r:embed="rId11"/>
          <a:stretch/>
        </p:blipFill>
        <p:spPr>
          <a:xfrm>
            <a:off x="3714840" y="2071800"/>
            <a:ext cx="3000240" cy="400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1"/>
          <p:cNvSpPr/>
          <p:nvPr/>
        </p:nvSpPr>
        <p:spPr>
          <a:xfrm>
            <a:off x="2357280" y="500040"/>
            <a:ext cx="6172200" cy="61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Предупреждающ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Запрещающ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Предписывающ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Информационно-указатель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Приоритет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Сервис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Дополнительной информ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2357280" y="203040"/>
            <a:ext cx="5214960" cy="665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1"/>
          <p:cNvSpPr/>
          <p:nvPr/>
        </p:nvSpPr>
        <p:spPr>
          <a:xfrm>
            <a:off x="457200" y="301680"/>
            <a:ext cx="8229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ЭТО СВЕТОФОР – ОН РЕГУЛИРУЕТ ДВИЖЕНИЕ ТРАНСПОРТА И ПЕШЕХОДОВ НА ДОРОГ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2"/>
          <p:cNvGrpSpPr/>
          <p:nvPr/>
        </p:nvGrpSpPr>
        <p:grpSpPr>
          <a:xfrm>
            <a:off x="3962520" y="1371600"/>
            <a:ext cx="1365120" cy="5175360"/>
            <a:chOff x="3962520" y="1371600"/>
            <a:chExt cx="1365120" cy="5175360"/>
          </a:xfrm>
        </p:grpSpPr>
        <p:grpSp>
          <p:nvGrpSpPr>
            <p:cNvPr id="388" name="Group 3"/>
            <p:cNvGrpSpPr/>
            <p:nvPr/>
          </p:nvGrpSpPr>
          <p:grpSpPr>
            <a:xfrm>
              <a:off x="3962520" y="1371600"/>
              <a:ext cx="1365120" cy="3340440"/>
              <a:chOff x="3962520" y="1371600"/>
              <a:chExt cx="1365120" cy="3340440"/>
            </a:xfrm>
          </p:grpSpPr>
          <p:sp>
            <p:nvSpPr>
              <p:cNvPr id="389" name="Rectangle 4"/>
              <p:cNvSpPr/>
              <p:nvPr/>
            </p:nvSpPr>
            <p:spPr>
              <a:xfrm>
                <a:off x="3962520" y="1371600"/>
                <a:ext cx="1365120" cy="33404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Oval 5"/>
              <p:cNvSpPr/>
              <p:nvPr/>
            </p:nvSpPr>
            <p:spPr>
              <a:xfrm>
                <a:off x="4260960" y="1603080"/>
                <a:ext cx="768240" cy="6980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Oval 6"/>
              <p:cNvSpPr/>
              <p:nvPr/>
            </p:nvSpPr>
            <p:spPr>
              <a:xfrm>
                <a:off x="4260960" y="2544120"/>
                <a:ext cx="768240" cy="698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Oval 7"/>
              <p:cNvSpPr/>
              <p:nvPr/>
            </p:nvSpPr>
            <p:spPr>
              <a:xfrm>
                <a:off x="4260960" y="3542760"/>
                <a:ext cx="768240" cy="69804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Line 8"/>
            <p:cNvSpPr/>
            <p:nvPr/>
          </p:nvSpPr>
          <p:spPr>
            <a:xfrm flipH="1">
              <a:off x="4108320" y="6546960"/>
              <a:ext cx="99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Rectangle 9"/>
            <p:cNvSpPr/>
            <p:nvPr/>
          </p:nvSpPr>
          <p:spPr>
            <a:xfrm>
              <a:off x="4419720" y="4718520"/>
              <a:ext cx="450720" cy="1820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95" name="Picture 10" descr=""/>
          <p:cNvPicPr/>
          <p:nvPr/>
        </p:nvPicPr>
        <p:blipFill>
          <a:blip r:embed="rId1"/>
          <a:stretch/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1"/>
          <p:cNvSpPr/>
          <p:nvPr/>
        </p:nvSpPr>
        <p:spPr>
          <a:xfrm>
            <a:off x="304920" y="152280"/>
            <a:ext cx="85341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КОГДА ГОРИТ КРАСНЫЙ СИГНАЛ СВЕТОФОРА, НАДО ОСТАНОВИ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2"/>
          <p:cNvSpPr/>
          <p:nvPr/>
        </p:nvSpPr>
        <p:spPr>
          <a:xfrm>
            <a:off x="3886200" y="1752480"/>
            <a:ext cx="1066680" cy="2859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3"/>
          <p:cNvSpPr/>
          <p:nvPr/>
        </p:nvSpPr>
        <p:spPr>
          <a:xfrm>
            <a:off x="4118040" y="1951200"/>
            <a:ext cx="603360" cy="601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4"/>
          <p:cNvSpPr/>
          <p:nvPr/>
        </p:nvSpPr>
        <p:spPr>
          <a:xfrm>
            <a:off x="4114800" y="3657600"/>
            <a:ext cx="603360" cy="6015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Line 5"/>
          <p:cNvSpPr/>
          <p:nvPr/>
        </p:nvSpPr>
        <p:spPr>
          <a:xfrm flipH="1">
            <a:off x="3998880" y="6172200"/>
            <a:ext cx="7826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4241880" y="4611600"/>
            <a:ext cx="355680" cy="15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7"/>
          <p:cNvSpPr/>
          <p:nvPr/>
        </p:nvSpPr>
        <p:spPr>
          <a:xfrm>
            <a:off x="4114800" y="2819520"/>
            <a:ext cx="603360" cy="6015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8" descr=""/>
          <p:cNvPicPr/>
          <p:nvPr/>
        </p:nvPicPr>
        <p:blipFill>
          <a:blip r:embed="rId1"/>
          <a:stretch/>
        </p:blipFill>
        <p:spPr>
          <a:xfrm>
            <a:off x="8910720" y="-7621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ЖЕЛТЫЙ СИГНАЛ СВЕТОФОРА ГОВОРИТ НАМ О ТОМ, ЧТО НУЖНО ПРИГОТОВИ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2"/>
          <p:cNvSpPr/>
          <p:nvPr/>
        </p:nvSpPr>
        <p:spPr>
          <a:xfrm>
            <a:off x="3733920" y="1676520"/>
            <a:ext cx="1143000" cy="290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3"/>
          <p:cNvSpPr/>
          <p:nvPr/>
        </p:nvSpPr>
        <p:spPr>
          <a:xfrm>
            <a:off x="3983040" y="1878120"/>
            <a:ext cx="644400" cy="6109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Oval 4"/>
          <p:cNvSpPr/>
          <p:nvPr/>
        </p:nvSpPr>
        <p:spPr>
          <a:xfrm>
            <a:off x="3983040" y="2693880"/>
            <a:ext cx="644400" cy="61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Oval 5"/>
          <p:cNvSpPr/>
          <p:nvPr/>
        </p:nvSpPr>
        <p:spPr>
          <a:xfrm>
            <a:off x="3983040" y="3560760"/>
            <a:ext cx="644400" cy="612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6"/>
          <p:cNvSpPr/>
          <p:nvPr/>
        </p:nvSpPr>
        <p:spPr>
          <a:xfrm flipH="1">
            <a:off x="3854520" y="6172200"/>
            <a:ext cx="8380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4114800" y="4584600"/>
            <a:ext cx="380880" cy="1587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Picture 8" descr=""/>
          <p:cNvPicPr/>
          <p:nvPr/>
        </p:nvPicPr>
        <p:blipFill>
          <a:blip r:embed="rId1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"/>
          <p:cNvSpPr/>
          <p:nvPr/>
        </p:nvSpPr>
        <p:spPr>
          <a:xfrm>
            <a:off x="457200" y="2746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НА ЗЕЛЕНЫЙ СИГНАЛ СВЕТОФОРА МОЖНО ПЕРЕХОДИТЬ ДОРОГ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3657600" y="1447920"/>
            <a:ext cx="1143000" cy="290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"/>
          <p:cNvSpPr/>
          <p:nvPr/>
        </p:nvSpPr>
        <p:spPr>
          <a:xfrm>
            <a:off x="3886200" y="1676520"/>
            <a:ext cx="644400" cy="6109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Oval 4"/>
          <p:cNvSpPr/>
          <p:nvPr/>
        </p:nvSpPr>
        <p:spPr>
          <a:xfrm>
            <a:off x="3886200" y="2514600"/>
            <a:ext cx="644400" cy="612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5"/>
          <p:cNvSpPr/>
          <p:nvPr/>
        </p:nvSpPr>
        <p:spPr>
          <a:xfrm>
            <a:off x="3886200" y="3429000"/>
            <a:ext cx="644400" cy="612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Line 6"/>
          <p:cNvSpPr/>
          <p:nvPr/>
        </p:nvSpPr>
        <p:spPr>
          <a:xfrm flipH="1">
            <a:off x="3727440" y="5943600"/>
            <a:ext cx="8380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4038480" y="4343400"/>
            <a:ext cx="381240" cy="1587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Picture 8" descr=""/>
          <p:cNvPicPr/>
          <p:nvPr/>
        </p:nvPicPr>
        <p:blipFill>
          <a:blip r:embed="rId1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"/>
          <p:cNvSpPr/>
          <p:nvPr/>
        </p:nvSpPr>
        <p:spPr>
          <a:xfrm>
            <a:off x="380880" y="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Schoolbook"/>
              </a:rPr>
              <a:t>ПЕРЕХОДИ ДОРОГУ ТОЛЬКО НА ЗЕЛЕНЫЙ СИГНАЛ СВЕТОФО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609480" y="2895480"/>
            <a:ext cx="8763120" cy="39625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126684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287352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4552920" y="2895480"/>
            <a:ext cx="730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623268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7912080" y="2895480"/>
            <a:ext cx="730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8"/>
          <p:cNvSpPr/>
          <p:nvPr/>
        </p:nvSpPr>
        <p:spPr>
          <a:xfrm flipH="1">
            <a:off x="4260600" y="0"/>
            <a:ext cx="88920" cy="6858000"/>
          </a:xfrm>
          <a:prstGeom prst="line">
            <a:avLst/>
          </a:prstGeom>
          <a:ln w="572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9"/>
          <p:cNvSpPr/>
          <p:nvPr/>
        </p:nvSpPr>
        <p:spPr>
          <a:xfrm>
            <a:off x="0" y="0"/>
            <a:ext cx="457200" cy="7010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10"/>
          <p:cNvSpPr/>
          <p:nvPr/>
        </p:nvSpPr>
        <p:spPr>
          <a:xfrm>
            <a:off x="8839080" y="0"/>
            <a:ext cx="53352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Group 11"/>
          <p:cNvGrpSpPr/>
          <p:nvPr/>
        </p:nvGrpSpPr>
        <p:grpSpPr>
          <a:xfrm>
            <a:off x="7924680" y="152280"/>
            <a:ext cx="679680" cy="2660760"/>
            <a:chOff x="7924680" y="152280"/>
            <a:chExt cx="679680" cy="2660760"/>
          </a:xfrm>
        </p:grpSpPr>
        <p:grpSp>
          <p:nvGrpSpPr>
            <p:cNvPr id="431" name="Group 12"/>
            <p:cNvGrpSpPr/>
            <p:nvPr/>
          </p:nvGrpSpPr>
          <p:grpSpPr>
            <a:xfrm>
              <a:off x="7924680" y="152280"/>
              <a:ext cx="679680" cy="2660760"/>
              <a:chOff x="7924680" y="152280"/>
              <a:chExt cx="679680" cy="2660760"/>
            </a:xfrm>
          </p:grpSpPr>
          <p:grpSp>
            <p:nvGrpSpPr>
              <p:cNvPr id="432" name="Group 13"/>
              <p:cNvGrpSpPr/>
              <p:nvPr/>
            </p:nvGrpSpPr>
            <p:grpSpPr>
              <a:xfrm>
                <a:off x="7924680" y="152280"/>
                <a:ext cx="679680" cy="1713600"/>
                <a:chOff x="7924680" y="152280"/>
                <a:chExt cx="679680" cy="1713600"/>
              </a:xfrm>
            </p:grpSpPr>
            <p:sp>
              <p:nvSpPr>
                <p:cNvPr id="433" name="Rectangle 14"/>
                <p:cNvSpPr/>
                <p:nvPr/>
              </p:nvSpPr>
              <p:spPr>
                <a:xfrm>
                  <a:off x="7924680" y="152280"/>
                  <a:ext cx="679680" cy="1713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Oval 15"/>
                <p:cNvSpPr/>
                <p:nvPr/>
              </p:nvSpPr>
              <p:spPr>
                <a:xfrm>
                  <a:off x="8074080" y="271080"/>
                  <a:ext cx="380880" cy="35676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Oval 16"/>
                <p:cNvSpPr/>
                <p:nvPr/>
              </p:nvSpPr>
              <p:spPr>
                <a:xfrm>
                  <a:off x="8074080" y="754920"/>
                  <a:ext cx="380880" cy="356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Oval 17"/>
                <p:cNvSpPr/>
                <p:nvPr/>
              </p:nvSpPr>
              <p:spPr>
                <a:xfrm>
                  <a:off x="8074080" y="1267560"/>
                  <a:ext cx="380880" cy="357120"/>
                </a:xfrm>
                <a:prstGeom prst="ellipse">
                  <a:avLst/>
                </a:prstGeom>
                <a:solidFill>
                  <a:srgbClr val="33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Line 18"/>
              <p:cNvSpPr/>
              <p:nvPr/>
            </p:nvSpPr>
            <p:spPr>
              <a:xfrm flipH="1">
                <a:off x="7994520" y="2813040"/>
                <a:ext cx="5018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Rectangle 19"/>
              <p:cNvSpPr/>
              <p:nvPr/>
            </p:nvSpPr>
            <p:spPr>
              <a:xfrm>
                <a:off x="8153280" y="1872000"/>
                <a:ext cx="222480" cy="931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9" name="Oval 20"/>
            <p:cNvSpPr/>
            <p:nvPr/>
          </p:nvSpPr>
          <p:spPr>
            <a:xfrm>
              <a:off x="8061480" y="271440"/>
              <a:ext cx="404640" cy="34920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21"/>
            <p:cNvSpPr/>
            <p:nvPr/>
          </p:nvSpPr>
          <p:spPr>
            <a:xfrm>
              <a:off x="8061480" y="744480"/>
              <a:ext cx="404640" cy="34920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1" name="Rectangle 22"/>
          <p:cNvSpPr/>
          <p:nvPr/>
        </p:nvSpPr>
        <p:spPr>
          <a:xfrm>
            <a:off x="457200" y="0"/>
            <a:ext cx="1522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3"/>
          <p:cNvSpPr/>
          <p:nvPr/>
        </p:nvSpPr>
        <p:spPr>
          <a:xfrm>
            <a:off x="8839080" y="0"/>
            <a:ext cx="1526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24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76600" cy="1790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5" descr=""/>
          <p:cNvPicPr/>
          <p:nvPr/>
        </p:nvPicPr>
        <p:blipFill>
          <a:blip r:embed="rId2"/>
          <a:stretch/>
        </p:blipFill>
        <p:spPr>
          <a:xfrm>
            <a:off x="8686800" y="-233280"/>
            <a:ext cx="233280" cy="233280"/>
          </a:xfrm>
          <a:prstGeom prst="rect">
            <a:avLst/>
          </a:prstGeom>
          <a:ln w="0">
            <a:noFill/>
          </a:ln>
        </p:spPr>
      </p:pic>
      <p:grpSp>
        <p:nvGrpSpPr>
          <p:cNvPr id="445" name="Group 26"/>
          <p:cNvGrpSpPr/>
          <p:nvPr/>
        </p:nvGrpSpPr>
        <p:grpSpPr>
          <a:xfrm>
            <a:off x="7797600" y="2689920"/>
            <a:ext cx="1318320" cy="3170160"/>
            <a:chOff x="7797600" y="2689920"/>
            <a:chExt cx="1318320" cy="3170160"/>
          </a:xfrm>
        </p:grpSpPr>
        <p:sp>
          <p:nvSpPr>
            <p:cNvPr id="446" name="AutoShape 27"/>
            <p:cNvSpPr/>
            <p:nvPr/>
          </p:nvSpPr>
          <p:spPr>
            <a:xfrm rot="480000">
              <a:off x="7860960" y="2768760"/>
              <a:ext cx="1197000" cy="91296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7" name="Group 28"/>
            <p:cNvGrpSpPr/>
            <p:nvPr/>
          </p:nvGrpSpPr>
          <p:grpSpPr>
            <a:xfrm>
              <a:off x="7797600" y="3103560"/>
              <a:ext cx="1152000" cy="2756520"/>
              <a:chOff x="7797600" y="3103560"/>
              <a:chExt cx="1152000" cy="2756520"/>
            </a:xfrm>
          </p:grpSpPr>
          <p:grpSp>
            <p:nvGrpSpPr>
              <p:cNvPr id="448" name="Group 29"/>
              <p:cNvGrpSpPr/>
              <p:nvPr/>
            </p:nvGrpSpPr>
            <p:grpSpPr>
              <a:xfrm>
                <a:off x="7797600" y="3103560"/>
                <a:ext cx="1096200" cy="2756520"/>
                <a:chOff x="7797600" y="3103560"/>
                <a:chExt cx="1096200" cy="2756520"/>
              </a:xfrm>
            </p:grpSpPr>
            <p:sp>
              <p:nvSpPr>
                <p:cNvPr id="449" name="Oval 30"/>
                <p:cNvSpPr/>
                <p:nvPr/>
              </p:nvSpPr>
              <p:spPr>
                <a:xfrm>
                  <a:off x="8115480" y="3103560"/>
                  <a:ext cx="522360" cy="43272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Rectangle 31"/>
                <p:cNvSpPr/>
                <p:nvPr/>
              </p:nvSpPr>
              <p:spPr>
                <a:xfrm>
                  <a:off x="8247960" y="3604680"/>
                  <a:ext cx="256680" cy="62028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Rectangle 32"/>
                <p:cNvSpPr/>
                <p:nvPr/>
              </p:nvSpPr>
              <p:spPr>
                <a:xfrm rot="19920000">
                  <a:off x="7791120" y="3749760"/>
                  <a:ext cx="587880" cy="1202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Rectangle 33"/>
                <p:cNvSpPr/>
                <p:nvPr/>
              </p:nvSpPr>
              <p:spPr>
                <a:xfrm rot="2040000">
                  <a:off x="8384040" y="3724920"/>
                  <a:ext cx="520560" cy="12024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AutoShape 34"/>
                <p:cNvSpPr/>
                <p:nvPr/>
              </p:nvSpPr>
              <p:spPr>
                <a:xfrm>
                  <a:off x="8051760" y="4170960"/>
                  <a:ext cx="653040" cy="1689120"/>
                </a:xfrm>
                <a:custGeom>
                  <a:avLst/>
                  <a:gdLst>
                    <a:gd name="textAreaLeft" fmla="*/ 0 w 653040"/>
                    <a:gd name="textAreaRight" fmla="*/ 653400 w 653040"/>
                    <a:gd name="textAreaTop" fmla="*/ 0 h 1689120"/>
                    <a:gd name="textAreaBottom" fmla="*/ 605160 h 1689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4365" y="10817"/>
                      </a:moveTo>
                      <a:cubicBezTo>
                        <a:pt x="4365" y="10811"/>
                        <a:pt x="4365" y="10805"/>
                        <a:pt x="4365" y="10800"/>
                      </a:cubicBezTo>
                      <a:cubicBezTo>
                        <a:pt x="4365" y="7246"/>
                        <a:pt x="7246" y="4365"/>
                        <a:pt x="10800" y="4365"/>
                      </a:cubicBezTo>
                      <a:cubicBezTo>
                        <a:pt x="14353" y="4365"/>
                        <a:pt x="17235" y="7246"/>
                        <a:pt x="17235" y="10800"/>
                      </a:cubicBezTo>
                      <a:cubicBezTo>
                        <a:pt x="17235" y="10805"/>
                        <a:pt x="17234" y="10811"/>
                        <a:pt x="17234" y="10817"/>
                      </a:cubicBezTo>
                      <a:lnTo>
                        <a:pt x="21599" y="10828"/>
                      </a:lnTo>
                      <a:cubicBezTo>
                        <a:pt x="21599" y="10819"/>
                        <a:pt x="21600" y="10809"/>
                        <a:pt x="21600" y="10800"/>
                      </a:cubicBezTo>
                      <a:cubicBezTo>
                        <a:pt x="21600" y="4835"/>
                        <a:pt x="16764" y="0"/>
                        <a:pt x="10800" y="0"/>
                      </a:cubicBez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-1" y="10809"/>
                        <a:pt x="0" y="10819"/>
                        <a:pt x="0" y="10828"/>
                      </a:cubicBezTo>
                      <a:lnTo>
                        <a:pt x="4365" y="10817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Oval 35"/>
                <p:cNvSpPr/>
                <p:nvPr/>
              </p:nvSpPr>
              <p:spPr>
                <a:xfrm>
                  <a:off x="8247960" y="3228840"/>
                  <a:ext cx="59040" cy="55080"/>
                </a:xfrm>
                <a:prstGeom prst="ellipse">
                  <a:avLst/>
                </a:prstGeom>
                <a:solidFill>
                  <a:srgbClr val="fe863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Oval 36"/>
                <p:cNvSpPr/>
                <p:nvPr/>
              </p:nvSpPr>
              <p:spPr>
                <a:xfrm>
                  <a:off x="8446320" y="3228840"/>
                  <a:ext cx="58680" cy="55080"/>
                </a:xfrm>
                <a:prstGeom prst="ellipse">
                  <a:avLst/>
                </a:prstGeom>
                <a:solidFill>
                  <a:srgbClr val="fe863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Oval 37"/>
                <p:cNvSpPr/>
                <p:nvPr/>
              </p:nvSpPr>
              <p:spPr>
                <a:xfrm>
                  <a:off x="8247960" y="3417480"/>
                  <a:ext cx="188280" cy="568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7" name="AutoShape 38"/>
              <p:cNvSpPr/>
              <p:nvPr/>
            </p:nvSpPr>
            <p:spPr>
              <a:xfrm>
                <a:off x="7860960" y="4887360"/>
                <a:ext cx="358920" cy="1692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AutoShape 39"/>
              <p:cNvSpPr/>
              <p:nvPr/>
            </p:nvSpPr>
            <p:spPr>
              <a:xfrm>
                <a:off x="8591040" y="4887360"/>
                <a:ext cx="358560" cy="1692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3:04:26Z</dcterms:created>
  <dc:creator>Учитель</dc:creator>
  <dc:description/>
  <dc:language>en-US</dc:language>
  <cp:lastModifiedBy>Admin</cp:lastModifiedBy>
  <dcterms:modified xsi:type="dcterms:W3CDTF">2012-09-30T12:54:33Z</dcterms:modified>
  <cp:revision>26</cp:revision>
  <dc:subject/>
  <dc:title>Слайд 1</dc:title>
</cp:coreProperties>
</file>