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21F17-86C9-4D11-8E51-A83A7CA77C9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3BA76-825D-4470-B7F4-447D23881C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A1C6-6076-475A-AE39-457340952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0DC7B-9747-44C9-9CEC-AD42982690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35D98-717A-4ECC-B0BC-FC675DACB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771C3-34CF-4396-8D0A-19E585814F6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ACC40-2F7B-47EC-A568-2DC07D6E9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88FC4-C6D5-4C40-83C5-3039AE928E1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07E52-A3BB-4474-A728-73247113C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14A9E-AA74-457F-B55B-4A4B10239E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1D88-D557-488C-B911-DB6DEEFF1F8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0AA63-0620-48AE-B48B-E2866DD03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DE95C-9856-43E7-BB09-EE5119D1F7B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78DA8-0A13-47E8-B684-EF5C6272A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A0FAE-1654-4D87-9EC2-5E666E7B60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D5BC-A4AB-4E43-A46F-F2EC0E592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FE40A-6F5B-455E-B66B-5BB9DB919E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32781-673D-4B99-84A6-84B1D1E04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8812B-14BD-4E86-A2DD-189E472C0E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AF9E3-6926-4DEA-9A03-2F6700E61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275B0-A1F4-49C6-B7B5-79A7576FFEA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FD299-000B-4618-AE16-439C31D8B3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AE3F1-709E-4C75-A592-82F6D041378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080D6-AD06-42B2-B727-04D7E59EB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B470B-2DC0-4A71-B2EE-B22F2F4E013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47228-FF25-4422-AD7E-332BDA793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EAD5-2E17-4177-8320-2328F06BA1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16EE-DA68-4F9E-8B97-987774A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5B7B-40AF-4997-A9B5-DCF810D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F803-1709-49A6-99EA-FDF0D3C9C2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0B3B4-F1A7-4EA7-93BC-C775F2E7E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8BDDB-A0E6-4086-A957-7E7AFE9F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26525-807D-4B07-BE53-E2EF134F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336AA-F252-44B6-B2DC-A5375C7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89B6D-2B63-4EA6-9D90-A1C2BDD5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0E8EA-0C02-4251-B745-D3EE247C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58C9D-16FE-4845-940D-AEFB28AF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027BB-72B2-431C-B6BD-A8AF19D5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F14EB-ACFE-4091-A3C0-610028FD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E2AFF-853F-464C-956C-9096CEE0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CABF9-7DBC-4052-8C15-8709C872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51083-867C-48EC-95A7-9F7E1379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B9ED9-AF06-4ECC-9BE3-92D44FC01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9555-AA19-47FA-9E69-3CA8ABBE0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FFA2-C968-4555-B343-5C234A0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81FD-52F8-47DC-BCE1-3075ED27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58A2-7C1A-4B0E-A1DE-C5DB53BD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B103-E615-433E-AD48-6BE6097D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F01F-6348-4E70-8B76-7573690E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34CA-02C4-4314-82A9-C04E3B78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5095-D083-472B-941E-1F742175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49FA-E458-46E6-BE41-DF8ACA6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C1A-4E3F-4920-BE40-BF048F6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4280-25B8-4BA5-811A-259A17C3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2F1-D2BC-42AF-B055-96A64B56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6D4B-8AD5-4A18-B2C2-82F687D20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0E49F-4F94-477D-A362-DF0029A9D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F1D22-B473-41CD-8DA9-2197C977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3828F-F303-4C57-91EA-843A4B1D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CF80-7800-4F40-BD2B-FDC2BD2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28AE4-E552-4059-85C0-60313AB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7660B-585B-4D4C-BEE4-E5FDB118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BDB35-0F3B-43FA-9417-D6E6D707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74988-29B8-4C4D-9E09-0A20681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AACB7-04A2-49C4-B4E1-80416271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5702D-237C-44D6-9369-DC19EB05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F57C8-DC2B-441D-AE00-314F8366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85C48-F5D4-4BE3-9AB0-CDFECFF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72F55-6FEF-4BC1-A598-A74A1FC9D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4F8F0-F560-4EF6-9279-1DE9FD14AB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517B-A8B3-4FD4-BCE6-6A1B31ED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8EC30-062D-4A33-A223-EE02144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08C63-8C25-4AF3-A82E-667CA59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58DD3-296B-4435-99D3-8F8A0A8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851E1-664B-4044-8D53-A4774C8A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E63F8-4245-4E4E-956C-FE97A195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9029C-4E9A-4E86-B494-A2F954FD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31268-B17E-4B6F-84EB-834E6313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001EF-A5C2-4E69-A02B-0AE5AA39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98F5D-2523-4389-937F-D40001B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06C8C-2A7E-476D-94C9-BF46B76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A9F5-8975-4119-BE22-4922F573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62410-88CD-419D-9F2B-80B4518CE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D201-BDD0-42D8-8FBB-09CEA63CB6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BF2F1-AB2C-4B31-96CB-714B86A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E900-4E4B-4289-A489-13F22CB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AB9C-25EF-42FF-9732-D6751E4B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1381-EBFC-4E65-BC95-EFD748E0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AA9A-BDDF-4DAA-9506-418F3AEA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E0DF-9FED-4F11-A5A7-CA4C9B2E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AE6C-ADD6-486C-B02E-AC863C7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F724-7054-4162-8B69-57CC5B02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273F-4379-429A-9B00-C44DDB9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8285-84A2-408F-97C0-03C9D72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251A-7BFA-4490-A5CA-8C215CA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D32F-4463-4A3A-B7DD-D81D09E0E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467C2-2E30-496A-8F79-20189A1EDE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92418-5C36-426C-8F5E-DB2C2F0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8EF94-55AE-4D1E-83F2-15465C7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C6A50-F7D2-427A-9BAD-92C44F38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0ED06-41E6-4D08-8F1B-A623F91A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BA08A-2599-4C6C-97FD-5EF6ABC8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3CBA6-6FC3-4220-9596-63C6D6CC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6F7E-9882-433A-AA2A-1D4D88C6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BF86F-64B1-4A96-9C28-D7423F15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E0AF5-7329-4C02-ACD7-2BBFD1D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65301-153A-4DC4-B560-9DFD9336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EEEB9-836B-41AF-B53F-285ADDE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156B3-0741-4AC8-903A-6A42AB387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8F31-A026-441A-AE50-B0C51F9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C8848-361A-4D3F-8E3D-98049FED012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34F1C0-04D9-4D6D-BC1E-D725A968F5B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2F0FF7-5FC5-4D15-B26D-8BEF11A519B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8D00CA-86AD-4DB8-847F-25AD8C3256F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79142D-B0B7-4469-BA61-88A4C529D1E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5CC96C-AAAB-46AB-9C4F-3A4C91A0195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B72AF5-3A14-4CF9-9223-248B7AD48F7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Автор: Беляева С.Л., МБОУ СОШ №1 г.о.Красноармейск МО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-776160" y="-447840"/>
            <a:ext cx="10698120" cy="775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Admin</cp:lastModifiedBy>
  <dcterms:modified xsi:type="dcterms:W3CDTF">2012-09-30T12:54:33Z</dcterms:modified>
  <cp:revision>26</cp:revision>
  <dc:subject/>
  <dc:title>Слайд 1</dc:title>
</cp:coreProperties>
</file>