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A951B-B0EF-4775-AEE0-0F45977ADF0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18614-94C6-463D-8CD3-13A99DF2BC1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5A923-9293-453D-BB8F-68009E350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C4146-12C3-46B9-8700-E24C8A931EE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8369B-3167-4F24-8A7D-7325AE03C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F3252-12B8-4A4E-8946-A0001878856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614EB-6202-4389-A827-D837FB6AD2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3EF29-5101-48F7-9C23-C2D5302B2FC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4F08A-2AC0-4B66-8E34-46892F97C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E602D-2AA2-4790-A808-C51DFBCD544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24751-D873-420D-AF61-ACDB3C23A24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EE8ED-0D53-4727-8208-412A4F342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88B68-0896-477C-AA91-7808A1D8DEC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B1F72-6EE1-47CB-B85E-1286D6770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C381F-4054-4C7D-B499-1F317D8275C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C28AB-BD44-4E8D-AF74-EB6A14870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D78E1-B489-4E35-952F-FEC0DD672A6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4F7DF-1096-4C45-B655-9C6ED7134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101AE-9DB9-4646-813F-6C2C9A329FF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79AC6-F68A-4198-8AA1-B34A79AF6C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E4049-9F1B-45E3-98B1-C07EAAE492F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C154C-69AB-4F10-869B-B9F8B5132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1DDC8-6BF2-43DD-8831-A131719BC16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73E97-8ABC-4254-A1DF-5729AA48C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B3B3D-84D1-47C9-8943-BC250E6D6A4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958DC-7B30-4A6B-AC00-2FE7474B3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F5D65-7040-4EE7-9E71-58D81590CC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D84F-7713-4096-8DBA-6296F9D7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94FE-EC6A-4742-A060-E82F4813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A52D-8837-4756-B63A-78D4D43DC7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85050-B036-4A7D-9C59-32DBB1EA77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F3E16-874D-4177-B434-01C86C16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46954-DB56-4592-8BAD-14F7EC77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0F026-0147-4333-8BEB-27863DF9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19D53-96A0-40EB-AAA5-B5411154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9F9E5-4E37-4637-AA13-9DD7771D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7B493-7F35-48CD-A457-8B36ED3B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B4C8-B2D5-46C5-9198-C1E26BE6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19C2A-2C00-44D2-AD09-CAF2BCFC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E3B77-14BB-4EFF-8B8F-5F98D4E8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3C148-7CFE-4A2A-A755-37781E21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43B1E-3CEB-4232-B23F-B296FC66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DCC5C-25ED-485A-808E-428B64555A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42AC-E575-47E4-8A2A-D485A86A83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D043-12C7-4801-9839-242479F5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AE29-7B45-43A3-9971-04A4C95A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4E9A-FE9C-4BDB-ABB1-F1EC444F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A925-DAE4-4F66-AB17-18777F65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3BB6-912F-4E49-9C78-7A6D373B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039F-5D3F-4380-89DA-4443868B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2ACA-EF16-48A0-81BB-5006849D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E51D-1BF8-4B35-AE63-8E9FD2F7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6EA2-1887-4637-A560-376475C2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102F-38C0-4DD4-B381-AAAB1FBA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EDB1-2624-4B5D-A89A-EC9090F0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0E2F-6BA0-4B39-BEA7-F8D3219A05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31350-D05F-41BC-8B0D-28392152F5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373F4-0E33-4A7D-AE06-FF8D8ADE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E42E4-50D1-4271-BBCB-6701910D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5854-D0FE-4306-AFB1-71E5822C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4738C-9B8C-4826-BC0B-7E0FC84C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49FE6-7166-4101-BA3B-7274C3B5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E0EB6-925E-47CF-8266-3C2235DA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96853-E772-41E2-87B6-2597E44A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754F1-BA60-4124-A28E-341F3AFA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0D341-32A8-42C0-B48F-53B13FC3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95AC7-9120-474E-A1DF-A8F74A4E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6778C-D563-4DDB-8000-ED97D195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03E51-4A10-4EE8-9EE0-EB0869EBA4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0E37DB-5EAD-4C8D-881A-C01BA6654D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6416-72C9-4A1A-8EE8-4BFB233F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189D0-865C-452D-BA35-296B838D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7D430B-3D35-454C-9375-60DD30E3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94C55-7508-410D-830B-E56C6076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EC877-1B6C-4DBD-84AB-03C8BDD6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D56A1-7C30-41F4-8B2A-4DE06969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71431-C357-4C95-A6FD-79CBEB03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C22C6-62D4-4B07-92E3-35ECF51D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6B33A-7560-4B96-A776-757845AD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BB886-2C11-4556-9989-DF89BBC1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20104-86D3-4F34-8B00-228EC952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3D2B-DAF1-4ACB-B29E-718D09B6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21017-E2F2-42FB-B9E3-AD9341A4E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CD99-50A3-48CA-8605-98A2757982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5A88-7D75-471D-BDB3-EC9E48C9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53FF-61D9-45AE-9310-EC99F2B5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4CEB-ABFF-45A6-86E1-6D463C16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2A063-DF9A-4F64-96BE-EB686095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5B767-BD73-455F-AD2E-CAB29FD9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6DC9-10C5-4EF9-9B56-D9DD6A45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963F7-FCDB-4899-BDA6-FB78635B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F5E4-FD0F-4713-8F2D-DCEC42F8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AC6E-D625-4E7C-A0A4-605DEDF4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B640-8F58-4148-81F4-0CC27BF9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5DD44-2F5F-4D85-9315-429A6473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D208-9626-4D7A-9D19-3D7A9B29DE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21ADB-3B3B-49BD-9208-33CA0782CC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714EF-DEF6-4AE8-A79F-05A4AE44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3A8B8-2A0E-444D-A5F3-19D93A8C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6868F-B0A5-4124-AAA1-5EB73973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D8A9D-8A16-4C90-AA93-FC1B717B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3520C-3F1F-4528-831E-2EF074B3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61C3B-E691-4E75-BB88-F7CD998D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0A62-EDD3-471D-A3DC-C9FC6FD1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88ECB-0DD6-4ED8-9894-A7E3B0B8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7462C-365A-4676-B6F8-9B6490B7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46359-C4C1-4B88-B4A3-55DAEA14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D0430-7503-4CE1-8DA6-BFFE37D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26B22-A665-4A6A-A19F-A8CE2979D9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46E4-5DD0-4330-B825-672F400A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62D6F-38A3-475A-9472-4F04D9C9CF5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0E6CF8-720D-4269-A931-7CCC01C45058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9B97C9-764B-4BDC-883A-5125C9B8BEB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174F34-4BAE-490C-AFA8-4B72C88A25D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CEBF1F-329E-47D3-A198-FDD4AA50002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73AAAD-2F7F-4366-BBF8-533772490F3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CE676E-32E0-4F8A-8060-B6514BB20C98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by.ru/community/view/30500/forum/post/36932489/" TargetMode="External"/><Relationship Id="rId2" Type="http://schemas.openxmlformats.org/officeDocument/2006/relationships/hyperlink" Target="http://nattik.ru/" TargetMode="External"/><Relationship Id="rId3" Type="http://schemas.openxmlformats.org/officeDocument/2006/relationships/hyperlink" Target="http://mars36.ru/archives/41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Schoolbook"/>
              </a:rPr>
              <a:t>Автор: Беляева С.Л., МБОУ СОШ №1 г.о.Красноармейск МО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-776160" y="-447840"/>
            <a:ext cx="10698120" cy="775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647640" y="1152360"/>
            <a:ext cx="61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DejaVu Sans Condensed"/>
                <a:hlinkClick r:id="rId1"/>
              </a:rPr>
              <a:t>http://www.baby.ru/community/view/30500/forum/post/3693248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ttik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rs36.ru/archives/4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Admin</cp:lastModifiedBy>
  <dcterms:modified xsi:type="dcterms:W3CDTF">2012-09-30T12:54:33Z</dcterms:modified>
  <cp:revision>26</cp:revision>
  <dc:subject/>
  <dc:title>Слайд 1</dc:title>
</cp:coreProperties>
</file>