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11.png" ContentType="image/png"/>
  <Override PartName="/ppt/media/image6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4.jpeg" ContentType="image/jpeg"/>
  <Override PartName="/ppt/media/image2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36E01-CC91-4AC3-B4D5-C2511C3C84C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E0D56-E090-484D-B259-971CFB6F6E7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CEE83-2F3F-49BD-AD42-9A9BA4FC4E2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C39F6-B591-4A7D-92A3-506F53F668B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9C887-5533-472C-8E79-2273D00B93B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84F66-657A-49BB-8B14-CC22FC95C2E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068EF-FE19-4B81-8E5D-A509260DFD9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36059-3052-4BE8-A999-11C48BC03AF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A344A-425B-4C1D-A5E8-4AB01E6AA56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D2ED0-9F98-4A41-8003-6C8C3057E5C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68CF2-B8BB-4106-BB9C-762116C9269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2CF75-4A1E-4DE6-BCA1-6E2F366C90F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538DC-B152-4495-BB18-361BF8C8C79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D30C1-0AC6-4D12-9D03-FBF59B1F15C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1B7F3-1DC9-4626-88AD-A8A5AA15F9F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673E8-97FF-4276-B678-2270559A6D1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11ED3-48F7-4B5F-BEA4-C93C1DFDDE5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616DF-3F5F-415F-84B7-ED3239919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62285-E1C3-4F2F-ABD1-40548379A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7AA95-88A3-4F73-9A87-8E0335E39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31630-CCBC-4C61-9D5A-789B4BD38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852CA-2869-442A-B807-A3F368BFB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67DCA-27B0-49CE-AADF-20CB37699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3E68B-C28F-4D26-83DC-527CACF26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DAE9E-8E40-425C-86DE-8021C075E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C3BFF-EB48-4B48-A28B-BACA100EF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E2BC5-DC3A-4A2F-897E-3E706DEF2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8388A-1FC7-493C-8BF1-FFDEFA0DD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360A9-33B6-4A76-9277-B0AC0AB80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43240" y="1346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F57CA-2E5E-4832-A72C-66CD0038BE22}" type="slidenum">
              <a:rPr b="1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mail.ru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image" Target="../media/image16.png"/><Relationship Id="rId12" Type="http://schemas.openxmlformats.org/officeDocument/2006/relationships/oleObject" Target="../embeddings/oleObject1.bin"/><Relationship Id="rId13" Type="http://schemas.openxmlformats.org/officeDocument/2006/relationships/image" Target="../media/image17.png"/><Relationship Id="rId14" Type="http://schemas.openxmlformats.org/officeDocument/2006/relationships/image" Target="../media/image18.png"/><Relationship Id="rId15" Type="http://schemas.openxmlformats.org/officeDocument/2006/relationships/image" Target="../media/image19.png"/><Relationship Id="rId16" Type="http://schemas.openxmlformats.org/officeDocument/2006/relationships/image" Target="../media/image20.png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1510920"/>
            <a:ext cx="8723160" cy="15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333399"/>
                </a:solidFill>
                <a:latin typeface="Arial"/>
              </a:rPr>
              <a:t>Охрана труда </a:t>
            </a:r>
            <a:br>
              <a:rPr sz="7200"/>
            </a:br>
            <a:r>
              <a:rPr b="1" lang="ru-RU" sz="7200" spc="-1" strike="noStrike">
                <a:solidFill>
                  <a:srgbClr val="333399"/>
                </a:solidFill>
                <a:latin typeface="Arial"/>
              </a:rPr>
              <a:t>и техника</a:t>
            </a:r>
            <a:br>
              <a:rPr sz="7200"/>
            </a:br>
            <a:r>
              <a:rPr b="1" lang="ru-RU" sz="7200" spc="-1" strike="noStrike">
                <a:solidFill>
                  <a:srgbClr val="333399"/>
                </a:solidFill>
                <a:latin typeface="Arial"/>
              </a:rPr>
              <a:t>безопасности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144360" y="6216480"/>
            <a:ext cx="40561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©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К.Ю. Поляков, 20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74560" y="4377960"/>
            <a:ext cx="8369280" cy="13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Инструкция ИОТ-014-200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33" descr=""/>
          <p:cNvPicPr/>
          <p:nvPr/>
        </p:nvPicPr>
        <p:blipFill>
          <a:blip r:embed="rId1"/>
          <a:stretch/>
        </p:blipFill>
        <p:spPr>
          <a:xfrm rot="20167800">
            <a:off x="6676560" y="5225760"/>
            <a:ext cx="1973520" cy="10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Номер слайда 3"/>
          <p:cNvSpPr/>
          <p:nvPr/>
        </p:nvSpPr>
        <p:spPr>
          <a:xfrm>
            <a:off x="6843600" y="135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89EB6-EC5C-4107-95F7-94D74FB4815F}" type="slidenum">
              <a:rPr b="1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395280" y="189000"/>
            <a:ext cx="8140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равила коллективной работ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412920" y="896760"/>
            <a:ext cx="84088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0000" indent="-270000">
              <a:spcBef>
                <a:spcPts val="1749"/>
              </a:spcBef>
              <a:buClr>
                <a:srgbClr val="33339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за каждым учеником закреплен компьюте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1749"/>
              </a:spcBef>
              <a:buClr>
                <a:srgbClr val="33339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каждый создает свою папку внутри папки своего класса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Group 9"/>
          <p:cNvGrpSpPr/>
          <p:nvPr/>
        </p:nvGrpSpPr>
        <p:grpSpPr>
          <a:xfrm>
            <a:off x="2214720" y="2800440"/>
            <a:ext cx="4889520" cy="3238200"/>
            <a:chOff x="2214720" y="2800440"/>
            <a:chExt cx="4889520" cy="3238200"/>
          </a:xfrm>
        </p:grpSpPr>
        <p:pic>
          <p:nvPicPr>
            <p:cNvPr id="125" name="Picture 8" descr=""/>
            <p:cNvPicPr/>
            <p:nvPr/>
          </p:nvPicPr>
          <p:blipFill>
            <a:blip r:embed="rId1"/>
            <a:stretch/>
          </p:blipFill>
          <p:spPr>
            <a:xfrm>
              <a:off x="2252880" y="2800440"/>
              <a:ext cx="4851360" cy="323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Oval 5"/>
            <p:cNvSpPr/>
            <p:nvPr/>
          </p:nvSpPr>
          <p:spPr>
            <a:xfrm>
              <a:off x="2214720" y="4484520"/>
              <a:ext cx="2629080" cy="94320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2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7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Номер слайда 3"/>
          <p:cNvSpPr/>
          <p:nvPr/>
        </p:nvSpPr>
        <p:spPr>
          <a:xfrm>
            <a:off x="6843600" y="135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E46BF-99C8-4746-8B87-899E63D9F567}" type="slidenum">
              <a:rPr b="1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3"/>
          <p:cNvSpPr/>
          <p:nvPr/>
        </p:nvSpPr>
        <p:spPr>
          <a:xfrm>
            <a:off x="395280" y="189000"/>
            <a:ext cx="8140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равила коллективной работ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4"/>
          <p:cNvSpPr/>
          <p:nvPr/>
        </p:nvSpPr>
        <p:spPr>
          <a:xfrm>
            <a:off x="412920" y="896760"/>
            <a:ext cx="8408880" cy="38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Нельзя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без разрешения учителя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45216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станавливать и запускать посторонние программы (в т.ч. игры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45216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писывать свои файлы в чужую папк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45216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сматривать и изменять содержимое чужой пап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45216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здавать скрытые файлы и пап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45216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зменять настройки компьютера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MOS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 и операционной системы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7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0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5" dur="5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0" dur="5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5" dur="500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0" dur="500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Номер слайда 3"/>
          <p:cNvSpPr/>
          <p:nvPr/>
        </p:nvSpPr>
        <p:spPr>
          <a:xfrm>
            <a:off x="6843600" y="135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40035-31C1-4BC6-BAA0-5676CA5223BF}" type="slidenum">
              <a:rPr b="1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395280" y="189000"/>
            <a:ext cx="8140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равила работы с дискетами и дискам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412920" y="896760"/>
            <a:ext cx="840888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Общие правила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45216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00"/>
                </a:solidFill>
                <a:latin typeface="Arial"/>
              </a:rPr>
              <a:t>можно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использовать дискеты для переноса своих учебных файл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45216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искеты должны быть проверены антивирусными средств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Нельзя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без разрешения учителя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45216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спользовать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D, DVD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и флэш-дис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45216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пировать на жесткий диск информацию с дискет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D, DVD,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лэш-дисков) и наоборо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45216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гружать компьютер с системной дискеты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D, DVD,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лэш-диск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7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0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5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0" dur="5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3" dur="5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8" dur="500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3" dur="500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Номер слайда 3"/>
          <p:cNvSpPr/>
          <p:nvPr/>
        </p:nvSpPr>
        <p:spPr>
          <a:xfrm>
            <a:off x="6843600" y="135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0B64B-9588-47B2-BC36-B9B1564432A6}" type="slidenum">
              <a:rPr b="1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3"/>
          <p:cNvSpPr/>
          <p:nvPr/>
        </p:nvSpPr>
        <p:spPr>
          <a:xfrm>
            <a:off x="395280" y="189000"/>
            <a:ext cx="8140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равила использования сети Интерне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4"/>
          <p:cNvSpPr/>
          <p:nvPr/>
        </p:nvSpPr>
        <p:spPr>
          <a:xfrm>
            <a:off x="412920" y="896760"/>
            <a:ext cx="8408880" cy="52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33399"/>
                </a:solidFill>
                <a:latin typeface="Arial"/>
              </a:rPr>
              <a:t>Разрешается работать в сети Интернет, если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452160">
              <a:lnSpc>
                <a:spcPct val="85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это предусмотрено темой урока, или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452160">
              <a:lnSpc>
                <a:spcPct val="85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учащийся выполнил и сдал задание данного урок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0000"/>
                </a:solidFill>
                <a:latin typeface="Arial"/>
              </a:rPr>
              <a:t>Запрещается</a:t>
            </a:r>
            <a:r>
              <a:rPr b="1" lang="ru-RU" sz="2600" spc="-1" strike="noStrike">
                <a:solidFill>
                  <a:srgbClr val="333399"/>
                </a:solidFill>
                <a:latin typeface="Arial"/>
              </a:rPr>
              <a:t>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452160">
              <a:lnSpc>
                <a:spcPct val="85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осещать сайты, посвященные эротике, терроризму и т.п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452160">
              <a:lnSpc>
                <a:spcPct val="85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осещать игровые сайты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452160">
              <a:lnSpc>
                <a:spcPct val="85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регистрироваться на сайтах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пересылать информацию в СМИ и другие организаци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452160">
              <a:lnSpc>
                <a:spcPct val="85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устанавливать через Интернет любые программы, активные элементы (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ActiveX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дополнительные модули (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plugin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0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3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8" dur="5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3" dur="5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6" dur="500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1" dur="500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6" dur="500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1" dur="500"/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Номер слайда 3"/>
          <p:cNvSpPr/>
          <p:nvPr/>
        </p:nvSpPr>
        <p:spPr>
          <a:xfrm>
            <a:off x="6843600" y="135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9C6BB-B93A-4E7B-9DFA-FDFC593EE55F}" type="slidenum">
              <a:rPr b="1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3"/>
          <p:cNvSpPr/>
          <p:nvPr/>
        </p:nvSpPr>
        <p:spPr>
          <a:xfrm>
            <a:off x="395280" y="189000"/>
            <a:ext cx="8497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равила работы в сети Интерне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412920" y="839880"/>
            <a:ext cx="8408880" cy="52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9900"/>
                </a:solidFill>
                <a:latin typeface="Arial"/>
              </a:rPr>
              <a:t>Можно</a:t>
            </a:r>
            <a:r>
              <a:rPr b="1" lang="ru-RU" sz="2600" spc="-1" strike="noStrike">
                <a:solidFill>
                  <a:srgbClr val="99cc00"/>
                </a:solidFill>
                <a:latin typeface="Arial"/>
              </a:rPr>
              <a:t>:</a:t>
            </a:r>
            <a:r>
              <a:rPr b="1" lang="ru-RU" sz="26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452520">
              <a:lnSpc>
                <a:spcPct val="85000"/>
              </a:lnSpc>
              <a:spcBef>
                <a:spcPts val="81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использовать электронную почту на сайтах с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b-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интерфейсом (</a:t>
            </a:r>
            <a:r>
              <a:rPr b="0" lang="en-US" sz="2600" spc="-1" strike="noStrike" u="sng">
                <a:solidFill>
                  <a:srgbClr val="0066ff"/>
                </a:solidFill>
                <a:uFillTx/>
                <a:latin typeface="Arial"/>
                <a:hlinkClick r:id="rId1"/>
              </a:rPr>
              <a:t>www.mail.ru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…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452520">
              <a:lnSpc>
                <a:spcPct val="85000"/>
              </a:lnSpc>
              <a:spcBef>
                <a:spcPts val="81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искать материалы и иллюстрации для рефератов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33399"/>
                </a:solidFill>
                <a:latin typeface="Arial"/>
              </a:rPr>
              <a:t>Скачивание информации из сети Интернет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452520">
              <a:lnSpc>
                <a:spcPct val="85000"/>
              </a:lnSpc>
              <a:spcBef>
                <a:spcPts val="81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качивание файлов объемом более 1 Мб возможно </a:t>
            </a:r>
            <a:r>
              <a:rPr b="1" lang="ru-RU" sz="2600" spc="-1" strike="noStrike">
                <a:solidFill>
                  <a:srgbClr val="333399"/>
                </a:solidFill>
                <a:latin typeface="Arial"/>
              </a:rPr>
              <a:t>только с разрешения учител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452520">
              <a:lnSpc>
                <a:spcPct val="85000"/>
              </a:lnSpc>
              <a:spcBef>
                <a:spcPts val="814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0000"/>
                </a:solidFill>
                <a:latin typeface="Arial"/>
              </a:rPr>
              <a:t>запрещается запускать любые программы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, полученные через Интернет, в том числе самораспаковывающиеся архивы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452520">
              <a:lnSpc>
                <a:spcPct val="85000"/>
              </a:lnSpc>
              <a:spcBef>
                <a:spcPts val="81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се скачанные файлы должны быть удалены со школьных компьютеров в кратчайшие срок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2" dur="indefinite" restart="never" nodeType="tmRoot">
          <p:childTnLst>
            <p:seq>
              <p:cTn id="513" dur="indefinite" nodeType="mainSeq">
                <p:childTnLst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8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1" dur="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6" dur="50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1" dur="500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4" dur="500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9" dur="500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Номер слайда 3"/>
          <p:cNvSpPr/>
          <p:nvPr/>
        </p:nvSpPr>
        <p:spPr>
          <a:xfrm>
            <a:off x="6843600" y="135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AC8E0-CC25-49C3-98A5-57FBF42CE126}" type="slidenum">
              <a:rPr b="1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3"/>
          <p:cNvSpPr/>
          <p:nvPr/>
        </p:nvSpPr>
        <p:spPr>
          <a:xfrm>
            <a:off x="395280" y="189000"/>
            <a:ext cx="8140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Упражнения для глаз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4"/>
          <p:cNvSpPr/>
          <p:nvPr/>
        </p:nvSpPr>
        <p:spPr>
          <a:xfrm>
            <a:off x="341280" y="982800"/>
            <a:ext cx="8372520" cy="50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Закрыть глаза, сильно напрягая глазные мышцы, затем раскрыть глаза, расслабив мышцы глаз, посмотреть вдаль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смотреть на переносицу и задержать взор. До усталости глаза не доводить. Затем открыть глаза, посмотреть вдаль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е поворачивая головы, посмотреть направо и зафиксировать взгляд, затем посмотреть вдаль. Аналогично проводятся упражнения, но с фиксацией взгляда влево, вверх и вниз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е поворачивая головы, делать медленно круговые движения глазами вверх-вправо-вниз-влево и в обратную сторону: вверх-влево-вниз-вправо. Затем посмотреть вдаль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смотреть на указательный палец, удаленный от глаз на расстояние 25 - 30 см, потом перевести взор вдаль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1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6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1" dur="5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6" dur="50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1" dur="500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Номер слайда 3"/>
          <p:cNvSpPr/>
          <p:nvPr/>
        </p:nvSpPr>
        <p:spPr>
          <a:xfrm>
            <a:off x="6843600" y="135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394D1-B049-408A-852B-83D7937A6045}" type="slidenum">
              <a:rPr b="1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395280" y="189000"/>
            <a:ext cx="8140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Как не навредить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4"/>
          <p:cNvSpPr/>
          <p:nvPr/>
        </p:nvSpPr>
        <p:spPr>
          <a:xfrm>
            <a:off x="366840" y="941400"/>
            <a:ext cx="8478720" cy="35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ын спрашивает у отца-программиста: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— А почему солнце встает на восток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 заходит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на западе?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— Ты проверял?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— Проверял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— Работает?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— Работает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— Ну и пусть работает, не 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надо ничего менять!!!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5" descr=""/>
          <p:cNvPicPr/>
          <p:nvPr/>
        </p:nvPicPr>
        <p:blipFill>
          <a:blip r:embed="rId1"/>
          <a:stretch/>
        </p:blipFill>
        <p:spPr>
          <a:xfrm>
            <a:off x="5526000" y="2290680"/>
            <a:ext cx="2975040" cy="38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Номер слайда 3"/>
          <p:cNvSpPr/>
          <p:nvPr/>
        </p:nvSpPr>
        <p:spPr>
          <a:xfrm>
            <a:off x="6843600" y="135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03A27-EA05-4C5E-8865-4DD04C86AEA5}" type="slidenum">
              <a:rPr b="1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"/>
          <p:cNvSpPr/>
          <p:nvPr/>
        </p:nvSpPr>
        <p:spPr>
          <a:xfrm>
            <a:off x="395280" y="189000"/>
            <a:ext cx="8140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Конец фильм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Номер слайда 3"/>
          <p:cNvSpPr/>
          <p:nvPr/>
        </p:nvSpPr>
        <p:spPr>
          <a:xfrm>
            <a:off x="6843600" y="135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37DF8-0959-4D53-8B2D-E3E715B088A0}" type="slidenum">
              <a:rPr b="1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95280" y="189000"/>
            <a:ext cx="8140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Общие положе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0"/>
          <p:cNvSpPr/>
          <p:nvPr/>
        </p:nvSpPr>
        <p:spPr>
          <a:xfrm>
            <a:off x="412920" y="896760"/>
            <a:ext cx="8140680" cy="55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Зачем это нужно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452160">
              <a:lnSpc>
                <a:spcPct val="5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хранение жизни и здоровь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452160">
              <a:lnSpc>
                <a:spcPct val="5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452160">
              <a:lnSpc>
                <a:spcPct val="5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хранение техн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452160">
              <a:lnSpc>
                <a:spcPct val="5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452160">
              <a:lnSpc>
                <a:spcPct val="5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Требования к учащимся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452160">
              <a:lnSpc>
                <a:spcPct val="5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йти инструктаж (с 14 лет – под роспись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452160">
              <a:lnSpc>
                <a:spcPct val="5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блюдать правила поведения (см. дале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452160">
              <a:lnSpc>
                <a:spcPct val="5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полнять требования учите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В кабинете должны быть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452160">
              <a:lnSpc>
                <a:spcPct val="5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птечка для оказания первой помощ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452160">
              <a:lnSpc>
                <a:spcPct val="5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глекислотный огнетушит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20" descr=""/>
          <p:cNvPicPr/>
          <p:nvPr/>
        </p:nvPicPr>
        <p:blipFill>
          <a:blip r:embed="rId1"/>
          <a:stretch/>
        </p:blipFill>
        <p:spPr>
          <a:xfrm>
            <a:off x="6777000" y="5175360"/>
            <a:ext cx="1027080" cy="7938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1" descr=""/>
          <p:cNvPicPr/>
          <p:nvPr/>
        </p:nvPicPr>
        <p:blipFill>
          <a:blip r:embed="rId2"/>
          <a:stretch/>
        </p:blipFill>
        <p:spPr>
          <a:xfrm>
            <a:off x="7697880" y="5218200"/>
            <a:ext cx="1292040" cy="16398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3" descr=""/>
          <p:cNvPicPr/>
          <p:nvPr/>
        </p:nvPicPr>
        <p:blipFill>
          <a:blip r:embed="rId3"/>
          <a:stretch/>
        </p:blipFill>
        <p:spPr>
          <a:xfrm>
            <a:off x="6396120" y="928800"/>
            <a:ext cx="1982880" cy="1377720"/>
          </a:xfrm>
          <a:prstGeom prst="rect">
            <a:avLst/>
          </a:prstGeom>
          <a:ln w="0">
            <a:noFill/>
          </a:ln>
        </p:spPr>
      </p:pic>
      <p:grpSp>
        <p:nvGrpSpPr>
          <p:cNvPr id="59" name="Group 26"/>
          <p:cNvGrpSpPr/>
          <p:nvPr/>
        </p:nvGrpSpPr>
        <p:grpSpPr>
          <a:xfrm>
            <a:off x="4340160" y="1954080"/>
            <a:ext cx="1968120" cy="1519560"/>
            <a:chOff x="4340160" y="1954080"/>
            <a:chExt cx="1968120" cy="1519560"/>
          </a:xfrm>
        </p:grpSpPr>
        <p:pic>
          <p:nvPicPr>
            <p:cNvPr id="60" name="Picture 22" descr=""/>
            <p:cNvPicPr/>
            <p:nvPr/>
          </p:nvPicPr>
          <p:blipFill>
            <a:blip r:embed="rId4"/>
            <a:stretch/>
          </p:blipFill>
          <p:spPr>
            <a:xfrm>
              <a:off x="4340160" y="1954080"/>
              <a:ext cx="1820880" cy="137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AutoShape 25"/>
            <p:cNvSpPr/>
            <p:nvPr/>
          </p:nvSpPr>
          <p:spPr>
            <a:xfrm rot="16820400">
              <a:off x="5563080" y="2732760"/>
              <a:ext cx="709920" cy="663480"/>
            </a:xfrm>
            <a:prstGeom prst="plus">
              <a:avLst>
                <a:gd name="adj" fmla="val 41759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Номер слайда 3"/>
          <p:cNvSpPr/>
          <p:nvPr/>
        </p:nvSpPr>
        <p:spPr>
          <a:xfrm>
            <a:off x="6843600" y="135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42014-C90B-42B8-8A49-1A118BB5A6B5}" type="slidenum">
              <a:rPr b="1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395280" y="189000"/>
            <a:ext cx="8140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Arial"/>
              </a:rPr>
              <a:t>Опасности в компьютерном класс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412920" y="1022400"/>
            <a:ext cx="8140680" cy="56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22160" indent="-452160">
              <a:lnSpc>
                <a:spcPct val="5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лектрический ток, 220 воль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452160">
              <a:lnSpc>
                <a:spcPct val="5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452160">
              <a:lnSpc>
                <a:spcPct val="5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452160">
              <a:lnSpc>
                <a:spcPct val="5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452160">
              <a:lnSpc>
                <a:spcPct val="5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452160">
              <a:lnSpc>
                <a:spcPct val="5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452160">
              <a:lnSpc>
                <a:spcPct val="5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лектромагнитное излучение монитор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452160">
              <a:lnSpc>
                <a:spcPct val="5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452160">
              <a:lnSpc>
                <a:spcPct val="5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452160">
              <a:lnSpc>
                <a:spcPct val="5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452160">
              <a:lnSpc>
                <a:spcPct val="5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452160">
              <a:lnSpc>
                <a:spcPct val="5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452160">
              <a:lnSpc>
                <a:spcPct val="5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рав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Group 35"/>
          <p:cNvGrpSpPr/>
          <p:nvPr/>
        </p:nvGrpSpPr>
        <p:grpSpPr>
          <a:xfrm>
            <a:off x="2123280" y="1353960"/>
            <a:ext cx="1078560" cy="1684440"/>
            <a:chOff x="2123280" y="1353960"/>
            <a:chExt cx="1078560" cy="1684440"/>
          </a:xfrm>
        </p:grpSpPr>
        <p:pic>
          <p:nvPicPr>
            <p:cNvPr id="67" name="Picture 8" descr=""/>
            <p:cNvPicPr/>
            <p:nvPr/>
          </p:nvPicPr>
          <p:blipFill>
            <a:blip r:embed="rId1"/>
            <a:stretch/>
          </p:blipFill>
          <p:spPr>
            <a:xfrm>
              <a:off x="2127240" y="1353960"/>
              <a:ext cx="1074600" cy="168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AutoShape 9"/>
            <p:cNvSpPr/>
            <p:nvPr/>
          </p:nvSpPr>
          <p:spPr>
            <a:xfrm rot="18114600">
              <a:off x="2220480" y="1672560"/>
              <a:ext cx="601560" cy="563400"/>
            </a:xfrm>
            <a:prstGeom prst="plus">
              <a:avLst>
                <a:gd name="adj" fmla="val 41759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9" name="Picture 12" descr=""/>
          <p:cNvPicPr/>
          <p:nvPr/>
        </p:nvPicPr>
        <p:blipFill>
          <a:blip r:embed="rId2"/>
          <a:stretch/>
        </p:blipFill>
        <p:spPr>
          <a:xfrm>
            <a:off x="6291360" y="3510000"/>
            <a:ext cx="1492200" cy="17827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3" descr=""/>
          <p:cNvPicPr/>
          <p:nvPr/>
        </p:nvPicPr>
        <p:blipFill>
          <a:blip r:embed="rId3"/>
          <a:stretch/>
        </p:blipFill>
        <p:spPr>
          <a:xfrm>
            <a:off x="2436840" y="3718080"/>
            <a:ext cx="1825560" cy="1566720"/>
          </a:xfrm>
          <a:prstGeom prst="rect">
            <a:avLst/>
          </a:prstGeom>
          <a:ln w="0">
            <a:noFill/>
          </a:ln>
        </p:spPr>
      </p:pic>
      <p:grpSp>
        <p:nvGrpSpPr>
          <p:cNvPr id="71" name="Group 49"/>
          <p:cNvGrpSpPr/>
          <p:nvPr/>
        </p:nvGrpSpPr>
        <p:grpSpPr>
          <a:xfrm>
            <a:off x="4340160" y="3724200"/>
            <a:ext cx="2007360" cy="1492200"/>
            <a:chOff x="4340160" y="3724200"/>
            <a:chExt cx="2007360" cy="1492200"/>
          </a:xfrm>
        </p:grpSpPr>
        <p:sp>
          <p:nvSpPr>
            <p:cNvPr id="72" name="Freeform 15"/>
            <p:cNvSpPr/>
            <p:nvPr/>
          </p:nvSpPr>
          <p:spPr>
            <a:xfrm>
              <a:off x="4589640" y="3724200"/>
              <a:ext cx="1520640" cy="149220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  <a:head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Rectangle 16"/>
            <p:cNvSpPr/>
            <p:nvPr/>
          </p:nvSpPr>
          <p:spPr>
            <a:xfrm>
              <a:off x="4792680" y="4100400"/>
              <a:ext cx="289080" cy="110664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Rectangle 17"/>
            <p:cNvSpPr/>
            <p:nvPr/>
          </p:nvSpPr>
          <p:spPr>
            <a:xfrm>
              <a:off x="5457960" y="5091120"/>
              <a:ext cx="288720" cy="11592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AutoShape 19"/>
            <p:cNvSpPr/>
            <p:nvPr/>
          </p:nvSpPr>
          <p:spPr>
            <a:xfrm>
              <a:off x="4340160" y="4408560"/>
              <a:ext cx="414360" cy="307800"/>
            </a:xfrm>
            <a:custGeom>
              <a:avLst/>
              <a:gdLst>
                <a:gd name="textAreaLeft" fmla="*/ 51840 w 414360"/>
                <a:gd name="textAreaRight" fmla="*/ 362880 w 414360"/>
                <a:gd name="textAreaTop" fmla="*/ 77040 h 307800"/>
                <a:gd name="textAreaBottom" fmla="*/ 231120 h 307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AutoShape 22"/>
            <p:cNvSpPr/>
            <p:nvPr/>
          </p:nvSpPr>
          <p:spPr>
            <a:xfrm rot="9476400">
              <a:off x="5890320" y="4792320"/>
              <a:ext cx="414360" cy="307800"/>
            </a:xfrm>
            <a:custGeom>
              <a:avLst/>
              <a:gdLst>
                <a:gd name="textAreaLeft" fmla="*/ 51840 w 414360"/>
                <a:gd name="textAreaRight" fmla="*/ 362880 w 414360"/>
                <a:gd name="textAreaTop" fmla="*/ 77040 h 307800"/>
                <a:gd name="textAreaBottom" fmla="*/ 231120 h 307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" name="Picture 24" descr=""/>
          <p:cNvPicPr/>
          <p:nvPr/>
        </p:nvPicPr>
        <p:blipFill>
          <a:blip r:embed="rId4"/>
          <a:stretch/>
        </p:blipFill>
        <p:spPr>
          <a:xfrm>
            <a:off x="1141560" y="5748480"/>
            <a:ext cx="952200" cy="9522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5" descr=""/>
          <p:cNvPicPr/>
          <p:nvPr/>
        </p:nvPicPr>
        <p:blipFill>
          <a:blip r:embed="rId5"/>
          <a:stretch/>
        </p:blipFill>
        <p:spPr>
          <a:xfrm>
            <a:off x="2386080" y="5748480"/>
            <a:ext cx="952560" cy="9522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6" descr=""/>
          <p:cNvPicPr/>
          <p:nvPr/>
        </p:nvPicPr>
        <p:blipFill>
          <a:blip r:embed="rId6"/>
          <a:stretch/>
        </p:blipFill>
        <p:spPr>
          <a:xfrm>
            <a:off x="4875120" y="5748480"/>
            <a:ext cx="952560" cy="9522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7" descr=""/>
          <p:cNvPicPr/>
          <p:nvPr/>
        </p:nvPicPr>
        <p:blipFill>
          <a:blip r:embed="rId7"/>
          <a:stretch/>
        </p:blipFill>
        <p:spPr>
          <a:xfrm>
            <a:off x="6119640" y="5748480"/>
            <a:ext cx="952560" cy="9522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8" descr=""/>
          <p:cNvPicPr/>
          <p:nvPr/>
        </p:nvPicPr>
        <p:blipFill>
          <a:blip r:embed="rId8"/>
          <a:stretch/>
        </p:blipFill>
        <p:spPr>
          <a:xfrm>
            <a:off x="1255680" y="390528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9" descr=""/>
          <p:cNvPicPr/>
          <p:nvPr/>
        </p:nvPicPr>
        <p:blipFill>
          <a:blip r:embed="rId9"/>
          <a:stretch/>
        </p:blipFill>
        <p:spPr>
          <a:xfrm>
            <a:off x="1101600" y="166356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0" descr=""/>
          <p:cNvPicPr/>
          <p:nvPr/>
        </p:nvPicPr>
        <p:blipFill>
          <a:blip r:embed="rId10"/>
          <a:stretch/>
        </p:blipFill>
        <p:spPr>
          <a:xfrm>
            <a:off x="7365960" y="5589720"/>
            <a:ext cx="787320" cy="11109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31" descr=""/>
          <p:cNvPicPr/>
          <p:nvPr/>
        </p:nvPicPr>
        <p:blipFill>
          <a:blip r:embed="rId11"/>
          <a:stretch/>
        </p:blipFill>
        <p:spPr>
          <a:xfrm>
            <a:off x="3630600" y="5748480"/>
            <a:ext cx="952560" cy="952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5" name="Object 40"/>
          <p:cNvGraphicFramePr/>
          <p:nvPr/>
        </p:nvGraphicFramePr>
        <p:xfrm>
          <a:off x="6581880" y="1023840"/>
          <a:ext cx="1500120" cy="200052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6" name="Object 40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6581880" y="1023840"/>
                    <a:ext cx="1500120" cy="200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87" name="Group 48"/>
          <p:cNvGrpSpPr/>
          <p:nvPr/>
        </p:nvGrpSpPr>
        <p:grpSpPr>
          <a:xfrm>
            <a:off x="7870320" y="1074240"/>
            <a:ext cx="1041840" cy="721080"/>
            <a:chOff x="7870320" y="1074240"/>
            <a:chExt cx="1041840" cy="721080"/>
          </a:xfrm>
        </p:grpSpPr>
        <p:pic>
          <p:nvPicPr>
            <p:cNvPr id="88" name="Picture 41" descr=""/>
            <p:cNvPicPr/>
            <p:nvPr/>
          </p:nvPicPr>
          <p:blipFill>
            <a:blip r:embed="rId14"/>
            <a:stretch/>
          </p:blipFill>
          <p:spPr>
            <a:xfrm>
              <a:off x="7989840" y="1077840"/>
              <a:ext cx="922320" cy="5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AutoShape 43"/>
            <p:cNvSpPr/>
            <p:nvPr/>
          </p:nvSpPr>
          <p:spPr>
            <a:xfrm rot="18114600">
              <a:off x="7956720" y="1183680"/>
              <a:ext cx="536760" cy="501840"/>
            </a:xfrm>
            <a:prstGeom prst="plus">
              <a:avLst>
                <a:gd name="adj" fmla="val 41759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Group 47"/>
          <p:cNvGrpSpPr/>
          <p:nvPr/>
        </p:nvGrpSpPr>
        <p:grpSpPr>
          <a:xfrm>
            <a:off x="5557680" y="1314360"/>
            <a:ext cx="1285560" cy="1294920"/>
            <a:chOff x="5557680" y="1314360"/>
            <a:chExt cx="1285560" cy="1294920"/>
          </a:xfrm>
        </p:grpSpPr>
        <p:pic>
          <p:nvPicPr>
            <p:cNvPr id="91" name="Picture 46" descr=""/>
            <p:cNvPicPr/>
            <p:nvPr/>
          </p:nvPicPr>
          <p:blipFill>
            <a:blip r:embed="rId15"/>
            <a:stretch/>
          </p:blipFill>
          <p:spPr>
            <a:xfrm rot="6243600">
              <a:off x="5665320" y="1433160"/>
              <a:ext cx="1069920" cy="105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AutoShape 42"/>
            <p:cNvSpPr/>
            <p:nvPr/>
          </p:nvSpPr>
          <p:spPr>
            <a:xfrm rot="18114600">
              <a:off x="5831280" y="1605600"/>
              <a:ext cx="709920" cy="663480"/>
            </a:xfrm>
            <a:prstGeom prst="plus">
              <a:avLst>
                <a:gd name="adj" fmla="val 41759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Group 44"/>
          <p:cNvGrpSpPr/>
          <p:nvPr/>
        </p:nvGrpSpPr>
        <p:grpSpPr>
          <a:xfrm>
            <a:off x="3673440" y="1547640"/>
            <a:ext cx="1893240" cy="1411200"/>
            <a:chOff x="3673440" y="1547640"/>
            <a:chExt cx="1893240" cy="1411200"/>
          </a:xfrm>
        </p:grpSpPr>
        <p:pic>
          <p:nvPicPr>
            <p:cNvPr id="94" name="Picture 37" descr=""/>
            <p:cNvPicPr/>
            <p:nvPr/>
          </p:nvPicPr>
          <p:blipFill>
            <a:blip r:embed="rId16"/>
            <a:stretch/>
          </p:blipFill>
          <p:spPr>
            <a:xfrm>
              <a:off x="3673440" y="1547640"/>
              <a:ext cx="1882800" cy="141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AutoShape 33"/>
            <p:cNvSpPr/>
            <p:nvPr/>
          </p:nvSpPr>
          <p:spPr>
            <a:xfrm rot="18114600">
              <a:off x="4943520" y="1915920"/>
              <a:ext cx="536400" cy="501840"/>
            </a:xfrm>
            <a:prstGeom prst="plus">
              <a:avLst>
                <a:gd name="adj" fmla="val 41759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6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Номер слайда 3"/>
          <p:cNvSpPr/>
          <p:nvPr/>
        </p:nvSpPr>
        <p:spPr>
          <a:xfrm>
            <a:off x="6843600" y="135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EF598-82A4-4DE3-A52B-4617E6C47D2E}" type="slidenum">
              <a:rPr b="1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395280" y="189000"/>
            <a:ext cx="8140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еред началом работ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6"/>
          <p:cNvSpPr/>
          <p:nvPr/>
        </p:nvSpPr>
        <p:spPr>
          <a:xfrm>
            <a:off x="412920" y="896760"/>
            <a:ext cx="8140680" cy="47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Не разрешается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45216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ходить в кабинет в верхней одежде, грязной обуви, с громоздкими предмет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45216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егать, прыгать в кабине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45216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ромко разговаривать, отвлекать других учени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45216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авить сумки и портфели на сто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45216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громождать прохо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45216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ключать напряжение се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45216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ключать и подключать устройства компьюте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Номер слайда 3"/>
          <p:cNvSpPr/>
          <p:nvPr/>
        </p:nvSpPr>
        <p:spPr>
          <a:xfrm>
            <a:off x="6843600" y="135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34B67-1851-41B5-8FF7-DEE517F40FD7}" type="slidenum">
              <a:rPr b="1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3"/>
          <p:cNvSpPr/>
          <p:nvPr/>
        </p:nvSpPr>
        <p:spPr>
          <a:xfrm>
            <a:off x="395280" y="189000"/>
            <a:ext cx="8140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Во время работ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412920" y="896760"/>
            <a:ext cx="8408880" cy="53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Не разрешается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45216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ключать питание се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45216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ботать при плохом самочувств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45216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ботать на неисправной техник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45216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ключать и подключать кабе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45216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ботать с грязными или влажными рук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45216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саться монитора, кабелей, разъемов, труб, батар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45216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двигать с места монитор и системный бл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45216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ласть что-либо на клавиатур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45216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жимать на клавиши с усилием или удар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45216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мостоятельно устранять неисправ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50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Номер слайда 3"/>
          <p:cNvSpPr/>
          <p:nvPr/>
        </p:nvSpPr>
        <p:spPr>
          <a:xfrm>
            <a:off x="6843600" y="135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0D329-210C-4CFC-9673-3753364D0C50}" type="slidenum">
              <a:rPr b="1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3"/>
          <p:cNvSpPr/>
          <p:nvPr/>
        </p:nvSpPr>
        <p:spPr>
          <a:xfrm>
            <a:off x="395280" y="189000"/>
            <a:ext cx="8140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Во время работ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412920" y="896760"/>
            <a:ext cx="8408880" cy="41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Нельзя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без разрешения учителя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45216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ключать и выключать компьютер, монито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45216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дключать наушн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45216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пускать посторонние програм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45216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крывать докумен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45216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зменять настройки компьюте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45216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ходить в сеть Интерн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45216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рать со стола учителя дискеты, бумаги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45216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ботать на компьютере учител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500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500"/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Номер слайда 3"/>
          <p:cNvSpPr/>
          <p:nvPr/>
        </p:nvSpPr>
        <p:spPr>
          <a:xfrm>
            <a:off x="6843600" y="135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852A5-E626-4D33-8826-153B4E9FB23B}" type="slidenum">
              <a:rPr b="1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395280" y="189000"/>
            <a:ext cx="8140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Во время работ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4"/>
          <p:cNvSpPr/>
          <p:nvPr/>
        </p:nvSpPr>
        <p:spPr>
          <a:xfrm>
            <a:off x="412920" y="896760"/>
            <a:ext cx="8408880" cy="452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Время непрерывной работы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45216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-5 классы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5 мину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45216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6-7 классы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0 мину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45216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8-9 классы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5 мину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45216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0-11 классы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50 минут (30 + 2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Общее время работы (в день)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45216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-5 классы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60 мину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45216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6-11 классы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90 мину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Расстояние от глаз до экрана: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0,6-0,7 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" dur="5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500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" dur="500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" dur="500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" dur="500"/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Номер слайда 3"/>
          <p:cNvSpPr/>
          <p:nvPr/>
        </p:nvSpPr>
        <p:spPr>
          <a:xfrm>
            <a:off x="6843600" y="135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CE9BE-2D15-40E3-B605-4FACC0506729}" type="slidenum">
              <a:rPr b="1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395280" y="189000"/>
            <a:ext cx="8140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Arial"/>
              </a:rPr>
              <a:t>Аварийные ситуаци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412920" y="896760"/>
            <a:ext cx="8408880" cy="56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 плохом самочувствии и головной боли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45216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кратить работ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45216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общить об этом учител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 появлении необычного звука, запах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45216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кратить работ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45216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общить об этом учител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 пожаре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45216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кратить работ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45216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 руководством учителя покинуть каби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 поражении электрическим током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45216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медленно отключить напряжение пит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45216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казать первую помощь пострадавшем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45216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ставить его в медпунк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2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5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" dur="500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3" dur="500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6" dur="500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" dur="500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4" dur="500"/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" dur="500"/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0" dur="500"/>
                                        <p:tgtEl>
                                          <p:spTgt spid="11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" dur="500"/>
                                        <p:tgtEl>
                                          <p:spTgt spid="11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Номер слайда 3"/>
          <p:cNvSpPr/>
          <p:nvPr/>
        </p:nvSpPr>
        <p:spPr>
          <a:xfrm>
            <a:off x="6843600" y="135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EC90C-9C04-4CEC-8473-DA77A3B63F92}" type="slidenum">
              <a:rPr b="1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3"/>
          <p:cNvSpPr/>
          <p:nvPr/>
        </p:nvSpPr>
        <p:spPr>
          <a:xfrm>
            <a:off x="395280" y="189000"/>
            <a:ext cx="8140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о окончании работ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4"/>
          <p:cNvSpPr/>
          <p:nvPr/>
        </p:nvSpPr>
        <p:spPr>
          <a:xfrm>
            <a:off x="412920" y="896760"/>
            <a:ext cx="8408880" cy="46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0000" indent="-270000">
              <a:spcBef>
                <a:spcPts val="1749"/>
              </a:spcBef>
              <a:buClr>
                <a:srgbClr val="33339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привести в порядок рабочее мест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84320" indent="-452520">
              <a:lnSpc>
                <a:spcPct val="75000"/>
              </a:lnSpc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крыть окна всех програм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84320" indent="-452520">
              <a:lnSpc>
                <a:spcPct val="75000"/>
              </a:lnSpc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далить свои файлы с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Рабочего Сто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84320" indent="-452520">
              <a:lnSpc>
                <a:spcPct val="75000"/>
              </a:lnSpc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двинуть кресл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1749"/>
              </a:spcBef>
              <a:buClr>
                <a:srgbClr val="33339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сдать учителю выданные материалы, дискеты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1749"/>
              </a:spcBef>
              <a:buClr>
                <a:srgbClr val="33339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при необходимости выключить компьютер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84320" indent="-452520">
              <a:lnSpc>
                <a:spcPct val="75000"/>
              </a:lnSpc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ключить питание системного бло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84320" indent="-452520">
              <a:lnSpc>
                <a:spcPct val="75000"/>
              </a:lnSpc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ключить монито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3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6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9" dur="500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2" dur="500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" dur="500"/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31T19:13:48Z</dcterms:created>
  <dc:creator>kp</dc:creator>
  <dc:description/>
  <dc:language>en-US</dc:language>
  <cp:lastModifiedBy>Шапарь О. И.</cp:lastModifiedBy>
  <dcterms:modified xsi:type="dcterms:W3CDTF">2009-05-13T05:19:44Z</dcterms:modified>
  <cp:revision>505</cp:revision>
  <dc:subject/>
  <dc:title>Программное обеспечение (ПО)</dc:title>
</cp:coreProperties>
</file>