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5B3C-76B3-4C4A-B368-32EB0BDA62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8154-448B-447C-B7B1-B600808EE2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CC2D-2834-4383-880F-6F0B497E1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01C5-1485-4148-A1FA-7CCE83C972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2791-DF71-4FF5-9DF5-011A13CB09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99C9-B4A0-4B41-88EC-8DD56EADBA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B51D-0349-47C5-B860-4A0EC98C8A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E54A-4A77-4E34-8ED4-4C192D0FAA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5F63-4C90-4228-A45B-5BE4A56B71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D91E-E963-46FB-AEA0-481B4564F7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F273-CD35-4939-84E5-AC09A97C19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08F4-678F-471C-9812-0A5212572D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6241-4C83-4AD6-B93B-45175CC2C7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099A-74AC-482A-A13E-98E670FFB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261B-1036-4F6B-B17A-F166AB94A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2941-9B04-46BD-BC0F-722B02E3FD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CB30-A327-491F-9285-4777076D7A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5D83-B51B-4816-9426-EE985866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BC5-3C21-46FE-8BD2-EF8B8409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76D-74D8-4A5A-B491-464EF8F2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C05-540C-4484-BFFC-46A06B6B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7D3-6EA2-427B-B426-4E4E0A07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284F-6BEB-4997-B502-FBE2B3CD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C05-3ACB-446F-B089-E92553A7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9071-0F3E-42F7-BAB1-6FF0DC9B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04D-7ACF-414D-B272-18C005B2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959-0B0F-451C-AA15-1D167B85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C64-CEA3-4E3C-89BC-B5CE853E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B40-93BA-4669-AD4E-79BB1E7F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240" y="134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1EDC-B713-4E6C-AA31-E4014802690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ail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Охрана труда </a:t>
            </a:r>
            <a:br>
              <a:rPr sz="7200"/>
            </a:b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 техника</a:t>
            </a:r>
            <a:br>
              <a:rPr sz="7200"/>
            </a:b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безопаснос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Ю. Поляков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струкция ИОТ-014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3" descr=""/>
          <p:cNvPicPr/>
          <p:nvPr/>
        </p:nvPicPr>
        <p:blipFill>
          <a:blip r:embed="rId1"/>
          <a:stretch/>
        </p:blipFill>
        <p:spPr>
          <a:xfrm rot="20167800">
            <a:off x="6676560" y="5225760"/>
            <a:ext cx="19735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D0C4-6135-4B99-82D5-4128EDC041FA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коллективной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12920" y="896760"/>
            <a:ext cx="840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 каждым учеником закреплен компью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ждый создает свою папку внутри папки своего класс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2214720" y="2800440"/>
            <a:ext cx="4889520" cy="3238200"/>
            <a:chOff x="2214720" y="2800440"/>
            <a:chExt cx="4889520" cy="3238200"/>
          </a:xfrm>
        </p:grpSpPr>
        <p:pic>
          <p:nvPicPr>
            <p:cNvPr id="125" name="Picture 8" descr=""/>
            <p:cNvPicPr/>
            <p:nvPr/>
          </p:nvPicPr>
          <p:blipFill>
            <a:blip r:embed="rId1"/>
            <a:stretch/>
          </p:blipFill>
          <p:spPr>
            <a:xfrm>
              <a:off x="2252880" y="2800440"/>
              <a:ext cx="4851360" cy="32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val 5"/>
            <p:cNvSpPr/>
            <p:nvPr/>
          </p:nvSpPr>
          <p:spPr>
            <a:xfrm>
              <a:off x="2214720" y="4484520"/>
              <a:ext cx="2629080" cy="943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C1D5-7F27-497D-A8DB-518D7A691EA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коллективной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12920" y="896760"/>
            <a:ext cx="840888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авливать и запускать посторонние программы (в т.ч. иг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ть свои файлы в чужую пап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матривать и изменять содержимое чужой па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скрытые файлы и па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ть настройки компьютер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 операционной системы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D7A4-14B1-4B8D-9BC1-8589EB3F7F5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работы с дискетами и дис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12920" y="896760"/>
            <a:ext cx="8408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щие прави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мож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пользовать дискеты для переноса своих учебных ф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кеты должны быть проверены антивирусными сред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флэш-д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ировать на жесткий диск информацию с диске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эш-дисков) и на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ужать компьютер с системной дискеты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эш-дис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77E2-E9E8-478A-938E-38777E54FEC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использования сети И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12920" y="896760"/>
            <a:ext cx="840888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Разрешается работать в сети Интернет, есл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предусмотрено темой урока, или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щийся выполнил и сдал задание данного уро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Запрещается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ещать сайты, посвященные эротике, терроризму и т.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ещать игровые сай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гистрироваться на сайта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ересылать информацию в СМИ и другие орган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анавливать через Интернет любые программы, активные элементы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полнительные модули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lugi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6E70-97BE-4B5F-B026-4543692EAC4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95280" y="189000"/>
            <a:ext cx="84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работы в сети И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12920" y="839880"/>
            <a:ext cx="8408880" cy="52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Можно</a:t>
            </a:r>
            <a:r>
              <a:rPr b="1" lang="ru-RU" sz="2600" spc="-1" strike="noStrike">
                <a:solidFill>
                  <a:srgbClr val="99cc00"/>
                </a:solidFill>
                <a:latin typeface="Arial"/>
              </a:rPr>
              <a:t>: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ть электронную почту на сайтах с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терфейсом (</a:t>
            </a:r>
            <a:r>
              <a:rPr b="0" lang="en-US" sz="26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mail.r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кать материалы и иллюстрации для рефера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Скачивание информации из сети Интерн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ачивание файлов объемом более 1 Мб возможно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только с разрешения учи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запрещается запускать любые програм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олученные через Интернет, в том числе самораспаковывающиеся архив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скачанные файлы должны быть удалены со школьных компьютеров в кратчайшие сро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01B5-5580-4DBF-962D-94394C318FD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жнения для гл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41280" y="982800"/>
            <a:ext cx="837252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рыть глаза, сильно напрягая глазные мышцы, затем раскрыть глаза, расслабив мышцы глаз,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мотреть на переносицу и задержать взор. До усталости глаза не доводить. Затем открыть глаза,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ворачивая головы, посмотреть направо и зафиксировать взгляд, затем посмотреть вдаль. Аналогично проводятся упражнения, но с фиксацией взгляда влево, вверх и вни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ворачивая головы, делать медленно круговые движения глазами вверх-вправо-вниз-влево и в обратную сторону: вверх-влево-вниз-вправо. Затем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мотреть на указательный палец, удаленный от глаз на расстояние 25 - 30 см, потом перевести взор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E4E4-8901-4464-B8B7-0744C4A78663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не навредит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66840" y="941400"/>
            <a:ext cx="84787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ын спрашивает у отца-программиста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А почему солнце встает на восто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заходи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на западе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Ты проверял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Проверя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Работает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Работае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Ну и пусть работает, не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надо ничего менять!!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5526000" y="2290680"/>
            <a:ext cx="29750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FFFF-F4CD-441D-8CE0-54110228BCAB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7B03-E841-4F8E-B6BE-506C47F6C286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щие по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12920" y="896760"/>
            <a:ext cx="814068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чем это нуж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жизни и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ебования к учащим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йти инструктаж (с 14 лет – под роспис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ать правила поведения (см. дале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ть требования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абинете должны бы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течка для оказания пер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екислотный огнетуш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"/>
          <p:cNvPicPr/>
          <p:nvPr/>
        </p:nvPicPr>
        <p:blipFill>
          <a:blip r:embed="rId1"/>
          <a:stretch/>
        </p:blipFill>
        <p:spPr>
          <a:xfrm>
            <a:off x="6777000" y="5175360"/>
            <a:ext cx="1027080" cy="793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2"/>
          <a:stretch/>
        </p:blipFill>
        <p:spPr>
          <a:xfrm>
            <a:off x="7697880" y="5218200"/>
            <a:ext cx="1292040" cy="163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"/>
          <p:cNvPicPr/>
          <p:nvPr/>
        </p:nvPicPr>
        <p:blipFill>
          <a:blip r:embed="rId3"/>
          <a:stretch/>
        </p:blipFill>
        <p:spPr>
          <a:xfrm>
            <a:off x="6396120" y="928800"/>
            <a:ext cx="1982880" cy="13777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26"/>
          <p:cNvGrpSpPr/>
          <p:nvPr/>
        </p:nvGrpSpPr>
        <p:grpSpPr>
          <a:xfrm>
            <a:off x="4340160" y="1954080"/>
            <a:ext cx="1968120" cy="1519560"/>
            <a:chOff x="4340160" y="1954080"/>
            <a:chExt cx="1968120" cy="1519560"/>
          </a:xfrm>
        </p:grpSpPr>
        <p:pic>
          <p:nvPicPr>
            <p:cNvPr id="60" name="Picture 22" descr=""/>
            <p:cNvPicPr/>
            <p:nvPr/>
          </p:nvPicPr>
          <p:blipFill>
            <a:blip r:embed="rId4"/>
            <a:stretch/>
          </p:blipFill>
          <p:spPr>
            <a:xfrm>
              <a:off x="4340160" y="1954080"/>
              <a:ext cx="182088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AutoShape 25"/>
            <p:cNvSpPr/>
            <p:nvPr/>
          </p:nvSpPr>
          <p:spPr>
            <a:xfrm rot="16820400">
              <a:off x="5563080" y="2732760"/>
              <a:ext cx="709920" cy="66348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6383-A4EA-4291-847F-679319DEEA6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Опасности в компьютерном класс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12920" y="1022400"/>
            <a:ext cx="814068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ический ток, 220 воль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магнитное излучение мони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5"/>
          <p:cNvGrpSpPr/>
          <p:nvPr/>
        </p:nvGrpSpPr>
        <p:grpSpPr>
          <a:xfrm>
            <a:off x="2123280" y="1353960"/>
            <a:ext cx="1078560" cy="1684440"/>
            <a:chOff x="2123280" y="1353960"/>
            <a:chExt cx="1078560" cy="1684440"/>
          </a:xfrm>
        </p:grpSpPr>
        <p:pic>
          <p:nvPicPr>
            <p:cNvPr id="67" name="Picture 8" descr=""/>
            <p:cNvPicPr/>
            <p:nvPr/>
          </p:nvPicPr>
          <p:blipFill>
            <a:blip r:embed="rId1"/>
            <a:stretch/>
          </p:blipFill>
          <p:spPr>
            <a:xfrm>
              <a:off x="2127240" y="1353960"/>
              <a:ext cx="10746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AutoShape 9"/>
            <p:cNvSpPr/>
            <p:nvPr/>
          </p:nvSpPr>
          <p:spPr>
            <a:xfrm rot="18114600">
              <a:off x="2220480" y="1672560"/>
              <a:ext cx="601560" cy="56340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6291360" y="3510000"/>
            <a:ext cx="1492200" cy="178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2436840" y="3718080"/>
            <a:ext cx="1825560" cy="15667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49"/>
          <p:cNvGrpSpPr/>
          <p:nvPr/>
        </p:nvGrpSpPr>
        <p:grpSpPr>
          <a:xfrm>
            <a:off x="4340160" y="3724200"/>
            <a:ext cx="2007360" cy="1492200"/>
            <a:chOff x="4340160" y="3724200"/>
            <a:chExt cx="2007360" cy="1492200"/>
          </a:xfrm>
        </p:grpSpPr>
        <p:sp>
          <p:nvSpPr>
            <p:cNvPr id="72" name="Freeform 15"/>
            <p:cNvSpPr/>
            <p:nvPr/>
          </p:nvSpPr>
          <p:spPr>
            <a:xfrm>
              <a:off x="4589640" y="3724200"/>
              <a:ext cx="1520640" cy="1492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4792680" y="4100400"/>
              <a:ext cx="289080" cy="1106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7"/>
            <p:cNvSpPr/>
            <p:nvPr/>
          </p:nvSpPr>
          <p:spPr>
            <a:xfrm>
              <a:off x="5457960" y="5091120"/>
              <a:ext cx="288720" cy="115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9"/>
            <p:cNvSpPr/>
            <p:nvPr/>
          </p:nvSpPr>
          <p:spPr>
            <a:xfrm>
              <a:off x="4340160" y="4408560"/>
              <a:ext cx="414360" cy="307800"/>
            </a:xfrm>
            <a:custGeom>
              <a:avLst/>
              <a:gdLst>
                <a:gd name="textAreaLeft" fmla="*/ 51840 w 414360"/>
                <a:gd name="textAreaRight" fmla="*/ 362880 w 414360"/>
                <a:gd name="textAreaTop" fmla="*/ 77040 h 307800"/>
                <a:gd name="textAreaBottom" fmla="*/ 23112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22"/>
            <p:cNvSpPr/>
            <p:nvPr/>
          </p:nvSpPr>
          <p:spPr>
            <a:xfrm rot="9476400">
              <a:off x="5890320" y="4792320"/>
              <a:ext cx="414360" cy="307800"/>
            </a:xfrm>
            <a:custGeom>
              <a:avLst/>
              <a:gdLst>
                <a:gd name="textAreaLeft" fmla="*/ 51840 w 414360"/>
                <a:gd name="textAreaRight" fmla="*/ 362880 w 414360"/>
                <a:gd name="textAreaTop" fmla="*/ 77040 h 307800"/>
                <a:gd name="textAreaBottom" fmla="*/ 23112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4" descr=""/>
          <p:cNvPicPr/>
          <p:nvPr/>
        </p:nvPicPr>
        <p:blipFill>
          <a:blip r:embed="rId4"/>
          <a:stretch/>
        </p:blipFill>
        <p:spPr>
          <a:xfrm>
            <a:off x="1141560" y="574848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5"/>
          <a:stretch/>
        </p:blipFill>
        <p:spPr>
          <a:xfrm>
            <a:off x="238608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6"/>
          <a:stretch/>
        </p:blipFill>
        <p:spPr>
          <a:xfrm>
            <a:off x="487512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"/>
          <p:cNvPicPr/>
          <p:nvPr/>
        </p:nvPicPr>
        <p:blipFill>
          <a:blip r:embed="rId7"/>
          <a:stretch/>
        </p:blipFill>
        <p:spPr>
          <a:xfrm>
            <a:off x="611964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8" descr=""/>
          <p:cNvPicPr/>
          <p:nvPr/>
        </p:nvPicPr>
        <p:blipFill>
          <a:blip r:embed="rId8"/>
          <a:stretch/>
        </p:blipFill>
        <p:spPr>
          <a:xfrm>
            <a:off x="1255680" y="3905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"/>
          <p:cNvPicPr/>
          <p:nvPr/>
        </p:nvPicPr>
        <p:blipFill>
          <a:blip r:embed="rId9"/>
          <a:stretch/>
        </p:blipFill>
        <p:spPr>
          <a:xfrm>
            <a:off x="1101600" y="1663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"/>
          <p:cNvPicPr/>
          <p:nvPr/>
        </p:nvPicPr>
        <p:blipFill>
          <a:blip r:embed="rId10"/>
          <a:stretch/>
        </p:blipFill>
        <p:spPr>
          <a:xfrm>
            <a:off x="7365960" y="5589720"/>
            <a:ext cx="787320" cy="1110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1" descr=""/>
          <p:cNvPicPr/>
          <p:nvPr/>
        </p:nvPicPr>
        <p:blipFill>
          <a:blip r:embed="rId11"/>
          <a:stretch/>
        </p:blipFill>
        <p:spPr>
          <a:xfrm>
            <a:off x="3630600" y="5748480"/>
            <a:ext cx="952560" cy="95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Object 40"/>
          <p:cNvGraphicFramePr/>
          <p:nvPr/>
        </p:nvGraphicFramePr>
        <p:xfrm>
          <a:off x="6581880" y="1023840"/>
          <a:ext cx="1500120" cy="2000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" name="Object 4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81880" y="1023840"/>
                    <a:ext cx="15001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48"/>
          <p:cNvGrpSpPr/>
          <p:nvPr/>
        </p:nvGrpSpPr>
        <p:grpSpPr>
          <a:xfrm>
            <a:off x="7870320" y="1074240"/>
            <a:ext cx="1041840" cy="721080"/>
            <a:chOff x="7870320" y="1074240"/>
            <a:chExt cx="1041840" cy="721080"/>
          </a:xfrm>
        </p:grpSpPr>
        <p:pic>
          <p:nvPicPr>
            <p:cNvPr id="88" name="Picture 41" descr=""/>
            <p:cNvPicPr/>
            <p:nvPr/>
          </p:nvPicPr>
          <p:blipFill>
            <a:blip r:embed="rId14"/>
            <a:stretch/>
          </p:blipFill>
          <p:spPr>
            <a:xfrm>
              <a:off x="7989840" y="1077840"/>
              <a:ext cx="92232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43"/>
            <p:cNvSpPr/>
            <p:nvPr/>
          </p:nvSpPr>
          <p:spPr>
            <a:xfrm rot="18114600">
              <a:off x="7956720" y="1183680"/>
              <a:ext cx="536760" cy="50184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47"/>
          <p:cNvGrpSpPr/>
          <p:nvPr/>
        </p:nvGrpSpPr>
        <p:grpSpPr>
          <a:xfrm>
            <a:off x="5557680" y="1314360"/>
            <a:ext cx="1285560" cy="1294920"/>
            <a:chOff x="5557680" y="1314360"/>
            <a:chExt cx="1285560" cy="1294920"/>
          </a:xfrm>
        </p:grpSpPr>
        <p:pic>
          <p:nvPicPr>
            <p:cNvPr id="91" name="Picture 46" descr=""/>
            <p:cNvPicPr/>
            <p:nvPr/>
          </p:nvPicPr>
          <p:blipFill>
            <a:blip r:embed="rId15"/>
            <a:stretch/>
          </p:blipFill>
          <p:spPr>
            <a:xfrm rot="6243600">
              <a:off x="5665320" y="1433160"/>
              <a:ext cx="106992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42"/>
            <p:cNvSpPr/>
            <p:nvPr/>
          </p:nvSpPr>
          <p:spPr>
            <a:xfrm rot="18114600">
              <a:off x="5831280" y="1605600"/>
              <a:ext cx="709920" cy="66348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4"/>
          <p:cNvGrpSpPr/>
          <p:nvPr/>
        </p:nvGrpSpPr>
        <p:grpSpPr>
          <a:xfrm>
            <a:off x="3673440" y="1547640"/>
            <a:ext cx="1893240" cy="1411200"/>
            <a:chOff x="3673440" y="1547640"/>
            <a:chExt cx="1893240" cy="1411200"/>
          </a:xfrm>
        </p:grpSpPr>
        <p:pic>
          <p:nvPicPr>
            <p:cNvPr id="94" name="Picture 37" descr=""/>
            <p:cNvPicPr/>
            <p:nvPr/>
          </p:nvPicPr>
          <p:blipFill>
            <a:blip r:embed="rId16"/>
            <a:stretch/>
          </p:blipFill>
          <p:spPr>
            <a:xfrm>
              <a:off x="3673440" y="1547640"/>
              <a:ext cx="1882800" cy="14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AutoShape 33"/>
            <p:cNvSpPr/>
            <p:nvPr/>
          </p:nvSpPr>
          <p:spPr>
            <a:xfrm rot="18114600">
              <a:off x="4943520" y="1915920"/>
              <a:ext cx="536400" cy="50184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EE8D-F235-46B8-9D8F-E343E954191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д началом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12920" y="896760"/>
            <a:ext cx="8140680" cy="47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разрешаетс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ить в кабинет в верхней одежде, грязной обуви, с громоздкими предме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гать, прыгать в каби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омко разговаривать, отвлекать других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ить сумки и портфели на 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омождать про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напряжение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ючать и подключать устройства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7B61-4493-48B1-ABF4-DE2F536EB895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12920" y="896760"/>
            <a:ext cx="84088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разрешаетс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питание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при плохом самочувств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на неисправной тех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ючать и подключать каб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с грязными или влажными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аться монитора, кабелей, разъемов, труб, бата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вигать с места монитор и системный 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ть что-либо на клавиат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имать на клавиши с усилием или уда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о устранять неиспра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87D3-F524-4378-9616-695664B3EDF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12920" y="896760"/>
            <a:ext cx="84088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и выключать компьютер, мон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лючать науш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ускать посторонни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вать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ть настройки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ить в сеть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ь со стола учителя дискеты, бумаги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на компьютере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3C80-E37F-4F05-AE5D-E826E35B316A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12920" y="896760"/>
            <a:ext cx="8408880" cy="45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ремя непрерывной рабо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5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7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-11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 минут (30 +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щее время работы (в день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5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11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сстояние от глаз до экрана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6-0,7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6493-0483-4809-AAD3-BA7CB63F7B2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Аварийные ситу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12920" y="896760"/>
            <a:ext cx="840888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лохом самочувствии и головной бо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ить об этом 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явлении необычного звука, запа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ить об этом 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жар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руководством учителя покинуть каби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ражении электрическим ток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дленно отключить напряжение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ть первую помощь пострадавш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вить его в медпун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6A45-800B-4F36-BC85-997EDD68B86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 окончании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12920" y="896760"/>
            <a:ext cx="8408880" cy="46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вести в порядок рабочее м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ыть окна всех 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ить свои файлы с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бочего Ст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винуть кре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дать учителю выданные материалы, дискеты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 необходимости выключить компью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ключить питание системного б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ключить мон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Шапарь О. И.</cp:lastModifiedBy>
  <dcterms:modified xsi:type="dcterms:W3CDTF">2009-05-13T05:19:44Z</dcterms:modified>
  <cp:revision>505</cp:revision>
  <dc:subject/>
  <dc:title>Программное обеспечение (ПО)</dc:title>
</cp:coreProperties>
</file>