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82F4-7E78-43A4-BF08-F24155B4A6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3D63-35C8-4C06-9953-851DEF257F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5790-4586-42A3-81F9-28A22C225A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A098-C665-44B0-9A33-135F539B5B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C29F-E574-45E0-8B25-9BC4751B90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A329-486F-451E-BB77-538BAA75AB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FBE6-D117-4176-A85E-72678662CF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3508-6996-4774-9518-D6B059C7D9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608A-66DE-4FB6-9B0A-A8B21530AE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57BA-EE26-49BC-A8BE-42304000FE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5750-587D-4069-B922-E8917577A1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FFF0-DBC8-4C34-841D-898C5015DB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0C70-41DE-4C8B-8FD1-7568D94B08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DA70-ADBC-4941-B226-9458346480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ECEF-2D2A-4495-8CAE-B1199D9069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EAAA-EDB2-4A1D-BD2D-B72B4D884D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4282-EA76-470B-95B5-91C802F034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2819-3BF1-4100-830C-7F5A3BF0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B018-FD8E-422F-ACAF-03021FF9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C5D8-870B-4A6D-BFF5-F4C9434C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AE5A-13D1-48CC-88EF-1455A6B9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50A1-D1AA-43B4-966D-1B15613D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A20F-E29C-4A97-928F-EE94A494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D968-0862-4423-BFBF-482F157D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5023-3086-454C-9E9C-325F2352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D815-509D-4C86-8797-069262E0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631A-DC32-4771-BE18-AA5F379A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6780-A794-47C4-8049-E68639F6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D62A-B048-4E23-AEDE-D0565149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43240" y="134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E7A2-EE4E-4DF5-877B-AC3B1DC0B0CC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ail.r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1092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Охрана труда </a:t>
            </a:r>
            <a:br>
              <a:rPr sz="7200"/>
            </a:b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и техника</a:t>
            </a:r>
            <a:br>
              <a:rPr sz="7200"/>
            </a:b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безопасност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360" y="6216480"/>
            <a:ext cx="405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.Ю. Поляков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74560" y="4377960"/>
            <a:ext cx="83692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струкция ИОТ-014-2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3" descr=""/>
          <p:cNvPicPr/>
          <p:nvPr/>
        </p:nvPicPr>
        <p:blipFill>
          <a:blip r:embed="rId1"/>
          <a:stretch/>
        </p:blipFill>
        <p:spPr>
          <a:xfrm rot="20167800">
            <a:off x="6676560" y="5225760"/>
            <a:ext cx="197352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55CD-F211-4EC7-8742-C231DD3FBC91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авила коллективной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12920" y="896760"/>
            <a:ext cx="8408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749"/>
              </a:spcBef>
              <a:buClr>
                <a:srgbClr val="3333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 каждым учеником закреплен компью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749"/>
              </a:spcBef>
              <a:buClr>
                <a:srgbClr val="3333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ждый создает свою папку внутри папки своего класс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9"/>
          <p:cNvGrpSpPr/>
          <p:nvPr/>
        </p:nvGrpSpPr>
        <p:grpSpPr>
          <a:xfrm>
            <a:off x="2214720" y="2800440"/>
            <a:ext cx="4889520" cy="3238200"/>
            <a:chOff x="2214720" y="2800440"/>
            <a:chExt cx="4889520" cy="3238200"/>
          </a:xfrm>
        </p:grpSpPr>
        <p:pic>
          <p:nvPicPr>
            <p:cNvPr id="125" name="Picture 8" descr=""/>
            <p:cNvPicPr/>
            <p:nvPr/>
          </p:nvPicPr>
          <p:blipFill>
            <a:blip r:embed="rId1"/>
            <a:stretch/>
          </p:blipFill>
          <p:spPr>
            <a:xfrm>
              <a:off x="2252880" y="2800440"/>
              <a:ext cx="4851360" cy="32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Oval 5"/>
            <p:cNvSpPr/>
            <p:nvPr/>
          </p:nvSpPr>
          <p:spPr>
            <a:xfrm>
              <a:off x="2214720" y="4484520"/>
              <a:ext cx="2629080" cy="943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3694-BE9C-47F2-A4A4-9EDCB07D083A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авила коллективной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12920" y="896760"/>
            <a:ext cx="8408880" cy="38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льз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без разрешения учител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авливать и запускать посторонние программы (в т.ч. игр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сывать свои файлы в чужую пап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матривать и изменять содержимое чужой пап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вать скрытые файлы и пап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ять настройки компьютера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O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и операционной системы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2C54-B9CE-4E32-B773-A7DDA5A4B7D6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авила работы с дискетами и диск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12920" y="896760"/>
            <a:ext cx="8408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щие правил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мож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спользовать дискеты для переноса своих учебных фай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скеты должны быть проверены антивирусными сред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льз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без разрешения учител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, DV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флэш-ди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пировать на жесткий диск информацию с дискет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, DVD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лэш-дисков) и наобор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гружать компьютер с системной дискеты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, DVD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лэш-дис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E70C-9E3C-422A-AFB4-36C3F3AE8282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авила использования сети Интерн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12920" y="896760"/>
            <a:ext cx="840888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Разрешается работать в сети Интернет, если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предусмотрено темой урока, или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ащийся выполнил и сдал задание данного уро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Запрещается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ещать сайты, посвященные эротике, терроризму и т.п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ещать игровые сай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гистрироваться на сайтах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ересылать информацию в СМИ и другие организ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танавливать через Интернет любые программы, активные элементы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ctiveX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полнительные модули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lugi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9197-415F-45D9-8647-2AAFB4B1D099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95280" y="189000"/>
            <a:ext cx="849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авила работы в сети Интерн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412920" y="839880"/>
            <a:ext cx="8408880" cy="52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900"/>
                </a:solidFill>
                <a:latin typeface="Arial"/>
              </a:rPr>
              <a:t>Можно</a:t>
            </a:r>
            <a:r>
              <a:rPr b="1" lang="ru-RU" sz="2600" spc="-1" strike="noStrike">
                <a:solidFill>
                  <a:srgbClr val="99cc00"/>
                </a:solidFill>
                <a:latin typeface="Arial"/>
              </a:rPr>
              <a:t>: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452520">
              <a:lnSpc>
                <a:spcPct val="85000"/>
              </a:lnSpc>
              <a:spcBef>
                <a:spcPts val="81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пользовать электронную почту на сайтах с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терфейсом (</a:t>
            </a:r>
            <a:r>
              <a:rPr b="0" lang="en-US" sz="26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www.mail.r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…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452520">
              <a:lnSpc>
                <a:spcPct val="85000"/>
              </a:lnSpc>
              <a:spcBef>
                <a:spcPts val="81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кать материалы и иллюстрации для рефера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Скачивание информации из сети Интернет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452520">
              <a:lnSpc>
                <a:spcPct val="85000"/>
              </a:lnSpc>
              <a:spcBef>
                <a:spcPts val="81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качивание файлов объемом более 1 Мб возможно 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только с разрешения учител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452520">
              <a:lnSpc>
                <a:spcPct val="85000"/>
              </a:lnSpc>
              <a:spcBef>
                <a:spcPts val="81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запрещается запускать любые программ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полученные через Интернет, в том числе самораспаковывающиеся архив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452520">
              <a:lnSpc>
                <a:spcPct val="85000"/>
              </a:lnSpc>
              <a:spcBef>
                <a:spcPts val="81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е скачанные файлы должны быть удалены со школьных компьютеров в кратчайшие сро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72FD-FC65-407A-A2DD-5979DB37E75F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пражнения для гла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41280" y="982800"/>
            <a:ext cx="8372520" cy="50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рыть глаза, сильно напрягая глазные мышцы, затем раскрыть глаза, расслабив мышцы глаз, посмотреть вда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мотреть на переносицу и задержать взор. До усталости глаза не доводить. Затем открыть глаза, посмотреть вда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поворачивая головы, посмотреть направо и зафиксировать взгляд, затем посмотреть вдаль. Аналогично проводятся упражнения, но с фиксацией взгляда влево, вверх и вниз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поворачивая головы, делать медленно круговые движения глазами вверх-вправо-вниз-влево и в обратную сторону: вверх-влево-вниз-вправо. Затем посмотреть вда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мотреть на указательный палец, удаленный от глаз на расстояние 25 - 30 см, потом перевести взор вда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BAC7-215C-46E8-ABA9-DC3898BCDEA6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не навредить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366840" y="941400"/>
            <a:ext cx="84787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ын спрашивает у отца-программиста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А почему солнце встает на восток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заходит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на западе?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Ты проверял?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Проверял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Работает?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Работает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Ну и пусть работает, не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надо ничего менять!!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5526000" y="2290680"/>
            <a:ext cx="297504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027F-0D85-4987-A1E1-3C5C08A2C86F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ец филь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5ED1-0771-4ECE-A786-5CB085F9C938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щие полож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412920" y="896760"/>
            <a:ext cx="8140680" cy="55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чем это нуж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ение жизни и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ение тех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ребования к учащим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йти инструктаж (с 14 лет – под роспис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людать правила поведения (см. дале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ять требования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кабинете должны бы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птечка для оказания перв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лекислотный огнетуш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0" descr=""/>
          <p:cNvPicPr/>
          <p:nvPr/>
        </p:nvPicPr>
        <p:blipFill>
          <a:blip r:embed="rId1"/>
          <a:stretch/>
        </p:blipFill>
        <p:spPr>
          <a:xfrm>
            <a:off x="6777000" y="5175360"/>
            <a:ext cx="1027080" cy="793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"/>
          <p:cNvPicPr/>
          <p:nvPr/>
        </p:nvPicPr>
        <p:blipFill>
          <a:blip r:embed="rId2"/>
          <a:stretch/>
        </p:blipFill>
        <p:spPr>
          <a:xfrm>
            <a:off x="7697880" y="5218200"/>
            <a:ext cx="1292040" cy="1639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3" descr=""/>
          <p:cNvPicPr/>
          <p:nvPr/>
        </p:nvPicPr>
        <p:blipFill>
          <a:blip r:embed="rId3"/>
          <a:stretch/>
        </p:blipFill>
        <p:spPr>
          <a:xfrm>
            <a:off x="6396120" y="928800"/>
            <a:ext cx="1982880" cy="137772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26"/>
          <p:cNvGrpSpPr/>
          <p:nvPr/>
        </p:nvGrpSpPr>
        <p:grpSpPr>
          <a:xfrm>
            <a:off x="4340160" y="1954080"/>
            <a:ext cx="1968120" cy="1519560"/>
            <a:chOff x="4340160" y="1954080"/>
            <a:chExt cx="1968120" cy="1519560"/>
          </a:xfrm>
        </p:grpSpPr>
        <p:pic>
          <p:nvPicPr>
            <p:cNvPr id="60" name="Picture 22" descr=""/>
            <p:cNvPicPr/>
            <p:nvPr/>
          </p:nvPicPr>
          <p:blipFill>
            <a:blip r:embed="rId4"/>
            <a:stretch/>
          </p:blipFill>
          <p:spPr>
            <a:xfrm>
              <a:off x="4340160" y="1954080"/>
              <a:ext cx="182088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AutoShape 25"/>
            <p:cNvSpPr/>
            <p:nvPr/>
          </p:nvSpPr>
          <p:spPr>
            <a:xfrm rot="16820400">
              <a:off x="5563080" y="2732760"/>
              <a:ext cx="709920" cy="663480"/>
            </a:xfrm>
            <a:prstGeom prst="plus">
              <a:avLst>
                <a:gd name="adj" fmla="val 4175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5128-2FAD-4393-96D1-71A2C2585B84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Опасности в компьютерном класс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412920" y="1022400"/>
            <a:ext cx="814068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ический ток, 220 воль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магнитное излучение мони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в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35"/>
          <p:cNvGrpSpPr/>
          <p:nvPr/>
        </p:nvGrpSpPr>
        <p:grpSpPr>
          <a:xfrm>
            <a:off x="2123280" y="1353960"/>
            <a:ext cx="1078560" cy="1684440"/>
            <a:chOff x="2123280" y="1353960"/>
            <a:chExt cx="1078560" cy="1684440"/>
          </a:xfrm>
        </p:grpSpPr>
        <p:pic>
          <p:nvPicPr>
            <p:cNvPr id="67" name="Picture 8" descr=""/>
            <p:cNvPicPr/>
            <p:nvPr/>
          </p:nvPicPr>
          <p:blipFill>
            <a:blip r:embed="rId1"/>
            <a:stretch/>
          </p:blipFill>
          <p:spPr>
            <a:xfrm>
              <a:off x="2127240" y="1353960"/>
              <a:ext cx="1074600" cy="16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AutoShape 9"/>
            <p:cNvSpPr/>
            <p:nvPr/>
          </p:nvSpPr>
          <p:spPr>
            <a:xfrm rot="18114600">
              <a:off x="2220480" y="1672560"/>
              <a:ext cx="601560" cy="563400"/>
            </a:xfrm>
            <a:prstGeom prst="plus">
              <a:avLst>
                <a:gd name="adj" fmla="val 4175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12" descr=""/>
          <p:cNvPicPr/>
          <p:nvPr/>
        </p:nvPicPr>
        <p:blipFill>
          <a:blip r:embed="rId2"/>
          <a:stretch/>
        </p:blipFill>
        <p:spPr>
          <a:xfrm>
            <a:off x="6291360" y="3510000"/>
            <a:ext cx="1492200" cy="1782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3"/>
          <a:stretch/>
        </p:blipFill>
        <p:spPr>
          <a:xfrm>
            <a:off x="2436840" y="3718080"/>
            <a:ext cx="1825560" cy="156672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49"/>
          <p:cNvGrpSpPr/>
          <p:nvPr/>
        </p:nvGrpSpPr>
        <p:grpSpPr>
          <a:xfrm>
            <a:off x="4340160" y="3724200"/>
            <a:ext cx="2007360" cy="1492200"/>
            <a:chOff x="4340160" y="3724200"/>
            <a:chExt cx="2007360" cy="1492200"/>
          </a:xfrm>
        </p:grpSpPr>
        <p:sp>
          <p:nvSpPr>
            <p:cNvPr id="72" name="Freeform 15"/>
            <p:cNvSpPr/>
            <p:nvPr/>
          </p:nvSpPr>
          <p:spPr>
            <a:xfrm>
              <a:off x="4589640" y="3724200"/>
              <a:ext cx="1520640" cy="14922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4792680" y="4100400"/>
              <a:ext cx="289080" cy="1106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7"/>
            <p:cNvSpPr/>
            <p:nvPr/>
          </p:nvSpPr>
          <p:spPr>
            <a:xfrm>
              <a:off x="5457960" y="5091120"/>
              <a:ext cx="288720" cy="115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19"/>
            <p:cNvSpPr/>
            <p:nvPr/>
          </p:nvSpPr>
          <p:spPr>
            <a:xfrm>
              <a:off x="4340160" y="4408560"/>
              <a:ext cx="414360" cy="307800"/>
            </a:xfrm>
            <a:custGeom>
              <a:avLst/>
              <a:gdLst>
                <a:gd name="textAreaLeft" fmla="*/ 51840 w 414360"/>
                <a:gd name="textAreaRight" fmla="*/ 362880 w 414360"/>
                <a:gd name="textAreaTop" fmla="*/ 77040 h 307800"/>
                <a:gd name="textAreaBottom" fmla="*/ 231120 h 30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22"/>
            <p:cNvSpPr/>
            <p:nvPr/>
          </p:nvSpPr>
          <p:spPr>
            <a:xfrm rot="9476400">
              <a:off x="5890320" y="4792320"/>
              <a:ext cx="414360" cy="307800"/>
            </a:xfrm>
            <a:custGeom>
              <a:avLst/>
              <a:gdLst>
                <a:gd name="textAreaLeft" fmla="*/ 51840 w 414360"/>
                <a:gd name="textAreaRight" fmla="*/ 362880 w 414360"/>
                <a:gd name="textAreaTop" fmla="*/ 77040 h 307800"/>
                <a:gd name="textAreaBottom" fmla="*/ 231120 h 30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24" descr=""/>
          <p:cNvPicPr/>
          <p:nvPr/>
        </p:nvPicPr>
        <p:blipFill>
          <a:blip r:embed="rId4"/>
          <a:stretch/>
        </p:blipFill>
        <p:spPr>
          <a:xfrm>
            <a:off x="1141560" y="5748480"/>
            <a:ext cx="952200" cy="952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5" descr=""/>
          <p:cNvPicPr/>
          <p:nvPr/>
        </p:nvPicPr>
        <p:blipFill>
          <a:blip r:embed="rId5"/>
          <a:stretch/>
        </p:blipFill>
        <p:spPr>
          <a:xfrm>
            <a:off x="2386080" y="574848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" descr=""/>
          <p:cNvPicPr/>
          <p:nvPr/>
        </p:nvPicPr>
        <p:blipFill>
          <a:blip r:embed="rId6"/>
          <a:stretch/>
        </p:blipFill>
        <p:spPr>
          <a:xfrm>
            <a:off x="4875120" y="574848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7" descr=""/>
          <p:cNvPicPr/>
          <p:nvPr/>
        </p:nvPicPr>
        <p:blipFill>
          <a:blip r:embed="rId7"/>
          <a:stretch/>
        </p:blipFill>
        <p:spPr>
          <a:xfrm>
            <a:off x="6119640" y="574848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8" descr=""/>
          <p:cNvPicPr/>
          <p:nvPr/>
        </p:nvPicPr>
        <p:blipFill>
          <a:blip r:embed="rId8"/>
          <a:stretch/>
        </p:blipFill>
        <p:spPr>
          <a:xfrm>
            <a:off x="1255680" y="3905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9" descr=""/>
          <p:cNvPicPr/>
          <p:nvPr/>
        </p:nvPicPr>
        <p:blipFill>
          <a:blip r:embed="rId9"/>
          <a:stretch/>
        </p:blipFill>
        <p:spPr>
          <a:xfrm>
            <a:off x="1101600" y="16635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0" descr=""/>
          <p:cNvPicPr/>
          <p:nvPr/>
        </p:nvPicPr>
        <p:blipFill>
          <a:blip r:embed="rId10"/>
          <a:stretch/>
        </p:blipFill>
        <p:spPr>
          <a:xfrm>
            <a:off x="7365960" y="5589720"/>
            <a:ext cx="787320" cy="1110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1" descr=""/>
          <p:cNvPicPr/>
          <p:nvPr/>
        </p:nvPicPr>
        <p:blipFill>
          <a:blip r:embed="rId11"/>
          <a:stretch/>
        </p:blipFill>
        <p:spPr>
          <a:xfrm>
            <a:off x="3630600" y="5748480"/>
            <a:ext cx="952560" cy="95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Object 40"/>
          <p:cNvGraphicFramePr/>
          <p:nvPr/>
        </p:nvGraphicFramePr>
        <p:xfrm>
          <a:off x="6581880" y="1023840"/>
          <a:ext cx="1500120" cy="2000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6" name="Object 4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581880" y="1023840"/>
                    <a:ext cx="150012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48"/>
          <p:cNvGrpSpPr/>
          <p:nvPr/>
        </p:nvGrpSpPr>
        <p:grpSpPr>
          <a:xfrm>
            <a:off x="7870320" y="1074240"/>
            <a:ext cx="1041840" cy="721080"/>
            <a:chOff x="7870320" y="1074240"/>
            <a:chExt cx="1041840" cy="721080"/>
          </a:xfrm>
        </p:grpSpPr>
        <p:pic>
          <p:nvPicPr>
            <p:cNvPr id="88" name="Picture 41" descr=""/>
            <p:cNvPicPr/>
            <p:nvPr/>
          </p:nvPicPr>
          <p:blipFill>
            <a:blip r:embed="rId14"/>
            <a:stretch/>
          </p:blipFill>
          <p:spPr>
            <a:xfrm>
              <a:off x="7989840" y="1077840"/>
              <a:ext cx="92232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AutoShape 43"/>
            <p:cNvSpPr/>
            <p:nvPr/>
          </p:nvSpPr>
          <p:spPr>
            <a:xfrm rot="18114600">
              <a:off x="7956720" y="1183680"/>
              <a:ext cx="536760" cy="501840"/>
            </a:xfrm>
            <a:prstGeom prst="plus">
              <a:avLst>
                <a:gd name="adj" fmla="val 4175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47"/>
          <p:cNvGrpSpPr/>
          <p:nvPr/>
        </p:nvGrpSpPr>
        <p:grpSpPr>
          <a:xfrm>
            <a:off x="5557680" y="1314360"/>
            <a:ext cx="1285560" cy="1294920"/>
            <a:chOff x="5557680" y="1314360"/>
            <a:chExt cx="1285560" cy="1294920"/>
          </a:xfrm>
        </p:grpSpPr>
        <p:pic>
          <p:nvPicPr>
            <p:cNvPr id="91" name="Picture 46" descr=""/>
            <p:cNvPicPr/>
            <p:nvPr/>
          </p:nvPicPr>
          <p:blipFill>
            <a:blip r:embed="rId15"/>
            <a:stretch/>
          </p:blipFill>
          <p:spPr>
            <a:xfrm rot="6243600">
              <a:off x="5665320" y="1433160"/>
              <a:ext cx="1069920" cy="10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AutoShape 42"/>
            <p:cNvSpPr/>
            <p:nvPr/>
          </p:nvSpPr>
          <p:spPr>
            <a:xfrm rot="18114600">
              <a:off x="5831280" y="1605600"/>
              <a:ext cx="709920" cy="663480"/>
            </a:xfrm>
            <a:prstGeom prst="plus">
              <a:avLst>
                <a:gd name="adj" fmla="val 4175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44"/>
          <p:cNvGrpSpPr/>
          <p:nvPr/>
        </p:nvGrpSpPr>
        <p:grpSpPr>
          <a:xfrm>
            <a:off x="3673440" y="1547640"/>
            <a:ext cx="1893240" cy="1411200"/>
            <a:chOff x="3673440" y="1547640"/>
            <a:chExt cx="1893240" cy="1411200"/>
          </a:xfrm>
        </p:grpSpPr>
        <p:pic>
          <p:nvPicPr>
            <p:cNvPr id="94" name="Picture 37" descr=""/>
            <p:cNvPicPr/>
            <p:nvPr/>
          </p:nvPicPr>
          <p:blipFill>
            <a:blip r:embed="rId16"/>
            <a:stretch/>
          </p:blipFill>
          <p:spPr>
            <a:xfrm>
              <a:off x="3673440" y="1547640"/>
              <a:ext cx="1882800" cy="14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AutoShape 33"/>
            <p:cNvSpPr/>
            <p:nvPr/>
          </p:nvSpPr>
          <p:spPr>
            <a:xfrm rot="18114600">
              <a:off x="4943520" y="1915920"/>
              <a:ext cx="536400" cy="501840"/>
            </a:xfrm>
            <a:prstGeom prst="plus">
              <a:avLst>
                <a:gd name="adj" fmla="val 4175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36AC-5D11-4F83-88E4-81673DC84AC4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д началом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12920" y="896760"/>
            <a:ext cx="8140680" cy="47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 разрешаетс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ходить в кабинет в верхней одежде, грязной обуви, с громоздкими предме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гать, прыгать в кабин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омко разговаривать, отвлекать других уче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вить сумки и портфели на ст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громождать про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ать напряжение 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лючать и подключать устройства компью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1E63-81F5-43F2-BFC8-79E8D2E93541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о время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12920" y="896760"/>
            <a:ext cx="840888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 разрешаетс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ать питание 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ть при плохом самочувств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ть на неисправной техн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лючать и подключать каб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ть с грязными или влажными ру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саться монитора, кабелей, разъемов, труб, бата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вигать с места монитор и системный б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ть что-либо на клавиату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имать на клавиши с усилием или уда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стоятельно устранять неиспра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277E-278B-475D-B2D2-8F9BA74EE010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о время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412920" y="896760"/>
            <a:ext cx="840888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льз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без разрешения учител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ать и выключать компьютер, мони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ключать науш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ускать посторонние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вать 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ять настройки компью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ходить в сеть Интер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ть со стола учителя дискеты, бумаги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ть на компьютере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0F2A-4567-4396-964C-E0EAFC13915B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о время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412920" y="896760"/>
            <a:ext cx="8408880" cy="45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ремя непрерывной работ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5 клас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-7 клас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-9 клас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5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-11 клас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0 минут (30 + 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щее время работы (в день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5 клас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-11 клас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асстояние от глаз до экрана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,6-0,7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CAE3-A168-4E95-9BE4-912C979868F0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Аварийные ситу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12920" y="896760"/>
            <a:ext cx="8408880" cy="56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 плохом самочувствии и головной бо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ратить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ить об этом учи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 появлении необычного звука, запах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ратить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ить об этом учи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 пожар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ратить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руководством учителя покинуть каби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 поражении электрическим ток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едленно отключить напряжение 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ть первую помощь пострадавш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авить его в медпун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9579-D1DC-40AF-BE31-F6176764F70F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 окончании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412920" y="896760"/>
            <a:ext cx="8408880" cy="46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749"/>
              </a:spcBef>
              <a:buClr>
                <a:srgbClr val="3333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вести в порядок рабочее мес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452520">
              <a:lnSpc>
                <a:spcPct val="75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рыть окна всех про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452520">
              <a:lnSpc>
                <a:spcPct val="75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алить свои файлы с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абочего Ст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452520">
              <a:lnSpc>
                <a:spcPct val="75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винуть кре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749"/>
              </a:spcBef>
              <a:buClr>
                <a:srgbClr val="3333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дать учителю выданные материалы, дискеты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749"/>
              </a:spcBef>
              <a:buClr>
                <a:srgbClr val="3333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 необходимости выключить компьют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452520">
              <a:lnSpc>
                <a:spcPct val="75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ключить питание системного бл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452520">
              <a:lnSpc>
                <a:spcPct val="75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ключить мони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Шапарь О. И.</cp:lastModifiedBy>
  <dcterms:modified xsi:type="dcterms:W3CDTF">2009-05-13T05:19:44Z</dcterms:modified>
  <cp:revision>505</cp:revision>
  <dc:subject/>
  <dc:title>Программное обеспечение (ПО)</dc:title>
</cp:coreProperties>
</file>