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F32-5847-4500-861E-8982C849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1D1-13AA-4AF3-81DA-9BD07BAC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845-8644-4A94-BA72-80936D8A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870-7B61-4EB5-BB28-7736FCD3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3B9-E846-4183-8EFA-9A72B6FD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17D-C24C-4414-B15E-EC5C2665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5FF-7D6E-4E9A-9948-8F4C2399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AF9-7F4C-40C6-B385-6F725D7B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B42-76A5-45B8-9C03-3CA5CA7E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308-2257-41E9-9C61-53F0E830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F79-9041-4FD6-A1D0-2CC0E679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6DA-CFDC-4169-95EE-7BAB43B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Кольцо"/>
          <p:cNvPicPr/>
          <p:nvPr/>
        </p:nvPicPr>
        <p:blipFill>
          <a:blip r:embed="rId2"/>
          <a:stretch/>
        </p:blipFill>
        <p:spPr>
          <a:xfrm>
            <a:off x="1476360" y="1413000"/>
            <a:ext cx="7667640" cy="544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1" descr="Малое-кольцо"/>
          <p:cNvPicPr/>
          <p:nvPr/>
        </p:nvPicPr>
        <p:blipFill>
          <a:blip r:embed="rId3"/>
          <a:srcRect l="0" t="0" r="28143" b="35510"/>
          <a:stretch/>
        </p:blipFill>
        <p:spPr>
          <a:xfrm>
            <a:off x="8317080" y="6130800"/>
            <a:ext cx="826920" cy="72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83064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8291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12D0-BDA3-41B1-8356-347747150CD7}" type="slidenum">
              <a:rPr b="0" lang="ru-RU" sz="24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1619280" y="44280"/>
            <a:ext cx="6697800" cy="216000"/>
          </a:xfrm>
          <a:prstGeom prst="rect">
            <a:avLst/>
          </a:prstGeom>
          <a:gradFill rotWithShape="0">
            <a:gsLst>
              <a:gs pos="0">
                <a:srgbClr val="882910"/>
              </a:gs>
              <a:gs pos="50000">
                <a:srgbClr val="cd7047"/>
              </a:gs>
              <a:gs pos="100000">
                <a:srgbClr val="8829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4" descr="new-5"/>
          <p:cNvPicPr/>
          <p:nvPr/>
        </p:nvPicPr>
        <p:blipFill>
          <a:blip r:embed="rId4"/>
          <a:stretch/>
        </p:blipFill>
        <p:spPr>
          <a:xfrm>
            <a:off x="4446720" y="693720"/>
            <a:ext cx="2917800" cy="2142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5" descr="new-5"/>
          <p:cNvPicPr/>
          <p:nvPr/>
        </p:nvPicPr>
        <p:blipFill>
          <a:blip r:embed="rId5"/>
          <a:srcRect l="17251" t="19272" r="58947" b="78536"/>
          <a:stretch/>
        </p:blipFill>
        <p:spPr>
          <a:xfrm>
            <a:off x="1619280" y="693720"/>
            <a:ext cx="2901960" cy="214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6" descr="new-5"/>
          <p:cNvPicPr/>
          <p:nvPr/>
        </p:nvPicPr>
        <p:blipFill>
          <a:blip r:embed="rId6"/>
          <a:srcRect l="0" t="731" r="83322" b="64114"/>
          <a:stretch/>
        </p:blipFill>
        <p:spPr>
          <a:xfrm>
            <a:off x="0" y="0"/>
            <a:ext cx="1351080" cy="2276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new-5"/>
          <p:cNvPicPr/>
          <p:nvPr/>
        </p:nvPicPr>
        <p:blipFill>
          <a:blip r:embed="rId7"/>
          <a:stretch/>
        </p:blipFill>
        <p:spPr>
          <a:xfrm>
            <a:off x="7319880" y="693720"/>
            <a:ext cx="1068480" cy="214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footer1"/>
          <p:cNvPicPr/>
          <p:nvPr/>
        </p:nvPicPr>
        <p:blipFill>
          <a:blip r:embed="rId8"/>
          <a:stretch/>
        </p:blipFill>
        <p:spPr>
          <a:xfrm>
            <a:off x="8277120" y="0"/>
            <a:ext cx="866880" cy="10857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4" descr=""/>
          <p:cNvPicPr/>
          <p:nvPr/>
        </p:nvPicPr>
        <p:blipFill>
          <a:blip r:embed="rId9"/>
          <a:stretch/>
        </p:blipFill>
        <p:spPr>
          <a:xfrm>
            <a:off x="250920" y="2133720"/>
            <a:ext cx="1085760" cy="10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Рисунок1"/>
          <p:cNvPicPr/>
          <p:nvPr/>
        </p:nvPicPr>
        <p:blipFill>
          <a:blip r:embed="rId2">
            <a:lum bright="18000"/>
          </a:blip>
          <a:srcRect l="0" t="0" r="8870" b="42644"/>
          <a:stretch/>
        </p:blipFill>
        <p:spPr>
          <a:xfrm>
            <a:off x="611280" y="3716280"/>
            <a:ext cx="8532720" cy="1152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611280" y="4822920"/>
            <a:ext cx="8532720" cy="71280"/>
          </a:xfrm>
          <a:prstGeom prst="rect">
            <a:avLst/>
          </a:prstGeom>
          <a:gradFill rotWithShape="0">
            <a:gsLst>
              <a:gs pos="0">
                <a:srgbClr val="882910"/>
              </a:gs>
              <a:gs pos="50000">
                <a:srgbClr val="cd7047"/>
              </a:gs>
              <a:gs pos="100000">
                <a:srgbClr val="8829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492360" y="4724280"/>
            <a:ext cx="5472360" cy="63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82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Презентация основных результатов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79560" y="6301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02.</a:t>
            </a:r>
            <a:r>
              <a:rPr b="0" lang="en-US" sz="1800" spc="-1" strike="noStrike">
                <a:solidFill>
                  <a:srgbClr val="882910"/>
                </a:solidFill>
                <a:latin typeface="Impact"/>
              </a:rPr>
              <a:t>1</a:t>
            </a: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2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28"/>
          <p:cNvSpPr txBox="1"/>
          <p:nvPr/>
        </p:nvSpPr>
        <p:spPr>
          <a:xfrm>
            <a:off x="3276720" y="4005360"/>
            <a:ext cx="5638680" cy="428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e322e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Национальная безопасность России</a:t>
            </a:r>
            <a:endParaRPr b="0" lang="en-US" sz="2800" spc="1" strike="noStrike">
              <a:ln w="9360">
                <a:solidFill>
                  <a:srgbClr val="9e322e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312560" y="214920"/>
            <a:ext cx="55314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Российская академия наук. Институт соц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Исследовательская группа ЦИР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" descr="new-5"/>
          <p:cNvPicPr/>
          <p:nvPr/>
        </p:nvPicPr>
        <p:blipFill>
          <a:blip r:embed="rId1"/>
          <a:stretch/>
        </p:blipFill>
        <p:spPr>
          <a:xfrm>
            <a:off x="2828880" y="1054080"/>
            <a:ext cx="1255680" cy="1244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"/>
          <p:cNvPicPr/>
          <p:nvPr/>
        </p:nvPicPr>
        <p:blipFill>
          <a:blip r:embed="rId2"/>
          <a:stretch/>
        </p:blipFill>
        <p:spPr>
          <a:xfrm>
            <a:off x="1619280" y="1138320"/>
            <a:ext cx="1085760" cy="1076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619280" y="2527200"/>
            <a:ext cx="63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ведено при поддержке представитель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нда им. Фридриха Эберта в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FA0B-C199-4EED-BA74-87FAA714751E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617480" y="976320"/>
            <a:ext cx="625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Оцените, пожалуйста, характер влияния перечисленных военных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экономических и внешнеполитических сою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и организаций на состояние национальной безопасности России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ЕШНИХ СИЛ (3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rcRect l="0" t="0" r="0" b="53697"/>
          <a:stretch/>
        </p:blipFill>
        <p:spPr>
          <a:xfrm>
            <a:off x="1619280" y="1700280"/>
            <a:ext cx="7402320" cy="2000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"/>
          <p:cNvPicPr/>
          <p:nvPr/>
        </p:nvPicPr>
        <p:blipFill>
          <a:blip r:embed="rId2"/>
          <a:srcRect l="0" t="46564" r="0" b="0"/>
          <a:stretch/>
        </p:blipFill>
        <p:spPr>
          <a:xfrm>
            <a:off x="1619280" y="3933720"/>
            <a:ext cx="7402320" cy="23083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0"/>
          <p:cNvSpPr/>
          <p:nvPr/>
        </p:nvSpPr>
        <p:spPr>
          <a:xfrm>
            <a:off x="1619280" y="3629160"/>
            <a:ext cx="7273800" cy="376200"/>
          </a:xfrm>
          <a:custGeom>
            <a:avLst/>
            <a:gdLst>
              <a:gd name="textAreaLeft" fmla="*/ 0 w 7273800"/>
              <a:gd name="textAreaRight" fmla="*/ 7274160 w 7273800"/>
              <a:gd name="textAreaTop" fmla="*/ 155160 h 376200"/>
              <a:gd name="textAreaBottom" fmla="*/ 221040 h 3762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 flipV="1">
            <a:off x="6429240" y="1699920"/>
            <a:ext cx="0" cy="4157640"/>
          </a:xfrm>
          <a:prstGeom prst="line">
            <a:avLst/>
          </a:prstGeom>
          <a:ln w="316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9"/>
          <p:cNvSpPr/>
          <p:nvPr/>
        </p:nvSpPr>
        <p:spPr>
          <a:xfrm flipV="1">
            <a:off x="7572240" y="1714320"/>
            <a:ext cx="0" cy="4157640"/>
          </a:xfrm>
          <a:prstGeom prst="line">
            <a:avLst/>
          </a:prstGeom>
          <a:ln w="3168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0D61-104D-4E32-80C8-C38D59BDFB2A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658160" y="976320"/>
            <a:ext cx="397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Средние оценки влиятельности по групп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Г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РУППЫ ВНЕШНЕГО ВЛИ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"/>
          <p:cNvPicPr/>
          <p:nvPr/>
        </p:nvPicPr>
        <p:blipFill>
          <a:blip r:embed="rId1"/>
          <a:stretch/>
        </p:blipFill>
        <p:spPr>
          <a:xfrm>
            <a:off x="1622520" y="1700280"/>
            <a:ext cx="7413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701A-B807-4D2A-85EF-8D7DC19DE957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617480" y="976320"/>
            <a:ext cx="5955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Оцените, пожалуйста, эффективность работы перечисленных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структур по обеспечению национальной безопасности стра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УТРЕННИХ С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9160" y="1857240"/>
            <a:ext cx="89056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5222-1A02-4382-9454-0B79A9441435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680840" y="976320"/>
            <a:ext cx="503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Скажите, пожалуйста, какое влияние на обеспечение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национальной безопасности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оказывают институты гражданского общества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Р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ОЛЬ ИНСТИТУТОВ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2686-8FDC-4115-A59B-6A9643159FA4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664280" y="976320"/>
            <a:ext cx="580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Как Вы считаете, какое влияние на выработку решений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в области обеспечения национальной безопасности оказывает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общественное мнение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Р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ОЛЬ ОБЩЕСТВЕННОГО М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0F1D-20C9-452A-9400-3B6A094D8FBD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689480" y="976320"/>
            <a:ext cx="5497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На Ваш взгляд, как изменится национальная безопасность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России в ближайшие 3-5 лет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О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ЖИДАЕМЫЕ ИЗМЕНЕНИЯ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0387-7242-4CAE-8AA3-E96422EFBB47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619280" y="1268280"/>
            <a:ext cx="734544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целом состояние национальной безопасности России на нынешний момент характеризуется экспертами неоднозначно. Если говорить о средних оценках, то среди них практически нет крайних оценок, как «катастрофических», так и оптимистических. Преобладают умеренно-тревожные настроения и 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целом оценки угроз можно характеризовать как смену дискурса о национальной безопасности: от внешнеполитических проблем и угроз к внутриполитическ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нство угроз, с которыми сталкивается наша страна, носят не конъюнктурный, а долгосрочный, стратегический харак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ительно благополучной эксперты признали ситуацию лишь в нескольких сферах – в области энергетической, военной, а также государственной безопасности (защита конституционного строя, политическая стабильность и т.п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ую озабоченность вызывает безопасность в сфере здравоохранения и здоровья нации, общественная безопасность, связанная с низкой защищенностью личности и общества от преступных посягательств, экологическая безопасность, а также угрозы, связанные с терроризмом, с ухудшающимся качеством жизни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1148-6EDF-4A6E-AB3F-84CAFCEDEAC1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619280" y="1268280"/>
            <a:ext cx="73454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остепенное значение в настоящее время приобретает проблема коррупции в российских органах власти и административных структур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сем разнообразии оценок можно сказать, что в основных тенденциях эксперты довольно консолидированы вне зависимости от своей профессионального статуса и социальной поз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жиданно по-новому прозвучала оценка влияния институтов гражданского общества и общественного мнения на национальную 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5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DA5C-90DA-4B0C-BCAB-7436FF70FC67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Д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ОПОЛНИТЕЛЬН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619280" y="1268280"/>
            <a:ext cx="734544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И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нформация о проек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полнительную информацию об исследовании можно получить у исполнителей проек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имир Васильевич Петухов (Российская академия наук. Институт социологии), petuhovvv@mail.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орь Вениаминович Задорин (Исследовательская группа ЦИРКОН)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orin@zircon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B714-9D6F-49B9-98CD-8C7A2630AB87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О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ПИСАНИЕ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19280" y="1268280"/>
            <a:ext cx="7345440" cy="52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Н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азвание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Национальная безопасность Росс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Ц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ель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следование имело своей целью выявление и типологизацию представлений российской политической и интеллектуальной элиты об основных угрозах национальной безопасности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П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редмет исслед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стояния безопасност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оссии, тенденций к ее изменению (улучшению или ухудшению) по отдельным направлени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степени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ты различных угроз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циональной безопасности стра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влияния на национальную безопасность РФ конфигурации мировых сил, разного рода военных, экономических и внешнеполитических союзов («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точники угроз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ая оценка эффективности работы органов и организаций, отвечающих за безопасность РФ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субъекты защиты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влияния на выработку и принятие решений в области национальной безопасности институтов гражданского общества, роль общественного мнения в этом проце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2EA1-9993-44AB-AC82-792531727CC1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М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ЕТОДИКА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19280" y="1268280"/>
            <a:ext cx="734544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М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етод сбора данных и целев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реализации поставленных задач в ходе исследования был проведен анкетный опрос среди экспертов, представляющих следующие области профессиональной деятель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ченые, специализирующиеся на изучении политических, экономических, юридических, военных аспектов национальной безопасности (в тексте отчета обозначаются как «Теоретик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ки, имеющие большой опыт работы в системе обеспечения безопасности страны (в тексте отчета обозначаются как «Практики – госслужащие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идеры общественного мнения – представители гражданского общества в лице журналистов, общественных деятелей, правозащитник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 тексте отчета обозначаются как «Практики – общественник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исследовании принял участие 131 экспе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6AD-6636-4845-B036-5904D6E29A48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У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РОВЕНЬ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731600" y="976320"/>
            <a:ext cx="606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Если говорить о российской национальной безопасности в целом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на каком уровне в настоящее время она находится?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Какой уровень тревоги Вы объявили бы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128F-0D03-4B49-AE70-B8666C222787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741680" y="976320"/>
            <a:ext cx="5987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По Вашему мнению, как изменилась национальная безопасность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России за последние 3-5 лет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619280" y="306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И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ЗМЕНЕНИЯ В СОСТОЯНИИ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63044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631-1BF1-454B-B564-1FFB78C5953F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686960" y="976320"/>
            <a:ext cx="6271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Оцените, пожалуйста, уровень национальной безопасности России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по перечисленным составляющи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619280" y="306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С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ФЕРЫ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1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1619280" y="1700280"/>
            <a:ext cx="7405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430960" y="1792440"/>
            <a:ext cx="352584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43096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598176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653256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7083360" y="1792440"/>
            <a:ext cx="180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7634160" y="1792440"/>
            <a:ext cx="180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818532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873612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430960" y="179244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5430960" y="206676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5430960" y="234144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5430960" y="261792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5430960" y="289260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5430960" y="316692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5430960" y="344160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430960" y="371808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5430960" y="399096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5430960" y="426564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>
            <a:off x="5430960" y="454176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5430960" y="481644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>
            <a:off x="5430960" y="509112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5430960" y="536724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5430960" y="564192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5430960" y="591660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5430960" y="1792440"/>
            <a:ext cx="3525840" cy="41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7"/>
          <p:cNvSpPr/>
          <p:nvPr/>
        </p:nvSpPr>
        <p:spPr>
          <a:xfrm>
            <a:off x="7194600" y="1836720"/>
            <a:ext cx="822240" cy="184320"/>
          </a:xfrm>
          <a:prstGeom prst="rect">
            <a:avLst/>
          </a:prstGeom>
          <a:solidFill>
            <a:srgbClr val="db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7194600" y="2112840"/>
            <a:ext cx="452520" cy="182520"/>
          </a:xfrm>
          <a:prstGeom prst="rect">
            <a:avLst/>
          </a:prstGeom>
          <a:solidFill>
            <a:srgbClr val="db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7194600" y="2387520"/>
            <a:ext cx="792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7032600" y="2662200"/>
            <a:ext cx="162000" cy="1843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6622920" y="2936880"/>
            <a:ext cx="571680" cy="1843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6405480" y="3213000"/>
            <a:ext cx="78912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3"/>
          <p:cNvSpPr/>
          <p:nvPr/>
        </p:nvSpPr>
        <p:spPr>
          <a:xfrm>
            <a:off x="6351480" y="3487680"/>
            <a:ext cx="84312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4"/>
          <p:cNvSpPr/>
          <p:nvPr/>
        </p:nvSpPr>
        <p:spPr>
          <a:xfrm>
            <a:off x="6303960" y="3762360"/>
            <a:ext cx="89064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5"/>
          <p:cNvSpPr/>
          <p:nvPr/>
        </p:nvSpPr>
        <p:spPr>
          <a:xfrm>
            <a:off x="6195960" y="4037040"/>
            <a:ext cx="99864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6"/>
          <p:cNvSpPr/>
          <p:nvPr/>
        </p:nvSpPr>
        <p:spPr>
          <a:xfrm>
            <a:off x="6075360" y="4311720"/>
            <a:ext cx="111924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7"/>
          <p:cNvSpPr/>
          <p:nvPr/>
        </p:nvSpPr>
        <p:spPr>
          <a:xfrm>
            <a:off x="5958000" y="4586400"/>
            <a:ext cx="123660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8"/>
          <p:cNvSpPr/>
          <p:nvPr/>
        </p:nvSpPr>
        <p:spPr>
          <a:xfrm>
            <a:off x="5932440" y="4861080"/>
            <a:ext cx="126216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9"/>
          <p:cNvSpPr/>
          <p:nvPr/>
        </p:nvSpPr>
        <p:spPr>
          <a:xfrm>
            <a:off x="5888160" y="5137200"/>
            <a:ext cx="1306440" cy="18252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0"/>
          <p:cNvSpPr/>
          <p:nvPr/>
        </p:nvSpPr>
        <p:spPr>
          <a:xfrm>
            <a:off x="5753160" y="5411880"/>
            <a:ext cx="144144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5664240" y="5686560"/>
            <a:ext cx="153036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719460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3"/>
          <p:cNvSpPr/>
          <p:nvPr/>
        </p:nvSpPr>
        <p:spPr>
          <a:xfrm>
            <a:off x="7139160" y="17924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4"/>
          <p:cNvSpPr/>
          <p:nvPr/>
        </p:nvSpPr>
        <p:spPr>
          <a:xfrm>
            <a:off x="7139160" y="20667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5"/>
          <p:cNvSpPr/>
          <p:nvPr/>
        </p:nvSpPr>
        <p:spPr>
          <a:xfrm>
            <a:off x="7139160" y="23414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6"/>
          <p:cNvSpPr/>
          <p:nvPr/>
        </p:nvSpPr>
        <p:spPr>
          <a:xfrm>
            <a:off x="7139160" y="261792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7"/>
          <p:cNvSpPr/>
          <p:nvPr/>
        </p:nvSpPr>
        <p:spPr>
          <a:xfrm>
            <a:off x="7139160" y="289260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8"/>
          <p:cNvSpPr/>
          <p:nvPr/>
        </p:nvSpPr>
        <p:spPr>
          <a:xfrm>
            <a:off x="7139160" y="31669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9"/>
          <p:cNvSpPr/>
          <p:nvPr/>
        </p:nvSpPr>
        <p:spPr>
          <a:xfrm>
            <a:off x="7139160" y="344160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0"/>
          <p:cNvSpPr/>
          <p:nvPr/>
        </p:nvSpPr>
        <p:spPr>
          <a:xfrm>
            <a:off x="7139160" y="371808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1"/>
          <p:cNvSpPr/>
          <p:nvPr/>
        </p:nvSpPr>
        <p:spPr>
          <a:xfrm>
            <a:off x="7139160" y="399096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2"/>
          <p:cNvSpPr/>
          <p:nvPr/>
        </p:nvSpPr>
        <p:spPr>
          <a:xfrm>
            <a:off x="7139160" y="42656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3"/>
          <p:cNvSpPr/>
          <p:nvPr/>
        </p:nvSpPr>
        <p:spPr>
          <a:xfrm>
            <a:off x="7139160" y="45417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4"/>
          <p:cNvSpPr/>
          <p:nvPr/>
        </p:nvSpPr>
        <p:spPr>
          <a:xfrm>
            <a:off x="7139160" y="48164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5"/>
          <p:cNvSpPr/>
          <p:nvPr/>
        </p:nvSpPr>
        <p:spPr>
          <a:xfrm>
            <a:off x="7139160" y="509112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6"/>
          <p:cNvSpPr/>
          <p:nvPr/>
        </p:nvSpPr>
        <p:spPr>
          <a:xfrm>
            <a:off x="7139160" y="53672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7"/>
          <p:cNvSpPr/>
          <p:nvPr/>
        </p:nvSpPr>
        <p:spPr>
          <a:xfrm>
            <a:off x="7139160" y="56419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8"/>
          <p:cNvSpPr/>
          <p:nvPr/>
        </p:nvSpPr>
        <p:spPr>
          <a:xfrm>
            <a:off x="7139160" y="591660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9"/>
          <p:cNvSpPr/>
          <p:nvPr/>
        </p:nvSpPr>
        <p:spPr>
          <a:xfrm>
            <a:off x="8342280" y="178740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0"/>
          <p:cNvSpPr/>
          <p:nvPr/>
        </p:nvSpPr>
        <p:spPr>
          <a:xfrm>
            <a:off x="8055000" y="2071800"/>
            <a:ext cx="309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1"/>
          <p:cNvSpPr/>
          <p:nvPr/>
        </p:nvSpPr>
        <p:spPr>
          <a:xfrm>
            <a:off x="8035920" y="1766880"/>
            <a:ext cx="30816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2"/>
          <p:cNvSpPr/>
          <p:nvPr/>
        </p:nvSpPr>
        <p:spPr>
          <a:xfrm>
            <a:off x="8061840" y="18144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3"/>
          <p:cNvSpPr/>
          <p:nvPr/>
        </p:nvSpPr>
        <p:spPr>
          <a:xfrm>
            <a:off x="7974000" y="206208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4"/>
          <p:cNvSpPr/>
          <p:nvPr/>
        </p:nvSpPr>
        <p:spPr>
          <a:xfrm>
            <a:off x="7686720" y="2346480"/>
            <a:ext cx="309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5"/>
          <p:cNvSpPr/>
          <p:nvPr/>
        </p:nvSpPr>
        <p:spPr>
          <a:xfrm>
            <a:off x="7666200" y="2043000"/>
            <a:ext cx="30780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6"/>
          <p:cNvSpPr/>
          <p:nvPr/>
        </p:nvSpPr>
        <p:spPr>
          <a:xfrm>
            <a:off x="7692120" y="20908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7"/>
          <p:cNvSpPr/>
          <p:nvPr/>
        </p:nvSpPr>
        <p:spPr>
          <a:xfrm>
            <a:off x="7527960" y="2336760"/>
            <a:ext cx="22320" cy="3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8"/>
          <p:cNvSpPr/>
          <p:nvPr/>
        </p:nvSpPr>
        <p:spPr>
          <a:xfrm>
            <a:off x="7240680" y="2622600"/>
            <a:ext cx="309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9"/>
          <p:cNvSpPr/>
          <p:nvPr/>
        </p:nvSpPr>
        <p:spPr>
          <a:xfrm>
            <a:off x="7221600" y="2317680"/>
            <a:ext cx="30780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0"/>
          <p:cNvSpPr/>
          <p:nvPr/>
        </p:nvSpPr>
        <p:spPr>
          <a:xfrm>
            <a:off x="7247520" y="23652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1"/>
          <p:cNvSpPr/>
          <p:nvPr/>
        </p:nvSpPr>
        <p:spPr>
          <a:xfrm>
            <a:off x="6993000" y="2611440"/>
            <a:ext cx="22320" cy="30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2"/>
          <p:cNvSpPr/>
          <p:nvPr/>
        </p:nvSpPr>
        <p:spPr>
          <a:xfrm>
            <a:off x="6643800" y="2897280"/>
            <a:ext cx="3715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3"/>
          <p:cNvSpPr/>
          <p:nvPr/>
        </p:nvSpPr>
        <p:spPr>
          <a:xfrm>
            <a:off x="6624720" y="259236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4"/>
          <p:cNvSpPr/>
          <p:nvPr/>
        </p:nvSpPr>
        <p:spPr>
          <a:xfrm>
            <a:off x="6650280" y="2639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5"/>
          <p:cNvSpPr/>
          <p:nvPr/>
        </p:nvSpPr>
        <p:spPr>
          <a:xfrm>
            <a:off x="6581880" y="2887560"/>
            <a:ext cx="2196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6"/>
          <p:cNvSpPr/>
          <p:nvPr/>
        </p:nvSpPr>
        <p:spPr>
          <a:xfrm>
            <a:off x="6234120" y="3171960"/>
            <a:ext cx="3697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7"/>
          <p:cNvSpPr/>
          <p:nvPr/>
        </p:nvSpPr>
        <p:spPr>
          <a:xfrm>
            <a:off x="6213600" y="286704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8"/>
          <p:cNvSpPr/>
          <p:nvPr/>
        </p:nvSpPr>
        <p:spPr>
          <a:xfrm>
            <a:off x="6239160" y="291456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9"/>
          <p:cNvSpPr/>
          <p:nvPr/>
        </p:nvSpPr>
        <p:spPr>
          <a:xfrm>
            <a:off x="6365880" y="316224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0"/>
          <p:cNvSpPr/>
          <p:nvPr/>
        </p:nvSpPr>
        <p:spPr>
          <a:xfrm>
            <a:off x="6016680" y="3446640"/>
            <a:ext cx="3715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1"/>
          <p:cNvSpPr/>
          <p:nvPr/>
        </p:nvSpPr>
        <p:spPr>
          <a:xfrm>
            <a:off x="5997600" y="3143160"/>
            <a:ext cx="36972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2"/>
          <p:cNvSpPr/>
          <p:nvPr/>
        </p:nvSpPr>
        <p:spPr>
          <a:xfrm>
            <a:off x="6023160" y="319104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3"/>
          <p:cNvSpPr/>
          <p:nvPr/>
        </p:nvSpPr>
        <p:spPr>
          <a:xfrm>
            <a:off x="6310440" y="3436920"/>
            <a:ext cx="21960" cy="3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4"/>
          <p:cNvSpPr/>
          <p:nvPr/>
        </p:nvSpPr>
        <p:spPr>
          <a:xfrm>
            <a:off x="5962680" y="3722760"/>
            <a:ext cx="3697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5"/>
          <p:cNvSpPr/>
          <p:nvPr/>
        </p:nvSpPr>
        <p:spPr>
          <a:xfrm>
            <a:off x="5942160" y="341784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6"/>
          <p:cNvSpPr/>
          <p:nvPr/>
        </p:nvSpPr>
        <p:spPr>
          <a:xfrm>
            <a:off x="5967720" y="346536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7"/>
          <p:cNvSpPr/>
          <p:nvPr/>
        </p:nvSpPr>
        <p:spPr>
          <a:xfrm>
            <a:off x="6264360" y="371160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8"/>
          <p:cNvSpPr/>
          <p:nvPr/>
        </p:nvSpPr>
        <p:spPr>
          <a:xfrm>
            <a:off x="5915160" y="3995640"/>
            <a:ext cx="3715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9"/>
          <p:cNvSpPr/>
          <p:nvPr/>
        </p:nvSpPr>
        <p:spPr>
          <a:xfrm>
            <a:off x="5896080" y="369108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0"/>
          <p:cNvSpPr/>
          <p:nvPr/>
        </p:nvSpPr>
        <p:spPr>
          <a:xfrm>
            <a:off x="5921640" y="374004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1"/>
          <p:cNvSpPr/>
          <p:nvPr/>
        </p:nvSpPr>
        <p:spPr>
          <a:xfrm>
            <a:off x="6154560" y="398628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2"/>
          <p:cNvSpPr/>
          <p:nvPr/>
        </p:nvSpPr>
        <p:spPr>
          <a:xfrm>
            <a:off x="5807160" y="4272120"/>
            <a:ext cx="3697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"/>
          <p:cNvSpPr/>
          <p:nvPr/>
        </p:nvSpPr>
        <p:spPr>
          <a:xfrm>
            <a:off x="5788080" y="3967200"/>
            <a:ext cx="36828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4"/>
          <p:cNvSpPr/>
          <p:nvPr/>
        </p:nvSpPr>
        <p:spPr>
          <a:xfrm>
            <a:off x="5811840" y="401472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5"/>
          <p:cNvSpPr/>
          <p:nvPr/>
        </p:nvSpPr>
        <p:spPr>
          <a:xfrm>
            <a:off x="6035760" y="4260960"/>
            <a:ext cx="22320" cy="30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6"/>
          <p:cNvSpPr/>
          <p:nvPr/>
        </p:nvSpPr>
        <p:spPr>
          <a:xfrm>
            <a:off x="5686560" y="4546440"/>
            <a:ext cx="3715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7"/>
          <p:cNvSpPr/>
          <p:nvPr/>
        </p:nvSpPr>
        <p:spPr>
          <a:xfrm>
            <a:off x="5667480" y="424188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8"/>
          <p:cNvSpPr/>
          <p:nvPr/>
        </p:nvSpPr>
        <p:spPr>
          <a:xfrm>
            <a:off x="5693040" y="428940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9"/>
          <p:cNvSpPr/>
          <p:nvPr/>
        </p:nvSpPr>
        <p:spPr>
          <a:xfrm>
            <a:off x="5916600" y="453708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0"/>
          <p:cNvSpPr/>
          <p:nvPr/>
        </p:nvSpPr>
        <p:spPr>
          <a:xfrm>
            <a:off x="5568840" y="4821120"/>
            <a:ext cx="37008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1"/>
          <p:cNvSpPr/>
          <p:nvPr/>
        </p:nvSpPr>
        <p:spPr>
          <a:xfrm>
            <a:off x="5548320" y="451656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2"/>
          <p:cNvSpPr/>
          <p:nvPr/>
        </p:nvSpPr>
        <p:spPr>
          <a:xfrm>
            <a:off x="5573880" y="45640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3"/>
          <p:cNvSpPr/>
          <p:nvPr/>
        </p:nvSpPr>
        <p:spPr>
          <a:xfrm>
            <a:off x="5892840" y="481176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4"/>
          <p:cNvSpPr/>
          <p:nvPr/>
        </p:nvSpPr>
        <p:spPr>
          <a:xfrm>
            <a:off x="5543640" y="5095800"/>
            <a:ext cx="3715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5"/>
          <p:cNvSpPr/>
          <p:nvPr/>
        </p:nvSpPr>
        <p:spPr>
          <a:xfrm>
            <a:off x="5524560" y="4792680"/>
            <a:ext cx="36972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6"/>
          <p:cNvSpPr/>
          <p:nvPr/>
        </p:nvSpPr>
        <p:spPr>
          <a:xfrm>
            <a:off x="5550120" y="484020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7"/>
          <p:cNvSpPr/>
          <p:nvPr/>
        </p:nvSpPr>
        <p:spPr>
          <a:xfrm>
            <a:off x="5848200" y="508644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8"/>
          <p:cNvSpPr/>
          <p:nvPr/>
        </p:nvSpPr>
        <p:spPr>
          <a:xfrm>
            <a:off x="5500800" y="5372280"/>
            <a:ext cx="3697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9"/>
          <p:cNvSpPr/>
          <p:nvPr/>
        </p:nvSpPr>
        <p:spPr>
          <a:xfrm>
            <a:off x="5479920" y="5067360"/>
            <a:ext cx="37008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0"/>
          <p:cNvSpPr/>
          <p:nvPr/>
        </p:nvSpPr>
        <p:spPr>
          <a:xfrm>
            <a:off x="5505480" y="5114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1"/>
          <p:cNvSpPr/>
          <p:nvPr/>
        </p:nvSpPr>
        <p:spPr>
          <a:xfrm>
            <a:off x="5713560" y="5361120"/>
            <a:ext cx="20520" cy="30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2"/>
          <p:cNvSpPr/>
          <p:nvPr/>
        </p:nvSpPr>
        <p:spPr>
          <a:xfrm>
            <a:off x="5364000" y="5646600"/>
            <a:ext cx="37008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3"/>
          <p:cNvSpPr/>
          <p:nvPr/>
        </p:nvSpPr>
        <p:spPr>
          <a:xfrm>
            <a:off x="5345280" y="5342040"/>
            <a:ext cx="36828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4"/>
          <p:cNvSpPr/>
          <p:nvPr/>
        </p:nvSpPr>
        <p:spPr>
          <a:xfrm>
            <a:off x="5370840" y="538956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5"/>
          <p:cNvSpPr/>
          <p:nvPr/>
        </p:nvSpPr>
        <p:spPr>
          <a:xfrm>
            <a:off x="5622840" y="563724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6"/>
          <p:cNvSpPr/>
          <p:nvPr/>
        </p:nvSpPr>
        <p:spPr>
          <a:xfrm>
            <a:off x="5275440" y="5921280"/>
            <a:ext cx="3697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7"/>
          <p:cNvSpPr/>
          <p:nvPr/>
        </p:nvSpPr>
        <p:spPr>
          <a:xfrm>
            <a:off x="5256360" y="5616720"/>
            <a:ext cx="36828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8"/>
          <p:cNvSpPr/>
          <p:nvPr/>
        </p:nvSpPr>
        <p:spPr>
          <a:xfrm>
            <a:off x="5280120" y="566424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9"/>
          <p:cNvSpPr/>
          <p:nvPr/>
        </p:nvSpPr>
        <p:spPr>
          <a:xfrm>
            <a:off x="2719800" y="1825560"/>
            <a:ext cx="2507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0"/>
          <p:cNvSpPr/>
          <p:nvPr/>
        </p:nvSpPr>
        <p:spPr>
          <a:xfrm>
            <a:off x="2610720" y="2100240"/>
            <a:ext cx="261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сударстве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1"/>
          <p:cNvSpPr/>
          <p:nvPr/>
        </p:nvSpPr>
        <p:spPr>
          <a:xfrm>
            <a:off x="3333960" y="2374920"/>
            <a:ext cx="189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2"/>
          <p:cNvSpPr/>
          <p:nvPr/>
        </p:nvSpPr>
        <p:spPr>
          <a:xfrm>
            <a:off x="2983320" y="2649600"/>
            <a:ext cx="224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оз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3"/>
          <p:cNvSpPr/>
          <p:nvPr/>
        </p:nvSpPr>
        <p:spPr>
          <a:xfrm>
            <a:off x="2558880" y="2925720"/>
            <a:ext cx="266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4"/>
          <p:cNvSpPr/>
          <p:nvPr/>
        </p:nvSpPr>
        <p:spPr>
          <a:xfrm>
            <a:off x="2657520" y="3200400"/>
            <a:ext cx="257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носоциаль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5"/>
          <p:cNvSpPr/>
          <p:nvPr/>
        </p:nvSpPr>
        <p:spPr>
          <a:xfrm>
            <a:off x="3090600" y="3475080"/>
            <a:ext cx="213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6"/>
          <p:cNvSpPr/>
          <p:nvPr/>
        </p:nvSpPr>
        <p:spPr>
          <a:xfrm>
            <a:off x="2765520" y="3749760"/>
            <a:ext cx="246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7"/>
          <p:cNvSpPr/>
          <p:nvPr/>
        </p:nvSpPr>
        <p:spPr>
          <a:xfrm>
            <a:off x="2781000" y="4025880"/>
            <a:ext cx="244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мат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8"/>
          <p:cNvSpPr/>
          <p:nvPr/>
        </p:nvSpPr>
        <p:spPr>
          <a:xfrm>
            <a:off x="1989720" y="4300560"/>
            <a:ext cx="324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технолог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9"/>
          <p:cNvSpPr/>
          <p:nvPr/>
        </p:nvSpPr>
        <p:spPr>
          <a:xfrm>
            <a:off x="2746800" y="4575240"/>
            <a:ext cx="248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сть качества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0"/>
          <p:cNvSpPr/>
          <p:nvPr/>
        </p:nvSpPr>
        <p:spPr>
          <a:xfrm>
            <a:off x="2517480" y="4851360"/>
            <a:ext cx="271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рорист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41"/>
          <p:cNvSpPr/>
          <p:nvPr/>
        </p:nvSpPr>
        <p:spPr>
          <a:xfrm>
            <a:off x="2817720" y="5126040"/>
            <a:ext cx="24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лог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2"/>
          <p:cNvSpPr/>
          <p:nvPr/>
        </p:nvSpPr>
        <p:spPr>
          <a:xfrm>
            <a:off x="2800800" y="5400720"/>
            <a:ext cx="242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е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3"/>
          <p:cNvSpPr/>
          <p:nvPr/>
        </p:nvSpPr>
        <p:spPr>
          <a:xfrm>
            <a:off x="335160" y="5648400"/>
            <a:ext cx="489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сть в сфере здравоохранения и здоровья н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E3AA-6546-46F6-B4DE-70EA1EC420A2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689120" y="976320"/>
            <a:ext cx="6241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Как Вы считаете, какие из этих угроз требуют приорит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Внимания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со стороны государства и профильных ведомств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Н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а противодействие каким из этих угроз следует в первую очередь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направить административные, интеллектуальные, финансовые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и иные ресурсы?» </a:t>
            </a:r>
            <a:r>
              <a:rPr b="1" lang="en-US" sz="1400" spc="-1" strike="noStrike">
                <a:solidFill>
                  <a:srgbClr val="882910"/>
                </a:solidFill>
                <a:latin typeface="Tahoma"/>
              </a:rPr>
              <a:t>[</a:t>
            </a:r>
            <a:r>
              <a:rPr b="1" lang="ru-RU" sz="1400" spc="-1" strike="noStrike">
                <a:solidFill>
                  <a:srgbClr val="882910"/>
                </a:solidFill>
                <a:latin typeface="Tahoma"/>
              </a:rPr>
              <a:t>первая десятка угроз</a:t>
            </a:r>
            <a:r>
              <a:rPr b="1" lang="en-US" sz="1400" spc="-1" strike="noStrike">
                <a:solidFill>
                  <a:srgbClr val="882910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619280" y="306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О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СТРОТА УГРОЗ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19280" y="2138400"/>
          <a:ext cx="7416720" cy="3906720"/>
        </p:xfrm>
        <a:graphic>
          <a:graphicData uri="http://schemas.openxmlformats.org/drawingml/2006/table">
            <a:tbl>
              <a:tblPr/>
              <a:tblGrid>
                <a:gridCol w="5761080"/>
                <a:gridCol w="1655640"/>
              </a:tblGrid>
              <a:tr h="26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упция в российских органах власт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административных структур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изношенность основных фондов в промыш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тавание России от ведущих стран в сфере инноваций и модернизации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численности населения страны, депопуляция, вырождение 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ение экспортно-сырьевой модели развития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изация террористическ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0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ия в уровне жизни отдельных категорий населения (жителей городов и сел, разных регионов, богатых и бедных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аконный оборот наркотических средств и психотропных веществ, оружия, боеприпасов, взрывчаты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зависимость важнейших сфер экономики от внешнеэкономической конъюн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ое качеств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5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1 до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2CD4-AC3B-4962-BFE3-626BDC0C2D01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1617480" y="976320"/>
            <a:ext cx="625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Оцените, пожалуйста, характер влияния перечисленных военных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экономических и внешнеполитических сою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и организаций на состояние национальной безопасности России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ЕШНИХ СИЛ (1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2320" cy="4319640"/>
          </a:xfrm>
          <a:prstGeom prst="rect">
            <a:avLst/>
          </a:prstGeom>
          <a:ln w="0">
            <a:noFill/>
          </a:ln>
        </p:spPr>
      </p:pic>
      <p:sp>
        <p:nvSpPr>
          <p:cNvPr id="256" name="Line 9"/>
          <p:cNvSpPr/>
          <p:nvPr/>
        </p:nvSpPr>
        <p:spPr>
          <a:xfrm>
            <a:off x="1619280" y="3857760"/>
            <a:ext cx="7402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9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2320" cy="4319640"/>
          </a:xfrm>
          <a:prstGeom prst="rect">
            <a:avLst/>
          </a:prstGeom>
          <a:ln w="0">
            <a:noFill/>
          </a:ln>
        </p:spPr>
      </p:pic>
      <p:sp>
        <p:nvSpPr>
          <p:cNvPr id="258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45DC-B5E4-461B-AB2F-6C8FAB2487B1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617480" y="976320"/>
            <a:ext cx="625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Оцените, пожалуйста, характер влияния перечисленных военных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экономических и внешнеполитических сою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и организаций на состояние национальной безопасности России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ЕШНИХ СИЛ (2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1619280" y="3589200"/>
            <a:ext cx="7402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04:25Z</dcterms:created>
  <dc:creator>Moysov</dc:creator>
  <dc:description/>
  <dc:language>en-US</dc:language>
  <cp:lastModifiedBy>Николай</cp:lastModifiedBy>
  <dcterms:modified xsi:type="dcterms:W3CDTF">2013-07-02T08:11:57Z</dcterms:modified>
  <cp:revision>52</cp:revision>
  <dc:subject/>
  <dc:title>Слайд 1</dc:title>
</cp:coreProperties>
</file>