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644-AF89-4AA4-BB6E-AA1DD336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96C-797E-405A-B892-6494F370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55A-F179-490E-9974-A138E14F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E8F-B9BE-478E-A082-6D473F59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FBB-B1ED-4F4D-A41D-73F2E06E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61E-B56B-478B-920B-92913710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87B-896F-41D2-8378-274C7244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F99-512C-457A-B9CC-DFC52FF3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820-45C5-499E-9C16-CBC2CCE6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1B5-DEEF-4E87-9A1A-1F8D6F4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FB3-A92C-41D2-9E28-05696D90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1F2-C3A5-4FFA-B65F-E484B9D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E917-0322-429C-A82D-DA46E2E04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атематически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гадки и 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ртамонова Л.В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На страже отечества.</a:t>
            </a: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авительство намерено сократить расходы военно-промышленного  комплекса, купив биологический наблюдательный прибор, реагирующий на приближающегося неприятел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О какой из сказок А.С. Пушкина идёт речь?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о золотом   Петуш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2"/>
          <a:srcRect l="0" t="29867" r="0" b="0"/>
          <a:stretch/>
        </p:blipFill>
        <p:spPr>
          <a:xfrm>
            <a:off x="2195640" y="1558800"/>
            <a:ext cx="45417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Внимание!</a:t>
            </a:r>
            <a:br>
              <a:rPr sz="3000"/>
            </a:b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В продаже появились фальсифицированные фрукты, употребление которых приводит к негативным последствиям, таким, как продолжительный летаргический сон.</a:t>
            </a:r>
            <a:br>
              <a:rPr sz="3000"/>
            </a:b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Прежде, чем приобретать фрукты, требуйте сертификат соответствия и лицензию на право торгов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(О какой из сказок А.С. Пушкина идёт речь?»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1835280" y="333360"/>
            <a:ext cx="6913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 о мертвой царевне  и семи богатыр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1036800" y="1773360"/>
            <a:ext cx="5479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уки и п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опрос: сколько ног у ж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ног у па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У меня в одной коробке три ж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в другой имею я три па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В уголке шуршат бумагой два еж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в двух клетках распевают два чиж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то, ребята, сосчитать бы мне помо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вместе все они имеют но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трелка вправо с вырезом 4"/>
          <p:cNvSpPr/>
          <p:nvPr/>
        </p:nvSpPr>
        <p:spPr>
          <a:xfrm>
            <a:off x="6443640" y="5805360"/>
            <a:ext cx="2305080" cy="1052640"/>
          </a:xfrm>
          <a:custGeom>
            <a:avLst/>
            <a:gdLst>
              <a:gd name="textAreaLeft" fmla="*/ 263160 w 2305080"/>
              <a:gd name="textAreaRight" fmla="*/ 2041920 w 2305080"/>
              <a:gd name="textAreaTop" fmla="*/ 263160 h 1052640"/>
              <a:gd name="textAreaBottom" fmla="*/ 7894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66" y="5400"/>
                </a:lnTo>
                <a:lnTo>
                  <a:pt x="16666" y="0"/>
                </a:lnTo>
                <a:lnTo>
                  <a:pt x="21600" y="10800"/>
                </a:lnTo>
                <a:lnTo>
                  <a:pt x="16666" y="21600"/>
                </a:lnTo>
                <a:lnTo>
                  <a:pt x="16666" y="16200"/>
                </a:lnTo>
                <a:lnTo>
                  <a:pt x="0" y="16200"/>
                </a:lnTo>
                <a:lnTo>
                  <a:pt x="246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твет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8209080" cy="5167440"/>
          </a:xfrm>
          <a:prstGeom prst="rect">
            <a:avLst/>
          </a:prstGeom>
          <a:ln w="0">
            <a:noFill/>
          </a:ln>
        </p:spPr>
      </p:pic>
      <p:sp>
        <p:nvSpPr>
          <p:cNvPr id="47" name="Скругленный прямоугольник 3"/>
          <p:cNvSpPr/>
          <p:nvPr/>
        </p:nvSpPr>
        <p:spPr>
          <a:xfrm>
            <a:off x="539640" y="52959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54 ног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мощ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7 тарелок им умы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8 чашек не забы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Ложек — дюжина од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Чистота кругом видн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Вы готовы дать ответы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Сколько всей посуды этой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Перемыл он, сын-проказник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32523"/>
                </a:solidFill>
                <a:latin typeface="Calibri"/>
              </a:rPr>
              <a:t>Дело было в мамин праздник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с вырезом 4"/>
          <p:cNvSpPr/>
          <p:nvPr/>
        </p:nvSpPr>
        <p:spPr>
          <a:xfrm>
            <a:off x="6443640" y="5805360"/>
            <a:ext cx="2305080" cy="1052640"/>
          </a:xfrm>
          <a:custGeom>
            <a:avLst/>
            <a:gdLst>
              <a:gd name="textAreaLeft" fmla="*/ 263160 w 2305080"/>
              <a:gd name="textAreaRight" fmla="*/ 2041920 w 2305080"/>
              <a:gd name="textAreaTop" fmla="*/ 263160 h 1052640"/>
              <a:gd name="textAreaBottom" fmla="*/ 78948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66" y="5400"/>
                </a:lnTo>
                <a:lnTo>
                  <a:pt x="16666" y="0"/>
                </a:lnTo>
                <a:lnTo>
                  <a:pt x="21600" y="10800"/>
                </a:lnTo>
                <a:lnTo>
                  <a:pt x="16666" y="21600"/>
                </a:lnTo>
                <a:lnTo>
                  <a:pt x="16666" y="16200"/>
                </a:lnTo>
                <a:lnTo>
                  <a:pt x="0" y="16200"/>
                </a:lnTo>
                <a:lnTo>
                  <a:pt x="246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твет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79320" y="1368360"/>
            <a:ext cx="8039160" cy="467352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3"/>
          <p:cNvSpPr/>
          <p:nvPr/>
        </p:nvSpPr>
        <p:spPr>
          <a:xfrm>
            <a:off x="539640" y="5295960"/>
            <a:ext cx="4824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32523"/>
                </a:solidFill>
                <a:latin typeface="Calibri"/>
              </a:rPr>
              <a:t>2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лд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строились в ря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шли на парад. 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9/ 10 было усаты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там было безусых солда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строились в ря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10 солдат шли на пар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8/ 1 0 было носаты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олько том было курносых солда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588000" y="5583240"/>
            <a:ext cx="2408400" cy="123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000080" y="1336680"/>
            <a:ext cx="714204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5"/>
          <p:cNvSpPr/>
          <p:nvPr/>
        </p:nvSpPr>
        <p:spPr>
          <a:xfrm>
            <a:off x="452520" y="5295960"/>
            <a:ext cx="482580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1 безусый, 2 курнос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прос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5640" y="256500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Напишите 100 пятью единица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а затем пятью пятер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1187280" y="1916280"/>
            <a:ext cx="7056720" cy="43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111-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(5+5+5+5)•5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(5•5•5-5•5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то выш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казочный россиянин-короты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Мужичок-с-ноготок или Дюймовочк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499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ый прямоугольник 3"/>
          <p:cNvSpPr/>
          <p:nvPr/>
        </p:nvSpPr>
        <p:spPr>
          <a:xfrm>
            <a:off x="1979640" y="333360"/>
            <a:ext cx="57402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Дюймово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611280" y="5619600"/>
            <a:ext cx="5905440" cy="123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ь  рост Дюймовочки 2,54 с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больше размера ного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В какой сказке рассказывается об ограниченном приёме пайщиков в жилищный кооперати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Русская народная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сказка «Теремок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516720" y="5583240"/>
            <a:ext cx="2408040" cy="123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826920" y="1623960"/>
            <a:ext cx="7561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Назовите популярную русскую народную сказку с тремя покушениями на убийство и одним убийством?  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КОЛОБ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824040" y="1735200"/>
            <a:ext cx="7705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9040" y="227628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Назовит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узыкальну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еру длин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казочная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516720" y="5619600"/>
            <a:ext cx="2408040" cy="1238400"/>
          </a:xfrm>
          <a:prstGeom prst="rect">
            <a:avLst/>
          </a:prstGeom>
          <a:ln w="0">
            <a:noFill/>
          </a:ln>
        </p:spPr>
      </p:pic>
      <p:sp>
        <p:nvSpPr>
          <p:cNvPr id="80" name="Скругленный прямоугольник 5"/>
          <p:cNvSpPr/>
          <p:nvPr/>
        </p:nvSpPr>
        <p:spPr>
          <a:xfrm>
            <a:off x="1979640" y="333360"/>
            <a:ext cx="57402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МИ – ЛЯ  (мил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2382840" y="2097000"/>
            <a:ext cx="41338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40:25Z</dcterms:created>
  <dc:creator>User</dc:creator>
  <dc:description/>
  <dc:language>en-US</dc:language>
  <cp:lastModifiedBy>User</cp:lastModifiedBy>
  <dcterms:modified xsi:type="dcterms:W3CDTF">2012-04-08T17:43:53Z</dcterms:modified>
  <cp:revision>9</cp:revision>
  <dc:subject/>
  <dc:title>Математические  загадки и ребус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240000000000010250300207f7000400038000</vt:lpwstr>
  </property>
</Properties>
</file>