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8C5-6EDF-490F-8902-40DC25E9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A37-0525-4110-866F-37DAFD25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024-901F-4BC7-B826-2B909FEE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D64-15C2-46B4-B8DA-BD974EBB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350-F088-4D7A-A136-DEB91020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AC0-6C52-44A6-958B-FC6D64AA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6C7-A080-4CAD-83E9-101D08FA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67F-C7A5-4A00-9853-967E8349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ECC-01AA-4F96-BFE2-868349FA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69E-13EC-4BE1-B358-7647F769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F48-7598-476A-946D-BE960E7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72F-E998-4D88-9665-DCD6B2A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2395-AEEB-4C8E-960A-A277B2E04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атематически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гадки и 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ртамонова Л.В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На страже отечества.</a:t>
            </a:r>
            <a:br>
              <a:rPr sz="3200"/>
            </a:b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авительство намерено сократить расходы военно-промышленного  комплекса, купив биологический наблюдательный прибор, реагирующий на приближающегося неприя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О какой из сказок А.С. Пушкина идёт речь?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о золотом   Петуш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2"/>
          <a:srcRect l="0" t="29867" r="0" b="0"/>
          <a:stretch/>
        </p:blipFill>
        <p:spPr>
          <a:xfrm>
            <a:off x="2195640" y="1558800"/>
            <a:ext cx="45417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Внимание!</a:t>
            </a:r>
            <a:br>
              <a:rPr sz="3000"/>
            </a:b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В продаже появились фальсифицированные фрукты, употребление которых приводит к негативным последствиям, таким, как продолжительный летаргический сон.</a:t>
            </a:r>
            <a:br>
              <a:rPr sz="3000"/>
            </a:b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Прежде, чем приобретать фрукты, требуйте сертификат соответствия и лицензию на право торгов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(О какой из сказок А.С. Пушкина идёт речь?»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1835280" y="333360"/>
            <a:ext cx="6913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 о мертвой царевне  и семи богатыр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1036800" y="1773360"/>
            <a:ext cx="5479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уки и п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опрос: сколько ног у жу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ног у пау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У меня в одной коробке три ж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в другой имею я три па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В уголке шуршат бумагой два еж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в двух клетках распевают два чиж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то, ребята, сосчитать бы мне помо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вместе все они имеют но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трелка вправо с вырезом 4"/>
          <p:cNvSpPr/>
          <p:nvPr/>
        </p:nvSpPr>
        <p:spPr>
          <a:xfrm>
            <a:off x="6443640" y="5805360"/>
            <a:ext cx="2305080" cy="1052640"/>
          </a:xfrm>
          <a:custGeom>
            <a:avLst/>
            <a:gdLst>
              <a:gd name="textAreaLeft" fmla="*/ 263160 w 2305080"/>
              <a:gd name="textAreaRight" fmla="*/ 2041920 w 2305080"/>
              <a:gd name="textAreaTop" fmla="*/ 263160 h 1052640"/>
              <a:gd name="textAreaBottom" fmla="*/ 78948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66" y="5400"/>
                </a:lnTo>
                <a:lnTo>
                  <a:pt x="16666" y="0"/>
                </a:lnTo>
                <a:lnTo>
                  <a:pt x="21600" y="10800"/>
                </a:lnTo>
                <a:lnTo>
                  <a:pt x="16666" y="21600"/>
                </a:lnTo>
                <a:lnTo>
                  <a:pt x="16666" y="16200"/>
                </a:lnTo>
                <a:lnTo>
                  <a:pt x="0" y="16200"/>
                </a:lnTo>
                <a:lnTo>
                  <a:pt x="246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твет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8209080" cy="5167440"/>
          </a:xfrm>
          <a:prstGeom prst="rect">
            <a:avLst/>
          </a:prstGeom>
          <a:ln w="0">
            <a:noFill/>
          </a:ln>
        </p:spPr>
      </p:pic>
      <p:sp>
        <p:nvSpPr>
          <p:cNvPr id="47" name="Скругленный прямоугольник 3"/>
          <p:cNvSpPr/>
          <p:nvPr/>
        </p:nvSpPr>
        <p:spPr>
          <a:xfrm>
            <a:off x="539640" y="5295960"/>
            <a:ext cx="48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32523"/>
                </a:solidFill>
                <a:latin typeface="Calibri"/>
              </a:rPr>
              <a:t>54 ног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омощ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7 тарелок им умы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8 чашек не забы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Ложек — дюжина одн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Чистота кругом видн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Вы готовы дать отве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Сколько всей посуды этой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Перемыл он, сын-проказник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Дело было в мамин праздник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право с вырезом 4"/>
          <p:cNvSpPr/>
          <p:nvPr/>
        </p:nvSpPr>
        <p:spPr>
          <a:xfrm>
            <a:off x="6443640" y="5805360"/>
            <a:ext cx="2305080" cy="1052640"/>
          </a:xfrm>
          <a:custGeom>
            <a:avLst/>
            <a:gdLst>
              <a:gd name="textAreaLeft" fmla="*/ 263160 w 2305080"/>
              <a:gd name="textAreaRight" fmla="*/ 2041920 w 2305080"/>
              <a:gd name="textAreaTop" fmla="*/ 263160 h 1052640"/>
              <a:gd name="textAreaBottom" fmla="*/ 78948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66" y="5400"/>
                </a:lnTo>
                <a:lnTo>
                  <a:pt x="16666" y="0"/>
                </a:lnTo>
                <a:lnTo>
                  <a:pt x="21600" y="10800"/>
                </a:lnTo>
                <a:lnTo>
                  <a:pt x="16666" y="21600"/>
                </a:lnTo>
                <a:lnTo>
                  <a:pt x="16666" y="16200"/>
                </a:lnTo>
                <a:lnTo>
                  <a:pt x="0" y="16200"/>
                </a:lnTo>
                <a:lnTo>
                  <a:pt x="246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твет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79320" y="1368360"/>
            <a:ext cx="8039160" cy="467352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3"/>
          <p:cNvSpPr/>
          <p:nvPr/>
        </p:nvSpPr>
        <p:spPr>
          <a:xfrm>
            <a:off x="539640" y="5295960"/>
            <a:ext cx="48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32523"/>
                </a:solidFill>
                <a:latin typeface="Calibri"/>
              </a:rPr>
              <a:t>2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лд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строились в ря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шли на парад. 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9/ 10 было усаты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там было безусых солда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строились в ря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шли на пар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8/ 1 0 было носаты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том было курносых солда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588000" y="5583240"/>
            <a:ext cx="2408400" cy="1238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000080" y="1336680"/>
            <a:ext cx="714204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5"/>
          <p:cNvSpPr/>
          <p:nvPr/>
        </p:nvSpPr>
        <p:spPr>
          <a:xfrm>
            <a:off x="452520" y="5295960"/>
            <a:ext cx="482580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1 безусый, 2 курнос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опрос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640" y="256500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Напишите 100 пятью единица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затем пятью пятер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1187280" y="1916280"/>
            <a:ext cx="7056720" cy="43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111-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(5+5+5+5)•5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(5•5•5-5•5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то выш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азочный россиянин-коротыш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ужичок-с-ноготок или Дюймовоч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499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ый прямоугольник 3"/>
          <p:cNvSpPr/>
          <p:nvPr/>
        </p:nvSpPr>
        <p:spPr>
          <a:xfrm>
            <a:off x="1979640" y="333360"/>
            <a:ext cx="57402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Дюймово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611280" y="5619600"/>
            <a:ext cx="5905440" cy="123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ь  рост Дюймовочки 2,54 с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больше размера ного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В какой сказке рассказывается об ограниченном приёме пайщиков в жилищный кооперати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Русская народная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 «Теремок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516720" y="5583240"/>
            <a:ext cx="2408040" cy="123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826920" y="1623960"/>
            <a:ext cx="7561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Назовите популярную русскую народную сказку с тремя покушениями на убийство и одним убийством?  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КОЛОБ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824040" y="1735200"/>
            <a:ext cx="7705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9040" y="227628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Назовит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узыкальну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еру длин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80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И – ЛЯ  (мил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2382840" y="2097000"/>
            <a:ext cx="41338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40:25Z</dcterms:created>
  <dc:creator>User</dc:creator>
  <dc:description/>
  <dc:language>en-US</dc:language>
  <cp:lastModifiedBy>User</cp:lastModifiedBy>
  <dcterms:modified xsi:type="dcterms:W3CDTF">2012-04-08T17:43:53Z</dcterms:modified>
  <cp:revision>9</cp:revision>
  <dc:subject/>
  <dc:title>Математические  загадки и ребус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240000000000010250300207f7000400038000</vt:lpwstr>
  </property>
</Properties>
</file>