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C02-2EC9-420B-B8DF-DB54114B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284-EF3F-4223-B487-F8C9258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2C0-E6FE-46FF-A9ED-0CD90A36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50D-54B4-40BF-9AED-C692E01F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079-8D05-48E7-ADC5-B6735987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564-9FF8-49D3-94B6-23FB0E18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39F-E8FF-4F6F-A717-D5F3D00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20C-ED35-4171-A236-69001A1C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1B9-F27C-45A8-BAB7-6B345118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28F-FB2B-43B7-85B1-9D2C153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767-7828-4377-B63D-D6E8FCC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65A-B4D6-46C2-8DE5-4007E76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D4ED-6488-4225-B4C0-46E66894F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атематически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гадки и 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ртамонова Л.В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На страже отечества.</a:t>
            </a: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авительство намерено сократить расходы военно-промышленного  комплекса, купив биологический наблюдательный прибор, реагирующий на приближающегося неприя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О какой из сказок А.С. Пушкина идёт речь?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о золотом   Петуш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2"/>
          <a:srcRect l="0" t="29867" r="0" b="0"/>
          <a:stretch/>
        </p:blipFill>
        <p:spPr>
          <a:xfrm>
            <a:off x="2195640" y="1558800"/>
            <a:ext cx="45417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Внимание!</a:t>
            </a:r>
            <a:br>
              <a:rPr sz="3000"/>
            </a:b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В продаже появились фальсифицированные фрукты, употребление которых приводит к негативным последствиям, таким, как продолжительный летаргический сон.</a:t>
            </a:r>
            <a:br>
              <a:rPr sz="3000"/>
            </a:b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Прежде, чем приобретать фрукты, требуйте сертификат соответствия и лицензию на право торгов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(О какой из сказок А.С. Пушкина идёт речь?»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1835280" y="333360"/>
            <a:ext cx="6913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 о мертвой царевне  и семи богатыр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1036800" y="1773360"/>
            <a:ext cx="5479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уки и п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опрос: сколько ног у ж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ног у па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 меня в одной коробке три ж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в другой имею я три па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В уголке шуршат бумагой два еж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в двух клетках распевают два чиж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то, ребята, сосчитать бы мне помо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вместе все они имеют но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право с вырезом 4"/>
          <p:cNvSpPr/>
          <p:nvPr/>
        </p:nvSpPr>
        <p:spPr>
          <a:xfrm>
            <a:off x="6443640" y="5805360"/>
            <a:ext cx="2305080" cy="1052640"/>
          </a:xfrm>
          <a:custGeom>
            <a:avLst/>
            <a:gdLst>
              <a:gd name="textAreaLeft" fmla="*/ 263160 w 2305080"/>
              <a:gd name="textAreaRight" fmla="*/ 2041920 w 2305080"/>
              <a:gd name="textAreaTop" fmla="*/ 263160 h 1052640"/>
              <a:gd name="textAreaBottom" fmla="*/ 7894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66" y="5400"/>
                </a:lnTo>
                <a:lnTo>
                  <a:pt x="16666" y="0"/>
                </a:lnTo>
                <a:lnTo>
                  <a:pt x="21600" y="10800"/>
                </a:lnTo>
                <a:lnTo>
                  <a:pt x="16666" y="21600"/>
                </a:lnTo>
                <a:lnTo>
                  <a:pt x="16666" y="16200"/>
                </a:lnTo>
                <a:lnTo>
                  <a:pt x="0" y="16200"/>
                </a:lnTo>
                <a:lnTo>
                  <a:pt x="246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твет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8209080" cy="5167440"/>
          </a:xfrm>
          <a:prstGeom prst="rect">
            <a:avLst/>
          </a:prstGeom>
          <a:ln w="0">
            <a:noFill/>
          </a:ln>
        </p:spPr>
      </p:pic>
      <p:sp>
        <p:nvSpPr>
          <p:cNvPr id="47" name="Скругленный прямоугольник 3"/>
          <p:cNvSpPr/>
          <p:nvPr/>
        </p:nvSpPr>
        <p:spPr>
          <a:xfrm>
            <a:off x="539640" y="52959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54 ног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мощ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7 тарелок им умы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8 чашек не забы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Ложек — дюжина од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Чистота кругом вид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Вы готовы дать отве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Сколько всей посуды этой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Перемыл он, сын-проказник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Дело было в мамин праздник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с вырезом 4"/>
          <p:cNvSpPr/>
          <p:nvPr/>
        </p:nvSpPr>
        <p:spPr>
          <a:xfrm>
            <a:off x="6443640" y="5805360"/>
            <a:ext cx="2305080" cy="1052640"/>
          </a:xfrm>
          <a:custGeom>
            <a:avLst/>
            <a:gdLst>
              <a:gd name="textAreaLeft" fmla="*/ 263160 w 2305080"/>
              <a:gd name="textAreaRight" fmla="*/ 2041920 w 2305080"/>
              <a:gd name="textAreaTop" fmla="*/ 263160 h 1052640"/>
              <a:gd name="textAreaBottom" fmla="*/ 7894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66" y="5400"/>
                </a:lnTo>
                <a:lnTo>
                  <a:pt x="16666" y="0"/>
                </a:lnTo>
                <a:lnTo>
                  <a:pt x="21600" y="10800"/>
                </a:lnTo>
                <a:lnTo>
                  <a:pt x="16666" y="21600"/>
                </a:lnTo>
                <a:lnTo>
                  <a:pt x="16666" y="16200"/>
                </a:lnTo>
                <a:lnTo>
                  <a:pt x="0" y="16200"/>
                </a:lnTo>
                <a:lnTo>
                  <a:pt x="246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твет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79320" y="1368360"/>
            <a:ext cx="8039160" cy="467352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3"/>
          <p:cNvSpPr/>
          <p:nvPr/>
        </p:nvSpPr>
        <p:spPr>
          <a:xfrm>
            <a:off x="539640" y="52959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2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лд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строились в ря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шли на парад. 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9/ 10 было усаты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там было безусых солда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строились в ря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шли на пар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8/ 1 0 было носаты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том было курносых солда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588000" y="5583240"/>
            <a:ext cx="2408400" cy="123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000080" y="1336680"/>
            <a:ext cx="714204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5"/>
          <p:cNvSpPr/>
          <p:nvPr/>
        </p:nvSpPr>
        <p:spPr>
          <a:xfrm>
            <a:off x="452520" y="5295960"/>
            <a:ext cx="482580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1 безусый, 2 курнос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прос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25650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Напишите 100 пятью единица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затем пятью пятер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1187280" y="1916280"/>
            <a:ext cx="7056720" cy="43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111-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(5+5+5+5)•5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(5•5•5-5•5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то выш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азочный россиянин-короты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ужичок-с-ноготок или Дюймовоч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499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ый прямоугольник 3"/>
          <p:cNvSpPr/>
          <p:nvPr/>
        </p:nvSpPr>
        <p:spPr>
          <a:xfrm>
            <a:off x="1979640" y="333360"/>
            <a:ext cx="57402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Дюймово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611280" y="5619600"/>
            <a:ext cx="5905440" cy="123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 рост Дюймовочки 2,54 с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больше размера ного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В какой сказке рассказывается об ограниченном приёме пайщиков в жилищный кооперати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Русская народная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 «Теремок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516720" y="5583240"/>
            <a:ext cx="2408040" cy="123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826920" y="1623960"/>
            <a:ext cx="7561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Назовите популярную русскую народную сказку с тремя покушениями на убийство и одним убийством?  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КОЛОБ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824040" y="1735200"/>
            <a:ext cx="7705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9040" y="227628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Назови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узыкальну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еру длин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80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И – ЛЯ  (мил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2382840" y="2097000"/>
            <a:ext cx="41338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40:25Z</dcterms:created>
  <dc:creator>User</dc:creator>
  <dc:description/>
  <dc:language>en-US</dc:language>
  <cp:lastModifiedBy>User</cp:lastModifiedBy>
  <dcterms:modified xsi:type="dcterms:W3CDTF">2012-04-08T17:43:53Z</dcterms:modified>
  <cp:revision>9</cp:revision>
  <dc:subject/>
  <dc:title>Математические  загадки и ребус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240000000000010250300207f7000400038000</vt:lpwstr>
  </property>
</Properties>
</file>