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8CC-B927-4A15-A695-4A4A6991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8C2-2685-4023-9E96-5CC2B2FD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186-AAF1-4404-AC5B-18B649B9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327-4ED2-414F-8DC9-E0CA4C09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BBE-1B03-4AA2-87FC-13FFB819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FA0-AF02-47DF-8725-72479A9A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72C-D8A2-49E0-8E03-FB4CA846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479-48AA-4525-8AE4-D609968C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608-67B5-44CE-95CD-1E5D541D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092-9DD2-408D-B8E3-B633BC3D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AA3-A751-49F9-9023-E4B9C04A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2949-8D8C-4CF0-9301-51BF925B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D444-19A4-4128-87AF-142D494FF3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Обеспечение личной безопасности в экстремальных и опасных ситуациях, связанных с терроризмом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5644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0012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Заложни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 люди, которых захватили и удерживают без их согласия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Террор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это угроза физической расправы, либо запугивание с угрозой расправы или убийств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вила   безопасного поведения при захвате людей террористам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захвате как можно быстрее возьмите себя в руки, не паникуйте, помните: ваша цель – остаться в живы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захваченном террористами транспортном средстве оставай­тесь на своем мест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райтесь не привлекать к себе внима­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общении с преступниками избегайте презрительного, вызывающего тона и поведения, которые могут вызвать гнев террористов и привести к человеческим жертв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возможности располагайтесь подальше от окон, дверей и преступников (места рядом с ними наиболее опасны при проведении спецслужбами операции по освобождению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за­давайте вопросов и не смотрите в глаза террорист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реаги­руйте на их провокационное или вызывающее поведение, не со­здавайте конфликтных ситу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з препирательств выполняй­те требования террорис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рашивайте разрешения передви­нуться (пересесть), сходить в туалет, открыть сумку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бегайте необду­манных действий, потому что в случае неудачи можно поставить под угрозу собственную безопасность и безопасность других пас­сажи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вы ранены, постарайтесь меньше двигаться, этим можно сократить потерю кров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поддержания сил ешьте всё, что вам предлагают, даже ту пищу, которая категорически не нр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блюдайте личную гигиену и чистоту, насколько позволяет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блюдайте за террористами и постарайтесь запомнить как можно больше информации о террористах (их количество, вооружение, имена, клички, приметы, особенности речи и манеры поведения, телосложение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ваш самолет (автобус) штурмуется группой захвата, ло­житесь на пол  лицом вниз, закройте голову руками и оставайтесь там до конца операции, не мешая ее проведени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кидайте автобус только после команды спецназовце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во время операции используется газ, защитите органы дыхания простейшими средствами защиты (шарфами, платками, косынкам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освобождении выходите как можно скорее, вещи оставляйте в салоне (всегда существует опасность взрыва или пожара). Вый­дя наружу, выполняйте команды группы захвата, чтобы не стать случайной жертвой в перестрелке, не бегите, ложитесь спиной на земл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действия при обнаружении взрывоопасного, бесхозного предм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икасаться к бесхозным веща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аружив подозрительную вещь, спросите окружающих о том, кому она пренадлежи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ытаться самостоятельно разглядывать, обезвреживать взрывное устрой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бщить о находке должностному лицу ( в автобусе — водителю или кондуктору, в магазине – продавцу и т. д.) или работнику мили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авила безопасного поведения в толпе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Лучшее правило безопасности — не попадать в толпу, а обойти ее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вигаться в толпе, прижав руки к себе, согнув в локтях, и выставив локти вперёд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ержаться в толпе друг за друга «паровозиком»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Идти со скоростью толпы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Не останавливаться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ержаться подальше от стекла (стеклянных ветрин, дверей)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Держать личные вещи, прижав их к себе, убрав из внешних карманов ценные вещи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Если что-то уронил, потерял, не останавливаться, не искать на полу.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- По возможности двигаться из середины толпы к её краю.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99"/>
                </a:solidFill>
                <a:uFillTx/>
                <a:latin typeface="Arial"/>
              </a:rPr>
              <a:t>Чтобы чувствовать себя уверенно, необходимо: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- научиться прогнозировать события;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- стараться избегать опасных ситуаций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7-02T10:08:3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