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B44-40D1-4C54-A53C-A9AB86E0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94A-16E4-48E4-B7F5-6E77775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4BA-B8A9-45DC-A62A-54AB3D5E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B7E-1890-4E71-9E09-3434CED3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204-2E1D-45F8-9A7F-8F938F2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590-14B1-44D1-8CC3-64EDE9D4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87E-E7E3-48C0-B715-AE0CFF2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047-1526-4779-BD0E-BEC4962A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3E2-EFF0-4EDB-A2B2-1D46965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79F-FF5A-44B5-83A1-C9FAD8C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B84-87C4-437D-BCCA-6D7114D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B2E-1E5C-411C-B2CD-46AA1FF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723-295A-4B66-AB80-326EBC5AD2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Обеспечение личной безопасности в экстремальных и опасных ситуациях, связанных с терроризмом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564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01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Заложни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люди, которых захватили и удерживают без их соглас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рро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это угроза физической расправы, либо запугивание с угрозой расправы или убийст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ила   безопасного поведения при захвате людей террористам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захвате как можно быстрее возьмите себя в руки, не паникуйте, помните: ваша цель – остаться в жив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захваченном террористами транспортном средстве оставай­тесь на своем мес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райтесь не привлекать к себе внима­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общении с преступниками избегайте презрительного, вызывающего тона и поведения, которые могут вызвать гнев террористов и привести к человеческим жертв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возможности располагайтесь подальше от окон, дверей и преступников (места рядом с ними наиболее опасны при проведении спецслужбами операции по освобождению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за­давайте вопросов и не смотрите в глаза террорист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реаги­руйте на их провокационное или вызывающее поведение, не со­здавайте конфликтных ситу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з препирательств выполняй­те требования террорис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рашивайте разрешения передви­нуться (пересесть), сходить в туалет, открыть сумку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бегайте необду­манных действий, потому что в случае неудачи можно поставить под угрозу собственную безопасность и безопасность других пас­сажи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ы ранены, постарайтесь меньше двигаться, этим можно сократить потерю кров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поддержания сил ешьте всё, что вам предлагают, даже ту пищу, которая категорически не нр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блюдайте личную гигиену и чистоту, насколько позволяет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блюдайте за террористами и постарайтесь запомнить как можно больше информации о террористах (их количество, вооружение, имена, клички, приметы, особенности речи и манеры поведения, телосложение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аш самолет (автобус) штурмуется группой захвата, ло­житесь на пол  лицом вниз, закройте голову руками и оставайтесь там до конца операции, не мешая ее проведе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кидайте автобус только после команды спецназовце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о время операции используется газ, защитите органы дыхания простейшими средствами защиты (шарфами, платками, косынкам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освобождении выходите как можно скорее, вещи оставляйте в салоне (всегда существует опасность взрыва или пожара). Вый­дя наружу, выполняйте команды группы захвата, чтобы не стать случайной жертвой в перестрелке, не бегите, ложитесь спиной на земл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действия при обнаружении взрывоопасного, бесхозного предм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икасаться к бесхозным веща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ив подозрительную вещь, спросите окружающих о том, кому она пренадле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ытаться самостоятельно разглядывать, обезвреживать взрывное устрой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бщить о находке должностному лицу ( в автобусе — водителю или кондуктору, в магазине – продавцу и т. д.) или работнику мил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авила безопасного поведения в толпе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Лучшее правило безопасности — не попадать в толпу, а обойти ее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вигаться в толпе, прижав руки к себе, согнув в локтях, и выставив локти вперёд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ся в толпе друг за друга «паровозиком»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Идти со скоростью толпы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Не останавливаться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ся подальше от стекла (стеклянных ветрин, дверей)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 личные вещи, прижав их к себе, убрав из внешних карманов ценные вещи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Если что-то уронил, потерял, не останавливаться, не искать на полу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По возможности двигаться из середины толпы к её краю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Чтобы чувствовать себя уверенно, необходимо: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- научиться прогнозировать события;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- стараться избегать опасных ситуаций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2T10:08:3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