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A9E-BD19-4DE1-A48D-5DD3BF9D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6F2-B706-43E7-A7C2-70A4C2ED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050-E8F1-4CFD-A85D-74B8E8AD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6E7-34FE-4C5F-B632-A6E6BD17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7D3-BD79-447E-8AB7-A8540D07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D6C-351B-4F7A-A471-0EA2B5D5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241-3C94-4B97-AE67-17C84194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443-BB29-4F44-A4C7-C9B4532F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FD8-5208-463D-AB8D-DD737D61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BDF-8DF3-44AF-A7E9-4B22A40F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19B-DBDA-42A9-8E3E-344DC6E9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621-0483-47C3-9C0C-97BAF473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6734-4897-46BB-A8D8-F22DAD0A31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Обеспечение личной безопасности в экстремальных и опасных ситуациях, связанных с терроризмом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564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0012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Заложни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люди, которых захватили и удерживают без их согласия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ерро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это угроза физической расправы, либо запугивание с угрозой расправы или убийств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вила   безопасного поведения при захвате людей террористам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захвате как можно быстрее возьмите себя в руки, не паникуйте, помните: ваша цель – остаться в живы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захваченном террористами транспортном средстве оставай­тесь на своем мест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райтесь не привлекать к себе внима­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общении с преступниками избегайте презрительного, вызывающего тона и поведения, которые могут вызвать гнев террористов и привести к человеческим жертв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возможности располагайтесь подальше от окон, дверей и преступников (места рядом с ними наиболее опасны при проведении спецслужбами операции по освобождению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за­давайте вопросов и не смотрите в глаза террорист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реаги­руйте на их провокационное или вызывающее поведение, не со­здавайте конфликтных ситу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з препирательств выполняй­те требования террорис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рашивайте разрешения передви­нуться (пересесть), сходить в туалет, открыть сумку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бегайте необду­манных действий, потому что в случае неудачи можно поставить под угрозу собственную безопасность и безопасность других пас­сажи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вы ранены, постарайтесь меньше двигаться, этим можно сократить потерю кров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поддержания сил ешьте всё, что вам предлагают, даже ту пищу, которая категорически не нр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блюдайте личную гигиену и чистоту, насколько позволяет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блюдайте за террористами и постарайтесь запомнить как можно больше информации о террористах (их количество, вооружение, имена, клички, приметы, особенности речи и манеры поведения, телосложение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ваш самолет (автобус) штурмуется группой захвата, ло­житесь на пол  лицом вниз, закройте голову руками и оставайтесь там до конца операции, не мешая ее проведен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кидайте автобус только после команды спецназовце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во время операции используется газ, защитите органы дыхания простейшими средствами защиты (шарфами, платками, косынкам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освобождении выходите как можно скорее, вещи оставляйте в салоне (всегда существует опасность взрыва или пожара). Вый­дя наружу, выполняйте команды группы захвата, чтобы не стать случайной жертвой в перестрелке, не бегите, ложитесь спиной на земл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действия при обнаружении взрывоопасного, бесхозного предм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икасаться к бесхозным веща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аружив подозрительную вещь, спросите окружающих о том, кому она пренадлеж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ытаться самостоятельно разглядывать, обезвреживать взрывное устрой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бщить о находке должностному лицу ( в автобусе — водителю или кондуктору, в магазине – продавцу и т. д.) или работнику мили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равила безопасного поведения в толпе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Лучшее правило безопасности — не попадать в толпу, а обойти ее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Двигаться в толпе, прижав руки к себе, согнув в локтях, и выставив локти вперёд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Держаться в толпе друг за друга «паровозиком»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Идти со скоростью толпы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Не останавливаться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Держаться подальше от стекла (стеклянных ветрин, дверей)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Держать личные вещи, прижав их к себе, убрав из внешних карманов ценные вещи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Если что-то уронил, потерял, не останавливаться, не искать на полу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По возможности двигаться из середины толпы к её краю.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99"/>
                </a:solidFill>
                <a:uFillTx/>
                <a:latin typeface="Arial"/>
              </a:rPr>
              <a:t>Чтобы чувствовать себя уверенно, необходимо: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- научиться прогнозировать события;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- стараться избегать опасных ситуаций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7-02T10:08:3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