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478-66A5-44EB-8F9F-0BC16ECB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D6C-192C-418D-9EA5-D6DFAB44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37C-988E-4897-91C1-AA699BB5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C44-6019-4816-A5B8-6C8C8E9F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AD4-655A-4EEA-A5B8-75F7F7F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EF8-3B13-4934-8559-1D86A0D3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642-F4F0-4904-8637-B61D754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363-42F2-4773-A0E4-4AB3EF1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7C0-D162-42BB-9B9B-B8FB6322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16A-894B-4031-8FE1-B030DC70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B69-95AF-411E-ABF4-A55CC93D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81C-7B51-4CE2-A300-EF64925D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DA31-3713-489A-A0EE-125706EDF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838080" y="1295280"/>
            <a:ext cx="7772400" cy="3733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71600" y="2438280"/>
            <a:ext cx="67816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437" t="9522" r="55025" b="6348"/>
          <a:stretch/>
        </p:blipFill>
        <p:spPr>
          <a:xfrm>
            <a:off x="533520" y="15238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rcRect l="49783" t="3174" r="1311" b="11113"/>
          <a:stretch/>
        </p:blipFill>
        <p:spPr>
          <a:xfrm>
            <a:off x="4572000" y="15238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295280" y="228600"/>
            <a:ext cx="67820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9480" y="5715000"/>
            <a:ext cx="3581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у лифта стоят незнакомые люди, не садись в него иди пеш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0" y="5715000"/>
            <a:ext cx="40384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ходя из дома выбрасывать мусор или забирать почту, запирай входную две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7391520" y="1295280"/>
            <a:ext cx="49536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819520" y="1371600"/>
            <a:ext cx="3047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вый э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28800" y="152280"/>
            <a:ext cx="59436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амые распространенные места нападения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следний эт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2971800" y="4343400"/>
            <a:ext cx="952560" cy="140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5029200" y="4267080"/>
            <a:ext cx="1320840" cy="152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2209680" y="5867280"/>
            <a:ext cx="2133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586728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рд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rcRect l="1460" t="9357" r="49224" b="13531"/>
          <a:stretch/>
        </p:blipFill>
        <p:spPr>
          <a:xfrm>
            <a:off x="457200" y="685800"/>
            <a:ext cx="3886200" cy="346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56077" t="8117" r="0" b="14771"/>
          <a:stretch/>
        </p:blipFill>
        <p:spPr>
          <a:xfrm>
            <a:off x="4952880" y="8380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181480" y="4724280"/>
            <a:ext cx="32767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осторонний человек предлагает тебе подняться с ним на лифте откаж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520" y="4724280"/>
            <a:ext cx="3657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открывай дверь незнакомцам. Спроси: «Кто там?», или посмотри в гл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371600" y="380880"/>
            <a:ext cx="640080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помни эти номера телефон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209680"/>
            <a:ext cx="35812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лиция 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191120" y="2514600"/>
            <a:ext cx="472428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ая медицинская помощь 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57200" y="3048120"/>
            <a:ext cx="35053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ужба спасения 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676520" y="4495680"/>
            <a:ext cx="6400800" cy="174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ожный вызов по телефону милиции, службы спасения, скорой или пожарной помощи делать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9T09:34:2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