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957-1E7F-4F67-8F2E-B186CB19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A16-A284-43F1-9FEF-6AB4D074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429-5D01-42C0-AAFE-5F50CF3B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E3E-21E8-4FA2-8298-8014D347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5AF-28E4-490C-91E0-825C1D09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5A7-2E0E-47F4-86A5-40EC0229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356-048F-48E3-BAA8-AA5B5F06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7A7-5E06-41BD-B6AB-BC8A10FC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9E7-9CFC-4C9E-8757-D77875A2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926-B7C2-4883-A194-18A48204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54A-5A7C-4118-827C-568C1676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961-7BA9-467A-BA1E-FED3BD8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64E9-F19E-4BBD-9FF8-F59B823D1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838080" y="1295280"/>
            <a:ext cx="7772400" cy="3733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71600" y="2438280"/>
            <a:ext cx="67816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437" t="9522" r="55025" b="6348"/>
          <a:stretch/>
        </p:blipFill>
        <p:spPr>
          <a:xfrm>
            <a:off x="533520" y="1523880"/>
            <a:ext cx="3886200" cy="403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rcRect l="49783" t="3174" r="1311" b="11113"/>
          <a:stretch/>
        </p:blipFill>
        <p:spPr>
          <a:xfrm>
            <a:off x="4572000" y="15238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295280" y="228600"/>
            <a:ext cx="67820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9480" y="5715000"/>
            <a:ext cx="3581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у лифта стоят незнакомые люди, не садись в него иди пеш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572000" y="5715000"/>
            <a:ext cx="40384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ходя из дома выбрасывать мусор или забирать почту, запирай входную две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7391520" y="1295280"/>
            <a:ext cx="49536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2819520" y="1371600"/>
            <a:ext cx="3047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вый э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828800" y="152280"/>
            <a:ext cx="59436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амые распространенные места нападения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124080" y="2209680"/>
            <a:ext cx="2667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следний эт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2971800" y="4343400"/>
            <a:ext cx="952560" cy="1409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5029200" y="4267080"/>
            <a:ext cx="1320840" cy="1524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2209680" y="5867280"/>
            <a:ext cx="2133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495680" y="5867280"/>
            <a:ext cx="2590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рд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rcRect l="1460" t="9357" r="49224" b="13531"/>
          <a:stretch/>
        </p:blipFill>
        <p:spPr>
          <a:xfrm>
            <a:off x="457200" y="685800"/>
            <a:ext cx="3886200" cy="346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rcRect l="56077" t="8117" r="0" b="14771"/>
          <a:stretch/>
        </p:blipFill>
        <p:spPr>
          <a:xfrm>
            <a:off x="4952880" y="838080"/>
            <a:ext cx="3353040" cy="3353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181480" y="4724280"/>
            <a:ext cx="327672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осторонний человек предлагает тебе подняться с ним на лифте откаж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520" y="4724280"/>
            <a:ext cx="36576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открывай дверь незнакомцам. Спроси: «Кто там?», или посмотри в гл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371600" y="380880"/>
            <a:ext cx="640080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помни эти номера телефон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209680"/>
            <a:ext cx="35812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лиция 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191120" y="2514600"/>
            <a:ext cx="472428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ая медицинская помощь 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57200" y="3048120"/>
            <a:ext cx="350532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ужба спасения 9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676520" y="4495680"/>
            <a:ext cx="6400800" cy="174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ожный вызов по телефону милиции, службы спасения, скорой или пожарной помощи делать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4-29T09:34:2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