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F8C-4F58-4619-A804-243F7BF6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7FB-8B6D-4159-A8E9-01CE9680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C02-BFD6-45EA-9F19-2CC49411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808-AC8C-4A50-9AA1-9658D3E4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2A7-1254-47DC-8AC6-757E238C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854-2A92-4153-BBD3-A83C3280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957-DB6C-4A5F-891F-85A9B8B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99F-6081-462A-863E-81637BCD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E88-B818-4123-9E17-C2BABD7B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2F0-D291-4E01-AE22-70DA7C0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45E-57DF-45BA-948B-869A978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FF3-240D-4116-BB5D-8C55F00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2C70-0B42-4E8F-811C-8EACB3344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62200" y="4651200"/>
            <a:ext cx="557208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651640" y="1125360"/>
            <a:ext cx="324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МОУ СОШ № 4 города Миньяра Челябин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вина Ма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835280" y="407664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стер-класс по теме: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3895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13568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олнение уг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ится уг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разбивается на равные отрезки. Количество отрезков на каждой из сторон угла должно быть одинаков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ла с ниткой вводится в т. 1 с изнаночной стороны и опускается в т. 26, находящуюся на другой стороне уг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цевая сто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6 в т. 25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5 в т. 2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 в т. 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3 в т. 24 и так далее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пересечении сторон угла отверстие не делается! (в т. 2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технике "изонить" всего два прием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олнение угла и заполнение окруж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izo3.gif"/>
          <p:cNvPicPr/>
          <p:nvPr/>
        </p:nvPicPr>
        <p:blipFill>
          <a:blip r:embed="rId1"/>
          <a:stretch/>
        </p:blipFill>
        <p:spPr>
          <a:xfrm>
            <a:off x="6429240" y="3357720"/>
            <a:ext cx="21765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izo3.gif"/>
          <p:cNvPicPr/>
          <p:nvPr/>
        </p:nvPicPr>
        <p:blipFill>
          <a:blip r:embed="rId1"/>
          <a:stretch/>
        </p:blipFill>
        <p:spPr>
          <a:xfrm>
            <a:off x="428760" y="285840"/>
            <a:ext cx="3867120" cy="6072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izo4.jpg"/>
          <p:cNvPicPr/>
          <p:nvPr/>
        </p:nvPicPr>
        <p:blipFill>
          <a:blip r:embed="rId2"/>
          <a:stretch/>
        </p:blipFill>
        <p:spPr>
          <a:xfrm>
            <a:off x="5143680" y="428760"/>
            <a:ext cx="340488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лнение окружно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400" y="1356840"/>
            <a:ext cx="5143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ужность делится на равные части (их должно быть четное количеств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ирается любая хорда в окружности. Например, 9-2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олка с ниткой вставляется в т. 9 (с изнаночной стороны), опускается в т.24, затем из т. 24 в т.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из т. 1 в т. 10, из т. 10 в т. 11 и так далее по окружности. Эта хорда должна "совершить" целых два к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izo5.gif"/>
          <p:cNvPicPr/>
          <p:nvPr/>
        </p:nvPicPr>
        <p:blipFill>
          <a:blip r:embed="rId1"/>
          <a:stretch/>
        </p:blipFill>
        <p:spPr>
          <a:xfrm>
            <a:off x="6143760" y="1428840"/>
            <a:ext cx="2438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1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214200"/>
            <a:ext cx="822960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 работы в технике "изонить" завораживает детей красотой. А где красота - там и радость, и праздник. И всегда хорошее настро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Вышивание на бумаге1"/>
          <p:cNvPicPr/>
          <p:nvPr/>
        </p:nvPicPr>
        <p:blipFill>
          <a:blip r:embed="rId1"/>
          <a:stretch/>
        </p:blipFill>
        <p:spPr>
          <a:xfrm>
            <a:off x="179280" y="1484280"/>
            <a:ext cx="2827440" cy="401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Вышивание на бумаге"/>
          <p:cNvPicPr/>
          <p:nvPr/>
        </p:nvPicPr>
        <p:blipFill>
          <a:blip r:embed="rId2"/>
          <a:stretch/>
        </p:blipFill>
        <p:spPr>
          <a:xfrm>
            <a:off x="6156360" y="1557360"/>
            <a:ext cx="2843280" cy="395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Вышивание на бумаге6"/>
          <p:cNvPicPr/>
          <p:nvPr/>
        </p:nvPicPr>
        <p:blipFill>
          <a:blip r:embed="rId3"/>
          <a:stretch/>
        </p:blipFill>
        <p:spPr>
          <a:xfrm>
            <a:off x="3132000" y="1557360"/>
            <a:ext cx="2808360" cy="388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50920" y="580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ы учителя технологии МОУ СОШ № 4 города Миньяра Коровиной Марины Александр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усарова Н.Н. Техника изонити для дошкольников. -  Санкт-Петербург,  изд. «Детство-Пресс», 2008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шко Л.Н. Хордовая вышивка, набор открыток, 2004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ундукова Л.Н. Волшебная изонить. -  Москва, ООО «АСТ – ПРЕСС КНИГА», 2010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mages.yandex.ru/yandsearch?text=%D0%B8%D0%B7%D0%BE%D0%BD%D0%B8%D1%82%D1%8C%20%D1%81%D1%85%D0%B5%D0%BC%D1%8B&amp;stype=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цессе занятий дети познакомятся с основными геометрическими понятиями; научатся ориентироваться на листе бумаги, потренируются в развитии чертежных навыков, научатся владеть иглой, ножницами, фигурными трафаретами. Занятия изонитью требуют системности в работе с дет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785880"/>
            <a:ext cx="4643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ой моторики пальцев рук, что оказывает положительное влияние на речевые зоны коры головного мозг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го восприят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ом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го мышл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ра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ых качеств (усидчивости, терпения, умения доводить работу до конца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32535859.jpg"/>
          <p:cNvPicPr/>
          <p:nvPr/>
        </p:nvPicPr>
        <p:blipFill>
          <a:blip r:embed="rId1"/>
          <a:stretch/>
        </p:blipFill>
        <p:spPr>
          <a:xfrm>
            <a:off x="5148360" y="765000"/>
            <a:ext cx="3591000" cy="5437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71680" y="21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изонитью способствуют развитию у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4200" y="213840"/>
            <a:ext cx="47865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ребенок любит рисовать. Дети рисуют карандашами, красками, палочкой на снегу и пальцем на замерзшем окне, мелом на асфальте и угольком на случайной дощечке, стеклышком на песке и многими другими инструментами и материалами. Оказывается, их можно научить рисовать и нитью. Изонить, - так называется этот вид деятельности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PICT3977.jpg"/>
          <p:cNvPicPr/>
          <p:nvPr/>
        </p:nvPicPr>
        <p:blipFill>
          <a:blip r:embed="rId1"/>
          <a:stretch/>
        </p:blipFill>
        <p:spPr>
          <a:xfrm>
            <a:off x="5072040" y="857160"/>
            <a:ext cx="3629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35676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нить - изображение нитью, ниточный дизай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нить или нитяная графика - это графический рисунок, выполненный нитями, натянутыми в определенном порядке на твердой основе. Используя эту технологию, можно создать великолепные открытки на память, обложки для рукописных книг, закладки, декоративные пан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DSC00125-web.jpg"/>
          <p:cNvPicPr/>
          <p:nvPr/>
        </p:nvPicPr>
        <p:blipFill>
          <a:blip r:embed="rId1"/>
          <a:stretch/>
        </p:blipFill>
        <p:spPr>
          <a:xfrm>
            <a:off x="714240" y="2928960"/>
            <a:ext cx="3071880" cy="3709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191972995_006.jpg"/>
          <p:cNvPicPr/>
          <p:nvPr/>
        </p:nvPicPr>
        <p:blipFill>
          <a:blip r:embed="rId2"/>
          <a:stretch/>
        </p:blipFill>
        <p:spPr>
          <a:xfrm>
            <a:off x="4714920" y="2857680"/>
            <a:ext cx="3643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a_5670.jpg"/>
          <p:cNvPicPr/>
          <p:nvPr/>
        </p:nvPicPr>
        <p:blipFill>
          <a:blip r:embed="rId1"/>
          <a:stretch/>
        </p:blipFill>
        <p:spPr>
          <a:xfrm>
            <a:off x="5286240" y="1214280"/>
            <a:ext cx="3571920" cy="4767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1520" y="213840"/>
            <a:ext cx="3071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928440"/>
            <a:ext cx="485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тяная графика как вид искусства впервые появилась в Англии. Английские ткачи придумали особый способ переплетения ниток. Они вбивали в дощечки гвозди и в определённой последовательности натягивали на них нити. В результате получались ажурные кружевные изделия, которые использовались для украшения жилища. В настоящее время искусство нитяной графики находит широкое применение для украшения изделий и предметов быта, для оформления интерьера, для выполнения подарков и сувени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328428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ервом этапе у детей возникают трудности в работе с иголкой: сложно вдеть нитку в иглу, сделать узелок. Бывает, что нитка путается. Все эти технические неполадки могут отразиться на интересе детей к выполняемой работе. Здесь обязательно должен прийти на помощь воспитатель. На начальном этапе овладения техникой изонити лучше заранее приготовить для детей иголки с нитками и сделать разметку будущего рисунка на картон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DSC00127-web.jpg"/>
          <p:cNvPicPr/>
          <p:nvPr/>
        </p:nvPicPr>
        <p:blipFill>
          <a:blip r:embed="rId1"/>
          <a:stretch/>
        </p:blipFill>
        <p:spPr>
          <a:xfrm>
            <a:off x="1714680" y="214200"/>
            <a:ext cx="48020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642600"/>
            <a:ext cx="42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на нити на занятиях по нитяной графике имеет большое значение: ее должно хватить на заполнение одного угла. В качестве вспомогательного материала детям лучше предлагать бусины или бисер, но отверстия в нем должны быть достаточно больши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DSC02096.JPG"/>
          <p:cNvPicPr/>
          <p:nvPr/>
        </p:nvPicPr>
        <p:blipFill>
          <a:blip r:embed="rId1"/>
          <a:stretch/>
        </p:blipFill>
        <p:spPr>
          <a:xfrm>
            <a:off x="4572000" y="214200"/>
            <a:ext cx="4357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358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ля работы понадобятс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764640"/>
            <a:ext cx="443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тный картон или бархатная бумаг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жниц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елковые нитки разных цвет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й П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нейка, циркуль, резинка, цветные и простые карандаш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пировальная бумага, каль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кань, клеевая ткан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м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Вышивание4"/>
          <p:cNvPicPr/>
          <p:nvPr/>
        </p:nvPicPr>
        <p:blipFill>
          <a:blip r:embed="rId1"/>
          <a:stretch/>
        </p:blipFill>
        <p:spPr>
          <a:xfrm>
            <a:off x="4572000" y="765000"/>
            <a:ext cx="4356000" cy="338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Вышивание6"/>
          <p:cNvPicPr/>
          <p:nvPr/>
        </p:nvPicPr>
        <p:blipFill>
          <a:blip r:embed="rId2"/>
          <a:stretch/>
        </p:blipFill>
        <p:spPr>
          <a:xfrm>
            <a:off x="4572000" y="4437000"/>
            <a:ext cx="4321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7:48:18Z</dcterms:created>
  <dc:creator>1</dc:creator>
  <dc:description/>
  <dc:language>en-US</dc:language>
  <cp:lastModifiedBy>Олег</cp:lastModifiedBy>
  <dcterms:modified xsi:type="dcterms:W3CDTF">2011-03-01T20:32:58Z</dcterms:modified>
  <cp:revision>27</cp:revision>
  <dc:subject/>
  <dc:title>Изонить</dc:title>
</cp:coreProperties>
</file>