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1406-DC06-4CC4-A6A5-3455397C6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683B-A12B-4D5E-AB82-526B78FE4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F94E-3F99-42B8-9876-A9A741271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2454-52DB-4F82-AFAC-A089EE37E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FA85-4BDD-4302-89C7-A53CA2C5C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1C19-B8C4-48B9-9842-37CDE39C4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07A1-BE7C-4590-9C1F-3D89E6789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7A72-6C8F-4C2F-8234-94C116CE7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B672-BC37-483E-A305-C7EB4AFED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FDBC-5F29-4CB5-BA1F-23EA1B89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D17A-D240-4A1C-B099-4F8917AEE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E682-28B5-4CFE-A729-85A69B475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fb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36F0A-9623-4DC9-A44A-E04CF8B369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1762200" y="4651200"/>
            <a:ext cx="5572080" cy="1646280"/>
          </a:xfrm>
          <a:prstGeom prst="rect">
            <a:avLst/>
          </a:prstGeom>
          <a:ln w="0">
            <a:noFill/>
          </a:ln>
        </p:spPr>
      </p:pic>
      <p:sp>
        <p:nvSpPr>
          <p:cNvPr id="42" name="TextBox 5"/>
          <p:cNvSpPr/>
          <p:nvPr/>
        </p:nvSpPr>
        <p:spPr>
          <a:xfrm>
            <a:off x="5651640" y="1125360"/>
            <a:ext cx="324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технологии МОУ СОШ № 4 города Миньяра Челябинской област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овина Марина Александ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8"/>
          <p:cNvSpPr txBox="1"/>
          <p:nvPr/>
        </p:nvSpPr>
        <p:spPr>
          <a:xfrm>
            <a:off x="1835280" y="4076640"/>
            <a:ext cx="5329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Мастер-класс по теме: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44" name="Picture 9" descr=""/>
          <p:cNvPicPr/>
          <p:nvPr/>
        </p:nvPicPr>
        <p:blipFill>
          <a:blip r:embed="rId2"/>
          <a:stretch/>
        </p:blipFill>
        <p:spPr>
          <a:xfrm>
            <a:off x="1403280" y="333360"/>
            <a:ext cx="389592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28760" y="13568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Заполнение уг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ртится угол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ждая сторона разбивается на равные отрезки. Количество отрезков на каждой из сторон угла должно быть одинаковы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гла с ниткой вводится в т. 1 с изнаночной стороны и опускается в т. 26, находящуюся на другой стороне угл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ицевая сторо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ле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 т. 26 в т. 25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 т. 25 в т. 2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 т. 2 в т. 3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 т.3 в т. 24 и так далее..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 пересечении сторон угла отверстие не делается! (в т. 27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технике "изонить" всего два приема: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полнение угла и заполнение окружности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Рисунок 4" descr="izo3.gif"/>
          <p:cNvPicPr/>
          <p:nvPr/>
        </p:nvPicPr>
        <p:blipFill>
          <a:blip r:embed="rId1"/>
          <a:stretch/>
        </p:blipFill>
        <p:spPr>
          <a:xfrm>
            <a:off x="6429240" y="3357720"/>
            <a:ext cx="217656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Содержимое 3" descr="izo3.gif"/>
          <p:cNvPicPr/>
          <p:nvPr/>
        </p:nvPicPr>
        <p:blipFill>
          <a:blip r:embed="rId1"/>
          <a:stretch/>
        </p:blipFill>
        <p:spPr>
          <a:xfrm>
            <a:off x="428760" y="285840"/>
            <a:ext cx="3867120" cy="607212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4" descr="izo4.jpg"/>
          <p:cNvPicPr/>
          <p:nvPr/>
        </p:nvPicPr>
        <p:blipFill>
          <a:blip r:embed="rId2"/>
          <a:stretch/>
        </p:blipFill>
        <p:spPr>
          <a:xfrm>
            <a:off x="5143680" y="428760"/>
            <a:ext cx="3404880" cy="59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Заполнение окружности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28400" y="1356840"/>
            <a:ext cx="514332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кружность делится на равные части (их должно быть четное количество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бирается любая хорда в окружности. Например, 9-24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голка с ниткой вставляется в т. 9 (с изнаночной стороны), опускается в т.24, затем из т. 24 в т.1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алее из т. 1 в т. 10, из т. 10 в т. 11 и так далее по окружности. Эта хорда должна "совершить" целых два круг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Рисунок 3" descr="izo5.gif"/>
          <p:cNvPicPr/>
          <p:nvPr/>
        </p:nvPicPr>
        <p:blipFill>
          <a:blip r:embed="rId1"/>
          <a:stretch/>
        </p:blipFill>
        <p:spPr>
          <a:xfrm>
            <a:off x="6143760" y="1428840"/>
            <a:ext cx="243828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Содержимое 3" descr="1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28760" y="214200"/>
            <a:ext cx="8229600" cy="11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езультат работы в технике "изонить" завораживает детей красотой. А где красота - там и радость, и праздник. И всегда хорошее настрое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5" descr="Вышивание на бумаге1"/>
          <p:cNvPicPr/>
          <p:nvPr/>
        </p:nvPicPr>
        <p:blipFill>
          <a:blip r:embed="rId1"/>
          <a:stretch/>
        </p:blipFill>
        <p:spPr>
          <a:xfrm>
            <a:off x="179280" y="1484280"/>
            <a:ext cx="2827440" cy="40197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Вышивание на бумаге"/>
          <p:cNvPicPr/>
          <p:nvPr/>
        </p:nvPicPr>
        <p:blipFill>
          <a:blip r:embed="rId2"/>
          <a:stretch/>
        </p:blipFill>
        <p:spPr>
          <a:xfrm>
            <a:off x="6156360" y="1557360"/>
            <a:ext cx="2843280" cy="3959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Вышивание на бумаге6"/>
          <p:cNvPicPr/>
          <p:nvPr/>
        </p:nvPicPr>
        <p:blipFill>
          <a:blip r:embed="rId3"/>
          <a:stretch/>
        </p:blipFill>
        <p:spPr>
          <a:xfrm>
            <a:off x="3132000" y="1557360"/>
            <a:ext cx="2808360" cy="3889440"/>
          </a:xfrm>
          <a:prstGeom prst="rect">
            <a:avLst/>
          </a:prstGeom>
          <a:ln w="0">
            <a:noFill/>
          </a:ln>
        </p:spPr>
      </p:pic>
      <p:sp>
        <p:nvSpPr>
          <p:cNvPr id="79" name="Text Box 8"/>
          <p:cNvSpPr/>
          <p:nvPr/>
        </p:nvSpPr>
        <p:spPr>
          <a:xfrm>
            <a:off x="250920" y="580536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боты учителя технологии МОУ СОШ № 4 города Миньяра Коровиной Марины Александров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Библиограф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усарова Н.Н. Техника изонити для дошкольников. -  Санкт-Петербург,  изд. «Детство-Пресс», 2008 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ашко Л.Н. Хордовая вышивка, набор открыток, 2004г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урундукова Л.Н. Волшебная изонить. -  Москва, ООО «АСТ – ПРЕСС КНИГА», 2010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http://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images.yandex.ru/yandsearch?text=%D0%B8%D0%B7%D0%BE%D0%BD%D0%B8%D1%82%D1%8C%20%D1%81%D1%85%D0%B5%D0%BC%D1%8B&amp;stype=im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ли и задач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процессе занятий дети познакомятся с основными геометрическими понятиями; научатся ориентироваться на листе бумаги, потренируются в развитии чертежных навыков, научатся владеть иглой, ножницами, фигурными трафаретами. Занятия изонитью требуют системности в работе с деть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28760" y="785880"/>
            <a:ext cx="46432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лкой моторики пальцев рук, что оказывает положительное влияние на речевые зоны коры головного мозга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нсорного восприятия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зомера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ического мышления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ображения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евых качеств (усидчивости, терпения, умения доводить работу до конца и т.п.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3" descr="32535859.jpg"/>
          <p:cNvPicPr/>
          <p:nvPr/>
        </p:nvPicPr>
        <p:blipFill>
          <a:blip r:embed="rId1"/>
          <a:stretch/>
        </p:blipFill>
        <p:spPr>
          <a:xfrm>
            <a:off x="5148360" y="765000"/>
            <a:ext cx="3591000" cy="543744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4"/>
          <p:cNvSpPr/>
          <p:nvPr/>
        </p:nvSpPr>
        <p:spPr>
          <a:xfrm>
            <a:off x="571680" y="21420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ятия изонитью способствуют развитию у ребен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14200" y="213840"/>
            <a:ext cx="478656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ждый ребенок любит рисовать. Дети рисуют карандашами, красками, палочкой на снегу и пальцем на замерзшем окне, мелом на асфальте и угольком на случайной дощечке, стеклышком на песке и многими другими инструментами и материалами. Оказывается, их можно научить рисовать и нитью. Изонить, - так называется этот вид деятельности.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3" descr="PICT3977.jpg"/>
          <p:cNvPicPr/>
          <p:nvPr/>
        </p:nvPicPr>
        <p:blipFill>
          <a:blip r:embed="rId1"/>
          <a:stretch/>
        </p:blipFill>
        <p:spPr>
          <a:xfrm>
            <a:off x="5072040" y="857160"/>
            <a:ext cx="362916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85480" y="356760"/>
            <a:ext cx="864396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зонить - изображение нитью, ниточный дизай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нить или нитяная графика - это графический рисунок, выполненный нитями, натянутыми в определенном порядке на твердой основе. Используя эту технологию, можно создать великолепные открытки на память, обложки для рукописных книг, закладки, декоративные панно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3" descr="DSC00125-web.jpg"/>
          <p:cNvPicPr/>
          <p:nvPr/>
        </p:nvPicPr>
        <p:blipFill>
          <a:blip r:embed="rId1"/>
          <a:stretch/>
        </p:blipFill>
        <p:spPr>
          <a:xfrm>
            <a:off x="714240" y="2928960"/>
            <a:ext cx="3071880" cy="37098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4" descr="1191972995_006.jpg"/>
          <p:cNvPicPr/>
          <p:nvPr/>
        </p:nvPicPr>
        <p:blipFill>
          <a:blip r:embed="rId2"/>
          <a:stretch/>
        </p:blipFill>
        <p:spPr>
          <a:xfrm>
            <a:off x="4714920" y="2857680"/>
            <a:ext cx="3643200" cy="36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3" descr="a_5670.jpg"/>
          <p:cNvPicPr/>
          <p:nvPr/>
        </p:nvPicPr>
        <p:blipFill>
          <a:blip r:embed="rId1"/>
          <a:stretch/>
        </p:blipFill>
        <p:spPr>
          <a:xfrm>
            <a:off x="5286240" y="1214280"/>
            <a:ext cx="3571920" cy="47674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71520" y="213840"/>
            <a:ext cx="307188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стор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14200" y="928440"/>
            <a:ext cx="48578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итяная графика как вид искусства впервые появилась в Англии. Английские ткачи придумали особый способ переплетения ниток. Они вбивали в дощечки гвозди и в определённой последовательности натягивали на них нити. В результате получались ажурные кружевные изделия, которые использовались для украшения жилища. В настоящее время искусство нитяной графики находит широкое применение для украшения изделий и предметов быта, для оформления интерьера, для выполнения подарков и сувениро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95280" y="3284280"/>
            <a:ext cx="8229600" cy="32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первом этапе у детей возникают трудности в работе с иголкой: сложно вдеть нитку в иглу, сделать узелок. Бывает, что нитка путается. Все эти технические неполадки могут отразиться на интересе детей к выполняемой работе. Здесь обязательно должен прийти на помощь воспитатель. На начальном этапе овладения техникой изонити лучше заранее приготовить для детей иголки с нитками и сделать разметку будущего рисунка на картоне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3" descr="DSC00127-web.jpg"/>
          <p:cNvPicPr/>
          <p:nvPr/>
        </p:nvPicPr>
        <p:blipFill>
          <a:blip r:embed="rId1"/>
          <a:stretch/>
        </p:blipFill>
        <p:spPr>
          <a:xfrm>
            <a:off x="1714680" y="214200"/>
            <a:ext cx="480204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213840" y="642600"/>
            <a:ext cx="4286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лина нити на занятиях по нитяной графике имеет большое значение: ее должно хватить на заполнение одного угла. В качестве вспомогательного материала детям лучше предлагать бусины или бисер, но отверстия в нем должны быть достаточно большим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Рисунок 4" descr="DSC02096.JPG"/>
          <p:cNvPicPr/>
          <p:nvPr/>
        </p:nvPicPr>
        <p:blipFill>
          <a:blip r:embed="rId1"/>
          <a:stretch/>
        </p:blipFill>
        <p:spPr>
          <a:xfrm>
            <a:off x="4572000" y="214200"/>
            <a:ext cx="435780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1320" y="356760"/>
            <a:ext cx="83581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Для работы понадобятся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8360" y="764640"/>
            <a:ext cx="443232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лотный картон или бархатная бумага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ожницы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гла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шелковые нитки разных цветов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лей ПВА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инейка, циркуль, резинка, цветные и простые карандаши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пировальная бумага, калька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кань, клеевая ткань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м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5" descr="Вышивание4"/>
          <p:cNvPicPr/>
          <p:nvPr/>
        </p:nvPicPr>
        <p:blipFill>
          <a:blip r:embed="rId1"/>
          <a:stretch/>
        </p:blipFill>
        <p:spPr>
          <a:xfrm>
            <a:off x="4572000" y="765000"/>
            <a:ext cx="4356000" cy="3384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Вышивание6"/>
          <p:cNvPicPr/>
          <p:nvPr/>
        </p:nvPicPr>
        <p:blipFill>
          <a:blip r:embed="rId2"/>
          <a:stretch/>
        </p:blipFill>
        <p:spPr>
          <a:xfrm>
            <a:off x="4572000" y="4437000"/>
            <a:ext cx="432108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5T07:48:18Z</dcterms:created>
  <dc:creator>1</dc:creator>
  <dc:description/>
  <dc:language>en-US</dc:language>
  <cp:lastModifiedBy>Олег</cp:lastModifiedBy>
  <dcterms:modified xsi:type="dcterms:W3CDTF">2011-03-01T20:32:58Z</dcterms:modified>
  <cp:revision>27</cp:revision>
  <dc:subject/>
  <dc:title>Изонить</dc:title>
</cp:coreProperties>
</file>