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6595-2A66-42A5-8886-661D2C8A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3AD-D728-4474-803A-A7BC9AE3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2F4-389E-4D8F-94F0-7AF3C858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07B-C1D5-49FB-B3E4-561F4D29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9927-4EFA-434E-96E3-8CC068C9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512-970A-4139-8709-92A93FF2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E5D3-791E-42D9-AA19-8B11CD78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8F15-B036-40F4-A245-B095B579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D247-B4FC-4E9F-B50D-A9D500EC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779A-91CF-474D-B223-68577FE8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B11D-801B-4966-B392-799B5127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236-F0FA-4D15-B43E-77894592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b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9EA8-7E93-4726-BCE7-087C3197E4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762200" y="4651200"/>
            <a:ext cx="5572080" cy="164628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5651640" y="1125360"/>
            <a:ext cx="324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технологии МОУ СОШ № 4 города Миньяра Челябинской област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вина Мари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1835280" y="4076640"/>
            <a:ext cx="532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астер-класс по теме: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2"/>
          <a:stretch/>
        </p:blipFill>
        <p:spPr>
          <a:xfrm>
            <a:off x="1403280" y="333360"/>
            <a:ext cx="38959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28760" y="13568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полнение уг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ртится уго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ждая сторона разбивается на равные отрезки. Количество отрезков на каждой из сторон угла должно быть одинаковы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гла с ниткой вводится в т. 1 с изнаночной стороны и опускается в т. 26, находящуюся на другой стороне уг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цевая стор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ле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т. 26 в т. 25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т. 25 в т. 2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т. 2 в т. 3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т.3 в т. 24 и так далее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пересечении сторон угла отверстие не делается! (в т. 2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технике "изонить" всего два приема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полнение угла и заполнение окружност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4" descr="izo3.gif"/>
          <p:cNvPicPr/>
          <p:nvPr/>
        </p:nvPicPr>
        <p:blipFill>
          <a:blip r:embed="rId1"/>
          <a:stretch/>
        </p:blipFill>
        <p:spPr>
          <a:xfrm>
            <a:off x="6429240" y="3357720"/>
            <a:ext cx="21765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3" descr="izo3.gif"/>
          <p:cNvPicPr/>
          <p:nvPr/>
        </p:nvPicPr>
        <p:blipFill>
          <a:blip r:embed="rId1"/>
          <a:stretch/>
        </p:blipFill>
        <p:spPr>
          <a:xfrm>
            <a:off x="428760" y="285840"/>
            <a:ext cx="3867120" cy="60721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izo4.jpg"/>
          <p:cNvPicPr/>
          <p:nvPr/>
        </p:nvPicPr>
        <p:blipFill>
          <a:blip r:embed="rId2"/>
          <a:stretch/>
        </p:blipFill>
        <p:spPr>
          <a:xfrm>
            <a:off x="5143680" y="428760"/>
            <a:ext cx="340488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полнение окружност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8400" y="1356840"/>
            <a:ext cx="51433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ружность делится на равные части (их должно быть четное количество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бирается любая хорда в окружности. Например, 9-24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голка с ниткой вставляется в т. 9 (с изнаночной стороны), опускается в т.24, затем из т. 24 в т.1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лее из т. 1 в т. 10, из т. 10 в т. 11 и так далее по окружности. Эта хорда должна "совершить" целых два кру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izo5.gif"/>
          <p:cNvPicPr/>
          <p:nvPr/>
        </p:nvPicPr>
        <p:blipFill>
          <a:blip r:embed="rId1"/>
          <a:stretch/>
        </p:blipFill>
        <p:spPr>
          <a:xfrm>
            <a:off x="6143760" y="1428840"/>
            <a:ext cx="24382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3" descr="1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214200"/>
            <a:ext cx="8229600" cy="11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зультат работы в технике "изонить" завораживает детей красотой. А где красота - там и радость, и праздник. И всегда хорошее настро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Вышивание на бумаге1"/>
          <p:cNvPicPr/>
          <p:nvPr/>
        </p:nvPicPr>
        <p:blipFill>
          <a:blip r:embed="rId1"/>
          <a:stretch/>
        </p:blipFill>
        <p:spPr>
          <a:xfrm>
            <a:off x="179280" y="1484280"/>
            <a:ext cx="2827440" cy="4019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Вышивание на бумаге"/>
          <p:cNvPicPr/>
          <p:nvPr/>
        </p:nvPicPr>
        <p:blipFill>
          <a:blip r:embed="rId2"/>
          <a:stretch/>
        </p:blipFill>
        <p:spPr>
          <a:xfrm>
            <a:off x="6156360" y="1557360"/>
            <a:ext cx="2843280" cy="3959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Вышивание на бумаге6"/>
          <p:cNvPicPr/>
          <p:nvPr/>
        </p:nvPicPr>
        <p:blipFill>
          <a:blip r:embed="rId3"/>
          <a:stretch/>
        </p:blipFill>
        <p:spPr>
          <a:xfrm>
            <a:off x="3132000" y="1557360"/>
            <a:ext cx="2808360" cy="38894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250920" y="5805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ы учителя технологии МОУ СОШ № 4 города Миньяра Коровиной Марины Александро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иблио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усарова Н.Н. Техника изонити для дошкольников. -  Санкт-Петербург,  изд. «Детство-Пресс», 2008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шко Л.Н. Хордовая вышивка, набор открыток, 2004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рундукова Л.Н. Волшебная изонить. -  Москва, ООО «АСТ – ПРЕСС КНИГА», 2010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http:/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images.yandex.ru/yandsearch?text=%D0%B8%D0%B7%D0%BE%D0%BD%D0%B8%D1%82%D1%8C%20%D1%81%D1%85%D0%B5%D0%BC%D1%8B&amp;stype=i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роцессе занятий дети познакомятся с основными геометрическими понятиями; научатся ориентироваться на листе бумаги, потренируются в развитии чертежных навыков, научатся владеть иглой, ножницами, фигурными трафаретами. Занятия изонитью требуют системности в работе с деть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28760" y="785880"/>
            <a:ext cx="46432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кой моторики пальцев рук, что оказывает положительное влияние на речевые зоны коры головного мозг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сорного восприят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омер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ого мышле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ображе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вых качеств (усидчивости, терпения, умения доводить работу до конца и т.п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3" descr="32535859.jpg"/>
          <p:cNvPicPr/>
          <p:nvPr/>
        </p:nvPicPr>
        <p:blipFill>
          <a:blip r:embed="rId1"/>
          <a:stretch/>
        </p:blipFill>
        <p:spPr>
          <a:xfrm>
            <a:off x="5148360" y="765000"/>
            <a:ext cx="3591000" cy="54374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571680" y="214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изонитью способствуют развитию у ребе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14200" y="213840"/>
            <a:ext cx="47865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ребенок любит рисовать. Дети рисуют карандашами, красками, палочкой на снегу и пальцем на замерзшем окне, мелом на асфальте и угольком на случайной дощечке, стеклышком на песке и многими другими инструментами и материалами. Оказывается, их можно научить рисовать и нитью. Изонить, - так называется этот вид деятельности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PICT3977.jpg"/>
          <p:cNvPicPr/>
          <p:nvPr/>
        </p:nvPicPr>
        <p:blipFill>
          <a:blip r:embed="rId1"/>
          <a:stretch/>
        </p:blipFill>
        <p:spPr>
          <a:xfrm>
            <a:off x="5072040" y="857160"/>
            <a:ext cx="3629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480" y="356760"/>
            <a:ext cx="86439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онить - изображение нитью, ниточный дизай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нить или нитяная графика - это графический рисунок, выполненный нитями, натянутыми в определенном порядке на твердой основе. Используя эту технологию, можно создать великолепные открытки на память, обложки для рукописных книг, закладки, декоративные панн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DSC00125-web.jpg"/>
          <p:cNvPicPr/>
          <p:nvPr/>
        </p:nvPicPr>
        <p:blipFill>
          <a:blip r:embed="rId1"/>
          <a:stretch/>
        </p:blipFill>
        <p:spPr>
          <a:xfrm>
            <a:off x="714240" y="2928960"/>
            <a:ext cx="3071880" cy="3709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1191972995_006.jpg"/>
          <p:cNvPicPr/>
          <p:nvPr/>
        </p:nvPicPr>
        <p:blipFill>
          <a:blip r:embed="rId2"/>
          <a:stretch/>
        </p:blipFill>
        <p:spPr>
          <a:xfrm>
            <a:off x="4714920" y="2857680"/>
            <a:ext cx="364320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a_5670.jpg"/>
          <p:cNvPicPr/>
          <p:nvPr/>
        </p:nvPicPr>
        <p:blipFill>
          <a:blip r:embed="rId1"/>
          <a:stretch/>
        </p:blipFill>
        <p:spPr>
          <a:xfrm>
            <a:off x="5286240" y="1214280"/>
            <a:ext cx="3571920" cy="4767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1520" y="213840"/>
            <a:ext cx="30718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р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4200" y="928440"/>
            <a:ext cx="4857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итяная графика как вид искусства впервые появилась в Англии. Английские ткачи придумали особый способ переплетения ниток. Они вбивали в дощечки гвозди и в определённой последовательности натягивали на них нити. В результате получались ажурные кружевные изделия, которые использовались для украшения жилища. В настоящее время искусство нитяной графики находит широкое применение для украшения изделий и предметов быта, для оформления интерьера, для выполнения подарков и сувенир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5280" y="3284280"/>
            <a:ext cx="82296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ервом этапе у детей возникают трудности в работе с иголкой: сложно вдеть нитку в иглу, сделать узелок. Бывает, что нитка путается. Все эти технические неполадки могут отразиться на интересе детей к выполняемой работе. Здесь обязательно должен прийти на помощь воспитатель. На начальном этапе овладения техникой изонити лучше заранее приготовить для детей иголки с нитками и сделать разметку будущего рисунка на картон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DSC00127-web.jpg"/>
          <p:cNvPicPr/>
          <p:nvPr/>
        </p:nvPicPr>
        <p:blipFill>
          <a:blip r:embed="rId1"/>
          <a:stretch/>
        </p:blipFill>
        <p:spPr>
          <a:xfrm>
            <a:off x="1714680" y="214200"/>
            <a:ext cx="480204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13840" y="642600"/>
            <a:ext cx="4286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ина нити на занятиях по нитяной графике имеет большое значение: ее должно хватить на заполнение одного угла. В качестве вспомогательного материала детям лучше предлагать бусины или бисер, но отверстия в нем должны быть достаточно больши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4" descr="DSC02096.JPG"/>
          <p:cNvPicPr/>
          <p:nvPr/>
        </p:nvPicPr>
        <p:blipFill>
          <a:blip r:embed="rId1"/>
          <a:stretch/>
        </p:blipFill>
        <p:spPr>
          <a:xfrm>
            <a:off x="4572000" y="214200"/>
            <a:ext cx="43578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3581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ля работы понадобятс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764640"/>
            <a:ext cx="44323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отный картон или бархатная бумаг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жниц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гл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елковые нитки разных цветов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ей ПВ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инейка, циркуль, резинка, цветные и простые карандаш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пировальная бумага, кальк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кань, клеевая ткан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м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Вышивание4"/>
          <p:cNvPicPr/>
          <p:nvPr/>
        </p:nvPicPr>
        <p:blipFill>
          <a:blip r:embed="rId1"/>
          <a:stretch/>
        </p:blipFill>
        <p:spPr>
          <a:xfrm>
            <a:off x="4572000" y="765000"/>
            <a:ext cx="4356000" cy="3384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Вышивание6"/>
          <p:cNvPicPr/>
          <p:nvPr/>
        </p:nvPicPr>
        <p:blipFill>
          <a:blip r:embed="rId2"/>
          <a:stretch/>
        </p:blipFill>
        <p:spPr>
          <a:xfrm>
            <a:off x="4572000" y="4437000"/>
            <a:ext cx="43210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07:48:18Z</dcterms:created>
  <dc:creator>1</dc:creator>
  <dc:description/>
  <dc:language>en-US</dc:language>
  <cp:lastModifiedBy>Олег</cp:lastModifiedBy>
  <dcterms:modified xsi:type="dcterms:W3CDTF">2011-03-01T20:32:58Z</dcterms:modified>
  <cp:revision>27</cp:revision>
  <dc:subject/>
  <dc:title>Изонить</dc:title>
</cp:coreProperties>
</file>