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712D5-5734-403E-B0AD-AB3D68761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EDD44-4A6F-4F13-A580-D5CFCE6BF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58EB6-9BA1-40AE-A6BC-855D82500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1311C-46E1-4015-A043-DA17C307E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B61E0-E8EA-403A-AF07-C30CDEED3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ED961-89E0-4BF3-BF9C-142081ED4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29B42-AFB4-401D-98DF-F12EC9DF0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8E6A2-0FB3-480F-96BE-B02CB66C5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64C99-7594-4F0B-BC93-6EF972A30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DCC25-38E1-4364-9F56-14F8AE2DF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CDC4C-D8C6-4EB6-9C54-931BDDE4E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F7B78-2E74-466E-A45C-14163A103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C769F-01EA-4337-B5C8-E5425CC8B4D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504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6475f2"/>
                </a:solidFill>
                <a:latin typeface="Verdana"/>
              </a:rPr>
              <a:t>Презентация факультативного занятия по ОБЖ</a:t>
            </a:r>
            <a:br>
              <a:rPr sz="3600"/>
            </a:br>
            <a:r>
              <a:rPr b="1" i="1" lang="ru-RU" sz="3600" spc="-1" strike="noStrike">
                <a:solidFill>
                  <a:srgbClr val="6475f2"/>
                </a:solidFill>
                <a:latin typeface="Verdana"/>
              </a:rPr>
              <a:t>«История Советского и Российского оружия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AutoShape 6">
            <a:hlinkClick r:id="" action="ppaction://hlinkshowjump?jump=nextslide"/>
          </p:cNvPr>
          <p:cNvSpPr/>
          <p:nvPr/>
        </p:nvSpPr>
        <p:spPr>
          <a:xfrm>
            <a:off x="8229600" y="6324480"/>
            <a:ext cx="533520" cy="228600"/>
          </a:xfrm>
          <a:custGeom>
            <a:avLst/>
            <a:gdLst>
              <a:gd name="textAreaLeft" fmla="*/ 14760 w 533520"/>
              <a:gd name="textAreaRight" fmla="*/ 518760 w 5335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50366" h="21600">
                <a:moveTo>
                  <a:pt x="0" y="0"/>
                </a:moveTo>
                <a:lnTo>
                  <a:pt x="50366" y="0"/>
                </a:lnTo>
                <a:lnTo>
                  <a:pt x="50366" y="21600"/>
                </a:lnTo>
                <a:lnTo>
                  <a:pt x="0" y="21600"/>
                </a:lnTo>
                <a:close/>
              </a:path>
              <a:path fill="lightenLess" w="50366" h="21600">
                <a:moveTo>
                  <a:pt x="0" y="0"/>
                </a:moveTo>
                <a:lnTo>
                  <a:pt x="50366" y="0"/>
                </a:lnTo>
                <a:lnTo>
                  <a:pt x="48966" y="1400"/>
                </a:lnTo>
                <a:lnTo>
                  <a:pt x="1400" y="1400"/>
                </a:lnTo>
                <a:close/>
              </a:path>
              <a:path fill="darken" w="50366" h="21600">
                <a:moveTo>
                  <a:pt x="50366" y="0"/>
                </a:moveTo>
                <a:lnTo>
                  <a:pt x="50366" y="21600"/>
                </a:lnTo>
                <a:lnTo>
                  <a:pt x="48966" y="20200"/>
                </a:lnTo>
                <a:lnTo>
                  <a:pt x="48966" y="1400"/>
                </a:lnTo>
                <a:close/>
              </a:path>
              <a:path fill="darkenLess" w="50366" h="21600">
                <a:moveTo>
                  <a:pt x="503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966" y="20200"/>
                </a:lnTo>
                <a:close/>
              </a:path>
              <a:path fill="lighten" w="503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0366" h="21600">
                <a:moveTo>
                  <a:pt x="18177" y="3794"/>
                </a:moveTo>
                <a:lnTo>
                  <a:pt x="32190" y="10800"/>
                </a:lnTo>
                <a:lnTo>
                  <a:pt x="18177" y="17806"/>
                </a:lnTo>
                <a:close/>
              </a:path>
            </a:pathLst>
          </a:custGeom>
          <a:solidFill>
            <a:srgbClr val="88c7ce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7" descr="v057"/>
          <p:cNvPicPr/>
          <p:nvPr/>
        </p:nvPicPr>
        <p:blipFill>
          <a:blip r:embed="rId1"/>
          <a:stretch/>
        </p:blipFill>
        <p:spPr>
          <a:xfrm>
            <a:off x="5486400" y="228600"/>
            <a:ext cx="3314880" cy="222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2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5e5f7"/>
                </a:solidFill>
                <a:latin typeface="Verdana"/>
              </a:rPr>
              <a:t>Образцы оружи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0" y="990720"/>
            <a:ext cx="891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АК СО СКЛАДЫВАЮЩИМСЯ ПРИКЛАДО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4">
            <a:hlinkClick r:id="" action="ppaction://hlinkshowjump?jump=nextslide"/>
          </p:cNvPr>
          <p:cNvSpPr/>
          <p:nvPr/>
        </p:nvSpPr>
        <p:spPr>
          <a:xfrm>
            <a:off x="8229600" y="6324480"/>
            <a:ext cx="533520" cy="228600"/>
          </a:xfrm>
          <a:custGeom>
            <a:avLst/>
            <a:gdLst>
              <a:gd name="textAreaLeft" fmla="*/ 14760 w 533520"/>
              <a:gd name="textAreaRight" fmla="*/ 518760 w 5335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50366" h="21600">
                <a:moveTo>
                  <a:pt x="0" y="0"/>
                </a:moveTo>
                <a:lnTo>
                  <a:pt x="50366" y="0"/>
                </a:lnTo>
                <a:lnTo>
                  <a:pt x="50366" y="21600"/>
                </a:lnTo>
                <a:lnTo>
                  <a:pt x="0" y="21600"/>
                </a:lnTo>
                <a:close/>
              </a:path>
              <a:path fill="lightenLess" w="50366" h="21600">
                <a:moveTo>
                  <a:pt x="0" y="0"/>
                </a:moveTo>
                <a:lnTo>
                  <a:pt x="50366" y="0"/>
                </a:lnTo>
                <a:lnTo>
                  <a:pt x="48966" y="1400"/>
                </a:lnTo>
                <a:lnTo>
                  <a:pt x="1400" y="1400"/>
                </a:lnTo>
                <a:close/>
              </a:path>
              <a:path fill="darken" w="50366" h="21600">
                <a:moveTo>
                  <a:pt x="50366" y="0"/>
                </a:moveTo>
                <a:lnTo>
                  <a:pt x="50366" y="21600"/>
                </a:lnTo>
                <a:lnTo>
                  <a:pt x="48966" y="20200"/>
                </a:lnTo>
                <a:lnTo>
                  <a:pt x="48966" y="1400"/>
                </a:lnTo>
                <a:close/>
              </a:path>
              <a:path fill="darkenLess" w="50366" h="21600">
                <a:moveTo>
                  <a:pt x="503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966" y="20200"/>
                </a:lnTo>
                <a:close/>
              </a:path>
              <a:path fill="lighten" w="503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0366" h="21600">
                <a:moveTo>
                  <a:pt x="18177" y="3794"/>
                </a:moveTo>
                <a:lnTo>
                  <a:pt x="32190" y="10800"/>
                </a:lnTo>
                <a:lnTo>
                  <a:pt x="18177" y="17806"/>
                </a:lnTo>
                <a:close/>
              </a:path>
            </a:pathLst>
          </a:custGeom>
          <a:solidFill>
            <a:srgbClr val="88c7ce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5">
            <a:hlinkClick r:id="" action="ppaction://hlinkshowjump?jump=previousslide"/>
          </p:cNvPr>
          <p:cNvSpPr/>
          <p:nvPr/>
        </p:nvSpPr>
        <p:spPr>
          <a:xfrm>
            <a:off x="457200" y="6324480"/>
            <a:ext cx="533520" cy="228600"/>
          </a:xfrm>
          <a:custGeom>
            <a:avLst/>
            <a:gdLst>
              <a:gd name="textAreaLeft" fmla="*/ 14760 w 533520"/>
              <a:gd name="textAreaRight" fmla="*/ 518760 w 5335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50366" h="21600">
                <a:moveTo>
                  <a:pt x="0" y="0"/>
                </a:moveTo>
                <a:lnTo>
                  <a:pt x="50366" y="0"/>
                </a:lnTo>
                <a:lnTo>
                  <a:pt x="50366" y="21600"/>
                </a:lnTo>
                <a:lnTo>
                  <a:pt x="0" y="21600"/>
                </a:lnTo>
                <a:close/>
              </a:path>
              <a:path fill="lightenLess" w="50366" h="21600">
                <a:moveTo>
                  <a:pt x="0" y="0"/>
                </a:moveTo>
                <a:lnTo>
                  <a:pt x="50366" y="0"/>
                </a:lnTo>
                <a:lnTo>
                  <a:pt x="48966" y="1400"/>
                </a:lnTo>
                <a:lnTo>
                  <a:pt x="1400" y="1400"/>
                </a:lnTo>
                <a:close/>
              </a:path>
              <a:path fill="darken" w="50366" h="21600">
                <a:moveTo>
                  <a:pt x="50366" y="0"/>
                </a:moveTo>
                <a:lnTo>
                  <a:pt x="50366" y="21600"/>
                </a:lnTo>
                <a:lnTo>
                  <a:pt x="48966" y="20200"/>
                </a:lnTo>
                <a:lnTo>
                  <a:pt x="48966" y="1400"/>
                </a:lnTo>
                <a:close/>
              </a:path>
              <a:path fill="darkenLess" w="50366" h="21600">
                <a:moveTo>
                  <a:pt x="503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966" y="20200"/>
                </a:lnTo>
                <a:close/>
              </a:path>
              <a:path fill="lighten" w="503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0366" h="21600">
                <a:moveTo>
                  <a:pt x="18177" y="10800"/>
                </a:moveTo>
                <a:lnTo>
                  <a:pt x="32190" y="3794"/>
                </a:lnTo>
                <a:lnTo>
                  <a:pt x="32190" y="17806"/>
                </a:lnTo>
                <a:close/>
              </a:path>
            </a:pathLst>
          </a:custGeom>
          <a:solidFill>
            <a:srgbClr val="88c7ce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6"/>
          <p:cNvSpPr/>
          <p:nvPr/>
        </p:nvSpPr>
        <p:spPr>
          <a:xfrm>
            <a:off x="136440" y="1371600"/>
            <a:ext cx="396396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АКС-47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(СССР) 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Отличается от АК-47 наличием откидного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металлического приклада. Предназначен дл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вооружения специальных войск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Калибр 7,62 мм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Длина 880/645 мм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Масса 3,8 кг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Picture 8" descr="v089"/>
          <p:cNvPicPr/>
          <p:nvPr/>
        </p:nvPicPr>
        <p:blipFill>
          <a:blip r:embed="rId1"/>
          <a:stretch/>
        </p:blipFill>
        <p:spPr>
          <a:xfrm>
            <a:off x="3809880" y="1981080"/>
            <a:ext cx="4686480" cy="15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2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5e5f7"/>
                </a:solidFill>
                <a:latin typeface="Verdana"/>
              </a:rPr>
              <a:t>Образцы оружи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0" y="990720"/>
            <a:ext cx="891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АВТОМАТ КАЛАШНИКОВА УКОРОЧЕННЫЙ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4">
            <a:hlinkClick r:id="" action="ppaction://hlinkshowjump?jump=nextslide"/>
          </p:cNvPr>
          <p:cNvSpPr/>
          <p:nvPr/>
        </p:nvSpPr>
        <p:spPr>
          <a:xfrm>
            <a:off x="8229600" y="6324480"/>
            <a:ext cx="533520" cy="228600"/>
          </a:xfrm>
          <a:custGeom>
            <a:avLst/>
            <a:gdLst>
              <a:gd name="textAreaLeft" fmla="*/ 14760 w 533520"/>
              <a:gd name="textAreaRight" fmla="*/ 518760 w 5335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50366" h="21600">
                <a:moveTo>
                  <a:pt x="0" y="0"/>
                </a:moveTo>
                <a:lnTo>
                  <a:pt x="50366" y="0"/>
                </a:lnTo>
                <a:lnTo>
                  <a:pt x="50366" y="21600"/>
                </a:lnTo>
                <a:lnTo>
                  <a:pt x="0" y="21600"/>
                </a:lnTo>
                <a:close/>
              </a:path>
              <a:path fill="lightenLess" w="50366" h="21600">
                <a:moveTo>
                  <a:pt x="0" y="0"/>
                </a:moveTo>
                <a:lnTo>
                  <a:pt x="50366" y="0"/>
                </a:lnTo>
                <a:lnTo>
                  <a:pt x="48966" y="1400"/>
                </a:lnTo>
                <a:lnTo>
                  <a:pt x="1400" y="1400"/>
                </a:lnTo>
                <a:close/>
              </a:path>
              <a:path fill="darken" w="50366" h="21600">
                <a:moveTo>
                  <a:pt x="50366" y="0"/>
                </a:moveTo>
                <a:lnTo>
                  <a:pt x="50366" y="21600"/>
                </a:lnTo>
                <a:lnTo>
                  <a:pt x="48966" y="20200"/>
                </a:lnTo>
                <a:lnTo>
                  <a:pt x="48966" y="1400"/>
                </a:lnTo>
                <a:close/>
              </a:path>
              <a:path fill="darkenLess" w="50366" h="21600">
                <a:moveTo>
                  <a:pt x="503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966" y="20200"/>
                </a:lnTo>
                <a:close/>
              </a:path>
              <a:path fill="lighten" w="503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0366" h="21600">
                <a:moveTo>
                  <a:pt x="18177" y="3794"/>
                </a:moveTo>
                <a:lnTo>
                  <a:pt x="32190" y="10800"/>
                </a:lnTo>
                <a:lnTo>
                  <a:pt x="18177" y="17806"/>
                </a:lnTo>
                <a:close/>
              </a:path>
            </a:pathLst>
          </a:custGeom>
          <a:solidFill>
            <a:srgbClr val="88c7ce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AutoShape 5">
            <a:hlinkClick r:id="" action="ppaction://hlinkshowjump?jump=previousslide"/>
          </p:cNvPr>
          <p:cNvSpPr/>
          <p:nvPr/>
        </p:nvSpPr>
        <p:spPr>
          <a:xfrm>
            <a:off x="457200" y="6324480"/>
            <a:ext cx="533520" cy="228600"/>
          </a:xfrm>
          <a:custGeom>
            <a:avLst/>
            <a:gdLst>
              <a:gd name="textAreaLeft" fmla="*/ 14760 w 533520"/>
              <a:gd name="textAreaRight" fmla="*/ 518760 w 5335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50366" h="21600">
                <a:moveTo>
                  <a:pt x="0" y="0"/>
                </a:moveTo>
                <a:lnTo>
                  <a:pt x="50366" y="0"/>
                </a:lnTo>
                <a:lnTo>
                  <a:pt x="50366" y="21600"/>
                </a:lnTo>
                <a:lnTo>
                  <a:pt x="0" y="21600"/>
                </a:lnTo>
                <a:close/>
              </a:path>
              <a:path fill="lightenLess" w="50366" h="21600">
                <a:moveTo>
                  <a:pt x="0" y="0"/>
                </a:moveTo>
                <a:lnTo>
                  <a:pt x="50366" y="0"/>
                </a:lnTo>
                <a:lnTo>
                  <a:pt x="48966" y="1400"/>
                </a:lnTo>
                <a:lnTo>
                  <a:pt x="1400" y="1400"/>
                </a:lnTo>
                <a:close/>
              </a:path>
              <a:path fill="darken" w="50366" h="21600">
                <a:moveTo>
                  <a:pt x="50366" y="0"/>
                </a:moveTo>
                <a:lnTo>
                  <a:pt x="50366" y="21600"/>
                </a:lnTo>
                <a:lnTo>
                  <a:pt x="48966" y="20200"/>
                </a:lnTo>
                <a:lnTo>
                  <a:pt x="48966" y="1400"/>
                </a:lnTo>
                <a:close/>
              </a:path>
              <a:path fill="darkenLess" w="50366" h="21600">
                <a:moveTo>
                  <a:pt x="503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966" y="20200"/>
                </a:lnTo>
                <a:close/>
              </a:path>
              <a:path fill="lighten" w="503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0366" h="21600">
                <a:moveTo>
                  <a:pt x="18177" y="10800"/>
                </a:moveTo>
                <a:lnTo>
                  <a:pt x="32190" y="3794"/>
                </a:lnTo>
                <a:lnTo>
                  <a:pt x="32190" y="17806"/>
                </a:lnTo>
                <a:close/>
              </a:path>
            </a:pathLst>
          </a:custGeom>
          <a:solidFill>
            <a:srgbClr val="88c7ce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6"/>
          <p:cNvSpPr/>
          <p:nvPr/>
        </p:nvSpPr>
        <p:spPr>
          <a:xfrm>
            <a:off x="136440" y="1371600"/>
            <a:ext cx="3963960" cy="465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АКС-74У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(СССР, Тула) 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Отличается от АК-74 меньшей длиной ствола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отсутствием дульного тормоза-компенсатора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наличием пламегасителя. Вместо секреторного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прицела применен поворотный целик. Ствол не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отделяется от ствольной коробки. Крышка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ствольной коробки при разборке откидываетс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назад. Приклад складывается влево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Калибр 5,45 мм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Патрон 5,45х39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Прицельная дальность 500 м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Темп стрельбы 650-700 выстр./мин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Боевая скорострельность: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одиночными выстрелами 40 выстр./мин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очередями 100 выстр./мин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Масса: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с неснаряженным магазином 2,7 кг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со снаряженным магазином 3,6 кг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Емкость магазина 30 патр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Длина: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в боевом положении 730 мм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в походном положении 490 мм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8" descr="v096"/>
          <p:cNvPicPr/>
          <p:nvPr/>
        </p:nvPicPr>
        <p:blipFill>
          <a:blip r:embed="rId1"/>
          <a:stretch/>
        </p:blipFill>
        <p:spPr>
          <a:xfrm>
            <a:off x="3809880" y="1828800"/>
            <a:ext cx="4686480" cy="180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2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5e5f7"/>
                </a:solidFill>
                <a:latin typeface="Verdana"/>
              </a:rPr>
              <a:t>Об автор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AutoShape 5">
            <a:hlinkClick r:id="" action="ppaction://hlinkshowjump?jump=previousslide"/>
          </p:cNvPr>
          <p:cNvSpPr/>
          <p:nvPr/>
        </p:nvSpPr>
        <p:spPr>
          <a:xfrm>
            <a:off x="457200" y="6324480"/>
            <a:ext cx="533520" cy="228600"/>
          </a:xfrm>
          <a:custGeom>
            <a:avLst/>
            <a:gdLst>
              <a:gd name="textAreaLeft" fmla="*/ 14760 w 533520"/>
              <a:gd name="textAreaRight" fmla="*/ 518760 w 5335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50366" h="21600">
                <a:moveTo>
                  <a:pt x="0" y="0"/>
                </a:moveTo>
                <a:lnTo>
                  <a:pt x="50366" y="0"/>
                </a:lnTo>
                <a:lnTo>
                  <a:pt x="50366" y="21600"/>
                </a:lnTo>
                <a:lnTo>
                  <a:pt x="0" y="21600"/>
                </a:lnTo>
                <a:close/>
              </a:path>
              <a:path fill="lightenLess" w="50366" h="21600">
                <a:moveTo>
                  <a:pt x="0" y="0"/>
                </a:moveTo>
                <a:lnTo>
                  <a:pt x="50366" y="0"/>
                </a:lnTo>
                <a:lnTo>
                  <a:pt x="48966" y="1400"/>
                </a:lnTo>
                <a:lnTo>
                  <a:pt x="1400" y="1400"/>
                </a:lnTo>
                <a:close/>
              </a:path>
              <a:path fill="darken" w="50366" h="21600">
                <a:moveTo>
                  <a:pt x="50366" y="0"/>
                </a:moveTo>
                <a:lnTo>
                  <a:pt x="50366" y="21600"/>
                </a:lnTo>
                <a:lnTo>
                  <a:pt x="48966" y="20200"/>
                </a:lnTo>
                <a:lnTo>
                  <a:pt x="48966" y="1400"/>
                </a:lnTo>
                <a:close/>
              </a:path>
              <a:path fill="darkenLess" w="50366" h="21600">
                <a:moveTo>
                  <a:pt x="503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966" y="20200"/>
                </a:lnTo>
                <a:close/>
              </a:path>
              <a:path fill="lighten" w="503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0366" h="21600">
                <a:moveTo>
                  <a:pt x="18177" y="10800"/>
                </a:moveTo>
                <a:lnTo>
                  <a:pt x="32190" y="3794"/>
                </a:lnTo>
                <a:lnTo>
                  <a:pt x="32190" y="17806"/>
                </a:lnTo>
                <a:close/>
              </a:path>
            </a:pathLst>
          </a:custGeom>
          <a:solidFill>
            <a:srgbClr val="88c7ce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icture 8" descr="Румянцев3"/>
          <p:cNvPicPr/>
          <p:nvPr/>
        </p:nvPicPr>
        <p:blipFill>
          <a:blip r:embed="rId1"/>
          <a:stretch/>
        </p:blipFill>
        <p:spPr>
          <a:xfrm>
            <a:off x="228600" y="762120"/>
            <a:ext cx="2001960" cy="266688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9"/>
          <p:cNvSpPr/>
          <p:nvPr/>
        </p:nvSpPr>
        <p:spPr>
          <a:xfrm>
            <a:off x="3429000" y="838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Румянцев А. В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Дата рождения – 6.10.197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Работает преподавателем ОБЖ и технологии в МСШО № 1 с 1994 г. Преподаватель 1-й категори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5e5f7"/>
                </a:solidFill>
                <a:latin typeface="Verdana"/>
              </a:rPr>
              <a:t>План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456840" y="685800"/>
            <a:ext cx="6629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  <a:ea typeface="Arial"/>
              </a:rPr>
              <a:t>РУЖЬЕ КРЕМНЕВОЕ ПЕХОТНОЕ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  <a:ea typeface="Arial"/>
              </a:rPr>
              <a:t>СТРЕЛКОВАЯ ВИНТОВКА обр. 1856 г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  <a:ea typeface="Arial"/>
              </a:rPr>
              <a:t>ВИНТОВКА МОСИНА обр. 1891/1910 г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  <a:ea typeface="Arial"/>
              </a:rPr>
              <a:t>САМОЗАРЯДНЫЙ КАРАБИН ТОКАРЕВА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  <a:ea typeface="Arial"/>
              </a:rPr>
              <a:t>АВТОМАТИЧЕСКАЯ ВИНТОВКА ДЕГТЯРЕВ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  <a:ea typeface="Arial"/>
              </a:rPr>
              <a:t>ПРОТИВОТАНКОВОЕ РУЖЬЕ СИМОНОВ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  <a:ea typeface="Arial"/>
              </a:rPr>
              <a:t>СТАНКОВЫЙ ПУЛЕМЕТ МАКСИМ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  <a:ea typeface="Arial"/>
              </a:rPr>
              <a:t>АК СО СКЛАДЫВАЮЩИМСЯ ПРИКЛАДОМ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  <a:ea typeface="Arial"/>
              </a:rPr>
              <a:t>АВТОМАТ КАЛАШНИКОВА УКОРОЧЕННЫ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ОБ АВТОР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AutoShape 6">
            <a:hlinkClick r:id="" action="ppaction://hlinkshowjump?jump=nextslide"/>
          </p:cNvPr>
          <p:cNvSpPr/>
          <p:nvPr/>
        </p:nvSpPr>
        <p:spPr>
          <a:xfrm>
            <a:off x="8229600" y="6324480"/>
            <a:ext cx="533520" cy="228600"/>
          </a:xfrm>
          <a:custGeom>
            <a:avLst/>
            <a:gdLst>
              <a:gd name="textAreaLeft" fmla="*/ 14760 w 533520"/>
              <a:gd name="textAreaRight" fmla="*/ 518760 w 5335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50366" h="21600">
                <a:moveTo>
                  <a:pt x="0" y="0"/>
                </a:moveTo>
                <a:lnTo>
                  <a:pt x="50366" y="0"/>
                </a:lnTo>
                <a:lnTo>
                  <a:pt x="50366" y="21600"/>
                </a:lnTo>
                <a:lnTo>
                  <a:pt x="0" y="21600"/>
                </a:lnTo>
                <a:close/>
              </a:path>
              <a:path fill="lightenLess" w="50366" h="21600">
                <a:moveTo>
                  <a:pt x="0" y="0"/>
                </a:moveTo>
                <a:lnTo>
                  <a:pt x="50366" y="0"/>
                </a:lnTo>
                <a:lnTo>
                  <a:pt x="48966" y="1400"/>
                </a:lnTo>
                <a:lnTo>
                  <a:pt x="1400" y="1400"/>
                </a:lnTo>
                <a:close/>
              </a:path>
              <a:path fill="darken" w="50366" h="21600">
                <a:moveTo>
                  <a:pt x="50366" y="0"/>
                </a:moveTo>
                <a:lnTo>
                  <a:pt x="50366" y="21600"/>
                </a:lnTo>
                <a:lnTo>
                  <a:pt x="48966" y="20200"/>
                </a:lnTo>
                <a:lnTo>
                  <a:pt x="48966" y="1400"/>
                </a:lnTo>
                <a:close/>
              </a:path>
              <a:path fill="darkenLess" w="50366" h="21600">
                <a:moveTo>
                  <a:pt x="503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966" y="20200"/>
                </a:lnTo>
                <a:close/>
              </a:path>
              <a:path fill="lighten" w="503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0366" h="21600">
                <a:moveTo>
                  <a:pt x="18177" y="3794"/>
                </a:moveTo>
                <a:lnTo>
                  <a:pt x="32190" y="10800"/>
                </a:lnTo>
                <a:lnTo>
                  <a:pt x="18177" y="17806"/>
                </a:lnTo>
                <a:close/>
              </a:path>
            </a:pathLst>
          </a:custGeom>
          <a:solidFill>
            <a:srgbClr val="88c7ce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2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5e5f7"/>
                </a:solidFill>
                <a:latin typeface="Verdana"/>
              </a:rPr>
              <a:t>Образцы оружи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3"/>
          <p:cNvSpPr/>
          <p:nvPr/>
        </p:nvSpPr>
        <p:spPr>
          <a:xfrm>
            <a:off x="0" y="990720"/>
            <a:ext cx="8915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РУЖЬЕ КРЕМНЕВОЕ ПЕХОТНОЕ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4">
            <a:hlinkClick r:id="" action="ppaction://hlinkshowjump?jump=nextslide"/>
          </p:cNvPr>
          <p:cNvSpPr/>
          <p:nvPr/>
        </p:nvSpPr>
        <p:spPr>
          <a:xfrm>
            <a:off x="8229600" y="6324480"/>
            <a:ext cx="533520" cy="228600"/>
          </a:xfrm>
          <a:custGeom>
            <a:avLst/>
            <a:gdLst>
              <a:gd name="textAreaLeft" fmla="*/ 14760 w 533520"/>
              <a:gd name="textAreaRight" fmla="*/ 518760 w 5335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50366" h="21600">
                <a:moveTo>
                  <a:pt x="0" y="0"/>
                </a:moveTo>
                <a:lnTo>
                  <a:pt x="50366" y="0"/>
                </a:lnTo>
                <a:lnTo>
                  <a:pt x="50366" y="21600"/>
                </a:lnTo>
                <a:lnTo>
                  <a:pt x="0" y="21600"/>
                </a:lnTo>
                <a:close/>
              </a:path>
              <a:path fill="lightenLess" w="50366" h="21600">
                <a:moveTo>
                  <a:pt x="0" y="0"/>
                </a:moveTo>
                <a:lnTo>
                  <a:pt x="50366" y="0"/>
                </a:lnTo>
                <a:lnTo>
                  <a:pt x="48966" y="1400"/>
                </a:lnTo>
                <a:lnTo>
                  <a:pt x="1400" y="1400"/>
                </a:lnTo>
                <a:close/>
              </a:path>
              <a:path fill="darken" w="50366" h="21600">
                <a:moveTo>
                  <a:pt x="50366" y="0"/>
                </a:moveTo>
                <a:lnTo>
                  <a:pt x="50366" y="21600"/>
                </a:lnTo>
                <a:lnTo>
                  <a:pt x="48966" y="20200"/>
                </a:lnTo>
                <a:lnTo>
                  <a:pt x="48966" y="1400"/>
                </a:lnTo>
                <a:close/>
              </a:path>
              <a:path fill="darkenLess" w="50366" h="21600">
                <a:moveTo>
                  <a:pt x="503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966" y="20200"/>
                </a:lnTo>
                <a:close/>
              </a:path>
              <a:path fill="lighten" w="503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0366" h="21600">
                <a:moveTo>
                  <a:pt x="18177" y="3794"/>
                </a:moveTo>
                <a:lnTo>
                  <a:pt x="32190" y="10800"/>
                </a:lnTo>
                <a:lnTo>
                  <a:pt x="18177" y="17806"/>
                </a:lnTo>
                <a:close/>
              </a:path>
            </a:pathLst>
          </a:custGeom>
          <a:solidFill>
            <a:srgbClr val="88c7ce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AutoShape 5">
            <a:hlinkClick r:id="" action="ppaction://hlinkshowjump?jump=previousslide"/>
          </p:cNvPr>
          <p:cNvSpPr/>
          <p:nvPr/>
        </p:nvSpPr>
        <p:spPr>
          <a:xfrm>
            <a:off x="457200" y="6324480"/>
            <a:ext cx="533520" cy="228600"/>
          </a:xfrm>
          <a:custGeom>
            <a:avLst/>
            <a:gdLst>
              <a:gd name="textAreaLeft" fmla="*/ 14760 w 533520"/>
              <a:gd name="textAreaRight" fmla="*/ 518760 w 5335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50366" h="21600">
                <a:moveTo>
                  <a:pt x="0" y="0"/>
                </a:moveTo>
                <a:lnTo>
                  <a:pt x="50366" y="0"/>
                </a:lnTo>
                <a:lnTo>
                  <a:pt x="50366" y="21600"/>
                </a:lnTo>
                <a:lnTo>
                  <a:pt x="0" y="21600"/>
                </a:lnTo>
                <a:close/>
              </a:path>
              <a:path fill="lightenLess" w="50366" h="21600">
                <a:moveTo>
                  <a:pt x="0" y="0"/>
                </a:moveTo>
                <a:lnTo>
                  <a:pt x="50366" y="0"/>
                </a:lnTo>
                <a:lnTo>
                  <a:pt x="48966" y="1400"/>
                </a:lnTo>
                <a:lnTo>
                  <a:pt x="1400" y="1400"/>
                </a:lnTo>
                <a:close/>
              </a:path>
              <a:path fill="darken" w="50366" h="21600">
                <a:moveTo>
                  <a:pt x="50366" y="0"/>
                </a:moveTo>
                <a:lnTo>
                  <a:pt x="50366" y="21600"/>
                </a:lnTo>
                <a:lnTo>
                  <a:pt x="48966" y="20200"/>
                </a:lnTo>
                <a:lnTo>
                  <a:pt x="48966" y="1400"/>
                </a:lnTo>
                <a:close/>
              </a:path>
              <a:path fill="darkenLess" w="50366" h="21600">
                <a:moveTo>
                  <a:pt x="503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966" y="20200"/>
                </a:lnTo>
                <a:close/>
              </a:path>
              <a:path fill="lighten" w="503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0366" h="21600">
                <a:moveTo>
                  <a:pt x="18177" y="10800"/>
                </a:moveTo>
                <a:lnTo>
                  <a:pt x="32190" y="3794"/>
                </a:lnTo>
                <a:lnTo>
                  <a:pt x="32190" y="17806"/>
                </a:lnTo>
                <a:close/>
              </a:path>
            </a:pathLst>
          </a:custGeom>
          <a:solidFill>
            <a:srgbClr val="88c7ce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7" descr="v016"/>
          <p:cNvPicPr/>
          <p:nvPr/>
        </p:nvPicPr>
        <p:blipFill>
          <a:blip r:embed="rId1"/>
          <a:stretch/>
        </p:blipFill>
        <p:spPr>
          <a:xfrm>
            <a:off x="4191120" y="2895480"/>
            <a:ext cx="4305240" cy="971640"/>
          </a:xfrm>
          <a:prstGeom prst="rect">
            <a:avLst/>
          </a:prstGeom>
          <a:ln w="0">
            <a:noFill/>
          </a:ln>
        </p:spPr>
      </p:pic>
      <p:sp>
        <p:nvSpPr>
          <p:cNvPr id="52" name="Text Box 9"/>
          <p:cNvSpPr/>
          <p:nvPr/>
        </p:nvSpPr>
        <p:spPr>
          <a:xfrm>
            <a:off x="136440" y="1371600"/>
            <a:ext cx="39639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  <a:ea typeface="Arial"/>
              </a:rPr>
              <a:t>(Россия, Тула, 1843 г.) 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Verdana"/>
                <a:ea typeface="Arial"/>
              </a:rPr>
              <a:t>Памятное. Ствол воронен в коричневый цвет и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  <a:ea typeface="Arial"/>
              </a:rPr>
              <a:t>украшен наведенной золотом надписью: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Verdana"/>
                <a:ea typeface="Arial"/>
              </a:rPr>
              <a:t>"Государь Император Николай 1 удостоил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Verdana"/>
                <a:ea typeface="Arial"/>
              </a:rPr>
              <a:t>заваривать этот ствол 5 сентября 1842 г.". На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Verdana"/>
                <a:ea typeface="Arial"/>
              </a:rPr>
              <a:t>замочной доске наведена золотом надпись: "Тула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Verdana"/>
                <a:ea typeface="Arial"/>
              </a:rPr>
              <a:t>1843". Ствол украшен высокохудожественной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Verdana"/>
                <a:ea typeface="Arial"/>
              </a:rPr>
              <a:t>гравировкой. Замок вороненый. Прибор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Verdana"/>
                <a:ea typeface="Arial"/>
              </a:rPr>
              <a:t>латунный, покрыт золотом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Verdana"/>
                <a:ea typeface="Arial"/>
              </a:rPr>
              <a:t>Калибр 7 лип. (17,78 мм)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Verdana"/>
                <a:ea typeface="Arial"/>
              </a:rPr>
              <a:t>Общая длина 1460 MM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Verdana"/>
                <a:ea typeface="Arial"/>
              </a:rPr>
              <a:t>Длина ствола 1050 мм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Verdana"/>
                <a:ea typeface="Arial"/>
              </a:rPr>
              <a:t>Масса 3080 г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5e5f7"/>
                </a:solidFill>
                <a:latin typeface="Verdana"/>
              </a:rPr>
              <a:t>Образцы оружи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0" y="990720"/>
            <a:ext cx="8915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ТРЕЛКОВАЯ ВИНТОВКА обр. 1856 г.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AutoShape 4">
            <a:hlinkClick r:id="" action="ppaction://hlinkshowjump?jump=nextslide"/>
          </p:cNvPr>
          <p:cNvSpPr/>
          <p:nvPr/>
        </p:nvSpPr>
        <p:spPr>
          <a:xfrm>
            <a:off x="8229600" y="6324480"/>
            <a:ext cx="533520" cy="228600"/>
          </a:xfrm>
          <a:custGeom>
            <a:avLst/>
            <a:gdLst>
              <a:gd name="textAreaLeft" fmla="*/ 14760 w 533520"/>
              <a:gd name="textAreaRight" fmla="*/ 518760 w 5335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50366" h="21600">
                <a:moveTo>
                  <a:pt x="0" y="0"/>
                </a:moveTo>
                <a:lnTo>
                  <a:pt x="50366" y="0"/>
                </a:lnTo>
                <a:lnTo>
                  <a:pt x="50366" y="21600"/>
                </a:lnTo>
                <a:lnTo>
                  <a:pt x="0" y="21600"/>
                </a:lnTo>
                <a:close/>
              </a:path>
              <a:path fill="lightenLess" w="50366" h="21600">
                <a:moveTo>
                  <a:pt x="0" y="0"/>
                </a:moveTo>
                <a:lnTo>
                  <a:pt x="50366" y="0"/>
                </a:lnTo>
                <a:lnTo>
                  <a:pt x="48966" y="1400"/>
                </a:lnTo>
                <a:lnTo>
                  <a:pt x="1400" y="1400"/>
                </a:lnTo>
                <a:close/>
              </a:path>
              <a:path fill="darken" w="50366" h="21600">
                <a:moveTo>
                  <a:pt x="50366" y="0"/>
                </a:moveTo>
                <a:lnTo>
                  <a:pt x="50366" y="21600"/>
                </a:lnTo>
                <a:lnTo>
                  <a:pt x="48966" y="20200"/>
                </a:lnTo>
                <a:lnTo>
                  <a:pt x="48966" y="1400"/>
                </a:lnTo>
                <a:close/>
              </a:path>
              <a:path fill="darkenLess" w="50366" h="21600">
                <a:moveTo>
                  <a:pt x="503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966" y="20200"/>
                </a:lnTo>
                <a:close/>
              </a:path>
              <a:path fill="lighten" w="503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0366" h="21600">
                <a:moveTo>
                  <a:pt x="18177" y="3794"/>
                </a:moveTo>
                <a:lnTo>
                  <a:pt x="32190" y="10800"/>
                </a:lnTo>
                <a:lnTo>
                  <a:pt x="18177" y="17806"/>
                </a:lnTo>
                <a:close/>
              </a:path>
            </a:pathLst>
          </a:custGeom>
          <a:solidFill>
            <a:srgbClr val="88c7ce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AutoShape 5">
            <a:hlinkClick r:id="" action="ppaction://hlinkshowjump?jump=previousslide"/>
          </p:cNvPr>
          <p:cNvSpPr/>
          <p:nvPr/>
        </p:nvSpPr>
        <p:spPr>
          <a:xfrm>
            <a:off x="457200" y="6324480"/>
            <a:ext cx="533520" cy="228600"/>
          </a:xfrm>
          <a:custGeom>
            <a:avLst/>
            <a:gdLst>
              <a:gd name="textAreaLeft" fmla="*/ 14760 w 533520"/>
              <a:gd name="textAreaRight" fmla="*/ 518760 w 5335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50366" h="21600">
                <a:moveTo>
                  <a:pt x="0" y="0"/>
                </a:moveTo>
                <a:lnTo>
                  <a:pt x="50366" y="0"/>
                </a:lnTo>
                <a:lnTo>
                  <a:pt x="50366" y="21600"/>
                </a:lnTo>
                <a:lnTo>
                  <a:pt x="0" y="21600"/>
                </a:lnTo>
                <a:close/>
              </a:path>
              <a:path fill="lightenLess" w="50366" h="21600">
                <a:moveTo>
                  <a:pt x="0" y="0"/>
                </a:moveTo>
                <a:lnTo>
                  <a:pt x="50366" y="0"/>
                </a:lnTo>
                <a:lnTo>
                  <a:pt x="48966" y="1400"/>
                </a:lnTo>
                <a:lnTo>
                  <a:pt x="1400" y="1400"/>
                </a:lnTo>
                <a:close/>
              </a:path>
              <a:path fill="darken" w="50366" h="21600">
                <a:moveTo>
                  <a:pt x="50366" y="0"/>
                </a:moveTo>
                <a:lnTo>
                  <a:pt x="50366" y="21600"/>
                </a:lnTo>
                <a:lnTo>
                  <a:pt x="48966" y="20200"/>
                </a:lnTo>
                <a:lnTo>
                  <a:pt x="48966" y="1400"/>
                </a:lnTo>
                <a:close/>
              </a:path>
              <a:path fill="darkenLess" w="50366" h="21600">
                <a:moveTo>
                  <a:pt x="503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966" y="20200"/>
                </a:lnTo>
                <a:close/>
              </a:path>
              <a:path fill="lighten" w="503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0366" h="21600">
                <a:moveTo>
                  <a:pt x="18177" y="10800"/>
                </a:moveTo>
                <a:lnTo>
                  <a:pt x="32190" y="3794"/>
                </a:lnTo>
                <a:lnTo>
                  <a:pt x="32190" y="17806"/>
                </a:lnTo>
                <a:close/>
              </a:path>
            </a:pathLst>
          </a:custGeom>
          <a:solidFill>
            <a:srgbClr val="88c7ce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7"/>
          <p:cNvSpPr/>
          <p:nvPr/>
        </p:nvSpPr>
        <p:spPr>
          <a:xfrm>
            <a:off x="136440" y="1371600"/>
            <a:ext cx="39639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(РОССИЯ) 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Ствол вороненый. Прицельные приспособле-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ния состоят из мушки и гессенского прицела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улучшенного мастером Ижевского оружейного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завода Юнгом. Мушка стальная с четырехуголь-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ным основанием, служащая также штыковым це-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ликом. Ложевые кольца стальные, разъемные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Штык вороненый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Калибр 16,24 мм (6 линий)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Длина: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общая (без штыка) 1340 мм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ствола 939 мм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Масса без штыка 4400 r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8" descr="v025"/>
          <p:cNvPicPr/>
          <p:nvPr/>
        </p:nvPicPr>
        <p:blipFill>
          <a:blip r:embed="rId1"/>
          <a:stretch/>
        </p:blipFill>
        <p:spPr>
          <a:xfrm>
            <a:off x="4495680" y="2133720"/>
            <a:ext cx="407700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5e5f7"/>
                </a:solidFill>
                <a:latin typeface="Verdana"/>
              </a:rPr>
              <a:t>Образцы оружи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3"/>
          <p:cNvSpPr/>
          <p:nvPr/>
        </p:nvSpPr>
        <p:spPr>
          <a:xfrm>
            <a:off x="0" y="990720"/>
            <a:ext cx="8915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ИНТОВКА МОСИНА обр. 1891/1910 г 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AutoShape 4">
            <a:hlinkClick r:id="" action="ppaction://hlinkshowjump?jump=nextslide"/>
          </p:cNvPr>
          <p:cNvSpPr/>
          <p:nvPr/>
        </p:nvSpPr>
        <p:spPr>
          <a:xfrm>
            <a:off x="8229600" y="6324480"/>
            <a:ext cx="533520" cy="228600"/>
          </a:xfrm>
          <a:custGeom>
            <a:avLst/>
            <a:gdLst>
              <a:gd name="textAreaLeft" fmla="*/ 14760 w 533520"/>
              <a:gd name="textAreaRight" fmla="*/ 518760 w 5335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50366" h="21600">
                <a:moveTo>
                  <a:pt x="0" y="0"/>
                </a:moveTo>
                <a:lnTo>
                  <a:pt x="50366" y="0"/>
                </a:lnTo>
                <a:lnTo>
                  <a:pt x="50366" y="21600"/>
                </a:lnTo>
                <a:lnTo>
                  <a:pt x="0" y="21600"/>
                </a:lnTo>
                <a:close/>
              </a:path>
              <a:path fill="lightenLess" w="50366" h="21600">
                <a:moveTo>
                  <a:pt x="0" y="0"/>
                </a:moveTo>
                <a:lnTo>
                  <a:pt x="50366" y="0"/>
                </a:lnTo>
                <a:lnTo>
                  <a:pt x="48966" y="1400"/>
                </a:lnTo>
                <a:lnTo>
                  <a:pt x="1400" y="1400"/>
                </a:lnTo>
                <a:close/>
              </a:path>
              <a:path fill="darken" w="50366" h="21600">
                <a:moveTo>
                  <a:pt x="50366" y="0"/>
                </a:moveTo>
                <a:lnTo>
                  <a:pt x="50366" y="21600"/>
                </a:lnTo>
                <a:lnTo>
                  <a:pt x="48966" y="20200"/>
                </a:lnTo>
                <a:lnTo>
                  <a:pt x="48966" y="1400"/>
                </a:lnTo>
                <a:close/>
              </a:path>
              <a:path fill="darkenLess" w="50366" h="21600">
                <a:moveTo>
                  <a:pt x="503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966" y="20200"/>
                </a:lnTo>
                <a:close/>
              </a:path>
              <a:path fill="lighten" w="503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0366" h="21600">
                <a:moveTo>
                  <a:pt x="18177" y="3794"/>
                </a:moveTo>
                <a:lnTo>
                  <a:pt x="32190" y="10800"/>
                </a:lnTo>
                <a:lnTo>
                  <a:pt x="18177" y="17806"/>
                </a:lnTo>
                <a:close/>
              </a:path>
            </a:pathLst>
          </a:custGeom>
          <a:solidFill>
            <a:srgbClr val="88c7ce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AutoShape 5">
            <a:hlinkClick r:id="" action="ppaction://hlinkshowjump?jump=previousslide"/>
          </p:cNvPr>
          <p:cNvSpPr/>
          <p:nvPr/>
        </p:nvSpPr>
        <p:spPr>
          <a:xfrm>
            <a:off x="457200" y="6324480"/>
            <a:ext cx="533520" cy="228600"/>
          </a:xfrm>
          <a:custGeom>
            <a:avLst/>
            <a:gdLst>
              <a:gd name="textAreaLeft" fmla="*/ 14760 w 533520"/>
              <a:gd name="textAreaRight" fmla="*/ 518760 w 5335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50366" h="21600">
                <a:moveTo>
                  <a:pt x="0" y="0"/>
                </a:moveTo>
                <a:lnTo>
                  <a:pt x="50366" y="0"/>
                </a:lnTo>
                <a:lnTo>
                  <a:pt x="50366" y="21600"/>
                </a:lnTo>
                <a:lnTo>
                  <a:pt x="0" y="21600"/>
                </a:lnTo>
                <a:close/>
              </a:path>
              <a:path fill="lightenLess" w="50366" h="21600">
                <a:moveTo>
                  <a:pt x="0" y="0"/>
                </a:moveTo>
                <a:lnTo>
                  <a:pt x="50366" y="0"/>
                </a:lnTo>
                <a:lnTo>
                  <a:pt x="48966" y="1400"/>
                </a:lnTo>
                <a:lnTo>
                  <a:pt x="1400" y="1400"/>
                </a:lnTo>
                <a:close/>
              </a:path>
              <a:path fill="darken" w="50366" h="21600">
                <a:moveTo>
                  <a:pt x="50366" y="0"/>
                </a:moveTo>
                <a:lnTo>
                  <a:pt x="50366" y="21600"/>
                </a:lnTo>
                <a:lnTo>
                  <a:pt x="48966" y="20200"/>
                </a:lnTo>
                <a:lnTo>
                  <a:pt x="48966" y="1400"/>
                </a:lnTo>
                <a:close/>
              </a:path>
              <a:path fill="darkenLess" w="50366" h="21600">
                <a:moveTo>
                  <a:pt x="503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966" y="20200"/>
                </a:lnTo>
                <a:close/>
              </a:path>
              <a:path fill="lighten" w="503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0366" h="21600">
                <a:moveTo>
                  <a:pt x="18177" y="10800"/>
                </a:moveTo>
                <a:lnTo>
                  <a:pt x="32190" y="3794"/>
                </a:lnTo>
                <a:lnTo>
                  <a:pt x="32190" y="17806"/>
                </a:lnTo>
                <a:close/>
              </a:path>
            </a:pathLst>
          </a:custGeom>
          <a:solidFill>
            <a:srgbClr val="88c7ce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6"/>
          <p:cNvSpPr/>
          <p:nvPr/>
        </p:nvSpPr>
        <p:spPr>
          <a:xfrm>
            <a:off x="136440" y="1371600"/>
            <a:ext cx="396396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(Россия) 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Штатный образец. Является модернизацией об-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разца 1891 г., проведенной в связи с переходом на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использование патрона с остроконечной пулей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Изменения коснулись патронника и прицела: бы-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ла изменена конфигурация пульнцго входа и уве-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личена прицельная дальность с 2700 шагов до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3200. Начальная скорость пули была увеличена с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620 м/с до 860 м/с. Введена ствольная накладка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для предотвращения случаев ожогов рук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Прицельная рамка новой конструкции, предло-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женная В. П. Коноваловым. Металлические час-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ти, кроме затвора, оксидированы в черный цвет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Ложа из ореха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Калибр Злин. (7,62мм)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Длина: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общая 1355мм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ствола 775 мм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Масса 4350 г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8" descr="v040"/>
          <p:cNvPicPr/>
          <p:nvPr/>
        </p:nvPicPr>
        <p:blipFill>
          <a:blip r:embed="rId1"/>
          <a:stretch/>
        </p:blipFill>
        <p:spPr>
          <a:xfrm>
            <a:off x="4495680" y="2286000"/>
            <a:ext cx="4000680" cy="94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2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5e5f7"/>
                </a:solidFill>
                <a:latin typeface="Verdana"/>
              </a:rPr>
              <a:t>Образцы оружи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"/>
          <p:cNvSpPr/>
          <p:nvPr/>
        </p:nvSpPr>
        <p:spPr>
          <a:xfrm>
            <a:off x="0" y="990720"/>
            <a:ext cx="8915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АМОЗАРЯДНЫЙ КАРАБИН ТОКАРЕВА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AutoShape 4">
            <a:hlinkClick r:id="" action="ppaction://hlinkshowjump?jump=nextslide"/>
          </p:cNvPr>
          <p:cNvSpPr/>
          <p:nvPr/>
        </p:nvSpPr>
        <p:spPr>
          <a:xfrm>
            <a:off x="8229600" y="6324480"/>
            <a:ext cx="533520" cy="228600"/>
          </a:xfrm>
          <a:custGeom>
            <a:avLst/>
            <a:gdLst>
              <a:gd name="textAreaLeft" fmla="*/ 14760 w 533520"/>
              <a:gd name="textAreaRight" fmla="*/ 518760 w 5335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50366" h="21600">
                <a:moveTo>
                  <a:pt x="0" y="0"/>
                </a:moveTo>
                <a:lnTo>
                  <a:pt x="50366" y="0"/>
                </a:lnTo>
                <a:lnTo>
                  <a:pt x="50366" y="21600"/>
                </a:lnTo>
                <a:lnTo>
                  <a:pt x="0" y="21600"/>
                </a:lnTo>
                <a:close/>
              </a:path>
              <a:path fill="lightenLess" w="50366" h="21600">
                <a:moveTo>
                  <a:pt x="0" y="0"/>
                </a:moveTo>
                <a:lnTo>
                  <a:pt x="50366" y="0"/>
                </a:lnTo>
                <a:lnTo>
                  <a:pt x="48966" y="1400"/>
                </a:lnTo>
                <a:lnTo>
                  <a:pt x="1400" y="1400"/>
                </a:lnTo>
                <a:close/>
              </a:path>
              <a:path fill="darken" w="50366" h="21600">
                <a:moveTo>
                  <a:pt x="50366" y="0"/>
                </a:moveTo>
                <a:lnTo>
                  <a:pt x="50366" y="21600"/>
                </a:lnTo>
                <a:lnTo>
                  <a:pt x="48966" y="20200"/>
                </a:lnTo>
                <a:lnTo>
                  <a:pt x="48966" y="1400"/>
                </a:lnTo>
                <a:close/>
              </a:path>
              <a:path fill="darkenLess" w="50366" h="21600">
                <a:moveTo>
                  <a:pt x="503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966" y="20200"/>
                </a:lnTo>
                <a:close/>
              </a:path>
              <a:path fill="lighten" w="503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0366" h="21600">
                <a:moveTo>
                  <a:pt x="18177" y="3794"/>
                </a:moveTo>
                <a:lnTo>
                  <a:pt x="32190" y="10800"/>
                </a:lnTo>
                <a:lnTo>
                  <a:pt x="18177" y="17806"/>
                </a:lnTo>
                <a:close/>
              </a:path>
            </a:pathLst>
          </a:custGeom>
          <a:solidFill>
            <a:srgbClr val="88c7ce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5">
            <a:hlinkClick r:id="" action="ppaction://hlinkshowjump?jump=previousslide"/>
          </p:cNvPr>
          <p:cNvSpPr/>
          <p:nvPr/>
        </p:nvSpPr>
        <p:spPr>
          <a:xfrm>
            <a:off x="457200" y="6324480"/>
            <a:ext cx="533520" cy="228600"/>
          </a:xfrm>
          <a:custGeom>
            <a:avLst/>
            <a:gdLst>
              <a:gd name="textAreaLeft" fmla="*/ 14760 w 533520"/>
              <a:gd name="textAreaRight" fmla="*/ 518760 w 5335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50366" h="21600">
                <a:moveTo>
                  <a:pt x="0" y="0"/>
                </a:moveTo>
                <a:lnTo>
                  <a:pt x="50366" y="0"/>
                </a:lnTo>
                <a:lnTo>
                  <a:pt x="50366" y="21600"/>
                </a:lnTo>
                <a:lnTo>
                  <a:pt x="0" y="21600"/>
                </a:lnTo>
                <a:close/>
              </a:path>
              <a:path fill="lightenLess" w="50366" h="21600">
                <a:moveTo>
                  <a:pt x="0" y="0"/>
                </a:moveTo>
                <a:lnTo>
                  <a:pt x="50366" y="0"/>
                </a:lnTo>
                <a:lnTo>
                  <a:pt x="48966" y="1400"/>
                </a:lnTo>
                <a:lnTo>
                  <a:pt x="1400" y="1400"/>
                </a:lnTo>
                <a:close/>
              </a:path>
              <a:path fill="darken" w="50366" h="21600">
                <a:moveTo>
                  <a:pt x="50366" y="0"/>
                </a:moveTo>
                <a:lnTo>
                  <a:pt x="50366" y="21600"/>
                </a:lnTo>
                <a:lnTo>
                  <a:pt x="48966" y="20200"/>
                </a:lnTo>
                <a:lnTo>
                  <a:pt x="48966" y="1400"/>
                </a:lnTo>
                <a:close/>
              </a:path>
              <a:path fill="darkenLess" w="50366" h="21600">
                <a:moveTo>
                  <a:pt x="503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966" y="20200"/>
                </a:lnTo>
                <a:close/>
              </a:path>
              <a:path fill="lighten" w="503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0366" h="21600">
                <a:moveTo>
                  <a:pt x="18177" y="10800"/>
                </a:moveTo>
                <a:lnTo>
                  <a:pt x="32190" y="3794"/>
                </a:lnTo>
                <a:lnTo>
                  <a:pt x="32190" y="17806"/>
                </a:lnTo>
                <a:close/>
              </a:path>
            </a:pathLst>
          </a:custGeom>
          <a:solidFill>
            <a:srgbClr val="88c7ce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6"/>
          <p:cNvSpPr/>
          <p:nvPr/>
        </p:nvSpPr>
        <p:spPr>
          <a:xfrm>
            <a:off x="136440" y="1371600"/>
            <a:ext cx="3963960" cy="42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(Россия, 1918 г.) 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Опытный образец. Принцип действия автома-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тики - использование отдачи ствола при его ко-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ротком ходе. Запирание осуществляется с по-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мощью поворотной муфты, свободно навинчен-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ной на казенную часть ствола. Ударный механизм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куркового типа. Спусковой механизм без предо-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хранителя. Питание патронами осуществляетс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из неотъемного магазина с крышкой системы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Шпаковского. Наполнение магазина производит-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ся из обоймы. Расположение патронов одноряд-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ное. Прицел секторный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Калибр 7,62 мм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Длина: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общая 1040мм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ствола 510мм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Масса 3800 г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Прицельная дальность 2000м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Длина прицельной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линии 420 мм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Емкость магазина 5 патр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8" descr="v044"/>
          <p:cNvPicPr/>
          <p:nvPr/>
        </p:nvPicPr>
        <p:blipFill>
          <a:blip r:embed="rId1"/>
          <a:stretch/>
        </p:blipFill>
        <p:spPr>
          <a:xfrm>
            <a:off x="4648320" y="2057400"/>
            <a:ext cx="3924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2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5e5f7"/>
                </a:solidFill>
                <a:latin typeface="Verdana"/>
              </a:rPr>
              <a:t>Образцы оружи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0" y="990720"/>
            <a:ext cx="8915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АВТОМАТИЧЕСКАЯ ВИНТОВКА ДЕГТЯРЕВА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AutoShape 4">
            <a:hlinkClick r:id="" action="ppaction://hlinkshowjump?jump=nextslide"/>
          </p:cNvPr>
          <p:cNvSpPr/>
          <p:nvPr/>
        </p:nvSpPr>
        <p:spPr>
          <a:xfrm>
            <a:off x="8229600" y="6324480"/>
            <a:ext cx="533520" cy="228600"/>
          </a:xfrm>
          <a:custGeom>
            <a:avLst/>
            <a:gdLst>
              <a:gd name="textAreaLeft" fmla="*/ 14760 w 533520"/>
              <a:gd name="textAreaRight" fmla="*/ 518760 w 5335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50366" h="21600">
                <a:moveTo>
                  <a:pt x="0" y="0"/>
                </a:moveTo>
                <a:lnTo>
                  <a:pt x="50366" y="0"/>
                </a:lnTo>
                <a:lnTo>
                  <a:pt x="50366" y="21600"/>
                </a:lnTo>
                <a:lnTo>
                  <a:pt x="0" y="21600"/>
                </a:lnTo>
                <a:close/>
              </a:path>
              <a:path fill="lightenLess" w="50366" h="21600">
                <a:moveTo>
                  <a:pt x="0" y="0"/>
                </a:moveTo>
                <a:lnTo>
                  <a:pt x="50366" y="0"/>
                </a:lnTo>
                <a:lnTo>
                  <a:pt x="48966" y="1400"/>
                </a:lnTo>
                <a:lnTo>
                  <a:pt x="1400" y="1400"/>
                </a:lnTo>
                <a:close/>
              </a:path>
              <a:path fill="darken" w="50366" h="21600">
                <a:moveTo>
                  <a:pt x="50366" y="0"/>
                </a:moveTo>
                <a:lnTo>
                  <a:pt x="50366" y="21600"/>
                </a:lnTo>
                <a:lnTo>
                  <a:pt x="48966" y="20200"/>
                </a:lnTo>
                <a:lnTo>
                  <a:pt x="48966" y="1400"/>
                </a:lnTo>
                <a:close/>
              </a:path>
              <a:path fill="darkenLess" w="50366" h="21600">
                <a:moveTo>
                  <a:pt x="503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966" y="20200"/>
                </a:lnTo>
                <a:close/>
              </a:path>
              <a:path fill="lighten" w="503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0366" h="21600">
                <a:moveTo>
                  <a:pt x="18177" y="3794"/>
                </a:moveTo>
                <a:lnTo>
                  <a:pt x="32190" y="10800"/>
                </a:lnTo>
                <a:lnTo>
                  <a:pt x="18177" y="17806"/>
                </a:lnTo>
                <a:close/>
              </a:path>
            </a:pathLst>
          </a:custGeom>
          <a:solidFill>
            <a:srgbClr val="88c7ce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5">
            <a:hlinkClick r:id="" action="ppaction://hlinkshowjump?jump=previousslide"/>
          </p:cNvPr>
          <p:cNvSpPr/>
          <p:nvPr/>
        </p:nvSpPr>
        <p:spPr>
          <a:xfrm>
            <a:off x="457200" y="6324480"/>
            <a:ext cx="533520" cy="228600"/>
          </a:xfrm>
          <a:custGeom>
            <a:avLst/>
            <a:gdLst>
              <a:gd name="textAreaLeft" fmla="*/ 14760 w 533520"/>
              <a:gd name="textAreaRight" fmla="*/ 518760 w 5335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50366" h="21600">
                <a:moveTo>
                  <a:pt x="0" y="0"/>
                </a:moveTo>
                <a:lnTo>
                  <a:pt x="50366" y="0"/>
                </a:lnTo>
                <a:lnTo>
                  <a:pt x="50366" y="21600"/>
                </a:lnTo>
                <a:lnTo>
                  <a:pt x="0" y="21600"/>
                </a:lnTo>
                <a:close/>
              </a:path>
              <a:path fill="lightenLess" w="50366" h="21600">
                <a:moveTo>
                  <a:pt x="0" y="0"/>
                </a:moveTo>
                <a:lnTo>
                  <a:pt x="50366" y="0"/>
                </a:lnTo>
                <a:lnTo>
                  <a:pt x="48966" y="1400"/>
                </a:lnTo>
                <a:lnTo>
                  <a:pt x="1400" y="1400"/>
                </a:lnTo>
                <a:close/>
              </a:path>
              <a:path fill="darken" w="50366" h="21600">
                <a:moveTo>
                  <a:pt x="50366" y="0"/>
                </a:moveTo>
                <a:lnTo>
                  <a:pt x="50366" y="21600"/>
                </a:lnTo>
                <a:lnTo>
                  <a:pt x="48966" y="20200"/>
                </a:lnTo>
                <a:lnTo>
                  <a:pt x="48966" y="1400"/>
                </a:lnTo>
                <a:close/>
              </a:path>
              <a:path fill="darkenLess" w="50366" h="21600">
                <a:moveTo>
                  <a:pt x="503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966" y="20200"/>
                </a:lnTo>
                <a:close/>
              </a:path>
              <a:path fill="lighten" w="503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0366" h="21600">
                <a:moveTo>
                  <a:pt x="18177" y="10800"/>
                </a:moveTo>
                <a:lnTo>
                  <a:pt x="32190" y="3794"/>
                </a:lnTo>
                <a:lnTo>
                  <a:pt x="32190" y="17806"/>
                </a:lnTo>
                <a:close/>
              </a:path>
            </a:pathLst>
          </a:custGeom>
          <a:solidFill>
            <a:srgbClr val="88c7ce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6"/>
          <p:cNvSpPr/>
          <p:nvPr/>
        </p:nvSpPr>
        <p:spPr>
          <a:xfrm>
            <a:off x="136440" y="1371600"/>
            <a:ext cx="3963960" cy="35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(СССР) 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Опытный образец. Принцип работы автомати-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ки - отвод пороховых газов из ствола. Запирание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разведением упоров. Ударно-спусковой меха-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низм куркового типа позволяет ведение одиноч-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ного и непрерывного огня. Магазин съемный, но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позволяющий осуществлять заряжание в примк-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нутом положении из обоймы, вставляемой в спе-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циальные пазы ствольной коробки. Имеетс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крепление для штыка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Калибр 7,62 мм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Патрон 7,62х51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Длина винтовки 1150мм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Длина ствола 640 мм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Масса 4,2 кг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Прицельная дальность 1400 м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Емкость магазина 5патр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Picture 8" descr="v047"/>
          <p:cNvPicPr/>
          <p:nvPr/>
        </p:nvPicPr>
        <p:blipFill>
          <a:blip r:embed="rId1"/>
          <a:stretch/>
        </p:blipFill>
        <p:spPr>
          <a:xfrm>
            <a:off x="4495680" y="2286000"/>
            <a:ext cx="4152960" cy="12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2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5e5f7"/>
                </a:solidFill>
                <a:latin typeface="Verdana"/>
              </a:rPr>
              <a:t>Образцы оружи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3"/>
          <p:cNvSpPr/>
          <p:nvPr/>
        </p:nvSpPr>
        <p:spPr>
          <a:xfrm>
            <a:off x="0" y="990720"/>
            <a:ext cx="891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РОТИВОТАНКОВОЕ РУЖЬЕ СИМОНОВ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4">
            <a:hlinkClick r:id="" action="ppaction://hlinkshowjump?jump=nextslide"/>
          </p:cNvPr>
          <p:cNvSpPr/>
          <p:nvPr/>
        </p:nvSpPr>
        <p:spPr>
          <a:xfrm>
            <a:off x="8229600" y="6324480"/>
            <a:ext cx="533520" cy="228600"/>
          </a:xfrm>
          <a:custGeom>
            <a:avLst/>
            <a:gdLst>
              <a:gd name="textAreaLeft" fmla="*/ 14760 w 533520"/>
              <a:gd name="textAreaRight" fmla="*/ 518760 w 5335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50366" h="21600">
                <a:moveTo>
                  <a:pt x="0" y="0"/>
                </a:moveTo>
                <a:lnTo>
                  <a:pt x="50366" y="0"/>
                </a:lnTo>
                <a:lnTo>
                  <a:pt x="50366" y="21600"/>
                </a:lnTo>
                <a:lnTo>
                  <a:pt x="0" y="21600"/>
                </a:lnTo>
                <a:close/>
              </a:path>
              <a:path fill="lightenLess" w="50366" h="21600">
                <a:moveTo>
                  <a:pt x="0" y="0"/>
                </a:moveTo>
                <a:lnTo>
                  <a:pt x="50366" y="0"/>
                </a:lnTo>
                <a:lnTo>
                  <a:pt x="48966" y="1400"/>
                </a:lnTo>
                <a:lnTo>
                  <a:pt x="1400" y="1400"/>
                </a:lnTo>
                <a:close/>
              </a:path>
              <a:path fill="darken" w="50366" h="21600">
                <a:moveTo>
                  <a:pt x="50366" y="0"/>
                </a:moveTo>
                <a:lnTo>
                  <a:pt x="50366" y="21600"/>
                </a:lnTo>
                <a:lnTo>
                  <a:pt x="48966" y="20200"/>
                </a:lnTo>
                <a:lnTo>
                  <a:pt x="48966" y="1400"/>
                </a:lnTo>
                <a:close/>
              </a:path>
              <a:path fill="darkenLess" w="50366" h="21600">
                <a:moveTo>
                  <a:pt x="503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966" y="20200"/>
                </a:lnTo>
                <a:close/>
              </a:path>
              <a:path fill="lighten" w="503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0366" h="21600">
                <a:moveTo>
                  <a:pt x="18177" y="3794"/>
                </a:moveTo>
                <a:lnTo>
                  <a:pt x="32190" y="10800"/>
                </a:lnTo>
                <a:lnTo>
                  <a:pt x="18177" y="17806"/>
                </a:lnTo>
                <a:close/>
              </a:path>
            </a:pathLst>
          </a:custGeom>
          <a:solidFill>
            <a:srgbClr val="88c7ce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5">
            <a:hlinkClick r:id="" action="ppaction://hlinkshowjump?jump=previousslide"/>
          </p:cNvPr>
          <p:cNvSpPr/>
          <p:nvPr/>
        </p:nvSpPr>
        <p:spPr>
          <a:xfrm>
            <a:off x="457200" y="6324480"/>
            <a:ext cx="533520" cy="228600"/>
          </a:xfrm>
          <a:custGeom>
            <a:avLst/>
            <a:gdLst>
              <a:gd name="textAreaLeft" fmla="*/ 14760 w 533520"/>
              <a:gd name="textAreaRight" fmla="*/ 518760 w 5335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50366" h="21600">
                <a:moveTo>
                  <a:pt x="0" y="0"/>
                </a:moveTo>
                <a:lnTo>
                  <a:pt x="50366" y="0"/>
                </a:lnTo>
                <a:lnTo>
                  <a:pt x="50366" y="21600"/>
                </a:lnTo>
                <a:lnTo>
                  <a:pt x="0" y="21600"/>
                </a:lnTo>
                <a:close/>
              </a:path>
              <a:path fill="lightenLess" w="50366" h="21600">
                <a:moveTo>
                  <a:pt x="0" y="0"/>
                </a:moveTo>
                <a:lnTo>
                  <a:pt x="50366" y="0"/>
                </a:lnTo>
                <a:lnTo>
                  <a:pt x="48966" y="1400"/>
                </a:lnTo>
                <a:lnTo>
                  <a:pt x="1400" y="1400"/>
                </a:lnTo>
                <a:close/>
              </a:path>
              <a:path fill="darken" w="50366" h="21600">
                <a:moveTo>
                  <a:pt x="50366" y="0"/>
                </a:moveTo>
                <a:lnTo>
                  <a:pt x="50366" y="21600"/>
                </a:lnTo>
                <a:lnTo>
                  <a:pt x="48966" y="20200"/>
                </a:lnTo>
                <a:lnTo>
                  <a:pt x="48966" y="1400"/>
                </a:lnTo>
                <a:close/>
              </a:path>
              <a:path fill="darkenLess" w="50366" h="21600">
                <a:moveTo>
                  <a:pt x="503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966" y="20200"/>
                </a:lnTo>
                <a:close/>
              </a:path>
              <a:path fill="lighten" w="503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0366" h="21600">
                <a:moveTo>
                  <a:pt x="18177" y="10800"/>
                </a:moveTo>
                <a:lnTo>
                  <a:pt x="32190" y="3794"/>
                </a:lnTo>
                <a:lnTo>
                  <a:pt x="32190" y="17806"/>
                </a:lnTo>
                <a:close/>
              </a:path>
            </a:pathLst>
          </a:custGeom>
          <a:solidFill>
            <a:srgbClr val="88c7ce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6"/>
          <p:cNvSpPr/>
          <p:nvPr/>
        </p:nvSpPr>
        <p:spPr>
          <a:xfrm>
            <a:off x="136440" y="1371600"/>
            <a:ext cx="396396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обр. 1941 г., ПТРС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(СССР) 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Принцип действия автоматики - отвод пороховых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газов через поперечное отверстие в стволе. Запирание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осуществляется перекосом затвора. Предохранитель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флажкового типа, расположен с правой стороны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ствольной коробки. Ударный механизм куркового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типа. Спусковой механизм допускает ведение только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одиночного 01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  <a:ea typeface="Arial"/>
              </a:rPr>
              <a:t>™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. Прицел секторный. Имеютс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складные сошки, рукоятка для переноски, откидной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наплечник. На прикладе закреплена легкая подушка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Магазин постоянный, заряжается из пачки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Калибр 14,5 мм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Масса 20,9 кг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Длина 2140мм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Начальная скорость пули 1012м/с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8" descr="v054"/>
          <p:cNvPicPr/>
          <p:nvPr/>
        </p:nvPicPr>
        <p:blipFill>
          <a:blip r:embed="rId1"/>
          <a:stretch/>
        </p:blipFill>
        <p:spPr>
          <a:xfrm>
            <a:off x="4572000" y="2362320"/>
            <a:ext cx="4000680" cy="13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2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5e5f7"/>
                </a:solidFill>
                <a:latin typeface="Verdana"/>
              </a:rPr>
              <a:t>Образцы оружи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3"/>
          <p:cNvSpPr/>
          <p:nvPr/>
        </p:nvSpPr>
        <p:spPr>
          <a:xfrm>
            <a:off x="0" y="990720"/>
            <a:ext cx="891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ТАНКОВЫЙ ПУЛЕМЕТ МАКСИМ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AutoShape 4">
            <a:hlinkClick r:id="" action="ppaction://hlinkshowjump?jump=nextslide"/>
          </p:cNvPr>
          <p:cNvSpPr/>
          <p:nvPr/>
        </p:nvSpPr>
        <p:spPr>
          <a:xfrm>
            <a:off x="8229600" y="6324480"/>
            <a:ext cx="533520" cy="228600"/>
          </a:xfrm>
          <a:custGeom>
            <a:avLst/>
            <a:gdLst>
              <a:gd name="textAreaLeft" fmla="*/ 14760 w 533520"/>
              <a:gd name="textAreaRight" fmla="*/ 518760 w 5335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50366" h="21600">
                <a:moveTo>
                  <a:pt x="0" y="0"/>
                </a:moveTo>
                <a:lnTo>
                  <a:pt x="50366" y="0"/>
                </a:lnTo>
                <a:lnTo>
                  <a:pt x="50366" y="21600"/>
                </a:lnTo>
                <a:lnTo>
                  <a:pt x="0" y="21600"/>
                </a:lnTo>
                <a:close/>
              </a:path>
              <a:path fill="lightenLess" w="50366" h="21600">
                <a:moveTo>
                  <a:pt x="0" y="0"/>
                </a:moveTo>
                <a:lnTo>
                  <a:pt x="50366" y="0"/>
                </a:lnTo>
                <a:lnTo>
                  <a:pt x="48966" y="1400"/>
                </a:lnTo>
                <a:lnTo>
                  <a:pt x="1400" y="1400"/>
                </a:lnTo>
                <a:close/>
              </a:path>
              <a:path fill="darken" w="50366" h="21600">
                <a:moveTo>
                  <a:pt x="50366" y="0"/>
                </a:moveTo>
                <a:lnTo>
                  <a:pt x="50366" y="21600"/>
                </a:lnTo>
                <a:lnTo>
                  <a:pt x="48966" y="20200"/>
                </a:lnTo>
                <a:lnTo>
                  <a:pt x="48966" y="1400"/>
                </a:lnTo>
                <a:close/>
              </a:path>
              <a:path fill="darkenLess" w="50366" h="21600">
                <a:moveTo>
                  <a:pt x="503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966" y="20200"/>
                </a:lnTo>
                <a:close/>
              </a:path>
              <a:path fill="lighten" w="503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0366" h="21600">
                <a:moveTo>
                  <a:pt x="18177" y="3794"/>
                </a:moveTo>
                <a:lnTo>
                  <a:pt x="32190" y="10800"/>
                </a:lnTo>
                <a:lnTo>
                  <a:pt x="18177" y="17806"/>
                </a:lnTo>
                <a:close/>
              </a:path>
            </a:pathLst>
          </a:custGeom>
          <a:solidFill>
            <a:srgbClr val="88c7ce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AutoShape 5">
            <a:hlinkClick r:id="" action="ppaction://hlinkshowjump?jump=previousslide"/>
          </p:cNvPr>
          <p:cNvSpPr/>
          <p:nvPr/>
        </p:nvSpPr>
        <p:spPr>
          <a:xfrm>
            <a:off x="457200" y="6324480"/>
            <a:ext cx="533520" cy="228600"/>
          </a:xfrm>
          <a:custGeom>
            <a:avLst/>
            <a:gdLst>
              <a:gd name="textAreaLeft" fmla="*/ 14760 w 533520"/>
              <a:gd name="textAreaRight" fmla="*/ 518760 w 5335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50366" h="21600">
                <a:moveTo>
                  <a:pt x="0" y="0"/>
                </a:moveTo>
                <a:lnTo>
                  <a:pt x="50366" y="0"/>
                </a:lnTo>
                <a:lnTo>
                  <a:pt x="50366" y="21600"/>
                </a:lnTo>
                <a:lnTo>
                  <a:pt x="0" y="21600"/>
                </a:lnTo>
                <a:close/>
              </a:path>
              <a:path fill="lightenLess" w="50366" h="21600">
                <a:moveTo>
                  <a:pt x="0" y="0"/>
                </a:moveTo>
                <a:lnTo>
                  <a:pt x="50366" y="0"/>
                </a:lnTo>
                <a:lnTo>
                  <a:pt x="48966" y="1400"/>
                </a:lnTo>
                <a:lnTo>
                  <a:pt x="1400" y="1400"/>
                </a:lnTo>
                <a:close/>
              </a:path>
              <a:path fill="darken" w="50366" h="21600">
                <a:moveTo>
                  <a:pt x="50366" y="0"/>
                </a:moveTo>
                <a:lnTo>
                  <a:pt x="50366" y="21600"/>
                </a:lnTo>
                <a:lnTo>
                  <a:pt x="48966" y="20200"/>
                </a:lnTo>
                <a:lnTo>
                  <a:pt x="48966" y="1400"/>
                </a:lnTo>
                <a:close/>
              </a:path>
              <a:path fill="darkenLess" w="50366" h="21600">
                <a:moveTo>
                  <a:pt x="503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966" y="20200"/>
                </a:lnTo>
                <a:close/>
              </a:path>
              <a:path fill="lighten" w="503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0366" h="21600">
                <a:moveTo>
                  <a:pt x="18177" y="10800"/>
                </a:moveTo>
                <a:lnTo>
                  <a:pt x="32190" y="3794"/>
                </a:lnTo>
                <a:lnTo>
                  <a:pt x="32190" y="17806"/>
                </a:lnTo>
                <a:close/>
              </a:path>
            </a:pathLst>
          </a:custGeom>
          <a:solidFill>
            <a:srgbClr val="88c7ce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6"/>
          <p:cNvSpPr/>
          <p:nvPr/>
        </p:nvSpPr>
        <p:spPr>
          <a:xfrm>
            <a:off x="136440" y="1371600"/>
            <a:ext cx="396396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обр.1905 г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(Россия, Тула, ИТОЗ, 1905 г.) 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Усовершенствованный тульскими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оружейниками П.П.Третьяковым и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И.А.Пастуховым вариант пулемета системы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Х.Максима. Принцип действ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автоматики-использование действия отдачи при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коротком ходе ствола. Запирание канала ствола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шарнирно-рычажное. Охлаждение ствола -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водяное. Питание патронами из матерчатой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ленты. Кожух ствола, короб возвратной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пружины, приемник, нижняя крышка короба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бронзовые. На коробке возвратной пружины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имеет клеймо "3-х линейный пулемет № 1 1905 г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Императорский Тульский оружейный завод"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Калибр 7,62 мм (3 лин.)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Общая длина 1130 мм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Длина ствола 670 мм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Масса 28250 г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Емкость ленты 250 патр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Практическа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скорострельность 250-300 выстр./мин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8" descr="v059"/>
          <p:cNvPicPr/>
          <p:nvPr/>
        </p:nvPicPr>
        <p:blipFill>
          <a:blip r:embed="rId1"/>
          <a:stretch/>
        </p:blipFill>
        <p:spPr>
          <a:xfrm>
            <a:off x="4572000" y="2133720"/>
            <a:ext cx="3924360" cy="24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1T05:56:30Z</dcterms:created>
  <dc:creator>Ярослав Харичев</dc:creator>
  <dc:description/>
  <dc:language>en-US</dc:language>
  <cp:lastModifiedBy>Николай</cp:lastModifiedBy>
  <dcterms:modified xsi:type="dcterms:W3CDTF">2013-07-06T07:36:08Z</dcterms:modified>
  <cp:revision>62</cp:revision>
  <dc:subject/>
  <dc:title>Калибр оружи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7802000000000001024140</vt:lpwstr>
  </property>
</Properties>
</file>