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DFF-39AB-4F52-A4C0-8557D5F7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169-B839-4A5E-9368-D1B6564D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451-B6DB-4A27-9ADE-C19A47D1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22A-A5EA-4A4F-8551-8B7B1725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A43-063F-4A6B-B7FD-80FD28FC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75D-BC0C-44C2-AE21-7331B17F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B2E-1D54-448A-A450-762FD45E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D94-5BFE-4820-989F-96EE4803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706-ED69-4CE9-81CD-72E869EE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BE5-A61F-45DF-9892-BC10F03B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E45-4644-4E3D-9644-02D77B70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2A3-99D9-43C6-B19F-3994BCEB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FC85-3BF7-4FA3-B248-73368DA46C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475f2"/>
                </a:solidFill>
                <a:latin typeface="Verdana"/>
              </a:rPr>
              <a:t>Презентация факультативного занятия по ОБЖ</a:t>
            </a:r>
            <a:br>
              <a:rPr sz="3600"/>
            </a:br>
            <a:r>
              <a:rPr b="1" i="1" lang="ru-RU" sz="3600" spc="-1" strike="noStrike">
                <a:solidFill>
                  <a:srgbClr val="6475f2"/>
                </a:solidFill>
                <a:latin typeface="Verdana"/>
              </a:rPr>
              <a:t>«История Советского и Российского оружи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6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v057"/>
          <p:cNvPicPr/>
          <p:nvPr/>
        </p:nvPicPr>
        <p:blipFill>
          <a:blip r:embed="rId1"/>
          <a:stretch/>
        </p:blipFill>
        <p:spPr>
          <a:xfrm>
            <a:off x="5486400" y="228600"/>
            <a:ext cx="33148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990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 СО СКЛАДЫВАЮЩИМСЯ ПРИКЛА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36440" y="1371600"/>
            <a:ext cx="3963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КС-47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СССР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личается от АК-47 наличием откидн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еталлического приклада. Предназначен дл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оружения специальных войск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7,62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880/645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3,8 кг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v089"/>
          <p:cNvPicPr/>
          <p:nvPr/>
        </p:nvPicPr>
        <p:blipFill>
          <a:blip r:embed="rId1"/>
          <a:stretch/>
        </p:blipFill>
        <p:spPr>
          <a:xfrm>
            <a:off x="3809880" y="1981080"/>
            <a:ext cx="46864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0" y="990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ТОМАТ КАЛАШНИКОВА УКОРОЧЕН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6440" y="1371600"/>
            <a:ext cx="396396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КС-74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СССР, Тула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личается от АК-74 меньшей длиной ствол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м дульного тормоза-компенсатор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личием пламегасителя. Вместо секреторн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цела применен поворотный целик. Ствол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деляется от ствольной коробки. Крыш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ьной коробки при разборке откидывае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зад. Приклад складывается влев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5,45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атрон 5,45х39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цельная дальность 500 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п стрельбы 650-700 выстр./м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оевая скорострельность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диночными выстрелами 40 выстр./м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чередями 100 выстр./м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 неснаряженным магазином 2,7 к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 снаряженным магазином 3,6 к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мкость магазина 30 патр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боевом положении 73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походном положении 490 мм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v096"/>
          <p:cNvPicPr/>
          <p:nvPr/>
        </p:nvPicPr>
        <p:blipFill>
          <a:blip r:embed="rId1"/>
          <a:stretch/>
        </p:blipFill>
        <p:spPr>
          <a:xfrm>
            <a:off x="3809880" y="1828800"/>
            <a:ext cx="46864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 автор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Румянцев3"/>
          <p:cNvPicPr/>
          <p:nvPr/>
        </p:nvPicPr>
        <p:blipFill>
          <a:blip r:embed="rId1"/>
          <a:stretch/>
        </p:blipFill>
        <p:spPr>
          <a:xfrm>
            <a:off x="228600" y="762120"/>
            <a:ext cx="200196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3429000" y="838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умянцев А. 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та рождения – 6.10.19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тает преподавателем ОБЖ и технологии в МСШО № 1 с 1994 г. Преподаватель 1-й катего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План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РУЖЬЕ КРЕМНЕВОЕ ПЕХОТ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СТРЕЛКОВАЯ ВИНТОВКА обр. 1856 г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ВИНТОВКА МОСИНА обр. 1891/1910 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САМОЗАРЯДНЫЙ КАРАБИН ТОКАРЕВ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АВТОМАТИЧЕСКАЯ ВИНТОВКА ДЕГТЯРЕ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ПРОТИВОТАНКОВОЕ РУЖЬЕ СИМО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СТАНКОВЫЙ ПУЛЕМЕТ МАКСИ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АК СО СКЛАДЫВАЮЩИМСЯ ПРИКЛАД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АВТОМАТ КАЛАШНИКОВА УКОРОЧЕН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 АВТОР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6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0" y="990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УЖЬЕ КРЕМНЕВОЕ ПЕХОТНО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v016"/>
          <p:cNvPicPr/>
          <p:nvPr/>
        </p:nvPicPr>
        <p:blipFill>
          <a:blip r:embed="rId1"/>
          <a:stretch/>
        </p:blipFill>
        <p:spPr>
          <a:xfrm>
            <a:off x="4191120" y="2895480"/>
            <a:ext cx="4305240" cy="971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136440" y="1371600"/>
            <a:ext cx="3963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(Россия, Тула, 1843 г.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Памятное. Ствол воронен в коричневый цвет и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украшен наведенной золотом надписью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"Государь Император Николай 1 удостои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заваривать этот ствол 5 сентября 1842 г.". 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замочной доске наведена золотом надпись: "Тул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1843". Ствол украшен высокохудожествен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гравировкой. Замок вороненый. Прибо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латунный, покрыт золот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Калибр 7 лип. (17,78 мм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Общая длина 1460 MM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Длина ствола 105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Масса 3080 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990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ЕЛКОВАЯ ВИНТОВКА обр. 1856 г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36440" y="1371600"/>
            <a:ext cx="3963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РОССИЯ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 вороненый. Прицельные приспособле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ия состоят из мушки и гессенского прицел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лучшенного мастером Ижевского оружейн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завода Юнгом. Мушка стальная с четырехуголь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ым основанием, служащая также штыковым це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иком. Ложевые кольца стальные, разъемны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ык воронены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16,24 мм (6 линий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(без штыка) 134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а 939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без штыка 4400 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8" descr="v025"/>
          <p:cNvPicPr/>
          <p:nvPr/>
        </p:nvPicPr>
        <p:blipFill>
          <a:blip r:embed="rId1"/>
          <a:stretch/>
        </p:blipFill>
        <p:spPr>
          <a:xfrm>
            <a:off x="4495680" y="2133720"/>
            <a:ext cx="40770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990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ИНТОВКА МОСИНА обр. 1891/1910 г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36440" y="1371600"/>
            <a:ext cx="39639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Россия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атный образец. Является модернизацией об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ца 1891 г., проведенной в связи с переходом 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патрона с остроконечной пул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менения коснулись патронника и прицела: бы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а изменена конфигурация пульнцго входа и уве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ичена прицельная дальность с 2700 шагов д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200. Начальная скорость пули была увеличена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20 м/с до 860 м/с. Введена ствольная наклад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я предотвращения случаев ожогов рук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цельная рамка новой конструкции, предло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женная В. П. Коноваловым. Металлические час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и, кроме затвора, оксидированы в черный цв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ожа из орех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Злин. (7,62мм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1355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а 775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4350 г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v040"/>
          <p:cNvPicPr/>
          <p:nvPr/>
        </p:nvPicPr>
        <p:blipFill>
          <a:blip r:embed="rId1"/>
          <a:stretch/>
        </p:blipFill>
        <p:spPr>
          <a:xfrm>
            <a:off x="4495680" y="2286000"/>
            <a:ext cx="40006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0" y="990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ЗАРЯДНЫЙ КАРАБИН ТОКАРЕВ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36440" y="1371600"/>
            <a:ext cx="39639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Россия, 1918 г.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ытный образец. Принцип действия автома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ики - использование отдачи ствола при его ко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тком ходе. Запирание осуществляется с по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щью поворотной муфты, свободно навинчен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ой на казенную часть ствола. Ударный механиз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уркового типа. Спусковой механизм без предо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ранителя. Питание патронами осуществляе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 неотъемного магазина с крышкой систем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паковского. Наполнение магазина производит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я из обоймы. Расположение патронов одноряд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ое. Прицел секторны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7,62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1040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а 510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3800 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цельная дальность 2000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приц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инии 42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мкость магазина 5 пат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8" descr="v044"/>
          <p:cNvPicPr/>
          <p:nvPr/>
        </p:nvPicPr>
        <p:blipFill>
          <a:blip r:embed="rId1"/>
          <a:stretch/>
        </p:blipFill>
        <p:spPr>
          <a:xfrm>
            <a:off x="4648320" y="2057400"/>
            <a:ext cx="3924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9907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АЯ ВИНТОВКА ДЕГТЯРЕВ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6440" y="1371600"/>
            <a:ext cx="39639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СССР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ытный образец. Принцип работы автомати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и - отвод пороховых газов из ствола. Запир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едением упоров. Ударно-спусковой меха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изм куркового типа позволяет ведение одиноч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ого и непрерывного огня. Магазин съемный, н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зволяющий осуществлять заряжание в примк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утом положении из обоймы, вставляемой в спе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циальные пазы ствольной коробки. Имее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репление для штык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7,62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атрон 7,62х51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винтовки 1150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ствола 64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4,2 к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цельная дальность 1400 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мкость магазина 5патр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v047"/>
          <p:cNvPicPr/>
          <p:nvPr/>
        </p:nvPicPr>
        <p:blipFill>
          <a:blip r:embed="rId1"/>
          <a:stretch/>
        </p:blipFill>
        <p:spPr>
          <a:xfrm>
            <a:off x="4495680" y="2286000"/>
            <a:ext cx="41529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0" y="990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ИВОТАНКОВОЕ РУЖЬЕ СИМОН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36440" y="1371600"/>
            <a:ext cx="39639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р. 1941 г., ПТР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СССР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действия автоматики - отвод порохов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азов через поперечное отверстие в стволе. Запир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существляется перекосом затвора. Предохраните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флажкового типа, расположен с правой сторон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вольной коробки. Ударный механизм курков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ипа. Спусковой механизм допускает ведение тольк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диночного 01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 Прицел секторный. Имею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кладные сошки, рукоятка для переноски, откид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плечник. На прикладе закреплена легкая подушк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газин постоянный, заряжается из пач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14,5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20,9 к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2140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чальная скорость пули 1012м/с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8" descr="v054"/>
          <p:cNvPicPr/>
          <p:nvPr/>
        </p:nvPicPr>
        <p:blipFill>
          <a:blip r:embed="rId1"/>
          <a:stretch/>
        </p:blipFill>
        <p:spPr>
          <a:xfrm>
            <a:off x="4572000" y="2362320"/>
            <a:ext cx="400068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e5f7"/>
                </a:solidFill>
                <a:latin typeface="Verdana"/>
              </a:rPr>
              <a:t>Образцы оруж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990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КОВЫЙ ПУЛЕМЕТ МАКСИ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" action="ppaction://hlinkshowjump?jump=nextslide"/>
          </p:cNvPr>
          <p:cNvSpPr/>
          <p:nvPr/>
        </p:nvSpPr>
        <p:spPr>
          <a:xfrm>
            <a:off x="82296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>
            <a:hlinkClick r:id="" action="ppaction://hlinkshowjump?jump=previousslide"/>
          </p:cNvPr>
          <p:cNvSpPr/>
          <p:nvPr/>
        </p:nvSpPr>
        <p:spPr>
          <a:xfrm>
            <a:off x="4572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88c7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36440" y="1371600"/>
            <a:ext cx="39639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р.1905 г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Россия, Тула, ИТОЗ, 1905 г.)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совершенствованный тульски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ружейниками П.П.Третьяковым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.А.Пастуховым вариант пулемета систем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Х.Максима. Принцип действ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ки-использование действия отдачи пр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оротком ходе ствола. Запирание канала ство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арнирно-рычажное. Охлаждение ствола 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дяное. Питание патронами из матерчат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енты. Кожух ствола, короб возврат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ужины, приемник, нижняя крышка короб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ронзовые. На коробке возвратной пружин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меет клеймо "3-х линейный пулемет № 1 1905 г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мператорский Тульский оружейный завод"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ибр 7,62 мм (3 лин.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длина 113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ина ствола 670 м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са 28250 г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Емкость ленты 250 патр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актическ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корострельность 250-300 выстр./мин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8" descr="v059"/>
          <p:cNvPicPr/>
          <p:nvPr/>
        </p:nvPicPr>
        <p:blipFill>
          <a:blip r:embed="rId1"/>
          <a:stretch/>
        </p:blipFill>
        <p:spPr>
          <a:xfrm>
            <a:off x="4572000" y="2133720"/>
            <a:ext cx="39243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5:56:30Z</dcterms:created>
  <dc:creator>Ярослав Харичев</dc:creator>
  <dc:description/>
  <dc:language>en-US</dc:language>
  <cp:lastModifiedBy>Николай</cp:lastModifiedBy>
  <dcterms:modified xsi:type="dcterms:W3CDTF">2013-07-06T07:36:08Z</dcterms:modified>
  <cp:revision>62</cp:revision>
  <dc:subject/>
  <dc:title>Калибр оруж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2000000000001024140</vt:lpwstr>
  </property>
</Properties>
</file>