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787-33E6-4D4B-954A-A2F99D4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985-A468-4D0D-9CAA-38D792B3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87E-C556-4EC0-88FA-8CAF4502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268-A9CE-458B-95F6-ACC1C8C2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C83-F40D-4AA6-8F6E-E3340E02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7D2-657B-48FA-B70C-2F939BF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5B2-144B-4146-B8B0-F5D81BA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53D-2CD3-4D79-A4C4-C8D3327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5EA-ACB6-4493-B0C9-F5177A5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FFE-EDF4-49A5-993B-4EA9937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5A5-2AD6-475E-9467-A92908F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95F-5DEF-41F8-B639-AECCD20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9B02-3927-4838-BDBE-368AC7034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Презентация факультативного занятия по ОБЖ</a:t>
            </a:r>
            <a:br>
              <a:rPr sz="3600"/>
            </a:b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«История Советского и Российского оруж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v057"/>
          <p:cNvPicPr/>
          <p:nvPr/>
        </p:nvPicPr>
        <p:blipFill>
          <a:blip r:embed="rId1"/>
          <a:stretch/>
        </p:blipFill>
        <p:spPr>
          <a:xfrm>
            <a:off x="5486400" y="228600"/>
            <a:ext cx="3314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 СО СКЛАДЫВАЮЩИМСЯ ПРИКЛА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36440" y="1371600"/>
            <a:ext cx="3963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47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47 наличием откид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ллического приклада. Предназначен дл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оружения специальных войс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880/6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,8 к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v089"/>
          <p:cNvPicPr/>
          <p:nvPr/>
        </p:nvPicPr>
        <p:blipFill>
          <a:blip r:embed="rId1"/>
          <a:stretch/>
        </p:blipFill>
        <p:spPr>
          <a:xfrm>
            <a:off x="3809880" y="1981080"/>
            <a:ext cx="4686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 КАЛАШНИКОВА УКОРОЧ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6440" y="1371600"/>
            <a:ext cx="39639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74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, Тула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74 меньшей длиной ство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м дульного тормоза-компенсат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личием пламегасителя. Вместо секретор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а применен поворотный целик. Ствол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деляется от ствольной коробки. Крыш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 при разборке откидыв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ад. Приклад складывается влев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5,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5,45х39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5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п стрельбы 650-7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евая скорострельность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ыми выстрелами 4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чередями 1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неснаряженным магазином 2,7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 снаряженным магазином 3,6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30 патр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боевом положении 7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походном положении 490 м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v096"/>
          <p:cNvPicPr/>
          <p:nvPr/>
        </p:nvPicPr>
        <p:blipFill>
          <a:blip r:embed="rId1"/>
          <a:stretch/>
        </p:blipFill>
        <p:spPr>
          <a:xfrm>
            <a:off x="3809880" y="1828800"/>
            <a:ext cx="468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Румянцев3"/>
          <p:cNvPicPr/>
          <p:nvPr/>
        </p:nvPicPr>
        <p:blipFill>
          <a:blip r:embed="rId1"/>
          <a:stretch/>
        </p:blipFill>
        <p:spPr>
          <a:xfrm>
            <a:off x="228600" y="762120"/>
            <a:ext cx="200196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342900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умянцев А. 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та рождения – 6.10.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тает преподавателем ОБЖ и технологии в МСШО № 1 с 1994 г. Преподаватель 1-й катег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РУЖЬЕ КРЕМНЕВОЕ ПЕХОТ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РЕЛКОВАЯ ВИНТОВКА обр. 185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ВИНТОВКА МОСИНА обр. 1891/1910 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АМОЗАРЯДНЫЙ КАРАБИН ТОКАРЕ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ИЧЕСКАЯ ВИНТОВКА ДЕГТЯР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ПРОТИВОТАНКОВОЕ РУЖЬЕ СИМО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АНКОВЫЙ ПУЛЕМЕТ МАКС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К СО СКЛАДЫВАЮЩИМСЯ ПРИКЛАД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 КАЛАШНИКОВА УКОРОЧ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АВТО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ЖЬЕ КРЕМНЕВОЕ ПЕХОТНО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v016"/>
          <p:cNvPicPr/>
          <p:nvPr/>
        </p:nvPicPr>
        <p:blipFill>
          <a:blip r:embed="rId1"/>
          <a:stretch/>
        </p:blipFill>
        <p:spPr>
          <a:xfrm>
            <a:off x="4191120" y="2895480"/>
            <a:ext cx="43052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(Россия, Тула, 1843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Памятное. Ствол воронен в коричневый цвет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украшен наведенной золотом надписью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"Государь Император Николай 1 удосто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варивать этот ствол 5 сентября 1842 г.".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мочной доске наведена золотом надпись: "Тул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1843". Ствол украшен высокохудожествен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гравировкой. Замок вороненый. Прибо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латунный, покрыт золот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Калибр 7 лип. (17,78 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Общая длина 1460 MM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Длина ствола 105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Масса 3080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ЛКОВАЯ ВИНТОВКА обр. 1856 г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 вороненый. Прицельные приспособл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я состоят из мушки и гессенского прице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лучшенного мастером Ижевского оружей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вода Юнгом. Мушка стальная с четырехуголь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ым основанием, служащая также штыковым ц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ком. Ложевые кольца стальные, разъемны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ык вороне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6,24 мм (6 линий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(без штыка) 13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939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без штыка 4400 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v025"/>
          <p:cNvPicPr/>
          <p:nvPr/>
        </p:nvPicPr>
        <p:blipFill>
          <a:blip r:embed="rId1"/>
          <a:stretch/>
        </p:blipFill>
        <p:spPr>
          <a:xfrm>
            <a:off x="4495680" y="2133720"/>
            <a:ext cx="4077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ИНТОВКА МОСИНА обр. 1891/1910 г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6440" y="1371600"/>
            <a:ext cx="39639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атный образец. Является модернизацией об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ца 1891 г., проведенной в связи с переходом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атрона с остроконечной пу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я коснулись патронника и прицела: бы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а изменена конфигурация пульнцго входа и ув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чена прицельная дальность с 2700 шагов д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200. Начальная скорость пули была увеличена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20 м/с до 860 м/с. Введена ствольная наклад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едотвращения случаев ожогов ру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рамка новой конструкции, предл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женная В. П. Коноваловым. Металлические час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, кроме затвора, оксидированы в черный цв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жа из оре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Злин. (7,62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355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77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350 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v040"/>
          <p:cNvPicPr/>
          <p:nvPr/>
        </p:nvPicPr>
        <p:blipFill>
          <a:blip r:embed="rId1"/>
          <a:stretch/>
        </p:blipFill>
        <p:spPr>
          <a:xfrm>
            <a:off x="4495680" y="2286000"/>
            <a:ext cx="40006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ЗАРЯДНЫЙ КАРАБИН ТОКА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36440" y="1371600"/>
            <a:ext cx="39639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1918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действия автом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ки - использование отдачи ствола при его к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тком ходе. Запирание осуществляется с п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щью поворотной муфты, свободно навинчен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й на казенную часть ствола. Ударный механиз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уркового типа. Спусковой механизм без пред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ранителя. Питание патронами осуществля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 неотъемного магазина с крышкой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паковского. Наполнение магазина производит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я из обоймы. Расположение патронов одноряд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е. Прицел сектор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0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51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80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2000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приц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нии 42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 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" descr="v044"/>
          <p:cNvPicPr/>
          <p:nvPr/>
        </p:nvPicPr>
        <p:blipFill>
          <a:blip r:embed="rId1"/>
          <a:stretch/>
        </p:blipFill>
        <p:spPr>
          <a:xfrm>
            <a:off x="4648320" y="2057400"/>
            <a:ext cx="3924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АЯ ВИНТОВКА ДЕГТЯ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6440" y="1371600"/>
            <a:ext cx="3963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работы автомати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и - отвод пороховых газов из ствола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едением упоров. Ударно-спусковой мех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зм куркового типа позволяет ведение одиноч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го и непрерывного огня. Магазин съемный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щий осуществлять заряжание в примк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том положении из обоймы, вставляемой в сп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иальные пазы ствольной коробки. Име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епление для шты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7,62х5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винтовки 115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,2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14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v047"/>
          <p:cNvPicPr/>
          <p:nvPr/>
        </p:nvPicPr>
        <p:blipFill>
          <a:blip r:embed="rId1"/>
          <a:stretch/>
        </p:blipFill>
        <p:spPr>
          <a:xfrm>
            <a:off x="4495680" y="2286000"/>
            <a:ext cx="41529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ОТАНКОВОЕ РУЖЬЕ СИМО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6440" y="1371600"/>
            <a:ext cx="39639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 1941 г., ПТР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действия автоматики - отвод порохов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азов через поперечное отверстие в стволе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ется перекосом затвора. Предохранит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лажкового типа, расположен с правой сторо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. Ударный механизм курк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па. Спусковой механизм допускает ведение тольк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ого 01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Прицел секторный. Имею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ладные сошки, рукоятка для переноски, откид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плечник. На прикладе закреплена легкая подуш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газин постоянный, заряжается из пач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4,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0,9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21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чальная скорость пули 1012м/с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v054"/>
          <p:cNvPicPr/>
          <p:nvPr/>
        </p:nvPicPr>
        <p:blipFill>
          <a:blip r:embed="rId1"/>
          <a:stretch/>
        </p:blipFill>
        <p:spPr>
          <a:xfrm>
            <a:off x="4572000" y="2362320"/>
            <a:ext cx="40006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КОВЫЙ ПУЛЕМЕТ МАКСИ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36440" y="1371600"/>
            <a:ext cx="3963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Тула, ИТОЗ, 1905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овершенствованный тульски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ужейниками П.П.Третьяковым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.А.Пастуховым вариант пулемета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.Максима. Принцип действ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ки-использование действия отдачи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ротком ходе ствола. Запирание канала ств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арнирно-рычажное. Охлаждение ствола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яное. Питание патронами из матерчат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енты. Кожух ствола, короб возврат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ужины, приемник, нижняя крышка короб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ронзовые. На коробке возвратной пружи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еет клеймо "3-х линейный пулемет № 1 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ператорский Тульский оружейный завод"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(3 лин.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длина 11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7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825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ленты 250 патр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орострельность 250-300 выстр./мин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v059"/>
          <p:cNvPicPr/>
          <p:nvPr/>
        </p:nvPicPr>
        <p:blipFill>
          <a:blip r:embed="rId1"/>
          <a:stretch/>
        </p:blipFill>
        <p:spPr>
          <a:xfrm>
            <a:off x="4572000" y="2133720"/>
            <a:ext cx="39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5:56:30Z</dcterms:created>
  <dc:creator>Ярослав Харичев</dc:creator>
  <dc:description/>
  <dc:language>en-US</dc:language>
  <cp:lastModifiedBy>Николай</cp:lastModifiedBy>
  <dcterms:modified xsi:type="dcterms:W3CDTF">2013-07-06T07:36:08Z</dcterms:modified>
  <cp:revision>62</cp:revision>
  <dc:subject/>
  <dc:title>Калибр оруж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