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D19-F4B1-46EC-AF9F-181C8B01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33D-D01B-4381-B20A-6C02FE11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24B-0777-4558-BAA3-01E732EF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98E-75F8-49EE-8A74-F5C903B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7783-CC89-4798-AE14-5F0F1533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A96-9D22-4219-BB5F-CE712E14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0475-3959-421B-84DA-6DB3DDC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2EAF-1BB1-4400-AAE7-9FA5BBC7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100F-03F7-4A43-9064-880E41DF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E071-E26F-497D-AFFE-A9E41E34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595F-34BF-440B-9DD1-283FE79A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00F-9103-4E28-849A-4B47A130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A322-7EE4-492D-91AD-41A092BE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7FFB-412C-4516-AD8C-EF9D25C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0CEB-1490-4F9C-8D9C-63C41DA2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CDCE-6DFA-43DA-92B6-2120FF26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33AB-7A91-40B7-AA17-0AE61712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3E0-6117-4B63-9CDB-57A32242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F5A-8D70-4CB8-8E0F-9DB92AD4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616-B102-4B6F-B45C-C9260D4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A5B-A297-4BD0-9027-D2FF9D0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1F1-6B1C-4C0B-9BE0-FFE801C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789-ECC0-4B57-968E-8E9C624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223-5450-4552-BEFB-4229C46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BCF6-5DD5-4A65-BD7D-1F1154A41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E1C6-7A33-4076-B6C9-CC2F9EF43D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45548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ая оборона – составная часть обороноспособности страны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5055840"/>
            <a:ext cx="78408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чнев Александр Викторович – учитель ОБЖ МОУ «Помарская средняя общеобразовательная шко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сокоточ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дывательно-ударные комплек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вые ударные комплек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емые авиационные бомбы (дальность до 20 к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11280" y="2349360"/>
            <a:ext cx="824364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временные средства поражения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ружие массового поражения (ядерное, химическое, бактериологическое) и обычное оруж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ражающие  факторы ядерного взрыв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дарная вол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ветовое излу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никающая ради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иоактивное заражение мест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ктромагнитный импуль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имическое оруж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имическое оружие составляю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равляющие вещест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едства применения отравляющих веществ (ракеты, АБ, артиллерийские снаряды и мины, ВАП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щита от 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щитные сооружени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тивог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К, Л – 1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дицинские средства (АИ – 2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едства дегазации (специальной обработки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ктериологическое (биологическое) оруж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ужие массового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раже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поражающее действие которого основано на использовании болезнетворных свойств микроорганизмов – возбудителей заболеваний людей, животных и сельскохозяйственных раст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ыч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о на использовании энергии взрывчатых веществ и зажигательных смес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иллерийские, ракетные и авиационные боеприпас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ковые вооруж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гас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ы и друг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, ОУК (высокоточное оруж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жигатель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меняется в целях поражения живой силы противника, уничтожения его техники, запасов материальных средств и для создания пожар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редства боевого применения зажигательных веществ и смесей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иационные зажигательные боеприпасы – зажигательные бомбы и ба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иллерийские зажигательные боеприп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мёты (ранцевые, механизированные, танковы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вые фуг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жигательные ручные грана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56:20Z</dcterms:created>
  <dc:creator>Student</dc:creator>
  <dc:description/>
  <dc:language>en-US</dc:language>
  <cp:lastModifiedBy>Николай</cp:lastModifiedBy>
  <dcterms:modified xsi:type="dcterms:W3CDTF">2013-07-05T08:24:22Z</dcterms:modified>
  <cp:revision>10</cp:revision>
  <dc:subject/>
  <dc:title>«Гражданская оборона – составная часть обороноспособности страны».</dc:title>
</cp:coreProperties>
</file>