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954-EAFF-4750-AF5B-0E727E14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A7A-4A3F-4F07-973E-B27379A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EB8-F11E-4DBF-8913-74640DE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AE3-7342-4AC8-8C9D-C1987D4F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7359-CE74-405A-AC1E-E420D69D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7A99-7E81-4C16-A862-CA248CB3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3FE-319B-474F-A8EA-4F09D0FD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99F9-1686-4FC1-B438-8DD94ACA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E72-0FD8-4368-BDDD-E6CD1B4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3142-CA1E-4B58-A44B-55972C4C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E04-73DE-4930-AE3F-30A560B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B39-172B-414D-96F6-E819747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4F28-8844-4BFE-9500-BE42A24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86E-8FBE-436B-8A8D-D624C9A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114E-82E9-4C4C-8B47-39301EE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161-1E73-478C-AD5A-C5BA8E1A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63D-0C50-4036-9643-6B024004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CC3-F8C8-40F4-9410-D29C886A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D2B-119A-4D5E-97AB-4F94ABA2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257-584E-414E-B0BC-6B8DC8B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990-AE6E-40B4-9303-7AC3939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E83-EDF4-4A2F-8EC1-D08B6A4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E9D-12F8-4113-8184-4FE5FA48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F8D-5AEC-4924-8222-B277B1DC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DF23-223B-4F40-B96D-4154D53F9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E928-0733-46C0-9559-DCB3F52636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45548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ая оборона – составная часть обороноспособности страны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5055840"/>
            <a:ext cx="7840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чнев Александр Викторович – учитель ОБЖ МОУ «Помарская средняя общеобразовательная шко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сокото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дывательно-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емые авиационные бомбы (дальность до 20 к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349360"/>
            <a:ext cx="824364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временные средства поражени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ужие массового поражения (ядерное, химическое, бактериологическое) и обычное оруж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ражающие  факторы ядерного взрыв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дарная вол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товое излу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никающая ради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иоактивное заражение мест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ктромагнитный импуль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имическое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имическое оружие составляю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равляющие вещест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применения отравляющих веществ (ракеты, АБ, артиллерийские снаряды и мины, ВАП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щита от 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щитные сооружени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тивог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К, Л – 1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дицинские средства (АИ – 2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дегазации (специальной обработки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ктериологическое (биологическое)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ужие массового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раже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ражающее действие которого основано на использовании болезнетворных свойств микроорганизмов – возбудителей заболеваний людей, животных и сельскохозяйственных раст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ы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о на использовании энергии взрывчатых веществ и зажигательных смес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, ракетные и авиационные боеприпас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ковые вооруж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гас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ы и друг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, ОУК (высокоточное оруж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жигатель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меняется в целях поражения живой силы противника, уничтожения его техники, запасов материальных средств и для создания пожар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едства боевого применения зажигательных веществ и смесей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иационные зажигательные боеприпасы – зажигательные бомбы и б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 зажигательные боеприп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мёты (ранцевые, механизированные, танковы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фуг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жигательные ручные гран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56:20Z</dcterms:created>
  <dc:creator>Student</dc:creator>
  <dc:description/>
  <dc:language>en-US</dc:language>
  <cp:lastModifiedBy>Николай</cp:lastModifiedBy>
  <dcterms:modified xsi:type="dcterms:W3CDTF">2013-07-05T08:24:22Z</dcterms:modified>
  <cp:revision>10</cp:revision>
  <dc:subject/>
  <dc:title>«Гражданская оборона – составная часть обороноспособности страны».</dc:title>
</cp:coreProperties>
</file>