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12D-B61A-4908-862D-55953184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E70-4CB9-47E4-B1BE-7FF7E782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2DC-1BC8-4586-ACB3-57FE0780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44F-D0AB-4E3B-B4E3-1DEBCF06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9BA-71EF-421B-A082-3E18D06B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893D-491A-4879-AA3C-1137D1AC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F8C0-3B4E-441C-B62B-F53EAF93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7B2A-347F-4171-BC6E-FC1A31E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7110-F42A-4138-958D-1E85BC8F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674-5BB9-43F5-90AB-8D808F93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8B58-B4CE-4F18-8390-30D425E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494-44E7-4B8A-AC95-12699EC7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AE6C-0422-40CE-A667-B459532E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8FE3-B425-4EDE-A23D-DB183FB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692E-C307-4788-AAE7-1EFB886B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BDAD-79E4-4C81-A2FD-C5F71602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3131-28EB-4427-BAF1-DD599B4E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FCA-13EC-4689-AB57-A209C619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C2A-2D93-48C6-8105-ED4C73DD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A4F-AFD4-41FF-8CB5-6F4B91C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F12-3CBB-4C7A-8AC7-7F28335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700-2099-4510-A5BC-8C9E891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48B-C4C2-45A5-AD1B-920D0BA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2D6-53E7-47D3-88F6-0C01C53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BFB2-02C9-441F-9D3E-08CFA6B3E9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CDF-EF3C-4453-9F0D-E72D1FF65D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45548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ая оборона – составная часть обороноспособности страны»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5055840"/>
            <a:ext cx="784080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чнев Александр Викторович – учитель ОБЖ МОУ «Помарская средняя общеобразовательная шко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сокото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дывательно-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ударные комплек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емые авиационные бомбы (дальность до 20 к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611280" y="2349360"/>
            <a:ext cx="8243640" cy="19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овременные средства поражени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ружие массового поражения (ядерное, химическое, бактериологическое) и обычное оруж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ражающие  факторы ядерного взрыв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дарная вол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ветовое излуч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никающая радиа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иоактивное заражение мест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ктромагнитный импуль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имическое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имическое оружие составляют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равляющие вещест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применения отравляющих веществ (ракеты, АБ, артиллерийские снаряды и мины, ВАП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щита от 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щитные сооружени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тивог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К, Л – 1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дицинские средства (АИ – 2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редства дегазации (специальной обработки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ктериологическое (биологическое) оружие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ужие массового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раже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поражающее действие которого основано на использовании болезнетворных свойств микроорганизмов – возбудителей заболеваний людей, животных и сельскохозяйственных раст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ыч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о на использовании энергии взрывчатых веществ и зажигательных смес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, ракетные и авиационные боеприпас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ковые вооруж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гас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ы и другие средст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, ОУК (высокоточное оружи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жигательное оруж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меняется в целях поражения живой силы противника, уничтожения его техники, запасов материальных средств и для создания пожаров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едства боевого применения зажигательных веществ и смесей</a:t>
            </a:r>
            <a:br>
              <a:rPr sz="24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иационные зажигательные боеприпасы – зажигательные бомбы и ба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иллерийские зажигательные боеприп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мёты (ранцевые, механизированные, танковы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невые фуга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жигательные ручные гран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56:20Z</dcterms:created>
  <dc:creator>Student</dc:creator>
  <dc:description/>
  <dc:language>en-US</dc:language>
  <cp:lastModifiedBy>Николай</cp:lastModifiedBy>
  <dcterms:modified xsi:type="dcterms:W3CDTF">2013-07-05T08:24:22Z</dcterms:modified>
  <cp:revision>10</cp:revision>
  <dc:subject/>
  <dc:title>«Гражданская оборона – составная часть обороноспособности страны».</dc:title>
</cp:coreProperties>
</file>