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E63-A6F1-4355-8201-B3B2B75A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F5B-33F5-4525-A989-56BC81F6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694-723C-4EB8-9B85-322DC1EB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728-F622-48D1-B08D-0E338BF0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3F1-688C-4DC2-B93F-299828E1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82F-30EA-4901-82F2-427F9F15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683-01BD-44E2-B7F0-DFE0ACBB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FD2-D59F-4A32-A7AD-731418F9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73E-FF65-4DCD-880B-5DCBBACE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843-3A75-4598-845D-8E26AFE6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998-FAFE-48E9-8717-ABA0C50F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B72-3F37-48CE-A0D2-69B47253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FA3E-BD82-4E37-B4EB-69BBD858D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Графическое изображение деталей и издел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8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Учитель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МБОУ «Гимназия № 97 г. Ель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Агеев Олег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8840" y="241200"/>
            <a:ext cx="3581640" cy="201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10080" y="195120"/>
            <a:ext cx="3479760" cy="2102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41200" y="3746520"/>
            <a:ext cx="240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5238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лошная толстая основн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76240" y="3581280"/>
            <a:ext cx="2590920" cy="650160"/>
            <a:chOff x="876240" y="3581280"/>
            <a:chExt cx="2590920" cy="650160"/>
          </a:xfrm>
        </p:grpSpPr>
        <p:sp>
          <p:nvSpPr>
            <p:cNvPr id="212" name=""/>
            <p:cNvSpPr/>
            <p:nvPr/>
          </p:nvSpPr>
          <p:spPr>
            <a:xfrm>
              <a:off x="876240" y="3771720"/>
              <a:ext cx="259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42920" y="3581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42920" y="3771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42920" y="4165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49440" y="3771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257800" y="1523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линии видимого кон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666880"/>
            <a:ext cx="1676160" cy="1371600"/>
          </a:xfrm>
          <a:custGeom>
            <a:avLst/>
            <a:gdLst>
              <a:gd name="textAreaLeft" fmla="*/ 368640 w 1676160"/>
              <a:gd name="textAreaRight" fmla="*/ 1307520 w 167616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140600">
            <a:off x="7695720" y="2895480"/>
            <a:ext cx="1295640" cy="16765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4495680"/>
            <a:ext cx="1828800" cy="1524240"/>
          </a:xfrm>
          <a:prstGeom prst="hexagon">
            <a:avLst>
              <a:gd name="adj" fmla="val 29995"/>
              <a:gd name="vf" fmla="val 11547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лошная тонк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3581280"/>
            <a:ext cx="2590920" cy="650520"/>
            <a:chOff x="914400" y="3581280"/>
            <a:chExt cx="2590920" cy="650520"/>
          </a:xfrm>
        </p:grpSpPr>
        <p:sp>
          <p:nvSpPr>
            <p:cNvPr id="225" name=""/>
            <p:cNvSpPr/>
            <p:nvPr/>
          </p:nvSpPr>
          <p:spPr>
            <a:xfrm>
              <a:off x="914400" y="3759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848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8480" y="3772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68480" y="41655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89120" y="3772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/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257800" y="12952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размерные и выносные ли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0" y="3009960"/>
            <a:ext cx="3683160" cy="1485720"/>
            <a:chOff x="4572000" y="3009960"/>
            <a:chExt cx="3683160" cy="1485720"/>
          </a:xfrm>
        </p:grpSpPr>
        <p:sp>
          <p:nvSpPr>
            <p:cNvPr id="232" name=""/>
            <p:cNvSpPr/>
            <p:nvPr/>
          </p:nvSpPr>
          <p:spPr>
            <a:xfrm>
              <a:off x="5435640" y="3149640"/>
              <a:ext cx="2819520" cy="609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35640" y="3733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55160" y="3733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23040" y="441972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40280" y="31496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280" y="37591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04000" y="31370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59600" y="3962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4344480" y="3237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4406760" y="3429000"/>
            <a:ext cx="609840" cy="137160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419720" y="4432320"/>
            <a:ext cx="2057400" cy="38088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мерн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2743200"/>
            <a:ext cx="990720" cy="38088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2730600"/>
            <a:ext cx="2057400" cy="137160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257800" y="2743200"/>
            <a:ext cx="914400" cy="99072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10080" y="2743200"/>
            <a:ext cx="762120" cy="137160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3115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ыносн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523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лошная волнист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линии обры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3429000"/>
            <a:ext cx="2679840" cy="726480"/>
            <a:chOff x="838080" y="3429000"/>
            <a:chExt cx="2679840" cy="726480"/>
          </a:xfrm>
        </p:grpSpPr>
        <p:sp>
          <p:nvSpPr>
            <p:cNvPr id="254" name=""/>
            <p:cNvSpPr/>
            <p:nvPr/>
          </p:nvSpPr>
          <p:spPr>
            <a:xfrm>
              <a:off x="1917720" y="3695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/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838080" y="3429000"/>
              <a:ext cx="2044800" cy="660240"/>
              <a:chOff x="838080" y="3429000"/>
              <a:chExt cx="2044800" cy="660240"/>
            </a:xfrm>
          </p:grpSpPr>
          <p:sp>
            <p:nvSpPr>
              <p:cNvPr id="256" name=""/>
              <p:cNvSpPr/>
              <p:nvPr/>
            </p:nvSpPr>
            <p:spPr>
              <a:xfrm>
                <a:off x="2197080" y="3504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197080" y="36957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197080" y="40892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38080" y="3429000"/>
                <a:ext cx="1905120" cy="253800"/>
              </a:xfrm>
              <a:custGeom>
                <a:avLst/>
                <a:gdLst/>
                <a:ahLst/>
                <a:rect l="l" t="t" r="r" b="b"/>
                <a:pathLst>
                  <a:path w="1200" h="160">
                    <a:moveTo>
                      <a:pt x="0" y="64"/>
                    </a:moveTo>
                    <a:cubicBezTo>
                      <a:pt x="148" y="32"/>
                      <a:pt x="296" y="0"/>
                      <a:pt x="432" y="16"/>
                    </a:cubicBezTo>
                    <a:cubicBezTo>
                      <a:pt x="568" y="32"/>
                      <a:pt x="688" y="160"/>
                      <a:pt x="816" y="160"/>
                    </a:cubicBezTo>
                    <a:cubicBezTo>
                      <a:pt x="944" y="160"/>
                      <a:pt x="1072" y="88"/>
                      <a:pt x="1200" y="1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4648320" y="2666880"/>
            <a:ext cx="4114800" cy="840960"/>
            <a:chOff x="4648320" y="2666880"/>
            <a:chExt cx="4114800" cy="840960"/>
          </a:xfrm>
        </p:grpSpPr>
        <p:sp>
          <p:nvSpPr>
            <p:cNvPr id="261" name=""/>
            <p:cNvSpPr/>
            <p:nvPr/>
          </p:nvSpPr>
          <p:spPr>
            <a:xfrm>
              <a:off x="4648320" y="2666880"/>
              <a:ext cx="4114800" cy="304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4832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76312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8320" y="34416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42080" y="30481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715000" y="2133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931000" y="4338000"/>
            <a:ext cx="1841400" cy="996120"/>
            <a:chOff x="5931000" y="4338000"/>
            <a:chExt cx="1841400" cy="996120"/>
          </a:xfrm>
        </p:grpSpPr>
        <p:grpSp>
          <p:nvGrpSpPr>
            <p:cNvPr id="269" name=""/>
            <p:cNvGrpSpPr/>
            <p:nvPr/>
          </p:nvGrpSpPr>
          <p:grpSpPr>
            <a:xfrm>
              <a:off x="5931000" y="4338000"/>
              <a:ext cx="1828800" cy="468360"/>
              <a:chOff x="5931000" y="4338000"/>
              <a:chExt cx="1828800" cy="46836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5931000" y="4338000"/>
                <a:ext cx="933120" cy="468360"/>
                <a:chOff x="5931000" y="4338000"/>
                <a:chExt cx="933120" cy="468360"/>
              </a:xfrm>
            </p:grpSpPr>
            <p:sp>
              <p:nvSpPr>
                <p:cNvPr id="271" name=""/>
                <p:cNvSpPr/>
                <p:nvPr/>
              </p:nvSpPr>
              <p:spPr>
                <a:xfrm rot="21314400">
                  <a:off x="6693120" y="4343400"/>
                  <a:ext cx="152280" cy="45720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160" y="0"/>
                      </a:moveTo>
                      <a:cubicBezTo>
                        <a:pt x="96" y="68"/>
                        <a:pt x="32" y="136"/>
                        <a:pt x="16" y="192"/>
                      </a:cubicBezTo>
                      <a:cubicBezTo>
                        <a:pt x="0" y="248"/>
                        <a:pt x="64" y="288"/>
                        <a:pt x="64" y="336"/>
                      </a:cubicBezTo>
                      <a:cubicBezTo>
                        <a:pt x="64" y="384"/>
                        <a:pt x="24" y="448"/>
                        <a:pt x="16" y="480"/>
                      </a:cubicBezTo>
                      <a:cubicBezTo>
                        <a:pt x="8" y="512"/>
                        <a:pt x="12" y="520"/>
                        <a:pt x="16" y="52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931000" y="4419720"/>
                  <a:ext cx="838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931000" y="4749840"/>
                  <a:ext cx="838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931000" y="4394160"/>
                  <a:ext cx="0" cy="381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 rot="21314400">
                <a:off x="6845400" y="4343400"/>
                <a:ext cx="152280" cy="457200"/>
              </a:xfrm>
              <a:custGeom>
                <a:avLst/>
                <a:gdLst/>
                <a:ahLst/>
                <a:rect l="l" t="t" r="r" b="b"/>
                <a:pathLst>
                  <a:path w="160" h="528">
                    <a:moveTo>
                      <a:pt x="160" y="0"/>
                    </a:moveTo>
                    <a:cubicBezTo>
                      <a:pt x="96" y="68"/>
                      <a:pt x="32" y="136"/>
                      <a:pt x="16" y="192"/>
                    </a:cubicBezTo>
                    <a:cubicBezTo>
                      <a:pt x="0" y="248"/>
                      <a:pt x="64" y="288"/>
                      <a:pt x="64" y="336"/>
                    </a:cubicBezTo>
                    <a:cubicBezTo>
                      <a:pt x="64" y="384"/>
                      <a:pt x="24" y="448"/>
                      <a:pt x="16" y="480"/>
                    </a:cubicBezTo>
                    <a:cubicBezTo>
                      <a:pt x="8" y="512"/>
                      <a:pt x="12" y="520"/>
                      <a:pt x="16" y="52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921720" y="4419720"/>
                <a:ext cx="838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908400" y="4749840"/>
                <a:ext cx="838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59800" y="4394160"/>
                <a:ext cx="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5943600" y="4724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59800" y="47116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43600" y="52578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5120" y="4851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523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Штрихов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57800" y="1523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линии невидимого кон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80880" y="2819520"/>
            <a:ext cx="3606840" cy="1666080"/>
            <a:chOff x="380880" y="2819520"/>
            <a:chExt cx="3606840" cy="1666080"/>
          </a:xfrm>
        </p:grpSpPr>
        <p:sp>
          <p:nvSpPr>
            <p:cNvPr id="288" name=""/>
            <p:cNvSpPr/>
            <p:nvPr/>
          </p:nvSpPr>
          <p:spPr>
            <a:xfrm>
              <a:off x="2158920" y="37209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/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353052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38280" y="37209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38280" y="4114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0880" y="370836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03320" y="31748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92240" y="31748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8400" y="3238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01440" y="28195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2 до 8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79280" y="32382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95280" y="370836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84200" y="370836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03320" y="4419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84200" y="441936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15920" y="40258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1 до 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5562720" y="3352680"/>
            <a:ext cx="2438280" cy="2133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3400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562720" y="497844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3280" y="497844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152388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Штрихпунктирная тонк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1219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осевые и центровые ли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06440" y="2819520"/>
            <a:ext cx="3860640" cy="1666080"/>
            <a:chOff x="406440" y="2819520"/>
            <a:chExt cx="3860640" cy="1666080"/>
          </a:xfrm>
        </p:grpSpPr>
        <p:sp>
          <p:nvSpPr>
            <p:cNvPr id="312" name=""/>
            <p:cNvSpPr/>
            <p:nvPr/>
          </p:nvSpPr>
          <p:spPr>
            <a:xfrm>
              <a:off x="2387520" y="37209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1/2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66880" y="35305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6880" y="37209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66880" y="4114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6440" y="370836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41480" y="31748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3000" y="31748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3960" y="3238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65160" y="2819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5 до 30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55600" y="32385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60520" y="3708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63560" y="3708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5560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44197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5280" y="40258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3 до 5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105520" y="2438280"/>
            <a:ext cx="1676160" cy="1676520"/>
            <a:chOff x="5105520" y="2438280"/>
            <a:chExt cx="1676160" cy="1676520"/>
          </a:xfrm>
        </p:grpSpPr>
        <p:sp>
          <p:nvSpPr>
            <p:cNvPr id="328" name=""/>
            <p:cNvSpPr/>
            <p:nvPr/>
          </p:nvSpPr>
          <p:spPr>
            <a:xfrm>
              <a:off x="5283360" y="2666880"/>
              <a:ext cx="1295280" cy="1219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2438280"/>
              <a:ext cx="0" cy="1676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05520" y="327636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931000" y="20574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ентр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238880" y="2577960"/>
            <a:ext cx="1359000" cy="1371600"/>
            <a:chOff x="7238880" y="2577960"/>
            <a:chExt cx="1359000" cy="1371600"/>
          </a:xfrm>
        </p:grpSpPr>
        <p:sp>
          <p:nvSpPr>
            <p:cNvPr id="333" name=""/>
            <p:cNvSpPr/>
            <p:nvPr/>
          </p:nvSpPr>
          <p:spPr>
            <a:xfrm>
              <a:off x="7264440" y="2654280"/>
              <a:ext cx="1295280" cy="1219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257796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38880" y="3263760"/>
              <a:ext cx="1359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838760" y="4076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70600" y="40766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458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се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337440" y="5054760"/>
            <a:ext cx="1447560" cy="1676160"/>
            <a:chOff x="6337440" y="5054760"/>
            <a:chExt cx="1447560" cy="1676160"/>
          </a:xfrm>
        </p:grpSpPr>
        <p:sp>
          <p:nvSpPr>
            <p:cNvPr id="340" name=""/>
            <p:cNvSpPr/>
            <p:nvPr/>
          </p:nvSpPr>
          <p:spPr>
            <a:xfrm>
              <a:off x="6337440" y="5244840"/>
              <a:ext cx="1447560" cy="1218960"/>
            </a:xfrm>
            <a:custGeom>
              <a:avLst/>
              <a:gdLst>
                <a:gd name="textAreaLeft" fmla="*/ 340200 w 1447560"/>
                <a:gd name="textAreaRight" fmla="*/ 1106280 w 1447560"/>
                <a:gd name="textAreaTop" fmla="*/ 143280 h 1218960"/>
                <a:gd name="textAreaBottom" fmla="*/ 764640 h 12189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61040" y="505476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и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152388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Штрихпунктирная с двумя точк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15397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Это линии сгиба на развёртк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57200" y="3048120"/>
            <a:ext cx="3683160" cy="1666080"/>
            <a:chOff x="457200" y="3048120"/>
            <a:chExt cx="3683160" cy="1666080"/>
          </a:xfrm>
        </p:grpSpPr>
        <p:grpSp>
          <p:nvGrpSpPr>
            <p:cNvPr id="347" name=""/>
            <p:cNvGrpSpPr/>
            <p:nvPr/>
          </p:nvGrpSpPr>
          <p:grpSpPr>
            <a:xfrm>
              <a:off x="457200" y="3048120"/>
              <a:ext cx="3606840" cy="1663560"/>
              <a:chOff x="457200" y="3048120"/>
              <a:chExt cx="3606840" cy="1663560"/>
            </a:xfrm>
          </p:grpSpPr>
          <p:sp>
            <p:nvSpPr>
              <p:cNvPr id="348" name=""/>
              <p:cNvSpPr/>
              <p:nvPr/>
            </p:nvSpPr>
            <p:spPr>
              <a:xfrm>
                <a:off x="2463840" y="39495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00cc"/>
                    </a:solidFill>
                    <a:latin typeface="Arial"/>
                  </a:rPr>
                  <a:t>1/2 м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43200" y="3759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43200" y="39495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743200" y="4343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7200" y="3949560"/>
                <a:ext cx="335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90720" y="34164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219320" y="34034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5800" y="34671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41480" y="304812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от 5 до 30 м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31920" y="3467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19320" y="39495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49440" y="39495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914400" y="46353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49440" y="4635360"/>
                <a:ext cx="22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168560" y="42544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т 4 до 6 м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343400" y="2362320"/>
            <a:ext cx="4114800" cy="26492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6108840" y="5002200"/>
            <a:ext cx="2895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3200" y="1447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43400" y="1447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80880" y="2362320"/>
            <a:ext cx="3429000" cy="2415240"/>
            <a:chOff x="380880" y="2362320"/>
            <a:chExt cx="3429000" cy="2415240"/>
          </a:xfrm>
        </p:grpSpPr>
        <p:sp>
          <p:nvSpPr>
            <p:cNvPr id="369" name=""/>
            <p:cNvSpPr/>
            <p:nvPr/>
          </p:nvSpPr>
          <p:spPr>
            <a:xfrm>
              <a:off x="1041120" y="2362320"/>
              <a:ext cx="2133720" cy="1523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86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3480" y="3886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164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748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11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41120" y="43560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68200" y="431784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306000" y="2894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9852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98520" y="3886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2096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0040" y="2870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572000" y="2362320"/>
            <a:ext cx="2743200" cy="2057400"/>
            <a:chOff x="4572000" y="2362320"/>
            <a:chExt cx="2743200" cy="2057400"/>
          </a:xfrm>
        </p:grpSpPr>
        <p:sp>
          <p:nvSpPr>
            <p:cNvPr id="383" name=""/>
            <p:cNvSpPr/>
            <p:nvPr/>
          </p:nvSpPr>
          <p:spPr>
            <a:xfrm>
              <a:off x="4572000" y="2362320"/>
              <a:ext cx="2133720" cy="1523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05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200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72000" y="43560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99080" y="39369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6757920" y="286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940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3886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5184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384880" y="4495680"/>
            <a:ext cx="533160" cy="914400"/>
          </a:xfrm>
          <a:prstGeom prst="upArrow">
            <a:avLst>
              <a:gd name="adj1" fmla="val 50000"/>
              <a:gd name="adj2" fmla="val 4287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91520" y="287028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5372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направление взгл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7388280" y="2685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направление взгл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371600" y="1600200"/>
            <a:ext cx="2590920" cy="2260440"/>
            <a:chOff x="1371600" y="1600200"/>
            <a:chExt cx="2590920" cy="2260440"/>
          </a:xfrm>
        </p:grpSpPr>
        <p:sp>
          <p:nvSpPr>
            <p:cNvPr id="398" name=""/>
            <p:cNvSpPr/>
            <p:nvPr/>
          </p:nvSpPr>
          <p:spPr>
            <a:xfrm>
              <a:off x="1562040" y="160020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79840" y="1663560"/>
              <a:ext cx="0" cy="2197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71600" y="2666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V="1">
            <a:off x="1905120" y="1904760"/>
            <a:ext cx="152388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8748800">
            <a:off x="2551680" y="18950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Ø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17080" y="16765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Ø – это диаметр окру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62720" y="3809880"/>
            <a:ext cx="2438280" cy="2133720"/>
          </a:xfrm>
          <a:prstGeom prst="hexagon">
            <a:avLst>
              <a:gd name="adj" fmla="val 28568"/>
              <a:gd name="vf" fmla="val 11547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34120" y="3886200"/>
            <a:ext cx="9903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38862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05240" y="3441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5272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 –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это толщина де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4572000" cy="33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127080" y="4597560"/>
          <a:ext cx="8915400" cy="1963440"/>
        </p:xfrm>
        <a:graphic>
          <a:graphicData uri="http://schemas.openxmlformats.org/drawingml/2006/table">
            <a:tbl>
              <a:tblPr/>
              <a:tblGrid>
                <a:gridCol w="1930320"/>
                <a:gridCol w="2590920"/>
                <a:gridCol w="2031840"/>
                <a:gridCol w="23623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е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тери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е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сшта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зоб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идов 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ерте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266760" y="2212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читайте чертёж. Заполните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3040" y="5931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П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095560" y="57531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Древесина берё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51360" y="591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М 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8440" y="58928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Три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5029200" cy="3643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66760" y="12510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 называются виды, обозначенные бук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24512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главны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2819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ид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320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ид свер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0440" y="38098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к называются линии, обозначенные циф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5765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235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37160" y="5016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4976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502920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сплошная толстая основная (линия контур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3080" y="57657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сплошная тонкая (вынос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6880" y="62229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сплошная тонкая (размер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15000" y="50166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штрихпунктирная (центровая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89440" y="5791320"/>
            <a:ext cx="340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штриховая (линия невидимого контур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5791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Эскиз детали «основание» подставки             для ручек и каранда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441936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0440" y="11811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ыполните в рабочей тетради эскиз или технический рисунок детали из древесины, изображённой на рисунке, в масштабе М 1: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209680" y="2819520"/>
            <a:ext cx="4038480" cy="3380760"/>
            <a:chOff x="2209680" y="2819520"/>
            <a:chExt cx="4038480" cy="3380760"/>
          </a:xfrm>
        </p:grpSpPr>
        <p:sp>
          <p:nvSpPr>
            <p:cNvPr id="440" name=""/>
            <p:cNvSpPr/>
            <p:nvPr/>
          </p:nvSpPr>
          <p:spPr>
            <a:xfrm>
              <a:off x="3531600" y="5849640"/>
              <a:ext cx="495720" cy="350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209680" y="2819520"/>
              <a:ext cx="4038480" cy="2962080"/>
              <a:chOff x="2209680" y="2819520"/>
              <a:chExt cx="4038480" cy="2962080"/>
            </a:xfrm>
          </p:grpSpPr>
          <p:sp>
            <p:nvSpPr>
              <p:cNvPr id="442" name=""/>
              <p:cNvSpPr/>
              <p:nvPr/>
            </p:nvSpPr>
            <p:spPr>
              <a:xfrm>
                <a:off x="3066840" y="2819520"/>
                <a:ext cx="743760" cy="350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209680" y="4680720"/>
                <a:ext cx="743760" cy="350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04760" y="3384720"/>
                <a:ext cx="743400" cy="3506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184720" y="4904640"/>
                <a:ext cx="743760" cy="350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152680" y="2985120"/>
                <a:ext cx="49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28760" y="5780880"/>
                <a:ext cx="49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39200" y="4709880"/>
                <a:ext cx="495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32880" y="4622040"/>
                <a:ext cx="49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3583440" y="2975040"/>
                <a:ext cx="1600920" cy="2806200"/>
                <a:chOff x="3583440" y="2975040"/>
                <a:chExt cx="1600920" cy="28062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4192920" y="2975040"/>
                  <a:ext cx="991440" cy="2221560"/>
                </a:xfrm>
                <a:prstGeom prst="cube">
                  <a:avLst>
                    <a:gd name="adj" fmla="val 61111"/>
                  </a:avLst>
                </a:prstGeom>
                <a:solidFill>
                  <a:srgbClr val="969696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583440" y="4144320"/>
                  <a:ext cx="991440" cy="1636920"/>
                </a:xfrm>
                <a:prstGeom prst="cube">
                  <a:avLst>
                    <a:gd name="adj" fmla="val 61111"/>
                  </a:avLst>
                </a:prstGeom>
                <a:solidFill>
                  <a:srgbClr val="969696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>
                <a:off x="3986280" y="5771880"/>
                <a:ext cx="495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4440960" y="4611960"/>
                <a:ext cx="1115280" cy="116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56240" y="2975040"/>
                <a:ext cx="720" cy="163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201120" y="4729320"/>
                <a:ext cx="0" cy="10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296240" y="2975040"/>
                <a:ext cx="495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97200" y="3550320"/>
                <a:ext cx="495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3759120" y="2975040"/>
                <a:ext cx="619560" cy="58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70480" y="5187240"/>
                <a:ext cx="3715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4884840" y="5187240"/>
                <a:ext cx="495720" cy="1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00960" y="3677040"/>
                <a:ext cx="371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5566680" y="3667320"/>
                <a:ext cx="123840" cy="3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29240" y="4962960"/>
                <a:ext cx="371520" cy="35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33520" y="4962960"/>
                <a:ext cx="49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645360" y="3092040"/>
                <a:ext cx="37188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263040" y="3092040"/>
                <a:ext cx="3715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3593520" y="5781600"/>
              <a:ext cx="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65400" y="5781600"/>
              <a:ext cx="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03960" y="6132600"/>
              <a:ext cx="371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554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968480" y="1752480"/>
            <a:ext cx="5423040" cy="4190760"/>
            <a:chOff x="1968480" y="1752480"/>
            <a:chExt cx="5423040" cy="4190760"/>
          </a:xfrm>
        </p:grpSpPr>
        <p:grpSp>
          <p:nvGrpSpPr>
            <p:cNvPr id="476" name=""/>
            <p:cNvGrpSpPr/>
            <p:nvPr/>
          </p:nvGrpSpPr>
          <p:grpSpPr>
            <a:xfrm>
              <a:off x="1968480" y="1752480"/>
              <a:ext cx="5270760" cy="4190760"/>
              <a:chOff x="1968480" y="1752480"/>
              <a:chExt cx="5270760" cy="419076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1968480" y="1752480"/>
                <a:ext cx="2908440" cy="4190760"/>
                <a:chOff x="1968480" y="1752480"/>
                <a:chExt cx="2908440" cy="419076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1968480" y="1752480"/>
                  <a:ext cx="2908440" cy="2679480"/>
                  <a:chOff x="1968480" y="1752480"/>
                  <a:chExt cx="2908440" cy="26794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1968480" y="3822480"/>
                    <a:ext cx="23004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V="1">
                    <a:off x="4254480" y="1764720"/>
                    <a:ext cx="1800" cy="20574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124440" y="1752480"/>
                    <a:ext cx="11430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149640" y="1752480"/>
                    <a:ext cx="0" cy="11430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005200" y="2895480"/>
                    <a:ext cx="11444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1994040" y="2869920"/>
                    <a:ext cx="0" cy="9860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241880" y="176508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267440" y="382248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4800600" y="1765080"/>
                    <a:ext cx="0" cy="2057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rot="16200000">
                    <a:off x="3887280" y="2487600"/>
                    <a:ext cx="144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20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1981440" y="380988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4241880" y="382248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1981440" y="4393800"/>
                    <a:ext cx="2300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387880" y="3962160"/>
                    <a:ext cx="1600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20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1981440" y="5486040"/>
                  <a:ext cx="2300040" cy="457200"/>
                  <a:chOff x="1981440" y="5486040"/>
                  <a:chExt cx="2300040" cy="4572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1981440" y="5486040"/>
                    <a:ext cx="2300040" cy="45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162600" y="5486040"/>
                    <a:ext cx="0" cy="457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"/>
                <p:cNvSpPr/>
                <p:nvPr/>
              </p:nvSpPr>
              <p:spPr>
                <a:xfrm>
                  <a:off x="4280040" y="495288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162600" y="496548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49640" y="502884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959200" y="462240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6096240" y="1752480"/>
                <a:ext cx="533160" cy="209844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96240" y="2895480"/>
                <a:ext cx="533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96240" y="3809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629400" y="38098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08840" y="43560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727960" y="3936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29400" y="289548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29400" y="3848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162920" y="29080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6200000">
                <a:off x="6325920" y="312264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6172200" y="5410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 1: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4920" y="7779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кажите стрелками, что означают линии или надписи на черте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371600" y="3543480"/>
            <a:ext cx="1257480" cy="0"/>
            <a:chOff x="1371600" y="3543480"/>
            <a:chExt cx="1257480" cy="0"/>
          </a:xfrm>
        </p:grpSpPr>
        <p:sp>
          <p:nvSpPr>
            <p:cNvPr id="516" name=""/>
            <p:cNvSpPr/>
            <p:nvPr/>
          </p:nvSpPr>
          <p:spPr>
            <a:xfrm>
              <a:off x="1371600" y="3543480"/>
              <a:ext cx="125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371600" y="4267080"/>
            <a:ext cx="1257480" cy="0"/>
            <a:chOff x="1371600" y="4267080"/>
            <a:chExt cx="1257480" cy="0"/>
          </a:xfrm>
        </p:grpSpPr>
        <p:sp>
          <p:nvSpPr>
            <p:cNvPr id="518" name=""/>
            <p:cNvSpPr/>
            <p:nvPr/>
          </p:nvSpPr>
          <p:spPr>
            <a:xfrm>
              <a:off x="1371600" y="4267080"/>
              <a:ext cx="12574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454040" y="5033880"/>
            <a:ext cx="1059840" cy="870120"/>
            <a:chOff x="1454040" y="5033880"/>
            <a:chExt cx="1059840" cy="870120"/>
          </a:xfrm>
        </p:grpSpPr>
        <p:sp>
          <p:nvSpPr>
            <p:cNvPr id="520" name=""/>
            <p:cNvSpPr/>
            <p:nvPr/>
          </p:nvSpPr>
          <p:spPr>
            <a:xfrm>
              <a:off x="1454040" y="5511600"/>
              <a:ext cx="10598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58760" y="5033880"/>
              <a:ext cx="0" cy="870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295280" y="6134040"/>
            <a:ext cx="1371960" cy="0"/>
            <a:chOff x="1295280" y="6134040"/>
            <a:chExt cx="1371960" cy="0"/>
          </a:xfrm>
        </p:grpSpPr>
        <p:sp>
          <p:nvSpPr>
            <p:cNvPr id="523" name=""/>
            <p:cNvSpPr/>
            <p:nvPr/>
          </p:nvSpPr>
          <p:spPr>
            <a:xfrm>
              <a:off x="1295280" y="6134040"/>
              <a:ext cx="1371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624120" y="183816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24120" y="183816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24120" y="183816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624120" y="1838160"/>
            <a:ext cx="189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228600" y="2057400"/>
          <a:ext cx="3581280" cy="460224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Линия или надпись на черте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1: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Ø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4724280" y="1600200"/>
          <a:ext cx="4343400" cy="511812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Что означ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риховая линия невидимого кон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ентр отверстия на черте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иния видимого контура де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сштаб «один к двум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аметр 8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азмерная или выносная ли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3809880" y="3124080"/>
            <a:ext cx="914400" cy="1905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809880" y="3657600"/>
            <a:ext cx="914400" cy="2666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809880" y="2819160"/>
            <a:ext cx="914400" cy="14475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4800600"/>
            <a:ext cx="914400" cy="838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809880" y="3504960"/>
            <a:ext cx="914400" cy="19810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809880" y="4343400"/>
            <a:ext cx="914400" cy="1905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крепл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554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1003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верь себя. Верны ли следующие утвержд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90440" y="1739880"/>
          <a:ext cx="8762760" cy="4924440"/>
        </p:xfrm>
        <a:graphic>
          <a:graphicData uri="http://schemas.openxmlformats.org/drawingml/2006/table">
            <a:tbl>
              <a:tblPr/>
              <a:tblGrid>
                <a:gridCol w="6526440"/>
                <a:gridCol w="1152720"/>
                <a:gridCol w="1083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Утверж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Графическая документация – это чертёж, эскиз и технический рису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Контуры детали на чертеже изображают сплошными тонкими лини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Запись М 4:1 на чертеже означает, что изображение детали на чертеже в 4 раза больше действитель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Эскиз детали выполняют карандашом по линей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На чертеже следует обязательно изображать три вида де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"/>
          <p:cNvSpPr/>
          <p:nvPr/>
        </p:nvSpPr>
        <p:spPr>
          <a:xfrm>
            <a:off x="706104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1532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048440" y="412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1532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15328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Задание на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изучить параграф 4 учебн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ответить на вопросы 1-4, с.20 учебн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попробовать выполнить на компьютере эскиз несложной детали из древесины, распечатать его и вклеить в рабочую тетрадь или поместить в портфоли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3510000" y="4565520"/>
            <a:ext cx="2128680" cy="20638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6705720" y="228600"/>
            <a:ext cx="22096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Список использованных печат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Симоненко В.Д. Технология. 5 класс: учеб. для общеобразоват. учреждений: вариант для мальчиков / В.Д. Симоненко, А.Т. Тищенко, П.С. Самородский; под ред. В.Д. Симоненко. – 6-е изд. – М.: Просвещение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Тищенко А.Т. Технология. Индустриальные технологии: 5 класс: методическое пособие / А.Т. Тищенко. –  2-е изд., дораб. - М.: Вентана-Граф,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Тищенко А.Т. Технология. Индустриальные технологии: 5 класс: рабочая тетрадь для учащихся общеобразовательных организаций / А.Т. Тищенко, Н.А. Буглаева. – 2-е изд., дораб. – М.: Вентана-Граф,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.Тищенко А.Т. Технология. Индустриальные технологии: 5 класс: учебник для учащихся общеобразовательных учреждений / А.Т. Тищенко, В.Д. Симоненко. – М.: Вентана-Граф,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791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ехнический рисунок домика для птиц (а)                     и чертежи его деталей (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029200" cy="104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5029200" cy="2459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10280" y="1295280"/>
            <a:ext cx="1255680" cy="4646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3429000"/>
            <a:ext cx="990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617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олярный 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30920" y="6146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рк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1532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03320" y="152388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03320" y="54864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534520" y="1523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920" y="1523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6095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строение рамки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5053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28880" y="3505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39960" y="3073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1066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15238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20574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37240" y="1612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86800" y="3581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358128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42280" y="3149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49840" y="443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5638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8769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87692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371600"/>
            <a:ext cx="81532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52388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54864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34520" y="1523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15920" y="1523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6019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строение таблицы-штампа в рам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572000"/>
            <a:ext cx="289584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41767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4229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50040" y="380988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45720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5820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5820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69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8465760" y="478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848720" y="5397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534520" y="5397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99480" y="55119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486396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516888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4863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168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4649400" y="4469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4649400" y="4773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4649400" y="5065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3680" y="48261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3680" y="513072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00880" y="4470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18040" y="4775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92840" y="5079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462276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с-шт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447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Масштаб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– это отношение линейных размеров изображения детали к её действительным разм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410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ажн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на чертеже, эскизе или техническом рисунке, изображённом в любом масштабе, размеры детали проставляют действи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23880" y="2590920"/>
            <a:ext cx="6184800" cy="1945440"/>
            <a:chOff x="1523880" y="2590920"/>
            <a:chExt cx="6184800" cy="1945440"/>
          </a:xfrm>
        </p:grpSpPr>
        <p:sp>
          <p:nvSpPr>
            <p:cNvPr id="123" name=""/>
            <p:cNvSpPr/>
            <p:nvPr/>
          </p:nvSpPr>
          <p:spPr>
            <a:xfrm>
              <a:off x="4089240" y="3314520"/>
              <a:ext cx="718920" cy="71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2280" y="3678120"/>
              <a:ext cx="360360" cy="36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68680" y="2603160"/>
              <a:ext cx="1440000" cy="14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41400" y="3670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41400" y="4038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17360" y="3670200"/>
              <a:ext cx="0" cy="37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22280" y="400032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7960" y="400032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09680" y="4317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8160" y="3949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1372680" y="3668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89240" y="4000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13200" y="4000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6640" y="44575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3880" y="3314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3880" y="403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4640" y="33145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01840" y="4076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3024000" y="347796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73720" y="40636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08680" y="40384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60760" y="4457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78360" y="2603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78360" y="403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29120" y="25909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53080" y="4051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5309640" y="304632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8098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М 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М 1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4800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М 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4800600" cy="41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1600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Главный вид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(направление взгляда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ид слев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(направление взгляда 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756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Вид сверху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(направление взгляда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иды детали «сте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143000" cy="60948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19560" y="2819520"/>
            <a:ext cx="1447560" cy="457200"/>
          </a:xfrm>
          <a:prstGeom prst="line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91040" y="4800600"/>
            <a:ext cx="1295640" cy="990720"/>
          </a:xfrm>
          <a:prstGeom prst="line">
            <a:avLst/>
          </a:prstGeom>
          <a:ln w="2844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учение нового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Чертёж детали «приз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2743200" cy="2046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124080" y="1828800"/>
            <a:ext cx="6006960" cy="3962520"/>
            <a:chOff x="3124080" y="1828800"/>
            <a:chExt cx="6006960" cy="3962520"/>
          </a:xfrm>
        </p:grpSpPr>
        <p:sp>
          <p:nvSpPr>
            <p:cNvPr id="166" name=""/>
            <p:cNvSpPr/>
            <p:nvPr/>
          </p:nvSpPr>
          <p:spPr>
            <a:xfrm>
              <a:off x="3124080" y="1828800"/>
              <a:ext cx="59436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03440" y="1943280"/>
              <a:ext cx="5562360" cy="3733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6743520" y="4991040"/>
              <a:ext cx="2387520" cy="688320"/>
              <a:chOff x="6743520" y="4991040"/>
              <a:chExt cx="2387520" cy="688320"/>
            </a:xfrm>
          </p:grpSpPr>
          <p:sp>
            <p:nvSpPr>
              <p:cNvPr id="169" name=""/>
              <p:cNvSpPr/>
              <p:nvPr/>
            </p:nvSpPr>
            <p:spPr>
              <a:xfrm>
                <a:off x="6832440" y="4991040"/>
                <a:ext cx="213336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08600" y="499104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32440" y="5207040"/>
                <a:ext cx="167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32440" y="5435640"/>
                <a:ext cx="167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43520" y="514368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Призм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56120" y="5372280"/>
                <a:ext cx="1905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Древесина берёз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445240" y="516888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М1: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555720" y="2235240"/>
              <a:ext cx="2616120" cy="1193760"/>
              <a:chOff x="3555720" y="2235240"/>
              <a:chExt cx="2616120" cy="1193760"/>
            </a:xfrm>
          </p:grpSpPr>
          <p:sp>
            <p:nvSpPr>
              <p:cNvPr id="177" name=""/>
              <p:cNvSpPr/>
              <p:nvPr/>
            </p:nvSpPr>
            <p:spPr>
              <a:xfrm>
                <a:off x="3974760" y="2362320"/>
                <a:ext cx="2133360" cy="68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62080" y="2425680"/>
                <a:ext cx="533520" cy="533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949200" y="2692440"/>
                <a:ext cx="222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41440" y="2235240"/>
                <a:ext cx="0" cy="99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74760" y="3048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8120" y="3048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74760" y="337824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838400" y="3086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46160" y="2362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746160" y="3048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22120" y="23623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200000">
                <a:off x="3480480" y="25005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857640" y="2362320"/>
              <a:ext cx="1219320" cy="68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05360" y="270504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7640" y="245124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7640" y="295920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2160" y="3772080"/>
              <a:ext cx="2133720" cy="1371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41800" y="360684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95600" y="377208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00240" y="377208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33560" y="3772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33560" y="5143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9880" y="3772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3493440" y="42786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22840" y="1905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Главны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1917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ид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3327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Вид свер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89520" y="2463840"/>
            <a:ext cx="30492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28954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23040" y="3009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Ø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1T14:37:00Z</dcterms:created>
  <dc:creator>User</dc:creator>
  <dc:description/>
  <dc:language>en-US</dc:language>
  <cp:lastModifiedBy>User</cp:lastModifiedBy>
  <dcterms:modified xsi:type="dcterms:W3CDTF">2016-01-23T18:09:3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