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80AB-CF5D-4C84-9C1E-B2A0CBE30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D298-14E6-430E-834C-1A2D8DF3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7ED4-E7D5-4356-AF21-0D0A95638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3F11-4DA6-4D15-8088-FFEF00D3A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53AF-039D-45F3-B874-C9DA560F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DFCA-8D45-4089-B5FA-ABBED788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9B27-8EF0-45C5-97BC-5799FE14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03C4-351A-4605-8940-B7FAE693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BAB2-2185-4973-B28A-6D078B14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FDBD-B022-45E1-802B-5099CBA5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5F37-AEF0-4843-B7BD-1AA7971E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DBB9-6C6E-4351-AE7C-E9BA1382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5FE1-38E6-4638-8669-5F1C97C43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Графическое изображение деталей и издел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382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Учитель техн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МБОУ «Гимназия № 97 г. Ельц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Агеев Олег Владимир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88840" y="241200"/>
            <a:ext cx="3581640" cy="2014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410080" y="195120"/>
            <a:ext cx="3479760" cy="2102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41200" y="3746520"/>
            <a:ext cx="2406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60958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Линии черте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52388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плошная толстая основна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876240" y="3581280"/>
            <a:ext cx="2590920" cy="650160"/>
            <a:chOff x="876240" y="3581280"/>
            <a:chExt cx="2590920" cy="650160"/>
          </a:xfrm>
        </p:grpSpPr>
        <p:sp>
          <p:nvSpPr>
            <p:cNvPr id="212" name=""/>
            <p:cNvSpPr/>
            <p:nvPr/>
          </p:nvSpPr>
          <p:spPr>
            <a:xfrm>
              <a:off x="876240" y="3771720"/>
              <a:ext cx="2590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4292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42920" y="3771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42920" y="416556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49440" y="3771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1 м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5257800" y="152388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Это линии видимого кон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105520" y="2666880"/>
            <a:ext cx="1676160" cy="1371600"/>
          </a:xfrm>
          <a:custGeom>
            <a:avLst/>
            <a:gdLst>
              <a:gd name="textAreaLeft" fmla="*/ 368640 w 1676160"/>
              <a:gd name="textAreaRight" fmla="*/ 1307520 w 1676160"/>
              <a:gd name="textAreaTop" fmla="*/ 301680 h 1371600"/>
              <a:gd name="textAreaBottom" fmla="*/ 10699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140600">
            <a:off x="7695720" y="2895480"/>
            <a:ext cx="1295640" cy="1676520"/>
          </a:xfrm>
          <a:prstGeom prst="rtTriangl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4495680"/>
            <a:ext cx="1828800" cy="1524240"/>
          </a:xfrm>
          <a:prstGeom prst="hexagon">
            <a:avLst>
              <a:gd name="adj" fmla="val 29995"/>
              <a:gd name="vf" fmla="val 115470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43200" y="60958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Линии черте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15238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плошная тонка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914400" y="3581280"/>
            <a:ext cx="2590920" cy="650520"/>
            <a:chOff x="914400" y="3581280"/>
            <a:chExt cx="2590920" cy="650520"/>
          </a:xfrm>
        </p:grpSpPr>
        <p:sp>
          <p:nvSpPr>
            <p:cNvPr id="225" name=""/>
            <p:cNvSpPr/>
            <p:nvPr/>
          </p:nvSpPr>
          <p:spPr>
            <a:xfrm>
              <a:off x="914400" y="375912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68480" y="35812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68480" y="37720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68480" y="416556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689120" y="37720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1/2 м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5257800" y="129528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Это размерные и выносные лин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572000" y="3009960"/>
            <a:ext cx="3683160" cy="1485720"/>
            <a:chOff x="4572000" y="3009960"/>
            <a:chExt cx="3683160" cy="1485720"/>
          </a:xfrm>
        </p:grpSpPr>
        <p:sp>
          <p:nvSpPr>
            <p:cNvPr id="232" name=""/>
            <p:cNvSpPr/>
            <p:nvPr/>
          </p:nvSpPr>
          <p:spPr>
            <a:xfrm>
              <a:off x="5435640" y="3149640"/>
              <a:ext cx="2819520" cy="6094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435640" y="37339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255160" y="37339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423040" y="4419720"/>
              <a:ext cx="281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940280" y="314964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940280" y="37591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04000" y="313704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159600" y="39625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6200000">
              <a:off x="4344480" y="32371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 flipH="1">
            <a:off x="4406760" y="3429000"/>
            <a:ext cx="609840" cy="1371600"/>
          </a:xfrm>
          <a:prstGeom prst="line">
            <a:avLst/>
          </a:prstGeom>
          <a:ln w="28440">
            <a:solidFill>
              <a:srgbClr val="66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419720" y="4432320"/>
            <a:ext cx="2057400" cy="380880"/>
          </a:xfrm>
          <a:prstGeom prst="line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95480" y="48006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размерные 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2743200"/>
            <a:ext cx="990720" cy="380880"/>
          </a:xfrm>
          <a:prstGeom prst="line">
            <a:avLst/>
          </a:prstGeom>
          <a:ln w="28440">
            <a:solidFill>
              <a:srgbClr val="66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72200" y="2730600"/>
            <a:ext cx="2057400" cy="1371600"/>
          </a:xfrm>
          <a:prstGeom prst="line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5257800" y="2743200"/>
            <a:ext cx="914400" cy="990720"/>
          </a:xfrm>
          <a:prstGeom prst="line">
            <a:avLst/>
          </a:prstGeom>
          <a:ln w="28440">
            <a:solidFill>
              <a:srgbClr val="66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410080" y="2743200"/>
            <a:ext cx="762120" cy="1371600"/>
          </a:xfrm>
          <a:prstGeom prst="line">
            <a:avLst/>
          </a:prstGeom>
          <a:ln w="28440">
            <a:solidFill>
              <a:srgbClr val="66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52880" y="231156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выносные 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743200" y="60958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Линии черте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152388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плошная волниста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57800" y="15238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Это линии обры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838080" y="3429000"/>
            <a:ext cx="2679840" cy="726480"/>
            <a:chOff x="838080" y="3429000"/>
            <a:chExt cx="2679840" cy="726480"/>
          </a:xfrm>
        </p:grpSpPr>
        <p:sp>
          <p:nvSpPr>
            <p:cNvPr id="254" name=""/>
            <p:cNvSpPr/>
            <p:nvPr/>
          </p:nvSpPr>
          <p:spPr>
            <a:xfrm>
              <a:off x="1917720" y="369576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1/2 м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838080" y="3429000"/>
              <a:ext cx="2044800" cy="660240"/>
              <a:chOff x="838080" y="3429000"/>
              <a:chExt cx="2044800" cy="660240"/>
            </a:xfrm>
          </p:grpSpPr>
          <p:sp>
            <p:nvSpPr>
              <p:cNvPr id="256" name=""/>
              <p:cNvSpPr/>
              <p:nvPr/>
            </p:nvSpPr>
            <p:spPr>
              <a:xfrm>
                <a:off x="2197080" y="35049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197080" y="369576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197080" y="408924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38080" y="3429000"/>
                <a:ext cx="1905120" cy="253800"/>
              </a:xfrm>
              <a:custGeom>
                <a:avLst/>
                <a:gdLst/>
                <a:ahLst/>
                <a:rect l="l" t="t" r="r" b="b"/>
                <a:pathLst>
                  <a:path w="1200" h="160">
                    <a:moveTo>
                      <a:pt x="0" y="64"/>
                    </a:moveTo>
                    <a:cubicBezTo>
                      <a:pt x="148" y="32"/>
                      <a:pt x="296" y="0"/>
                      <a:pt x="432" y="16"/>
                    </a:cubicBezTo>
                    <a:cubicBezTo>
                      <a:pt x="568" y="32"/>
                      <a:pt x="688" y="160"/>
                      <a:pt x="816" y="160"/>
                    </a:cubicBezTo>
                    <a:cubicBezTo>
                      <a:pt x="944" y="160"/>
                      <a:pt x="1072" y="88"/>
                      <a:pt x="1200" y="16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0" name=""/>
          <p:cNvGrpSpPr/>
          <p:nvPr/>
        </p:nvGrpSpPr>
        <p:grpSpPr>
          <a:xfrm>
            <a:off x="4648320" y="2666880"/>
            <a:ext cx="4114800" cy="840960"/>
            <a:chOff x="4648320" y="2666880"/>
            <a:chExt cx="4114800" cy="840960"/>
          </a:xfrm>
        </p:grpSpPr>
        <p:sp>
          <p:nvSpPr>
            <p:cNvPr id="261" name=""/>
            <p:cNvSpPr/>
            <p:nvPr/>
          </p:nvSpPr>
          <p:spPr>
            <a:xfrm>
              <a:off x="4648320" y="2666880"/>
              <a:ext cx="4114800" cy="3049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48320" y="28954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763120" y="28954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48320" y="3441600"/>
              <a:ext cx="411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842080" y="30481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5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5715000" y="2133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бы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94360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т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5931000" y="4338000"/>
            <a:ext cx="1841400" cy="996120"/>
            <a:chOff x="5931000" y="4338000"/>
            <a:chExt cx="1841400" cy="996120"/>
          </a:xfrm>
        </p:grpSpPr>
        <p:grpSp>
          <p:nvGrpSpPr>
            <p:cNvPr id="269" name=""/>
            <p:cNvGrpSpPr/>
            <p:nvPr/>
          </p:nvGrpSpPr>
          <p:grpSpPr>
            <a:xfrm>
              <a:off x="5931000" y="4338000"/>
              <a:ext cx="1828800" cy="468360"/>
              <a:chOff x="5931000" y="4338000"/>
              <a:chExt cx="1828800" cy="468360"/>
            </a:xfrm>
          </p:grpSpPr>
          <p:grpSp>
            <p:nvGrpSpPr>
              <p:cNvPr id="270" name=""/>
              <p:cNvGrpSpPr/>
              <p:nvPr/>
            </p:nvGrpSpPr>
            <p:grpSpPr>
              <a:xfrm>
                <a:off x="5931000" y="4338000"/>
                <a:ext cx="933120" cy="468360"/>
                <a:chOff x="5931000" y="4338000"/>
                <a:chExt cx="933120" cy="468360"/>
              </a:xfrm>
            </p:grpSpPr>
            <p:sp>
              <p:nvSpPr>
                <p:cNvPr id="271" name=""/>
                <p:cNvSpPr/>
                <p:nvPr/>
              </p:nvSpPr>
              <p:spPr>
                <a:xfrm rot="21314400">
                  <a:off x="6693120" y="4343400"/>
                  <a:ext cx="152280" cy="457200"/>
                </a:xfrm>
                <a:custGeom>
                  <a:avLst/>
                  <a:gdLst/>
                  <a:ahLst/>
                  <a:rect l="l" t="t" r="r" b="b"/>
                  <a:pathLst>
                    <a:path w="160" h="528">
                      <a:moveTo>
                        <a:pt x="160" y="0"/>
                      </a:moveTo>
                      <a:cubicBezTo>
                        <a:pt x="96" y="68"/>
                        <a:pt x="32" y="136"/>
                        <a:pt x="16" y="192"/>
                      </a:cubicBezTo>
                      <a:cubicBezTo>
                        <a:pt x="0" y="248"/>
                        <a:pt x="64" y="288"/>
                        <a:pt x="64" y="336"/>
                      </a:cubicBezTo>
                      <a:cubicBezTo>
                        <a:pt x="64" y="384"/>
                        <a:pt x="24" y="448"/>
                        <a:pt x="16" y="480"/>
                      </a:cubicBezTo>
                      <a:cubicBezTo>
                        <a:pt x="8" y="512"/>
                        <a:pt x="12" y="520"/>
                        <a:pt x="16" y="528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931000" y="4419720"/>
                  <a:ext cx="838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931000" y="4749840"/>
                  <a:ext cx="838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931000" y="4394160"/>
                  <a:ext cx="0" cy="3812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5" name=""/>
              <p:cNvSpPr/>
              <p:nvPr/>
            </p:nvSpPr>
            <p:spPr>
              <a:xfrm rot="21314400">
                <a:off x="6845400" y="4343400"/>
                <a:ext cx="152280" cy="457200"/>
              </a:xfrm>
              <a:custGeom>
                <a:avLst/>
                <a:gdLst/>
                <a:ahLst/>
                <a:rect l="l" t="t" r="r" b="b"/>
                <a:pathLst>
                  <a:path w="160" h="528">
                    <a:moveTo>
                      <a:pt x="160" y="0"/>
                    </a:moveTo>
                    <a:cubicBezTo>
                      <a:pt x="96" y="68"/>
                      <a:pt x="32" y="136"/>
                      <a:pt x="16" y="192"/>
                    </a:cubicBezTo>
                    <a:cubicBezTo>
                      <a:pt x="0" y="248"/>
                      <a:pt x="64" y="288"/>
                      <a:pt x="64" y="336"/>
                    </a:cubicBezTo>
                    <a:cubicBezTo>
                      <a:pt x="64" y="384"/>
                      <a:pt x="24" y="448"/>
                      <a:pt x="16" y="480"/>
                    </a:cubicBezTo>
                    <a:cubicBezTo>
                      <a:pt x="8" y="512"/>
                      <a:pt x="12" y="520"/>
                      <a:pt x="16" y="52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6921720" y="4419720"/>
                <a:ext cx="838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6908400" y="4749840"/>
                <a:ext cx="8384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759800" y="4394160"/>
                <a:ext cx="0" cy="381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5943600" y="47242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759800" y="471168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43600" y="52578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45120" y="485136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5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43200" y="60958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Линии черте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4920" y="152388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Штрихова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257800" y="15238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Это линии невидимого конту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380880" y="2819520"/>
            <a:ext cx="3606840" cy="1666080"/>
            <a:chOff x="380880" y="2819520"/>
            <a:chExt cx="3606840" cy="1666080"/>
          </a:xfrm>
        </p:grpSpPr>
        <p:sp>
          <p:nvSpPr>
            <p:cNvPr id="288" name=""/>
            <p:cNvSpPr/>
            <p:nvPr/>
          </p:nvSpPr>
          <p:spPr>
            <a:xfrm>
              <a:off x="2158920" y="372096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1/2 м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438280" y="353052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438280" y="3720960"/>
              <a:ext cx="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438280" y="41144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0880" y="3708360"/>
              <a:ext cx="33526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003320" y="31748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092240" y="31748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98400" y="3238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01440" y="281952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от 2 до 8 м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79280" y="32382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295280" y="3708360"/>
              <a:ext cx="0" cy="76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384200" y="3708360"/>
              <a:ext cx="0" cy="76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003320" y="44193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384200" y="441936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015920" y="402588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от 1 до 2 м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5562720" y="3352680"/>
            <a:ext cx="2438280" cy="21337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095880" y="334008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562720" y="4978440"/>
            <a:ext cx="533160" cy="533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083280" y="497844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60958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Линии черте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04920" y="152388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Штрихпунктирная тонка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257800" y="12193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Это осевые и центровые лин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406440" y="2819520"/>
            <a:ext cx="3860640" cy="1666080"/>
            <a:chOff x="406440" y="2819520"/>
            <a:chExt cx="3860640" cy="1666080"/>
          </a:xfrm>
        </p:grpSpPr>
        <p:sp>
          <p:nvSpPr>
            <p:cNvPr id="312" name=""/>
            <p:cNvSpPr/>
            <p:nvPr/>
          </p:nvSpPr>
          <p:spPr>
            <a:xfrm>
              <a:off x="2387520" y="372096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1/2 м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66880" y="35305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666880" y="37209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66880" y="4114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6440" y="3708360"/>
              <a:ext cx="33526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41480" y="31748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143000" y="31748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23960" y="32385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965160" y="281952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от 5 до 30 м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155600" y="323856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460520" y="37083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63560" y="37083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155600" y="4419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676520" y="441972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95280" y="402588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от 3 до 5 м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5105520" y="2438280"/>
            <a:ext cx="1676160" cy="1676520"/>
            <a:chOff x="5105520" y="2438280"/>
            <a:chExt cx="1676160" cy="1676520"/>
          </a:xfrm>
        </p:grpSpPr>
        <p:sp>
          <p:nvSpPr>
            <p:cNvPr id="328" name=""/>
            <p:cNvSpPr/>
            <p:nvPr/>
          </p:nvSpPr>
          <p:spPr>
            <a:xfrm>
              <a:off x="5283360" y="2666880"/>
              <a:ext cx="1295280" cy="12193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2438280"/>
              <a:ext cx="0" cy="167652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05520" y="3276360"/>
              <a:ext cx="1676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931000" y="205740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ентр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7238880" y="2577960"/>
            <a:ext cx="1359000" cy="1371600"/>
            <a:chOff x="7238880" y="2577960"/>
            <a:chExt cx="1359000" cy="1371600"/>
          </a:xfrm>
        </p:grpSpPr>
        <p:sp>
          <p:nvSpPr>
            <p:cNvPr id="333" name=""/>
            <p:cNvSpPr/>
            <p:nvPr/>
          </p:nvSpPr>
          <p:spPr>
            <a:xfrm>
              <a:off x="7264440" y="2654280"/>
              <a:ext cx="1295280" cy="12193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2577960"/>
              <a:ext cx="0" cy="137160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238880" y="3263760"/>
              <a:ext cx="1359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4838760" y="407664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прави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870600" y="40766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прави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172200" y="4584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се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337440" y="5054760"/>
            <a:ext cx="1447560" cy="1676160"/>
            <a:chOff x="6337440" y="5054760"/>
            <a:chExt cx="1447560" cy="1676160"/>
          </a:xfrm>
        </p:grpSpPr>
        <p:sp>
          <p:nvSpPr>
            <p:cNvPr id="340" name=""/>
            <p:cNvSpPr/>
            <p:nvPr/>
          </p:nvSpPr>
          <p:spPr>
            <a:xfrm>
              <a:off x="6337440" y="5244840"/>
              <a:ext cx="1447560" cy="1218960"/>
            </a:xfrm>
            <a:custGeom>
              <a:avLst/>
              <a:gdLst>
                <a:gd name="textAreaLeft" fmla="*/ 340200 w 1447560"/>
                <a:gd name="textAreaRight" fmla="*/ 1106280 w 1447560"/>
                <a:gd name="textAreaTop" fmla="*/ 143280 h 1218960"/>
                <a:gd name="textAreaBottom" fmla="*/ 764640 h 12189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061040" y="5054760"/>
              <a:ext cx="0" cy="1676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743200" y="60958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Линии черте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920" y="152388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Штрихпунктирная с двумя точк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257800" y="15397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Это линии сгиба на развёртк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457200" y="3048120"/>
            <a:ext cx="3683160" cy="1666080"/>
            <a:chOff x="457200" y="3048120"/>
            <a:chExt cx="3683160" cy="1666080"/>
          </a:xfrm>
        </p:grpSpPr>
        <p:grpSp>
          <p:nvGrpSpPr>
            <p:cNvPr id="347" name=""/>
            <p:cNvGrpSpPr/>
            <p:nvPr/>
          </p:nvGrpSpPr>
          <p:grpSpPr>
            <a:xfrm>
              <a:off x="457200" y="3048120"/>
              <a:ext cx="3606840" cy="1663560"/>
              <a:chOff x="457200" y="3048120"/>
              <a:chExt cx="3606840" cy="1663560"/>
            </a:xfrm>
          </p:grpSpPr>
          <p:sp>
            <p:nvSpPr>
              <p:cNvPr id="348" name=""/>
              <p:cNvSpPr/>
              <p:nvPr/>
            </p:nvSpPr>
            <p:spPr>
              <a:xfrm>
                <a:off x="2463840" y="394956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00cc"/>
                    </a:solidFill>
                    <a:latin typeface="Arial"/>
                  </a:rPr>
                  <a:t>1/2 мм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743200" y="37591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743200" y="394956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743200" y="43434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57200" y="3949560"/>
                <a:ext cx="335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990720" y="34164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219320" y="340344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85800" y="346716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041480" y="3048120"/>
                <a:ext cx="266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от 5 до 30 мм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231920" y="3467160"/>
                <a:ext cx="213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219320" y="394956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49440" y="394956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914400" y="463536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549440" y="4635360"/>
                <a:ext cx="221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1168560" y="425448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от 4 до 6 м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4343400" y="2362320"/>
            <a:ext cx="4114800" cy="26492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6108840" y="5002200"/>
            <a:ext cx="289548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73200" y="1447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прави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343400" y="1447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рави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380880" y="2362320"/>
            <a:ext cx="3429000" cy="2415240"/>
            <a:chOff x="380880" y="2362320"/>
            <a:chExt cx="3429000" cy="2415240"/>
          </a:xfrm>
        </p:grpSpPr>
        <p:sp>
          <p:nvSpPr>
            <p:cNvPr id="369" name=""/>
            <p:cNvSpPr/>
            <p:nvPr/>
          </p:nvSpPr>
          <p:spPr>
            <a:xfrm>
              <a:off x="1041120" y="2362320"/>
              <a:ext cx="2133720" cy="1523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8680" y="2362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93480" y="3886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164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17484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4112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041120" y="43560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168200" y="431784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3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16200000">
              <a:off x="306000" y="289404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098520" y="2362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098520" y="3886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2096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200040" y="28702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4572000" y="2362320"/>
            <a:ext cx="2743200" cy="2057400"/>
            <a:chOff x="4572000" y="2362320"/>
            <a:chExt cx="2743200" cy="2057400"/>
          </a:xfrm>
        </p:grpSpPr>
        <p:sp>
          <p:nvSpPr>
            <p:cNvPr id="383" name=""/>
            <p:cNvSpPr/>
            <p:nvPr/>
          </p:nvSpPr>
          <p:spPr>
            <a:xfrm>
              <a:off x="4572000" y="2362320"/>
              <a:ext cx="2133720" cy="1523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70572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7200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572000" y="43560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699080" y="393696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3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6200000">
              <a:off x="6757920" y="2868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629400" y="2362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29400" y="3886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5184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5384880" y="4495680"/>
            <a:ext cx="533160" cy="914400"/>
          </a:xfrm>
          <a:prstGeom prst="upArrow">
            <a:avLst>
              <a:gd name="adj1" fmla="val 50000"/>
              <a:gd name="adj2" fmla="val 4287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391520" y="2870280"/>
            <a:ext cx="914400" cy="457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419720" y="53722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направление взгл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16200000">
            <a:off x="7388280" y="26856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направление взгл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371600" y="1600200"/>
            <a:ext cx="2590920" cy="2260440"/>
            <a:chOff x="1371600" y="1600200"/>
            <a:chExt cx="2590920" cy="2260440"/>
          </a:xfrm>
        </p:grpSpPr>
        <p:sp>
          <p:nvSpPr>
            <p:cNvPr id="398" name=""/>
            <p:cNvSpPr/>
            <p:nvPr/>
          </p:nvSpPr>
          <p:spPr>
            <a:xfrm>
              <a:off x="1562040" y="1600200"/>
              <a:ext cx="2210040" cy="21333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679840" y="1663560"/>
              <a:ext cx="0" cy="2197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371600" y="266688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"/>
          <p:cNvSpPr/>
          <p:nvPr/>
        </p:nvSpPr>
        <p:spPr>
          <a:xfrm flipV="1">
            <a:off x="1905120" y="1904760"/>
            <a:ext cx="1523880" cy="1523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8748800">
            <a:off x="2551680" y="189504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Ø 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17080" y="1676520"/>
            <a:ext cx="52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Ø – это диаметр окруж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562720" y="3809880"/>
            <a:ext cx="2438280" cy="2133720"/>
          </a:xfrm>
          <a:prstGeom prst="hexagon">
            <a:avLst>
              <a:gd name="adj" fmla="val 28568"/>
              <a:gd name="vf" fmla="val 115470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334120" y="3886200"/>
            <a:ext cx="99036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495680" y="388620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305240" y="34416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S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5272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 –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это толщина дет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Закрепление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3962520" y="1143000"/>
            <a:ext cx="4572000" cy="331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1" name=""/>
          <p:cNvGraphicFramePr/>
          <p:nvPr/>
        </p:nvGraphicFramePr>
        <p:xfrm>
          <a:off x="127080" y="4597560"/>
          <a:ext cx="8915400" cy="1963440"/>
        </p:xfrm>
        <a:graphic>
          <a:graphicData uri="http://schemas.openxmlformats.org/drawingml/2006/table">
            <a:tbl>
              <a:tblPr/>
              <a:tblGrid>
                <a:gridCol w="1930320"/>
                <a:gridCol w="2590920"/>
                <a:gridCol w="2031840"/>
                <a:gridCol w="23623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ета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атери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ета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асшта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изображ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идов 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чертеж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"/>
          <p:cNvSpPr/>
          <p:nvPr/>
        </p:nvSpPr>
        <p:spPr>
          <a:xfrm>
            <a:off x="266760" y="22129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рочитайте чертёж. Заполните табл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03040" y="59310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Пр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095560" y="57531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Древесина берё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851360" y="591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М 1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8440" y="58928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Три в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Закрепление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3962520" y="1143000"/>
            <a:ext cx="5029200" cy="36432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266760" y="125100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ак называются виды, обозначенные букв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0492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а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0492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б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0492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в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3520" y="24512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главный в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33520" y="2819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вид сл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520" y="3200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вид сверх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0440" y="380988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ак называются линии, обозначенные цифр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2860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28600" y="57657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28600" y="62355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537160" y="5016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549760" y="5791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502920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сплошная толстая основная (линия контур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43080" y="576576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сплошная тонкая (выносна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96880" y="622296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сплошная тонкая (размерна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715000" y="50166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штрихпунктирная (центровая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689440" y="5791320"/>
            <a:ext cx="340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штриховая (линия невидимого контур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57913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Эскиз детали «основание» подставки             для ручек и карандаш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362320" y="1295280"/>
            <a:ext cx="441936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Закрепление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90440" y="118116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Выполните в рабочей тетради эскиз или технический рисунок детали из древесины, изображённой на рисунке, в масштабе М 1: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2209680" y="2819520"/>
            <a:ext cx="4038480" cy="3380760"/>
            <a:chOff x="2209680" y="2819520"/>
            <a:chExt cx="4038480" cy="3380760"/>
          </a:xfrm>
        </p:grpSpPr>
        <p:sp>
          <p:nvSpPr>
            <p:cNvPr id="440" name=""/>
            <p:cNvSpPr/>
            <p:nvPr/>
          </p:nvSpPr>
          <p:spPr>
            <a:xfrm>
              <a:off x="3531600" y="5849640"/>
              <a:ext cx="495720" cy="350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2209680" y="2819520"/>
              <a:ext cx="4038480" cy="2962080"/>
              <a:chOff x="2209680" y="2819520"/>
              <a:chExt cx="4038480" cy="2962080"/>
            </a:xfrm>
          </p:grpSpPr>
          <p:sp>
            <p:nvSpPr>
              <p:cNvPr id="442" name=""/>
              <p:cNvSpPr/>
              <p:nvPr/>
            </p:nvSpPr>
            <p:spPr>
              <a:xfrm>
                <a:off x="3066840" y="2819520"/>
                <a:ext cx="743760" cy="3506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209680" y="4680720"/>
                <a:ext cx="743760" cy="35064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504760" y="3384720"/>
                <a:ext cx="743400" cy="3506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184720" y="4904640"/>
                <a:ext cx="743760" cy="35064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152680" y="2985120"/>
                <a:ext cx="4957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128760" y="5780880"/>
                <a:ext cx="4957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139200" y="4709880"/>
                <a:ext cx="49572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132880" y="4622040"/>
                <a:ext cx="4957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0" name=""/>
              <p:cNvGrpSpPr/>
              <p:nvPr/>
            </p:nvGrpSpPr>
            <p:grpSpPr>
              <a:xfrm>
                <a:off x="3583440" y="2975040"/>
                <a:ext cx="1600920" cy="2806200"/>
                <a:chOff x="3583440" y="2975040"/>
                <a:chExt cx="1600920" cy="280620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4192920" y="2975040"/>
                  <a:ext cx="991440" cy="2221560"/>
                </a:xfrm>
                <a:prstGeom prst="cube">
                  <a:avLst>
                    <a:gd name="adj" fmla="val 61111"/>
                  </a:avLst>
                </a:prstGeom>
                <a:solidFill>
                  <a:srgbClr val="969696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583440" y="4144320"/>
                  <a:ext cx="991440" cy="1636920"/>
                </a:xfrm>
                <a:prstGeom prst="cube">
                  <a:avLst>
                    <a:gd name="adj" fmla="val 61111"/>
                  </a:avLst>
                </a:prstGeom>
                <a:solidFill>
                  <a:srgbClr val="969696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3" name=""/>
              <p:cNvSpPr/>
              <p:nvPr/>
            </p:nvSpPr>
            <p:spPr>
              <a:xfrm>
                <a:off x="3986280" y="5771880"/>
                <a:ext cx="49572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V="1">
                <a:off x="4440960" y="4611960"/>
                <a:ext cx="1115280" cy="116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56240" y="2975040"/>
                <a:ext cx="720" cy="163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201120" y="4729320"/>
                <a:ext cx="0" cy="10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296240" y="2975040"/>
                <a:ext cx="49572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697200" y="3550320"/>
                <a:ext cx="4957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3759120" y="2975040"/>
                <a:ext cx="619560" cy="58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370480" y="5187240"/>
                <a:ext cx="37152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4884840" y="5187240"/>
                <a:ext cx="495720" cy="11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700960" y="3677040"/>
                <a:ext cx="3718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5566680" y="3667320"/>
                <a:ext cx="123840" cy="35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829240" y="4962960"/>
                <a:ext cx="371520" cy="35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333520" y="4962960"/>
                <a:ext cx="49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645360" y="3092040"/>
                <a:ext cx="371880" cy="23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263040" y="3092040"/>
                <a:ext cx="37152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>
              <a:off x="3593520" y="5781600"/>
              <a:ext cx="720" cy="35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65400" y="5781600"/>
              <a:ext cx="720" cy="35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603960" y="6132600"/>
              <a:ext cx="3718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554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1219320"/>
            <a:ext cx="868680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1968480" y="1752480"/>
            <a:ext cx="5423040" cy="4190760"/>
            <a:chOff x="1968480" y="1752480"/>
            <a:chExt cx="5423040" cy="4190760"/>
          </a:xfrm>
        </p:grpSpPr>
        <p:grpSp>
          <p:nvGrpSpPr>
            <p:cNvPr id="476" name=""/>
            <p:cNvGrpSpPr/>
            <p:nvPr/>
          </p:nvGrpSpPr>
          <p:grpSpPr>
            <a:xfrm>
              <a:off x="1968480" y="1752480"/>
              <a:ext cx="5270760" cy="4190760"/>
              <a:chOff x="1968480" y="1752480"/>
              <a:chExt cx="5270760" cy="4190760"/>
            </a:xfrm>
          </p:grpSpPr>
          <p:grpSp>
            <p:nvGrpSpPr>
              <p:cNvPr id="477" name=""/>
              <p:cNvGrpSpPr/>
              <p:nvPr/>
            </p:nvGrpSpPr>
            <p:grpSpPr>
              <a:xfrm>
                <a:off x="1968480" y="1752480"/>
                <a:ext cx="2908440" cy="4190760"/>
                <a:chOff x="1968480" y="1752480"/>
                <a:chExt cx="2908440" cy="4190760"/>
              </a:xfrm>
            </p:grpSpPr>
            <p:grpSp>
              <p:nvGrpSpPr>
                <p:cNvPr id="478" name=""/>
                <p:cNvGrpSpPr/>
                <p:nvPr/>
              </p:nvGrpSpPr>
              <p:grpSpPr>
                <a:xfrm>
                  <a:off x="1968480" y="1752480"/>
                  <a:ext cx="2908440" cy="2679480"/>
                  <a:chOff x="1968480" y="1752480"/>
                  <a:chExt cx="2908440" cy="267948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>
                    <a:off x="1968480" y="3822480"/>
                    <a:ext cx="230040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 flipV="1">
                    <a:off x="4254480" y="1764720"/>
                    <a:ext cx="1800" cy="205740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3124440" y="1752480"/>
                    <a:ext cx="114300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3149640" y="1752480"/>
                    <a:ext cx="0" cy="114300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2005200" y="2895480"/>
                    <a:ext cx="114444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1994040" y="2869920"/>
                    <a:ext cx="0" cy="98604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4241880" y="1765080"/>
                    <a:ext cx="609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4267440" y="3822480"/>
                    <a:ext cx="609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4800600" y="1765080"/>
                    <a:ext cx="0" cy="2057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 rot="16200000">
                    <a:off x="3887280" y="2487600"/>
                    <a:ext cx="14479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200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1981440" y="3809880"/>
                    <a:ext cx="0" cy="609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4241880" y="3822480"/>
                    <a:ext cx="0" cy="609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1981440" y="4393800"/>
                    <a:ext cx="2300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2387880" y="3962160"/>
                    <a:ext cx="1600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200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1981440" y="5486040"/>
                  <a:ext cx="2300040" cy="457200"/>
                  <a:chOff x="1981440" y="5486040"/>
                  <a:chExt cx="2300040" cy="45720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>
                    <a:off x="1981440" y="5486040"/>
                    <a:ext cx="2300040" cy="45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3162600" y="5486040"/>
                    <a:ext cx="0" cy="45720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6" name=""/>
                <p:cNvSpPr/>
                <p:nvPr/>
              </p:nvSpPr>
              <p:spPr>
                <a:xfrm>
                  <a:off x="4280040" y="4952880"/>
                  <a:ext cx="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3162600" y="4965480"/>
                  <a:ext cx="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149640" y="502884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2959200" y="4622400"/>
                  <a:ext cx="1523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0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0" name=""/>
              <p:cNvSpPr/>
              <p:nvPr/>
            </p:nvSpPr>
            <p:spPr>
              <a:xfrm>
                <a:off x="6096240" y="1752480"/>
                <a:ext cx="533160" cy="209844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096240" y="2895480"/>
                <a:ext cx="5331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096240" y="380988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629400" y="380988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108840" y="435600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727960" y="393660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629400" y="289548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629400" y="384804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162920" y="290808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16200000">
                <a:off x="6325920" y="312264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6172200" y="54100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М 1: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Закрепление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04920" y="77796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Укажите стрелками, что означают линии или надписи на чертеж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371600" y="3543480"/>
            <a:ext cx="1257480" cy="0"/>
            <a:chOff x="1371600" y="3543480"/>
            <a:chExt cx="1257480" cy="0"/>
          </a:xfrm>
        </p:grpSpPr>
        <p:sp>
          <p:nvSpPr>
            <p:cNvPr id="516" name=""/>
            <p:cNvSpPr/>
            <p:nvPr/>
          </p:nvSpPr>
          <p:spPr>
            <a:xfrm>
              <a:off x="1371600" y="3543480"/>
              <a:ext cx="1257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1371600" y="4267080"/>
            <a:ext cx="1257480" cy="0"/>
            <a:chOff x="1371600" y="4267080"/>
            <a:chExt cx="1257480" cy="0"/>
          </a:xfrm>
        </p:grpSpPr>
        <p:sp>
          <p:nvSpPr>
            <p:cNvPr id="518" name=""/>
            <p:cNvSpPr/>
            <p:nvPr/>
          </p:nvSpPr>
          <p:spPr>
            <a:xfrm>
              <a:off x="1371600" y="4267080"/>
              <a:ext cx="12574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1454040" y="5033880"/>
            <a:ext cx="1059840" cy="870120"/>
            <a:chOff x="1454040" y="5033880"/>
            <a:chExt cx="1059840" cy="870120"/>
          </a:xfrm>
        </p:grpSpPr>
        <p:sp>
          <p:nvSpPr>
            <p:cNvPr id="520" name=""/>
            <p:cNvSpPr/>
            <p:nvPr/>
          </p:nvSpPr>
          <p:spPr>
            <a:xfrm>
              <a:off x="1454040" y="5511600"/>
              <a:ext cx="10598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958760" y="5033880"/>
              <a:ext cx="0" cy="870120"/>
            </a:xfrm>
            <a:prstGeom prst="line">
              <a:avLst/>
            </a:prstGeom>
            <a:ln w="381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295280" y="6134040"/>
            <a:ext cx="1371960" cy="0"/>
            <a:chOff x="1295280" y="6134040"/>
            <a:chExt cx="1371960" cy="0"/>
          </a:xfrm>
        </p:grpSpPr>
        <p:sp>
          <p:nvSpPr>
            <p:cNvPr id="523" name=""/>
            <p:cNvSpPr/>
            <p:nvPr/>
          </p:nvSpPr>
          <p:spPr>
            <a:xfrm>
              <a:off x="1295280" y="6134040"/>
              <a:ext cx="13719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3624120" y="1838160"/>
            <a:ext cx="1897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624120" y="1838160"/>
            <a:ext cx="1897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624120" y="1838160"/>
            <a:ext cx="1897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624120" y="1838160"/>
            <a:ext cx="1897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228600" y="2057400"/>
          <a:ext cx="3581280" cy="4602240"/>
        </p:xfrm>
        <a:graphic>
          <a:graphicData uri="http://schemas.openxmlformats.org/drawingml/2006/table">
            <a:tbl>
              <a:tblPr/>
              <a:tblGrid>
                <a:gridCol w="35812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Линия или надпись на чертеж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 1: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Ø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9" name=""/>
          <p:cNvGraphicFramePr/>
          <p:nvPr/>
        </p:nvGraphicFramePr>
        <p:xfrm>
          <a:off x="4724280" y="1600200"/>
          <a:ext cx="4343400" cy="5118120"/>
        </p:xfrm>
        <a:graphic>
          <a:graphicData uri="http://schemas.openxmlformats.org/drawingml/2006/table">
            <a:tbl>
              <a:tblPr/>
              <a:tblGrid>
                <a:gridCol w="4343400"/>
              </a:tblGrid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Что означа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Штриховая линия невидимого кон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Центр отверстия на чертеж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Линия видимого контура дета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асштаб «один к двум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иаметр 8 м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Размерная или выносная ли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0" name=""/>
          <p:cNvSpPr/>
          <p:nvPr/>
        </p:nvSpPr>
        <p:spPr>
          <a:xfrm>
            <a:off x="3809880" y="3124080"/>
            <a:ext cx="914400" cy="19051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809880" y="3657600"/>
            <a:ext cx="914400" cy="26668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3809880" y="2819160"/>
            <a:ext cx="914400" cy="14475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809880" y="4800600"/>
            <a:ext cx="914400" cy="8380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3809880" y="3504960"/>
            <a:ext cx="914400" cy="19810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3809880" y="4343400"/>
            <a:ext cx="914400" cy="19051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Закрепление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554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04920" y="10033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роверь себя. Верны ли следующие утвержд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190440" y="1739880"/>
          <a:ext cx="8762760" cy="4924440"/>
        </p:xfrm>
        <a:graphic>
          <a:graphicData uri="http://schemas.openxmlformats.org/drawingml/2006/table">
            <a:tbl>
              <a:tblPr/>
              <a:tblGrid>
                <a:gridCol w="6526440"/>
                <a:gridCol w="1152720"/>
                <a:gridCol w="1083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Утвержд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.Графическая документация – это чертёж, эскиз и технический рисун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.Контуры детали на чертеже изображают сплошными тонкими линия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.Запись М 4:1 на чертеже означает, что изображение детали на чертеже в 4 раза больше действительно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.Эскиз детали выполняют карандашом по линей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На чертеже следует обязательно изображать три вида дета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2" name=""/>
          <p:cNvSpPr/>
          <p:nvPr/>
        </p:nvSpPr>
        <p:spPr>
          <a:xfrm>
            <a:off x="7061040" y="2362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8153280" y="3200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048440" y="412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815328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15328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Задание на 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- изучить параграф 4 учебни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- ответить на вопросы 1-4, с.20 учебни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- попробовать выполнить на компьютере эскиз несложной детали из древесины, распечатать его и вклеить в рабочую тетрадь или поместить в портфоли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3510000" y="4565520"/>
            <a:ext cx="2128680" cy="206388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3"/>
          <a:stretch/>
        </p:blipFill>
        <p:spPr>
          <a:xfrm>
            <a:off x="6705720" y="228600"/>
            <a:ext cx="220968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Список использованных печатных источ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.Симоненко В.Д. Технология. 5 класс: учеб. для общеобразоват. учреждений: вариант для мальчиков / В.Д. Симоненко, А.Т. Тищенко, П.С. Самородский; под ред. В.Д. Симоненко. – 6-е изд. – М.: Просвещение,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.Тищенко А.Т. Технология. Индустриальные технологии: 5 класс: методическое пособие / А.Т. Тищенко. –  2-е изд., дораб. - М.: Вентана-Граф, 20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3.Тищенко А.Т. Технология. Индустриальные технологии: 5 класс: рабочая тетрадь для учащихся общеобразовательных организаций / А.Т. Тищенко, Н.А. Буглаева. – 2-е изд., дораб. – М.: Вентана-Граф, 20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4.Тищенко А.Т. Технология. Индустриальные технологии: 5 класс: учебник для учащихся общеобразовательных учреждений / А.Т. Тищенко, В.Д. Симоненко. – М.: Вентана-Граф, 20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5791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Технический рисунок домика для птиц (а)                     и чертежи его деталей (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822960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5029200" cy="1049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990720" y="3429000"/>
            <a:ext cx="5029200" cy="2459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010280" y="1295280"/>
            <a:ext cx="1255680" cy="4646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819520" y="533412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76920" y="3429000"/>
            <a:ext cx="9903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2819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61722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толярный 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30920" y="614664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рку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15328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03320" y="152388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03320" y="548640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534520" y="1523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15920" y="1523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60958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остроение рамки черте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35053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28880" y="350532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39960" y="3073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10666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15238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24280" y="2057400"/>
            <a:ext cx="1067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37240" y="1612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686800" y="3581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67480" y="3581280"/>
            <a:ext cx="1067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442280" y="3149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49840" y="443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56386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487692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4876920"/>
            <a:ext cx="1067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371600"/>
            <a:ext cx="815328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03320" y="152388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3320" y="548640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534520" y="1523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15920" y="1523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60199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остроение таблицы-штампа в рам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4572000"/>
            <a:ext cx="289584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4176720"/>
            <a:ext cx="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422928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50040" y="3809880"/>
            <a:ext cx="14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848720" y="45720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458200" y="4572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458200" y="5486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169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8465760" y="4780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848720" y="5397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8534520" y="5397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48720" y="5943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899480" y="55119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4863960"/>
            <a:ext cx="2210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5168880"/>
            <a:ext cx="2210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4572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48639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5168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8148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8148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4649400" y="44690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4649400" y="4773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4649400" y="5065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43680" y="482616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43680" y="513072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00880" y="4470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ФИ уче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18040" y="4775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аз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892840" y="50799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96080" y="462276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ас-шта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14479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Масштаб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– это отношение линейных размеров изображения детали к её действительным размер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54100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Важно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 на чертеже, эскизе или техническом рисунке, изображённом в любом масштабе, размеры детали проставляют действитель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523880" y="2590920"/>
            <a:ext cx="6184800" cy="1945440"/>
            <a:chOff x="1523880" y="2590920"/>
            <a:chExt cx="6184800" cy="1945440"/>
          </a:xfrm>
        </p:grpSpPr>
        <p:sp>
          <p:nvSpPr>
            <p:cNvPr id="123" name=""/>
            <p:cNvSpPr/>
            <p:nvPr/>
          </p:nvSpPr>
          <p:spPr>
            <a:xfrm>
              <a:off x="4089240" y="3314520"/>
              <a:ext cx="718920" cy="718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22280" y="3678120"/>
              <a:ext cx="360360" cy="360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68680" y="2603160"/>
              <a:ext cx="1440000" cy="143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41400" y="3670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41400" y="403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17360" y="3670200"/>
              <a:ext cx="0" cy="37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22280" y="4000320"/>
              <a:ext cx="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7960" y="4000320"/>
              <a:ext cx="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09680" y="4317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08160" y="39495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6200000">
              <a:off x="1372680" y="36684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89240" y="4000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13200" y="4000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6640" y="44575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3880" y="3314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93880" y="40384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44640" y="33145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01840" y="40766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6200000">
              <a:off x="3024000" y="3477960"/>
              <a:ext cx="91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73720" y="406368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708680" y="403848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60760" y="44575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78360" y="260316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78360" y="40384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29120" y="25909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53080" y="40510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6200000">
              <a:off x="5309640" y="3046320"/>
              <a:ext cx="68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809880" y="48006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М 1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52480" y="48006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М 1: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48006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М 2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362320" y="1600200"/>
            <a:ext cx="4800600" cy="41194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85800" y="16002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Главный вид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(направление взгляда 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48520" y="16765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Вид слева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(направление взгляда 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47563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Вид сверху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(направление взгляда 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43200" y="60958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Виды детали «стен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2743200"/>
            <a:ext cx="1143000" cy="609480"/>
          </a:xfrm>
          <a:prstGeom prst="line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019560" y="2819520"/>
            <a:ext cx="1447560" cy="457200"/>
          </a:xfrm>
          <a:prstGeom prst="line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91040" y="4800600"/>
            <a:ext cx="1295640" cy="990720"/>
          </a:xfrm>
          <a:prstGeom prst="line">
            <a:avLst/>
          </a:prstGeom>
          <a:ln w="28440">
            <a:solidFill>
              <a:srgbClr val="66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43200" y="60958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Чертёж детали «призм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2743200" cy="204624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3124080" y="1828800"/>
            <a:ext cx="6006960" cy="3962520"/>
            <a:chOff x="3124080" y="1828800"/>
            <a:chExt cx="6006960" cy="3962520"/>
          </a:xfrm>
        </p:grpSpPr>
        <p:sp>
          <p:nvSpPr>
            <p:cNvPr id="166" name=""/>
            <p:cNvSpPr/>
            <p:nvPr/>
          </p:nvSpPr>
          <p:spPr>
            <a:xfrm>
              <a:off x="3124080" y="1828800"/>
              <a:ext cx="5943600" cy="396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03440" y="1943280"/>
              <a:ext cx="5562360" cy="3733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6743520" y="4991040"/>
              <a:ext cx="2387520" cy="688320"/>
              <a:chOff x="6743520" y="4991040"/>
              <a:chExt cx="2387520" cy="688320"/>
            </a:xfrm>
          </p:grpSpPr>
          <p:sp>
            <p:nvSpPr>
              <p:cNvPr id="169" name=""/>
              <p:cNvSpPr/>
              <p:nvPr/>
            </p:nvSpPr>
            <p:spPr>
              <a:xfrm>
                <a:off x="6832440" y="4991040"/>
                <a:ext cx="2133360" cy="685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08600" y="4991040"/>
                <a:ext cx="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832440" y="5207040"/>
                <a:ext cx="167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832440" y="5435640"/>
                <a:ext cx="167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743520" y="5143680"/>
                <a:ext cx="91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Призм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756120" y="5372280"/>
                <a:ext cx="1905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Древесина берёз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445240" y="5168880"/>
                <a:ext cx="685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М1: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3555720" y="2235240"/>
              <a:ext cx="2616120" cy="1193760"/>
              <a:chOff x="3555720" y="2235240"/>
              <a:chExt cx="2616120" cy="1193760"/>
            </a:xfrm>
          </p:grpSpPr>
          <p:sp>
            <p:nvSpPr>
              <p:cNvPr id="177" name=""/>
              <p:cNvSpPr/>
              <p:nvPr/>
            </p:nvSpPr>
            <p:spPr>
              <a:xfrm>
                <a:off x="3974760" y="2362320"/>
                <a:ext cx="2133360" cy="685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762080" y="2425680"/>
                <a:ext cx="533520" cy="533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949200" y="2692440"/>
                <a:ext cx="222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041440" y="2235240"/>
                <a:ext cx="0" cy="990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974760" y="3048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108120" y="3048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974760" y="3378240"/>
                <a:ext cx="21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838400" y="30862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746160" y="23623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746160" y="30481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822120" y="23623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6200000">
                <a:off x="3480480" y="250056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6857640" y="2362320"/>
              <a:ext cx="1219320" cy="685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05360" y="2705040"/>
              <a:ext cx="1523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57640" y="2451240"/>
              <a:ext cx="12193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57640" y="2959200"/>
              <a:ext cx="12193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62160" y="3772080"/>
              <a:ext cx="2133720" cy="1371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41800" y="3606840"/>
              <a:ext cx="0" cy="175248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95600" y="3772080"/>
              <a:ext cx="0" cy="1371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00240" y="3772080"/>
              <a:ext cx="0" cy="1371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733560" y="3772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33560" y="5143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09880" y="37720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3493440" y="42786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822840" y="1905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Главный в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00800" y="1917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Вид сл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64040" y="3327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Вид сверх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89520" y="2463840"/>
            <a:ext cx="304920" cy="44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289548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8640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23040" y="3009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Ø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1T14:37:00Z</dcterms:created>
  <dc:creator>User</dc:creator>
  <dc:description/>
  <dc:language>en-US</dc:language>
  <cp:lastModifiedBy>User</cp:lastModifiedBy>
  <dcterms:modified xsi:type="dcterms:W3CDTF">2016-01-23T18:09:32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