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351-1427-49EC-A4B9-862CB11D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FB6-73CE-4CCD-B2CB-B36799DF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295A-276E-4425-96CE-762A95C5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C621-B2D6-4DD7-816C-E27127F9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84F7-8963-4F8F-A837-9C4DEB93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76C8-097F-4098-804F-424C949E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E49F-4F0F-4D72-8322-EC0D0493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1D49-B5AB-4A5C-A9DE-DC008B21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11EC-730D-4319-B69A-EE2CADCA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E99E-68E3-4E81-A7B7-92810926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A822-3287-4225-B557-7B6632FD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18B8-F585-4249-A06A-1FAA8E9E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80C9-0483-4F86-B0D6-BAAFD5B6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9BE8-2D43-4427-BE41-0A75D993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E099-5547-4BBA-A16D-1C43BCB4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ECF5-136A-46A9-837A-E3A30789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2F55-38B7-4F79-BD5C-5126F6C2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504DA-5E10-4000-901F-F7B8EE8A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69AB3-DE56-47F8-B7D5-CC2F16B8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9DF42-5E74-4044-869D-ED0FD056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C6E88-55BF-4FF8-AEAF-6D12E8BB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0EA27-7C6F-4B3B-903B-264095AF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BEE-246A-41E9-993E-A3D96ABC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453BE-658B-4945-BFB8-011A8EBA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61D0C-7FDA-40C3-A741-56F44333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89C70-3F97-4B2F-AAFD-2509B96D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1CDAF-0F57-4A12-90ED-E7A46712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AA6D3-67C7-4C12-9192-17C57AEE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CA074-2517-4B99-855C-49D367FF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B738C-1393-4206-A45A-9E864634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11168-720C-45F0-A425-0BDF027D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3CFAE-E6C7-41FA-9F82-9024E419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E65F0-B155-43B6-AEF1-742D4C9B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A7C-ADBF-4BB1-97C6-B5C3E73D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14F54-FE6F-4AEA-A225-3BFF7C40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E4CE7-0F48-4551-9758-EF9029DE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B7366-CB0E-4B85-A135-DA230BA7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2F9F1-5373-4847-961C-4971FABB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76401-955E-4D37-8492-21CF695A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A658F-EE0D-4D0E-B15F-17BAEFD7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E0D4E-8F4C-450E-80AC-B0432F36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45792-D154-4C21-89EE-4C6B4E2A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45BE8-D0E2-41C1-9358-21DB0154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61F8A-1904-4CD7-813E-C4A04819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7F4-10AB-4AB2-B71B-4673F1F7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A2D9F-F72A-4E3B-B022-BA52858A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607F9-930F-46F0-BAEA-3658B98A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62FBA-53F8-41F5-9D1A-CAA2FC38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47E95-5A83-4E6E-8D8D-86F28750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93A75-C3DF-450E-97DC-A68DF852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47C64-FBBD-4304-89CC-F6154305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1645F-70C5-48AF-A5E6-7EF9CC76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032BA-5F35-4172-B6AB-8E7523AE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80C8E-0C15-4CC9-B5C0-2330D702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6D04D-84F0-40BF-ACEE-0B0301A8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0A7F-0CFA-4059-B7B9-806CBE2E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B4123-8375-4BF7-8446-EBC2970A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2634-10C7-4D1F-BAFE-079A871C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3A2-2E94-466D-BB8E-CD598B1E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6AB-3BC5-4AA1-9A5F-02AC6839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80AE-4DF5-408E-9FFB-AE322D71D64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5F08-D616-4520-A649-5BEED26FE4A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6010-1D64-4187-85FB-DA27CAA2788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00A6-7C57-4429-B6D6-8B07F829E39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24CE-7431-4237-B39C-8019B6EE8A8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10920" y="3213000"/>
            <a:ext cx="7048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Подготовил – Невдах Александр Сергеевич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Лунинецкий ГПТК СП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18.11.2014г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Декоративная кладка и облицовка стен</a:t>
            </a:r>
            <a:endParaRPr b="0" lang="en-US" sz="6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Сэндвич-панели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4" name="Picture 2" descr="C:\Users\adminius\Desktop\otdelka-fasadov-7.jpg"/>
          <p:cNvPicPr/>
          <p:nvPr/>
        </p:nvPicPr>
        <p:blipFill>
          <a:blip r:embed="rId1"/>
          <a:stretch/>
        </p:blipFill>
        <p:spPr>
          <a:xfrm>
            <a:off x="900000" y="1341360"/>
            <a:ext cx="8045640" cy="46087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арианты декоративной кладки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сылки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ttp://repair-home.net/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сновная инф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0" name="Содержимое 5" descr=""/>
          <p:cNvPicPr/>
          <p:nvPr/>
        </p:nvPicPr>
        <p:blipFill>
          <a:blip r:embed="rId1"/>
          <a:stretch/>
        </p:blipFill>
        <p:spPr>
          <a:xfrm>
            <a:off x="4716360" y="371520"/>
            <a:ext cx="417672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лан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. Виды отделки фасад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. Варианты декоративной кладк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3.Ссылк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96464"/>
                </a:solidFill>
                <a:latin typeface="Calibri"/>
              </a:rPr>
              <a:t>Виды отделки фасадов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: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екоративная отделочная штукатурк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лицовочный кирпич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линкерная плитка и керамогранит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любые виды сайдинга (деревянный, виниловый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атуральный или искусственный камень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фасадные кассеты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ендвич-панел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Отделка фасадов штукатуркой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6" name="Picture 2" descr="C:\Users\adminius\Desktop\1.jpg"/>
          <p:cNvPicPr/>
          <p:nvPr/>
        </p:nvPicPr>
        <p:blipFill>
          <a:blip r:embed="rId1"/>
          <a:stretch/>
        </p:blipFill>
        <p:spPr>
          <a:xfrm>
            <a:off x="900000" y="1484280"/>
            <a:ext cx="7775640" cy="4465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Фасады домов из лицевого кирпич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9" name="Picture 2" descr="C:\Users\adminius\Desktop\otdelka-fasadov-2.jpg"/>
          <p:cNvPicPr/>
          <p:nvPr/>
        </p:nvPicPr>
        <p:blipFill>
          <a:blip r:embed="rId1"/>
          <a:stretch/>
        </p:blipFill>
        <p:spPr>
          <a:xfrm>
            <a:off x="539640" y="119700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96464"/>
                </a:solidFill>
                <a:uFillTx/>
                <a:latin typeface="Calibri"/>
              </a:rPr>
              <a:t>Фасадные кассеты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2" name="Picture 2" descr="C:\Users\adminius\Desktop\otdelka-fasadov-3.jpg"/>
          <p:cNvPicPr/>
          <p:nvPr/>
        </p:nvPicPr>
        <p:blipFill>
          <a:blip r:embed="rId1"/>
          <a:stretch/>
        </p:blipFill>
        <p:spPr>
          <a:xfrm>
            <a:off x="684360" y="981000"/>
            <a:ext cx="4103640" cy="5477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Керамогранит для отделки фасадов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5" name="Picture 2" descr="C:\Users\adminius\Desktop\otdelka-fasadov-4.jpg"/>
          <p:cNvPicPr/>
          <p:nvPr/>
        </p:nvPicPr>
        <p:blipFill>
          <a:blip r:embed="rId1"/>
          <a:stretch/>
        </p:blipFill>
        <p:spPr>
          <a:xfrm>
            <a:off x="1042920" y="1413000"/>
            <a:ext cx="7263000" cy="4573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Сайдинг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8" name="Picture 2" descr="C:\Users\adminius\Desktop\otdelka-fasadov-5.jpg"/>
          <p:cNvPicPr/>
          <p:nvPr/>
        </p:nvPicPr>
        <p:blipFill>
          <a:blip r:embed="rId1"/>
          <a:stretch/>
        </p:blipFill>
        <p:spPr>
          <a:xfrm>
            <a:off x="971640" y="1413000"/>
            <a:ext cx="4762440" cy="3047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Камень в облицовке фасадов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1" name="Picture 2" descr="C:\Users\adminius\Desktop\otdelka-fasadov-6.jpg"/>
          <p:cNvPicPr/>
          <p:nvPr/>
        </p:nvPicPr>
        <p:blipFill>
          <a:blip r:embed="rId1"/>
          <a:stretch/>
        </p:blipFill>
        <p:spPr>
          <a:xfrm>
            <a:off x="1042920" y="155736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19:22:07Z</dcterms:created>
  <dc:creator>adminius</dc:creator>
  <dc:description/>
  <dc:language>en-US</dc:language>
  <cp:lastModifiedBy>adminius</cp:lastModifiedBy>
  <dcterms:modified xsi:type="dcterms:W3CDTF">2014-11-18T13:19:43Z</dcterms:modified>
  <cp:revision>10</cp:revision>
  <dc:subject/>
  <dc:title>Декоративная кладка и облицовка стен</dc:title>
</cp:coreProperties>
</file>