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AE7-1224-4E1E-BFB6-B14BD704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3BD-B998-42E7-8E80-92DD7EE3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269-4007-4A1F-9A4C-7F6FF809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D6C-8EF2-4E33-B0D1-AA9CC29C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20D0-CF48-4AAD-9BFA-CE60C159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A1A-D09C-4F78-A37E-034B1FA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C22E-0C4B-4311-81C4-48053B5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ECC-E0F4-4295-ADD1-08A6602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5C40-6C0E-4401-8F33-EB7612A5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4C10-0CFF-4330-B4AE-BE5E12B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B0ED-75C5-42D3-941B-FB12F47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5CD-2E3D-47CD-AFF5-12C88DC7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3DE-51F8-4ED4-8A46-9BADAC9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717-90EC-4B41-83F6-01ABCE1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FDC1-29F2-4832-BB74-297AB9EE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A17-AC26-4193-AED3-C25155E9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734B-9339-4C19-9289-D0463B5A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172E-4B93-43E2-A52D-F0288FAF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4A53-3AB3-429F-B3C7-2580C458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1DF1-5E3E-4690-A387-FED6BCE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920E-1862-438F-9710-D6E892B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FA87-E30D-45D4-8F4D-7FCF3F1D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EB2-E46E-4663-9E2B-F5FFC70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CFDF-D098-4DE8-B0F6-61669178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1079-6961-46E5-923A-81D1ED4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7CF9-65F4-4772-9C6C-517ECD6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548F-2FD1-4993-BAC8-854B478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3AF1-42D3-4840-995D-66C910D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F794-164B-4314-8AEE-064EBFDA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612E-5C94-4CF3-B5D0-2927703D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FF19-8CDD-4439-917D-DCC83F6C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8410-29AD-4D48-BA19-FBBD7CCE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98DC-F29D-4E16-A24B-A294DF38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CDB-DEF0-451E-BBCC-3B95838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4F44-5852-45AA-9ACF-AF31412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C9AE-DF4E-4F7F-83BA-7CD8B962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D9CB-24BE-41F9-BEEF-D72182C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ECC5-A667-4F18-9C4A-EFF8D65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72FD-873A-4A9B-94B9-A243F28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6672-E90E-492F-A3AC-34688DD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3481-211D-4914-8C6C-B2A02A5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59A9-472B-4BC0-86D2-8DDE460D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0F2E-89E9-42D8-A65B-F90FEB77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D064-D666-47C4-9B2C-11F86E5F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379-0F0A-404B-8C72-FF7C3F7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6AB9-CEEB-47BE-816F-EF0B5E1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BF63-1758-4F4D-A733-A6DF6CE7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64CF-54CE-48C9-8C5F-2E8EBC7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2340-39DE-4C71-990D-A2D3B3F8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08E8-3A30-4EC0-BB9A-BA516350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94C2-D95A-407B-B162-ED7F0A7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AE58-4134-4876-8D57-A363293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56D1A-D87B-456C-9A9E-506904F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5D33-B4FD-4DD6-B477-DE000AE1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94BC-1045-4316-BFD1-6D9EC2FE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233-C45E-4BC6-9115-DF1F7BEB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38FC-455A-4CBF-9E16-7EF010FF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2F8-A5E4-4088-A32C-2A0715D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8C5-8A72-4D4D-A464-7C7F0AE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32B-C66C-4D36-B063-3D20F41E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79E-351F-4CA6-84FF-197A65C028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B04-20E0-44EF-A819-8B123E4C3ED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40D-C00A-4448-9977-3463ADFEC80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43F1-23A2-4811-8F63-8555601107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A61-222D-49B8-ACB4-181D6A065D4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704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одготовил – Невдах Александр Сергеевич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унинецкий ГПТК СП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18.11.2014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Декоративная кладка и облицовка стен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эндвич-панел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4" name="Picture 2" descr="C:\Users\adminius\Desktop\otdelka-fasadov-7.jpg"/>
          <p:cNvPicPr/>
          <p:nvPr/>
        </p:nvPicPr>
        <p:blipFill>
          <a:blip r:embed="rId1"/>
          <a:stretch/>
        </p:blipFill>
        <p:spPr>
          <a:xfrm>
            <a:off x="900000" y="1341360"/>
            <a:ext cx="804564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арианты декоративной клад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сыл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repair-home.net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сновная инф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5" descr=""/>
          <p:cNvPicPr/>
          <p:nvPr/>
        </p:nvPicPr>
        <p:blipFill>
          <a:blip r:embed="rId1"/>
          <a:stretch/>
        </p:blipFill>
        <p:spPr>
          <a:xfrm>
            <a:off x="4716360" y="371520"/>
            <a:ext cx="41767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 Виды отделки фасад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Варианты декоративной клад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.Ссыл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Виды отделки фасадов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коративная отделочная штукатур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лицовочный кирпич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линкерная плитка и керамогранит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юбые виды сайдинга (деревянный, виниловый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туральный или искусственный камен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асадные кассеты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ендвич-панел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тделка фасадов штукатуркой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2" descr="C:\Users\adminius\Desktop\1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46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асады домов из лицевого кирпич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Picture 2" descr="C:\Users\adminius\Desktop\otdelka-fasadov-2.jpg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Фасадные кассеты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C:\Users\adminius\Desktop\otdelka-fasadov-3.jpg"/>
          <p:cNvPicPr/>
          <p:nvPr/>
        </p:nvPicPr>
        <p:blipFill>
          <a:blip r:embed="rId1"/>
          <a:stretch/>
        </p:blipFill>
        <p:spPr>
          <a:xfrm>
            <a:off x="684360" y="981000"/>
            <a:ext cx="41036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ерамогранит для отделки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2" descr="C:\Users\adminius\Desktop\otdelka-fasadov-4.jpg"/>
          <p:cNvPicPr/>
          <p:nvPr/>
        </p:nvPicPr>
        <p:blipFill>
          <a:blip r:embed="rId1"/>
          <a:stretch/>
        </p:blipFill>
        <p:spPr>
          <a:xfrm>
            <a:off x="1042920" y="1413000"/>
            <a:ext cx="7263000" cy="4573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айдинг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Picture 2" descr="C:\Users\adminius\Desktop\otdelka-fasadov-5.jpg"/>
          <p:cNvPicPr/>
          <p:nvPr/>
        </p:nvPicPr>
        <p:blipFill>
          <a:blip r:embed="rId1"/>
          <a:stretch/>
        </p:blipFill>
        <p:spPr>
          <a:xfrm>
            <a:off x="971640" y="1413000"/>
            <a:ext cx="4762440" cy="304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амень в облицовке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2" descr="C:\Users\adminius\Desktop\otdelka-fasadov-6.jpg"/>
          <p:cNvPicPr/>
          <p:nvPr/>
        </p:nvPicPr>
        <p:blipFill>
          <a:blip r:embed="rId1"/>
          <a:stretch/>
        </p:blipFill>
        <p:spPr>
          <a:xfrm>
            <a:off x="104292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9:22:07Z</dcterms:created>
  <dc:creator>adminius</dc:creator>
  <dc:description/>
  <dc:language>en-US</dc:language>
  <cp:lastModifiedBy>adminius</cp:lastModifiedBy>
  <dcterms:modified xsi:type="dcterms:W3CDTF">2014-11-18T13:19:43Z</dcterms:modified>
  <cp:revision>10</cp:revision>
  <dc:subject/>
  <dc:title>Декоративная кладка и облицовка стен</dc:title>
</cp:coreProperties>
</file>