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967-32C7-428F-B549-F1438770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5D7-245E-4393-ACEA-4ACD08C6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968-4FBC-4A34-85D5-C85D882F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D7A-75D5-480B-BA59-EFB087C1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A02E-4944-456E-A0F9-C4A22342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FB0-A44D-4A61-A885-F46711A3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FF71-34B2-43D6-958B-4D8BD0C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6F91-34E8-4899-B0CD-EB405D2D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73E9-7F4C-4787-9D69-294F8974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DD4B-C995-40EB-A6B4-519287A5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EDD0-1E67-4432-97A5-D43449EC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9BA-2682-4852-95F4-D2FDAD83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B772-CB1D-456E-BB4D-88890690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539A-F97B-46B0-8FDB-B00FEEB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30B6-C7F9-4555-8BAF-FC89465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3B0A-A6D0-499A-8667-FF05EE87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CA76-FE1A-4F15-812A-5F4005F2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6D6D-1271-4C7B-A360-BD9A0D84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88CF-9B8D-40A2-9C2C-CFA02019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30C0-C473-41E4-9295-BDF3FCCC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9FF7-FE49-46A7-95CB-CB474A6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ABF5-860C-44E4-B985-30ED8FD2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8E3-54FE-4D3E-8D42-897244CA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ABF1-9538-4D32-9B4B-A6DC74AC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701B-75FD-4EBE-8004-EEA5D43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A908-2A04-4FB9-AA1C-0CE5F4E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0D52-B7FA-4754-AE50-A65E307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A259-2A76-4058-9BF5-7767D69C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D496-C818-4E36-8289-8D9E3ACC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3220-9012-4608-B94B-D27B2863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A5F2-42B6-4896-8EE4-12C38000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F7C9-13A9-4B9C-827F-03F40CE9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90E6-7578-4736-9678-36CB253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C0C-0CFD-4545-AEAF-8C40D4E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67CD-A3E0-4A84-A9CD-319E3C2D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5713-9CB6-47BB-8BDA-714504D8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73A4-556B-4FFA-939F-B5BD6346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6625-C64B-4166-91A6-D678B45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2FD9F-BFF8-433B-8830-4F26D1A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2075-6309-4BEF-A7CB-B2F22B9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B23A1-F3BD-446D-A2DA-0AC82ED5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EB07-21A8-4E21-93DC-06B47E0C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4826-1349-4786-A6AC-33A8690A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58EAB-FEFA-4AB6-8F6B-83832F2C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A89-2D89-477A-B28E-E3DEFC72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1E8C-CE66-424D-B6FB-5062D28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A14E5-46D0-4CFF-81C3-89397C4C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082A2-4BE3-4345-98F0-7080E07C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2B7A-80A2-4DE6-AA60-9CEBEAF6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415EB-3157-4690-AC8D-6E9A02D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4618A-36E5-4CFF-9E4C-78DA56E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AFAF2-3E4A-4404-8F7D-BA88A49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1FA3-9D4B-4106-9C9C-72AAA683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1CDD-B1D4-4D57-80EB-43D7EF85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9601-38A3-44A1-808A-37A5F217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C67-EF73-4AED-B2CD-3EDC68C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09F4-6EC8-41C5-84D3-BAB56B22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BB3-C74D-4150-BA2A-54BCBF4E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7C9-DE12-4583-BB9E-667051D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EF4-9A5B-484B-8C85-86725F9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0EE-010D-41F9-9203-2D06F89F9F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E7A2-9D4B-4A69-B335-AB9B5B8873F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19B6-6A89-4691-AD79-3F77C66008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848-7A93-428C-ABAF-F5331512BF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B4E4-46DF-49A8-AE31-8D5D210EDD5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10920" y="3213000"/>
            <a:ext cx="704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одготовил – Невдах Александр Сергеевич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унинецкий ГПТК СП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18.11.2014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Декоративная кладка и облицовка стен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Сэндвич-панел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4" name="Picture 2" descr="C:\Users\adminius\Desktop\otdelka-fasadov-7.jpg"/>
          <p:cNvPicPr/>
          <p:nvPr/>
        </p:nvPicPr>
        <p:blipFill>
          <a:blip r:embed="rId1"/>
          <a:stretch/>
        </p:blipFill>
        <p:spPr>
          <a:xfrm>
            <a:off x="900000" y="1341360"/>
            <a:ext cx="804564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арианты декоративной кладк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сылки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ttp://repair-home.net/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сновная инф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5" descr=""/>
          <p:cNvPicPr/>
          <p:nvPr/>
        </p:nvPicPr>
        <p:blipFill>
          <a:blip r:embed="rId1"/>
          <a:stretch/>
        </p:blipFill>
        <p:spPr>
          <a:xfrm>
            <a:off x="4716360" y="371520"/>
            <a:ext cx="417672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лан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. Виды отделки фасад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Варианты декоративной клад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.Ссылк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Виды отделки фасадов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коративная отделочная штукатур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лицовочный кирпич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линкерная плитка и керамогранит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любые виды сайдинга (деревянный, виниловый)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туральный или искусственный камен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асадные кассеты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ендвич-панел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Отделка фасадов штукатуркой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2" descr="C:\Users\adminius\Desktop\1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46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асады домов из лицевого кирпич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Picture 2" descr="C:\Users\adminius\Desktop\otdelka-fasadov-2.jpg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96464"/>
                </a:solidFill>
                <a:uFillTx/>
                <a:latin typeface="Calibri"/>
              </a:rPr>
              <a:t>Фасадные кассеты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Picture 2" descr="C:\Users\adminius\Desktop\otdelka-fasadov-3.jpg"/>
          <p:cNvPicPr/>
          <p:nvPr/>
        </p:nvPicPr>
        <p:blipFill>
          <a:blip r:embed="rId1"/>
          <a:stretch/>
        </p:blipFill>
        <p:spPr>
          <a:xfrm>
            <a:off x="684360" y="981000"/>
            <a:ext cx="41036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Керамогранит для отделки фасадов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Picture 2" descr="C:\Users\adminius\Desktop\otdelka-fasadov-4.jpg"/>
          <p:cNvPicPr/>
          <p:nvPr/>
        </p:nvPicPr>
        <p:blipFill>
          <a:blip r:embed="rId1"/>
          <a:stretch/>
        </p:blipFill>
        <p:spPr>
          <a:xfrm>
            <a:off x="1042920" y="1413000"/>
            <a:ext cx="7263000" cy="4573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Сайдинг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Picture 2" descr="C:\Users\adminius\Desktop\otdelka-fasadov-5.jpg"/>
          <p:cNvPicPr/>
          <p:nvPr/>
        </p:nvPicPr>
        <p:blipFill>
          <a:blip r:embed="rId1"/>
          <a:stretch/>
        </p:blipFill>
        <p:spPr>
          <a:xfrm>
            <a:off x="971640" y="1413000"/>
            <a:ext cx="4762440" cy="3047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Камень в облицовке фасадов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2" descr="C:\Users\adminius\Desktop\otdelka-fasadov-6.jpg"/>
          <p:cNvPicPr/>
          <p:nvPr/>
        </p:nvPicPr>
        <p:blipFill>
          <a:blip r:embed="rId1"/>
          <a:stretch/>
        </p:blipFill>
        <p:spPr>
          <a:xfrm>
            <a:off x="1042920" y="1557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9:22:07Z</dcterms:created>
  <dc:creator>adminius</dc:creator>
  <dc:description/>
  <dc:language>en-US</dc:language>
  <cp:lastModifiedBy>adminius</cp:lastModifiedBy>
  <dcterms:modified xsi:type="dcterms:W3CDTF">2014-11-18T13:19:43Z</dcterms:modified>
  <cp:revision>10</cp:revision>
  <dc:subject/>
  <dc:title>Декоративная кладка и облицовка стен</dc:title>
</cp:coreProperties>
</file>