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20.png" ContentType="image/png"/>
  <Override PartName="/ppt/media/image2.jpeg" ContentType="image/jpeg"/>
  <Override PartName="/ppt/media/image22.jpeg" ContentType="image/jpeg"/>
  <Override PartName="/ppt/media/image7.png" ContentType="image/png"/>
  <Override PartName="/ppt/media/image28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82C-0000-49CD-AF85-B816BBA2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B83-969F-44F7-BE04-F1A4D2C3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9B3-9B03-40B4-AE36-23CB94A6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0B0-560F-4939-BC93-92BF64FC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FA8-8119-4256-A0E3-8DBDEF99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EE4-29C4-460C-87B3-C1B39DBE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DCF-BED1-44B8-883B-CB1BBF90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FDA-AE7F-4030-B750-C92E1454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9A9-4C23-4A06-9C30-005E6268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76F-F979-4811-ABC4-A6140856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23A-939B-48DF-8306-FAEC3E79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4D5-013E-42CF-9AAC-0B715491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8881BC-E8CE-4871-BC05-0EE8C516815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7506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b0b09"/>
                </a:solidFill>
                <a:latin typeface="Arial"/>
              </a:rPr>
              <a:t>Чрезвычайные ситуации на транспорте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285264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 u="sng">
                <a:solidFill>
                  <a:srgbClr val="2608da"/>
                </a:solidFill>
                <a:uFillTx/>
                <a:latin typeface="Arial"/>
              </a:rPr>
              <a:t>Урок 1</a:t>
            </a:r>
            <a:r>
              <a:rPr b="0" lang="ru-RU" sz="4000" spc="-1" strike="noStrike">
                <a:solidFill>
                  <a:srgbClr val="0b0b09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e52505"/>
                </a:solidFill>
                <a:latin typeface="Arial"/>
              </a:rPr>
              <a:t>ЧС на автомобильном транспорт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095880" y="2276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76720" y="36561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2 марта 2008 г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578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Объединенных Арабских Эмиратах произошла крупнейшая в истории страны автомобильная катастрофа. На скоростной автомагистрали Абу Даби–Дубаи столкнулись свыше 200 машин. В результате катастрофы не менее 8 человек погибли, более 300 получили ран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95280" y="0"/>
            <a:ext cx="8240760" cy="1260360"/>
            <a:chOff x="395280" y="0"/>
            <a:chExt cx="8240760" cy="12603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395280" y="0"/>
              <a:ext cx="824076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95280" y="0"/>
              <a:ext cx="824076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0920" y="1197000"/>
            <a:ext cx="889308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покидать машину до полной останов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делайте все, чтобы уйти от встречного удара: кювет, забор, кустарник, даже дерево лучше идущего на Вас автомобиля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Помните о том, что при столкновении с неподвижным предметом удар левым или правым крылом хуже, чем всем бампер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При неизбежности удара защитите голов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Если автомашина идет на малой скорости, вдавитесь в сиденье спиной и напрягая все мышцы, упритесь руками в рулевое колес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Если же скорость превышает 60 км/ч и Вы не пристегнуты ремнем безопасности, прижмитесь грудью к рулевой колонке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Если Вы едете на переднем месте пассажира, закройте голову руками и завалитесь на бок, распростершись на сиде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2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Сидя на заднем сидении, постарайтесь упасть на пол. Если рядом с Вами ребенок – накройте его соб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468360" y="0"/>
            <a:ext cx="8240760" cy="1157400"/>
            <a:chOff x="468360" y="0"/>
            <a:chExt cx="8240760" cy="115740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468360" y="0"/>
              <a:ext cx="8240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68360" y="0"/>
              <a:ext cx="82407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3276360" cy="239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076720" y="4365720"/>
            <a:ext cx="3529080" cy="231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40360" y="1052640"/>
            <a:ext cx="5003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итесь, в каком месте автомобиля, и  в каком положении Вы находитесь, не горит ли автомобиль и не подтекает ли бензин (особенно при опрокидывании). Если двери заклинены, покиньте салон автомобиля через окна, открыв их или разбив тяжелыми подручными предметами. Выбравшись из машины, отойдите от нее как можно дальше – возможен взры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127440"/>
            <a:ext cx="856944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Calisto MT"/>
              </a:rPr>
              <a:t>Первоочередные действия на месте ДТП</a:t>
            </a:r>
            <a:endParaRPr b="0" lang="en-US" sz="28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4936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кажите пострадавшим первую помощ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Выключите зажигание в поврежденном автомобиле, по возможности, отсоедините аккумуляторную батаре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оверьте, не вытекает ли топливо, иные горюче-смазочные материалы. Не курите рядом. При наличии дыма, запаха гари найдите источник горения и потушите его. Для тушения возгорания в первую очередь используйте автомобильный огнетушитель. В случае невозможности потушить возгорание, либо при угрозе взрыва, немедленно эвакуировать пострадавшего на безопасное расстоя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и необходимости организуйте немедленную доставку пострадавших в лечебное учрежд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ождитесь прибытия спасателей, бригады скорой медицинской помощи, сотрудников ДПС. Прибывшим сотрудникам служб детально опишите все, что вы увидели на месте происшестви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450720" y="195120"/>
            <a:ext cx="8240760" cy="1260720"/>
            <a:chOff x="450720" y="195120"/>
            <a:chExt cx="8240760" cy="126072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450720" y="195120"/>
              <a:ext cx="8240760" cy="12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0720" y="195120"/>
              <a:ext cx="8240760" cy="12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79280" y="1413000"/>
            <a:ext cx="896472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sto MT"/>
              </a:rPr>
              <a:t>При падении в воду машина может держаться на плаву некоторое время, достаточное для того, чтобы покинуть 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sto MT"/>
              </a:rPr>
              <a:t>1. </a:t>
            </a:r>
            <a:r>
              <a:rPr b="1" lang="ru-RU" sz="1800" spc="-1" strike="noStrike">
                <a:solidFill>
                  <a:srgbClr val="ffffff"/>
                </a:solidFill>
                <a:latin typeface="Calisto MT"/>
              </a:rPr>
              <a:t>Выбирайтесь через открытое окно, т.к. при открывании двери машина резко начнет тону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sto MT"/>
              </a:rPr>
              <a:t>2. При погружении на дно с закрытыми окнами и дверьми воздух в салоне автомобиля держится несколько мину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sto MT"/>
              </a:rPr>
              <a:t>3. Включите фары (чтобы машину было легче искать), активно провентилируйте легкие (глубокие вдохи и выдохи позволяют наполнить кровь кислородом «впрок»), избавьтесь от лишней одежды, захватите документы и день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sto MT"/>
              </a:rPr>
              <a:t>4. Выбирайтесь из машины через дверь или окно при заполнении машины водой наполовину, иначе Вам помешает поток воды, идущей в салон. При необходимости разбейте лобовое стекло тяжелыми подручными предмет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sto MT"/>
              </a:rPr>
              <a:t>5. Протиснитесь наружу, взявшись руками за крышу машины, а затем резко плывите ввер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1d1cb"/>
                </a:solidFill>
                <a:latin typeface="Arial"/>
              </a:rPr>
              <a:t>Общественный транспорт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692280"/>
            <a:ext cx="554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52505"/>
                </a:solidFill>
                <a:latin typeface="Arial"/>
              </a:rPr>
              <a:t>Пожар в общественном транспорт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и пожаре городской транспорт горит очень быстро. Нос и рот в этом случае следует заранее защитить шарфом, рукавом или другим материалом, по возможности смочив его любой жидкость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 случае пожара в салоне сообщите об этом водителю, откройте двери (с помощью аварийного открывания), аварийные выходы или разбейте окно. При наличии в салоне огнетушителя примите меры к ликвидации очага пожара. Выбирайтесь из салона наружу пригнувшись, не касаясь стен и металлических дета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и замыкании проводов на корпус троллейбуса или трамвая НАДО покидать салон короткими прыжками, чтоб не было поражением электрическим то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097440" cy="30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47628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449280"/>
            <a:ext cx="896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·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ередина салона -- самое безопасное мест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Лучше сидеть спиной вперед: меньше pиска в случае резкого тормож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Если сидите лицом вперед, то разобьете голову о спинку кресла, которое перед В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Сидеть по правому борту - безопаснее, чем по левому, подальше от встречного потока тpанспоp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Если стоите, размещайте точки опоры (две ноги, pуку на поручне) так, чтобы их вертикальная проекция на пол образовывала треугольник большой площад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Заранее выберите, куда будете падать в случае столкновения, а также кто и что упадет на Вас. Кладя груз на полку над головой, учитывайте, что он может упасть на голову именно В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Держаться за поручни обязательно -- даже если не качает. Когда качнет, будете хватать pуками возду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Качания поперек движения - чаще. Но резкое торможение опаснее резкого поворо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·  Если Вы упали в воду как пассажир общественного тpанспоpта, то главная опасность для Вас - не вода, а другие пассажиры. Они забьют все выходы своими телами. Оставайтесь на месте, пока салон не заполнится водой, потом выбирайтесь через форточку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сли нет рядом открытой форточки, выберите позицию для выбивания окна ногой и хладнокровно ждите. Дышите чаще и глубже, чтобы насытить организм кислоро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52505"/>
                </a:solidFill>
                <a:latin typeface="Arial"/>
              </a:rPr>
              <a:t>Столкновение общественного транспор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1413000"/>
            <a:ext cx="83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ь автомобильных аварий состоит в том, что 80 % раненых погибает в первые 3 часа из-за обильных кровопотерь. По статистике дорожные происшествия чаще всего происходят в час пик, в дни праздников, в первые и последние дни отпусков. Особенно опасна дорога зимой. На зимние месяцы приходится 60 % происшествий всего год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1680" y="260280"/>
            <a:ext cx="8540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Лидерств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 количеству трагических последствий и материальному ущербу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инадлежит автомобильному транспорт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он является самым аварийным не только в нашей стране, но и во многих развитых странах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жегод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т аварий на этом виде транспорта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 мире погибает более 300 тыс. человек и около 8 млн. человек получают ранения и увечь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в том числе в США – около 55 тыс. и 2 млн., в России – около 30 тыс. и более 180 тыс. соответствен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450720" y="268200"/>
            <a:ext cx="8240760" cy="1157400"/>
            <a:chOff x="450720" y="268200"/>
            <a:chExt cx="8240760" cy="11574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0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50720" y="268200"/>
              <a:ext cx="82407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85800" y="1447920"/>
            <a:ext cx="3198960" cy="2398680"/>
            <a:chOff x="685800" y="1447920"/>
            <a:chExt cx="3198960" cy="239868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685800" y="1447920"/>
              <a:ext cx="3198960" cy="23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5800" y="1447920"/>
              <a:ext cx="3198960" cy="23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11360" y="415296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724280" y="4191120"/>
            <a:ext cx="314964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9280" y="260280"/>
            <a:ext cx="8713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К механическим транспортным средствам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относятся автомобили, мотоциклы, мотороллеры, мопеды, велосипеды с подвесными двигателями, трамваи, троллейбусы, тракторы и другие самоходные механиз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3348000" cy="2305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40360" y="2060640"/>
            <a:ext cx="3203640" cy="230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419640" y="2060640"/>
            <a:ext cx="2352600" cy="2305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56360" y="4573440"/>
            <a:ext cx="2987640" cy="2229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203640" y="4508640"/>
            <a:ext cx="2770200" cy="2036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0" y="4559400"/>
            <a:ext cx="3059280" cy="22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608da"/>
                </a:solidFill>
                <a:latin typeface="Arial"/>
              </a:rPr>
              <a:t>История автомобиля и его первые </a:t>
            </a:r>
            <a:r>
              <a:rPr b="0" lang="ru-RU" sz="4000" spc="-1" strike="noStrike">
                <a:solidFill>
                  <a:srgbClr val="e52505"/>
                </a:solidFill>
                <a:latin typeface="Arial"/>
              </a:rPr>
              <a:t>аварии</a:t>
            </a:r>
            <a:r>
              <a:rPr b="0" lang="ru-RU" sz="4000" spc="-1" strike="noStrike">
                <a:solidFill>
                  <a:srgbClr val="2608da"/>
                </a:solidFill>
                <a:latin typeface="Arial"/>
              </a:rPr>
              <a:t> и </a:t>
            </a:r>
            <a:r>
              <a:rPr b="0" lang="ru-RU" sz="4000" spc="-1" strike="noStrike">
                <a:solidFill>
                  <a:srgbClr val="e52505"/>
                </a:solidFill>
                <a:latin typeface="Arial"/>
              </a:rPr>
              <a:t>жертвы</a:t>
            </a:r>
            <a:endParaRPr b="0" lang="en-US" sz="40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059280" cy="2314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32000" y="1628640"/>
            <a:ext cx="5834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Первым в мире дорожно-транспортным происшествием, которое назвали бы столкновением, наверное, следует считать катастрофу, которая произошла 6 октября 1804 года на территории Парижского Арсенала, когда здесь испытывалась «паровая телега» инженера Кюньо. Машина весом в несколько тонн (один только вес воды и топлива превышал 2000 фунтов), потеряв управление, «на полном ходу» (т. е. с максимальной для нее скоростью - 4 км/ч) врезалась в стену Арсенала.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221000"/>
            <a:ext cx="914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А в первом дорожно-транспортном происшествии, официально. зарегистрированном в полицейском протоколе 30 апреля 18961 был виновен американец Генри Уэллс. Он наехал на велосипеда имя которого осталось неизвестным. И в том же 1896 году произошло первое дорожно-транспортное происшествие с человеческой жертвой. Ею являлась некая  миссис Бритжит Дрисколл, переходившая 17 августа улицу Дельфинтеррас в Лондоне и угодившая под колеса автомобиля который вел со скоростью 6 км/ч водитель Артур Эдсель. Он сбил несмотря на то что миссис Дрисколл «энергично сигнализировала своим зонтиком», как сказано в полицейском протокол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450720" y="96840"/>
            <a:ext cx="8240760" cy="1444680"/>
            <a:chOff x="450720" y="96840"/>
            <a:chExt cx="8240760" cy="14446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450720" y="96840"/>
              <a:ext cx="824076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0720" y="96840"/>
              <a:ext cx="8240760" cy="14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1341360"/>
            <a:ext cx="63723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9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ушение правил дорожного дви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Превышение скорости дви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Техническая неисправность автотранспор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17440"/>
                <a:tab algn="l" pos="2031840"/>
                <a:tab algn="l" pos="2946240"/>
                <a:tab algn="l" pos="3860640"/>
                <a:tab algn="l" pos="4775040"/>
                <a:tab algn="l" pos="5689440"/>
                <a:tab algn="l" pos="6603840"/>
                <a:tab algn="l" pos="7518240"/>
                <a:tab algn="l" pos="8432640"/>
                <a:tab algn="l" pos="9347040"/>
                <a:tab algn="l" pos="1026144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Неудовлетворительное состояние автомобильных дорог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3860640"/>
            <a:ext cx="662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Управление автотранспортом лицами в нетрезвом состояни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Невыполнение правил перевозки опасных грузов и несоблюдение при этом необходимых требований безопас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Плохие погодные условия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443640" y="34290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43640" y="1484280"/>
            <a:ext cx="2286000" cy="171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154400" y="260280"/>
            <a:ext cx="498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ТП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330674"/>
                </a:solidFill>
                <a:latin typeface="Comic Sans MS"/>
              </a:rPr>
              <a:t>называется происшествие, возникшее в процессе движения механических транспортных средств и повлекшее за собой гибель или телесные повреждения людей, повреждение транспортных средств, сооружений, грузов или иной материальный ущер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4211640" cy="54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6005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толкнове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опрокидыва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стоящее транспортное средство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препятств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пешеход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велосипедист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гужевой транспорт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езд на животно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849d2"/>
                </a:solidFill>
                <a:latin typeface="Comic Sans MS"/>
              </a:rPr>
              <a:t>ДТП подразделяются на следующие в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2730600" cy="18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624720" y="1052640"/>
            <a:ext cx="2519280" cy="1888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5240160"/>
            <a:ext cx="2411280" cy="1617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732720" y="5324400"/>
            <a:ext cx="2411280" cy="15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-14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d5113"/>
                </a:solidFill>
                <a:latin typeface="Comic Sans MS"/>
              </a:rPr>
              <a:t>Основными видами нарушений правил дорожного движения водителями транспортных средств, приводящими к возникновению дорожно-транспортных происшествий, являю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48536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соответствие скорости конкретным условиям движ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арушения, связанные с отсутствием права на управление транспортных средст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управление транспортными средствами в состоянии опьян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ыезд на полосу встречного движ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евышение установленной скоро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соблюдение очередности проезд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арушение правил проезда пешеходных переход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правильный выбор дистанци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арушение правил обгон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эксплуатация технически неисправного транспор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588000" y="3789360"/>
            <a:ext cx="238140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4:29:03Z</dcterms:created>
  <dc:creator>comp</dc:creator>
  <dc:description/>
  <dc:language>en-US</dc:language>
  <cp:lastModifiedBy>Сергей</cp:lastModifiedBy>
  <dcterms:modified xsi:type="dcterms:W3CDTF">2011-09-28T17:26:12Z</dcterms:modified>
  <cp:revision>13</cp:revision>
  <dc:subject/>
  <dc:title>Чрезвычайные ситуации на транспорте</dc:title>
</cp:coreProperties>
</file>