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F61-1CF2-4B04-BAC1-9FF1325B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18F-26E8-44D0-843E-3EE2CE34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6B6-B4A2-4C97-BA28-75719C38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D41-565F-4D2E-90EF-1A166AC9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7E0E-5E1E-4E99-99A7-A819D41F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D661-FA9B-4218-95E4-ABD2EAA1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2832-518B-41DA-A337-6AD66F5B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F74D-277B-4FA8-B6C8-D7E2C4A9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745A-179E-44C8-A640-B432AEAD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4CF0-8218-417F-887B-FA76FD39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7F9F-DAF1-41A2-A66C-0E726DAB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CA8-2458-42B9-A9EF-7999A53E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480D-8996-46B3-B4B8-62288B19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3DA8-5AFF-4968-BAB1-CFA10FA5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33B1-3681-455F-B396-1350850D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AC3D-6F09-4D7E-B597-E84A8C72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7C9C-C042-451E-A6CD-C7603F2D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58699-ABC2-43A9-8076-D9450F64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EAA6A-4E28-44DB-93FD-2A04E9F2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8E2F7-4049-4280-AD21-4FB096C0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40F09-2674-4B60-81F1-4705A977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5CC62-1D24-43C9-80A9-CE944B53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567-6EFF-45E5-9FB1-78AEE7CC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2A39D-F5FF-4489-81D3-BEE18486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750AF-F7C5-40E4-A227-D202A706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18302-E1E1-4A12-B000-340C5BD6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FF7B2-969E-4E21-9138-DC52071E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94B40-3878-47C5-BC7C-5B02DEB1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080B0-85C9-4F71-872A-DCBD9773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647B0-1586-4EFE-8903-51498282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02B9-DA35-48EA-943E-D8360274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9737-487A-4B89-AC9C-EF2B2D20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9E10-E7D7-48EE-B9C8-8C1B0E61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560-86AB-43D6-AFC6-82716E51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9340D-9D75-496A-8AED-B0470416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90D97-44E9-4AD3-BA61-DCF3B613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DDD7-DA2B-41DB-A5EA-0C56EA05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FFE10-0D09-4D47-88A8-7B3CBE39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4CEF-E5CD-4E75-9DFD-66BA095C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26F39-43B9-40DC-8FC3-7C8D4F82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7C81-3954-42C1-A0E6-23CE8832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57BC2-11D5-4350-B4CF-7DBC6BB2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5CE9-8257-43A0-A936-73D849D3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6380-B60F-4696-AE4C-368B9E00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22F-E6EE-47F0-B984-B8AC456A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376-E00E-4981-93B5-A8876E3A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998-88C0-48FE-BB02-9720EF58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3ED-9CAD-4CA3-B526-3864C108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E1FB-620E-405E-BCDA-4E465B49838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BC04-06B6-4AE1-8BAB-9FFCED818CD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2D0E-297B-467A-A175-14511700E1D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B6C6-5D02-4AC1-AFC0-9F43B4333F6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458200" cy="204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Применение Вооруженных Сил Российской Федерации в борьбе с терроризмо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143160" y="3071880"/>
            <a:ext cx="2895840" cy="2143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7215120" y="2071800"/>
            <a:ext cx="1576440" cy="2324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3"/>
          <a:stretch/>
        </p:blipFill>
        <p:spPr>
          <a:xfrm>
            <a:off x="857160" y="4286160"/>
            <a:ext cx="1428840" cy="2314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4"/>
          <a:stretch/>
        </p:blipFill>
        <p:spPr>
          <a:xfrm>
            <a:off x="357120" y="207180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5"/>
          <a:stretch/>
        </p:blipFill>
        <p:spPr>
          <a:xfrm>
            <a:off x="6357960" y="4500720"/>
            <a:ext cx="14288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Содержимое 3" descr="http://goup32441.narod.ru/files/ogp/001_oporn_konspekt/2006/2006-01-1-1.gif"/>
          <p:cNvPicPr/>
          <p:nvPr/>
        </p:nvPicPr>
        <p:blipFill>
          <a:blip r:embed="rId1"/>
          <a:stretch/>
        </p:blipFill>
        <p:spPr>
          <a:xfrm>
            <a:off x="285840" y="1571760"/>
            <a:ext cx="850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орьба с терроризмом подразумевает непосредственное пресечение теракта или наказание виновных. Это совокупность законодательных, идеологически-информационных, организационных, административно-правовых, воспитательных и других функц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И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ользование ВС РФ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3840" y="1357200"/>
            <a:ext cx="86439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влечение ВС к урегулированию различных конфликтов и пресечению террористических акций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оруженных сил во внутреннем вооруженном конфликте, как правило, должно быть ограничено и осуществляться специально подготовленными частя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5429160" y="4214880"/>
            <a:ext cx="14288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дачи армии по борьбе с терроризмом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7143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нализ поступающей информации о состоянии, динамике и тенденциях распространения международного терроризма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ыработка предложений о направлениях развития сотрудничества в данном направлени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частие в формировании и развитии эффективной системы выявления, предупреждения и пресечения террористических акций, соответствующей оперативной, обстановке и тенденциям развития терроризма;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713880"/>
            <a:ext cx="8229600" cy="585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ординация совместной деятельности по недопущению совершения террористических актов на ядерных объектах, а также терактов с использованием средств массового поражения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частие в организации мероприятий по ликвидации существующих террористических организаций и незаконных вооруженных формирований, перехвату и закрытию каналов незаконного оборота оружия, боеприпасов, расщепляющихся и высокотоксичных материалов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оведение согласованных мероприятий по информационному и организационному противодействию формирования у граждан террористических намерений и настроени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7-02T08:38:08Z</dcterms:modified>
  <cp:revision>10</cp:revision>
  <dc:subject/>
  <dc:title>Применение Вооруженных Сил Российской Федерации в борьбе с терроризмом</dc:title>
</cp:coreProperties>
</file>