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186F-92E8-4B08-B584-E3B024F1A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52D4-DBF3-4DF6-B6F9-DD3871E3C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BE3C-5229-43DA-B7B7-C87206266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326C-104E-4B87-80D0-CB70DD96A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55CF2-A36A-4504-960C-323431726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D37EC-85C1-4820-BD2C-71F2EB9C5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BA22F-0C07-4750-8732-D7B57AA69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0E744-4C48-4BB4-AE53-C55A609A9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68718-AD35-4550-8A31-1A46664A2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12592-B57F-4718-B0F8-DA0B416E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A219A-F752-4877-8C05-5DA35686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20C9-0B37-4E5D-B130-987917D2D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F7C5E-8FCF-4C97-AE47-9EA5D6AF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CDCB9-6411-4B9B-A0EF-893AFEF6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8ECC0-6414-49FD-A5F0-C1FA5ABC6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CB517-E8D6-4779-8A80-976E77419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B806A-6560-4826-B557-8191B1543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EB1844-F347-48AF-8282-E4971C584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743041-05AA-4DA6-AB0C-6B16F6816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643E7D-FB6D-4DBA-BF56-9ADFE1CA3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2475FF-68C8-4BF7-956F-39108BC5F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7C32A8-E96F-4ACA-B351-5E4572837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D291-B953-4C6F-AED0-F9E639D88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242D66-D5FC-4143-8107-616C98A12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679E4D-4A0C-422D-819E-AE2B83C6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4D17AB-EFF3-4646-A73B-8D28AB3D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2DDE82-20E0-494C-96E2-800D685F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379C60-86D2-43FF-839E-944574000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2F9E10-454C-4508-9BA6-0A507B380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219C8A-AAC0-4CA3-B72B-2974C0939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DCE9E-4E93-491B-A2CF-2398C11C6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38E7A-1EC6-449B-90C5-0F6E60806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6635C-D0C6-4278-873D-EBCC710FC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D77B-0949-4A01-84B8-736FCC81B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C75A7-359F-4116-9887-FA3FB6DC8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BDFC8-5B77-419E-81F4-FA3C0B60C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69EE5-E35A-4E44-A1D5-E388DA72F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995DB-2F61-4BF6-B9FF-1055320B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D2A49-C446-4CDD-B32F-80BAF326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D7411-672E-41A8-916E-BF4E5AF6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734C8-9B48-4B97-8ED4-BEB922A4C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3EABA-BE19-4046-A972-884245647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23A66-43E8-4545-80F2-763B7891C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CE47-1405-4E09-ADAC-9C3072917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EE7E-281D-4045-A42F-01CCD43C3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82A3-8905-436F-A374-82B58ABE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18BC-63BE-4009-BA5A-2FA331B8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A2AC-0665-4E64-B08E-5A862C7D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F3F40-8CEC-48D9-BB63-F4E63AAC1A32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741CD-0AD2-434F-8068-23567026B83C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CEA31-523F-45C4-BEDA-68AFA7D81397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42414-07FC-429E-8D80-B20EE07A1B5E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28400" y="356760"/>
            <a:ext cx="8458200" cy="204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Применение Вооруженных Сил Российской Федерации в борьбе с терроризмом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3143160" y="3071880"/>
            <a:ext cx="2895840" cy="21430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"/>
          <p:cNvPicPr/>
          <p:nvPr/>
        </p:nvPicPr>
        <p:blipFill>
          <a:blip r:embed="rId2"/>
          <a:stretch/>
        </p:blipFill>
        <p:spPr>
          <a:xfrm>
            <a:off x="7215120" y="2071800"/>
            <a:ext cx="1576440" cy="23241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"/>
          <p:cNvPicPr/>
          <p:nvPr/>
        </p:nvPicPr>
        <p:blipFill>
          <a:blip r:embed="rId3"/>
          <a:stretch/>
        </p:blipFill>
        <p:spPr>
          <a:xfrm>
            <a:off x="857160" y="4286160"/>
            <a:ext cx="1428840" cy="23148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"/>
          <p:cNvPicPr/>
          <p:nvPr/>
        </p:nvPicPr>
        <p:blipFill>
          <a:blip r:embed="rId4"/>
          <a:stretch/>
        </p:blipFill>
        <p:spPr>
          <a:xfrm>
            <a:off x="357120" y="2071800"/>
            <a:ext cx="1785960" cy="16430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"/>
          <p:cNvPicPr/>
          <p:nvPr/>
        </p:nvPicPr>
        <p:blipFill>
          <a:blip r:embed="rId5"/>
          <a:stretch/>
        </p:blipFill>
        <p:spPr>
          <a:xfrm>
            <a:off x="6357960" y="4500720"/>
            <a:ext cx="142884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1" name="Содержимое 3" descr="http://goup32441.narod.ru/files/ogp/001_oporn_konspekt/2006/2006-01-1-1.gif"/>
          <p:cNvPicPr/>
          <p:nvPr/>
        </p:nvPicPr>
        <p:blipFill>
          <a:blip r:embed="rId1"/>
          <a:stretch/>
        </p:blipFill>
        <p:spPr>
          <a:xfrm>
            <a:off x="285840" y="1571760"/>
            <a:ext cx="85010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борьба с терроризмом подразумевает непосредственное пресечение теракта или наказание виновных. Это совокупность законодательных, идеологически-информационных, организационных, административно-правовых, воспитательных и других функций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И</a:t>
            </a: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спользование ВС РФ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213840" y="1357200"/>
            <a:ext cx="864396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ивлечение ВС к урегулированию различных конфликтов и пресечению террористических акций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спользование вооруженных сил во внутреннем вооруженном конфликте, как правило, должно быть ограничено и осуществляться специально подготовленными частям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6" name="Picture 3" descr=""/>
          <p:cNvPicPr/>
          <p:nvPr/>
        </p:nvPicPr>
        <p:blipFill>
          <a:blip r:embed="rId1"/>
          <a:stretch/>
        </p:blipFill>
        <p:spPr>
          <a:xfrm>
            <a:off x="5429160" y="4214880"/>
            <a:ext cx="142884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Задачи армии по борьбе с терроризмом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00040" y="171432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анализ поступающей информации о состоянии, динамике и тенденциях распространения международного терроризма;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выработка предложений о направлениях развития сотрудничества в данном направлении;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участие в формировании и развитии эффективной системы выявления, предупреждения и пресечения террористических акций, соответствующей оперативной, обстановке и тенденциям развития терроризма;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57200" y="713880"/>
            <a:ext cx="8229600" cy="585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координация совместной деятельности по недопущению совершения террористических актов на ядерных объектах, а также терактов с использованием средств массового поражения;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участие в организации мероприятий по ликвидации существующих террористических организаций и незаконных вооруженных формирований, перехвату и закрытию каналов незаконного оборота оружия, боеприпасов, расщепляющихся и высокотоксичных материалов;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проведение согласованных мероприятий по информационному и организационному противодействию формирования у граждан террористических намерений и настроений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иколай</dc:creator>
  <dc:description/>
  <dc:language>en-US</dc:language>
  <cp:lastModifiedBy>Николай</cp:lastModifiedBy>
  <dcterms:modified xsi:type="dcterms:W3CDTF">2013-07-02T08:38:08Z</dcterms:modified>
  <cp:revision>10</cp:revision>
  <dc:subject/>
  <dc:title>Применение Вооруженных Сил Российской Федерации в борьбе с терроризмом</dc:title>
</cp:coreProperties>
</file>