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427-962C-49E3-A4B9-B17F98F0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374-950A-4BA0-B2E2-03E9C831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8E8-97A6-419D-A0AF-284C6347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F13-01C0-490A-82C2-E4D2A907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E177-99A3-4687-AEA2-57E92E2A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6569-CB68-4025-80AA-93B00F4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F8A-7C12-4001-A0BF-B4B04B2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5D9E-3EB1-4084-BAB5-F852442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7F23-A344-4639-8943-E3FD915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21CE-BA24-45CB-BDB1-8810AA0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6A7-607C-487F-8930-74E7C7F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730-F54F-4B88-BFCE-63F695F5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0F38-D0CC-4EB6-B3E4-F38FD34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7292-244D-418D-AFD3-2A2288E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97A3-E9F6-4E11-AF3B-5E57F0B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1657-2FD7-4B3D-A60B-F4560EE9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B454-B8AF-4E1C-8EA9-F1A09B21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19E7E-2FA3-40EA-A38A-B48CEF70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3BBDD-2D7F-4A18-B23C-DD1D7007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61AC5-15D0-4AD2-8EDD-6698AEF3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2F860-E0DD-4C12-BB2E-333E306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1F4CA-0C0E-4FEF-AFE2-2D19DE2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32D-2BB3-48E9-AE9A-92CFBD33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FDC8E-B512-4830-8390-84AC4FBC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196B6-BBF1-4356-818A-7B09D138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132CF-CBA0-44A3-9CCF-B85713B5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6F760-A9A6-4A67-9707-6B10B8C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9AF43-3004-4797-8278-7DA2016D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7C806-0937-4B3D-A893-DEFA94AB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D5667-C268-403A-AACE-B5CB4C53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53BD-3EDA-4817-ACA8-A54332CF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6580-0430-4FB4-B51E-1DD417AA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8B55-5179-4819-B13D-31DDBC2D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28C-828F-4ED4-9FC9-5D9777CF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5034-6798-406B-8C86-F087095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090F-C766-49A0-B20C-198BFAA6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3CC1-0678-4306-9E39-32E1F6D2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9A0C-A800-4A25-BB2F-2D12930B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EB85-EDB5-443A-8F48-D77C0B4C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EA11-7BB2-48F4-A73C-E87FA14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A894-D1A9-43EE-B426-9FB93C57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E22F-ECF0-4918-93BD-E4C85ABF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0417-B433-4EB3-A242-8B0C34C1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F24-2097-476F-B9C3-8673EC5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C4C-B5EF-41DD-8585-05EB87E2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14E-52DA-4C84-B355-ACF4D24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38F-C155-406F-AB01-5838C6B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B9E-187B-491C-A647-41F4941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2BD-D1DA-4E34-9717-F4C07397712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FBF-11FD-4968-AA02-2E8882F721E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1B9-B97C-4456-96AE-72A85FBFD1D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E44-04FF-479A-B8F7-B7FFCDF7672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рименение Вооруженных Сил Российской Федерации в борьбе с терроризм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895840" cy="21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215120" y="2071800"/>
            <a:ext cx="157644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857160" y="4286160"/>
            <a:ext cx="1428840" cy="2314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4"/>
          <a:stretch/>
        </p:blipFill>
        <p:spPr>
          <a:xfrm>
            <a:off x="357120" y="2071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6357960" y="450072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Содержимое 3" descr="http://goup32441.narod.ru/files/ogp/001_oporn_konspekt/2006/2006-01-1-1.gif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рьба с терроризмом подразумевает непосредственное пресечение теракта или наказание виновных. Это совокупность законодательных, идеологически-информационных, организационных, административно-правовых, воспитательных и других функц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ользование ВС Р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3840" y="1357200"/>
            <a:ext cx="8643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е ВС к урегулированию различных конфликтов и пресечению террористических акц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оруженных сил во внутреннем вооруженном конфликте, как правило, должно быть ограничено и осуществляться специально подготовленными част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4214880"/>
            <a:ext cx="14288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 армии по борьбе с терроризмо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поступающей информации о состоянии, динамике и тенденциях распространения международного терроризма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работка предложений о направлениях развития сотрудничества в данном направлен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формировании и развитии эффективной системы выявления, предупреждения и пресечения террористических акций, соответствующей оперативной, обстановке и тенденциям развития терроризма;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ординация совместной деятельности по недопущению совершения террористических актов на ядерных объектах, а также терактов с использованием средств массового пораж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организации мероприятий по ликвидации существующих террористических организаций и незаконных вооруженных формирований, перехвату и закрытию каналов незаконного оборота оружия, боеприпасов, расщепляющихся и высокотоксичных материалов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ведение согласованных мероприятий по информационному и организационному противодействию формирования у граждан террористических намерений и настро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08:38:08Z</dcterms:modified>
  <cp:revision>10</cp:revision>
  <dc:subject/>
  <dc:title>Применение Вооруженных Сил Российской Федерации в борьбе с терроризмом</dc:title>
</cp:coreProperties>
</file>