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drumroll.wav" ContentType="audio/x-wav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EFB-E6CF-472F-9B96-6AF1F674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62A-C498-4F60-860C-C5C13CB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514-3B5D-4BBF-AD5B-6359945D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109-71B4-467D-BEFC-73C192BB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353-3A26-4A91-8A59-36545434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250-3325-4854-8089-A6A26798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988-D178-43CD-BAC5-E79106E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B06-C6AA-4AF1-A3D9-D604FF1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EFA-041E-4EF8-ADE0-E1C980E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7C6-D5AC-430A-831B-8BBB0B1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3F8-D626-4102-B832-D3D90646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597-B90F-49E8-9D6B-87057ED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395B-B06D-4A16-B6BB-7B2386324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14.png"/><Relationship Id="rId6" Type="http://schemas.openxmlformats.org/officeDocument/2006/relationships/slide" Target="slide8.xml"/><Relationship Id="rId7" Type="http://schemas.openxmlformats.org/officeDocument/2006/relationships/image" Target="../media/image15.png"/><Relationship Id="rId8" Type="http://schemas.openxmlformats.org/officeDocument/2006/relationships/slide" Target="slide9.xml"/><Relationship Id="rId9" Type="http://schemas.openxmlformats.org/officeDocument/2006/relationships/image" Target="../media/image16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46400"/>
            <a:ext cx="86104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Comic Sans MS"/>
              </a:rPr>
              <a:t>Автономное существование человека в природ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8610480" cy="59436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47880" cy="1285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204768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752840" cy="1218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6104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к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638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0968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лоде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хотничи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вёзд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дь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19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Шалаш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аёж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04920"/>
            <a:ext cx="7696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218960" cy="120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228680" cy="119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1199880" cy="1219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1296720" cy="1184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6477120" y="4419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276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209680"/>
            <a:ext cx="533520" cy="304920"/>
          </a:xfrm>
          <a:custGeom>
            <a:avLst/>
            <a:gdLst>
              <a:gd name="textAreaLeft" fmla="*/ 6660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56272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58920"/>
            <a:ext cx="8076960" cy="4870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33520" y="5715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ожите растопку под пучок хвор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5715000"/>
            <a:ext cx="678204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5720" cy="4953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47920" y="57452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ожгите раст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715000"/>
            <a:ext cx="75438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838080" y="5745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кладывайте в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5715000"/>
            <a:ext cx="68580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538200"/>
            <a:ext cx="678168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32000" y="578340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91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кладывайте п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457200"/>
            <a:ext cx="8458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828800" cy="174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51460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 торфяном бо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82880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362320" y="48798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зарослях сухого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1828800" cy="1768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6629400" y="2441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сухост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1828800" cy="176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934320" y="4724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азводить костё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2286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752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6765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7524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173340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362320" y="18273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оджигать сухое стоящее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175248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2860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лить в костёр горючие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95480" y="3105000"/>
            <a:ext cx="1752840" cy="1619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24280" y="3427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риближаться в синтетической оде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175284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238880" y="16765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быть у костра с распущен- ными воло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410080" y="4772160"/>
            <a:ext cx="174312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543800" y="5029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ходя, тушить кос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равил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3558960" cy="51120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84720" y="198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Презентация подготовлена   преподавателем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организа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тором ОБЖ, методистом по ОБЖ  Адмиралтейского НМЦ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РДЕРФЕЛЬДО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ладимиром Леонидов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33360"/>
            <a:ext cx="8640720" cy="6335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43200"/>
            <a:ext cx="84582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Добывание огня и 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1714680" cy="1733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1714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175248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67600" y="4495680"/>
            <a:ext cx="1733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пособы добывания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356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1532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33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219320" y="32767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ере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27672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о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аменный 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943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орючие слан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5627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80880"/>
            <a:ext cx="87631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Как правильно выбрать место для ко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523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514600"/>
            <a:ext cx="3124080" cy="2743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685800 h 2743200"/>
              <a:gd name="textAreaBottom" fmla="*/ 2057400 h 2743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600200" cy="1366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3200400"/>
            <a:ext cx="1676520" cy="1430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1143000"/>
            <a:ext cx="167616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72200" y="320040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9880" y="530856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5486400"/>
            <a:ext cx="73915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533520"/>
            <a:ext cx="7162920" cy="470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990720" y="5578560"/>
            <a:ext cx="72388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готовьте дрова и растопку –                                 сухие веточки, траву, бер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563868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4647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57200" y="5668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йдите поляну, защищённую от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5410080"/>
            <a:ext cx="838224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4521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33520" y="5486400"/>
            <a:ext cx="83055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чистите место от сухой травы и листвы (зимой – от снега), обложите кам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486400"/>
            <a:ext cx="8229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4564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609480" y="557856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глубоком снегу или на болоте сделайте на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9:11:11Z</dcterms:created>
  <dc:creator>svega</dc:creator>
  <dc:description/>
  <dc:language>en-US</dc:language>
  <cp:lastModifiedBy>vgavina</cp:lastModifiedBy>
  <dcterms:modified xsi:type="dcterms:W3CDTF">2011-05-31T08:08:16Z</dcterms:modified>
  <cp:revision>7</cp:revision>
  <dc:subject/>
  <dc:title>Слайд 1</dc:title>
</cp:coreProperties>
</file>