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15.png" ContentType="image/png"/>
  <Override PartName="/ppt/media/image6.png" ContentType="image/png"/>
  <Override PartName="/ppt/media/image29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4.png" ContentType="image/png"/>
  <Override PartName="/ppt/media/drumroll.wav" ContentType="audio/x-wav"/>
  <Override PartName="/ppt/media/image27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3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2B5E-D42E-43CD-AC78-27B2CBB67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8CED-7FB2-4CC6-A332-5F293E912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ADA3-2B08-4247-9178-553015CFB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C510-6822-4573-A767-4C5BDB635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1C68-035F-4F6E-9266-A01CE216D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6B09-5B4C-406E-B72B-B00B7D351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5BC7-D329-4AF3-87D1-F35073F11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1216-0A6B-4779-B00B-422AED6DA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80EB-BC73-4FA5-A7B9-4CD31E25A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C960-5216-4019-A2CB-9367A327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A5F3-E81B-46D6-99C2-AE5B4EE6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F508-4F22-4D22-AF12-68E5E8AD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8DDA-33D5-46BF-95C5-D2E223EDE8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6.xml"/><Relationship Id="rId3" Type="http://schemas.openxmlformats.org/officeDocument/2006/relationships/image" Target="../media/image13.png"/><Relationship Id="rId4" Type="http://schemas.openxmlformats.org/officeDocument/2006/relationships/slide" Target="slide7.xml"/><Relationship Id="rId5" Type="http://schemas.openxmlformats.org/officeDocument/2006/relationships/image" Target="../media/image14.png"/><Relationship Id="rId6" Type="http://schemas.openxmlformats.org/officeDocument/2006/relationships/slide" Target="slide8.xml"/><Relationship Id="rId7" Type="http://schemas.openxmlformats.org/officeDocument/2006/relationships/image" Target="../media/image15.png"/><Relationship Id="rId8" Type="http://schemas.openxmlformats.org/officeDocument/2006/relationships/slide" Target="slide9.xml"/><Relationship Id="rId9" Type="http://schemas.openxmlformats.org/officeDocument/2006/relationships/image" Target="../media/image16.png"/><Relationship Id="rId10" Type="http://schemas.openxmlformats.org/officeDocument/2006/relationships/audio" Target="../media/drumroll.wav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3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4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5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6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2246400"/>
            <a:ext cx="8610480" cy="19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Comic Sans MS"/>
              </a:rPr>
              <a:t>Автономное существование человека в природ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533520"/>
            <a:ext cx="8610480" cy="594360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1847880" cy="128592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657600" y="4267080"/>
            <a:ext cx="2057400" cy="17528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990720" y="4267080"/>
            <a:ext cx="2047680" cy="17528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248520" y="4267080"/>
            <a:ext cx="2057400" cy="17528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6781680" y="990720"/>
            <a:ext cx="1752840" cy="12189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04920" y="228600"/>
            <a:ext cx="8610480" cy="685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15228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Виды костр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610480" cy="563868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2209680" y="17524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Колодец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248520" y="19810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Охотничий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52480" y="39625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Звёздный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864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Нодья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60199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Шалаш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4120" y="60199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Таёжный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62120" y="304920"/>
            <a:ext cx="7696080" cy="6094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162920" y="4572000"/>
            <a:ext cx="1218960" cy="12096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105520" y="3429000"/>
            <a:ext cx="1228680" cy="119052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3048120" y="2286000"/>
            <a:ext cx="1199880" cy="121932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762120" y="1219320"/>
            <a:ext cx="1296720" cy="11840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6477120" y="4419720"/>
            <a:ext cx="533160" cy="304560"/>
          </a:xfrm>
          <a:custGeom>
            <a:avLst/>
            <a:gdLst>
              <a:gd name="textAreaLeft" fmla="*/ 66600 w 533160"/>
              <a:gd name="textAreaRight" fmla="*/ 466560 w 53316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3276720"/>
            <a:ext cx="533160" cy="304560"/>
          </a:xfrm>
          <a:custGeom>
            <a:avLst/>
            <a:gdLst>
              <a:gd name="textAreaLeft" fmla="*/ 66600 w 533160"/>
              <a:gd name="textAreaRight" fmla="*/ 466560 w 53316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2209680"/>
            <a:ext cx="533520" cy="304920"/>
          </a:xfrm>
          <a:custGeom>
            <a:avLst/>
            <a:gdLst>
              <a:gd name="textAreaLeft" fmla="*/ 66600 w 533520"/>
              <a:gd name="textAreaRight" fmla="*/ 466920 w 5335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62320" y="22860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Разведение кост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400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5562720"/>
            <a:ext cx="8229600" cy="838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33520" y="358920"/>
            <a:ext cx="8076960" cy="48704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110" name=""/>
          <p:cNvSpPr/>
          <p:nvPr/>
        </p:nvSpPr>
        <p:spPr>
          <a:xfrm>
            <a:off x="533520" y="57150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Положите растопку под пучок хворо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295280" y="5715000"/>
            <a:ext cx="6782040" cy="685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295280" y="380880"/>
            <a:ext cx="6705720" cy="49532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1447920" y="574524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Подожгите растоп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762120" y="5715000"/>
            <a:ext cx="7543800" cy="7621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543800" cy="487188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116" name=""/>
          <p:cNvSpPr/>
          <p:nvPr/>
        </p:nvSpPr>
        <p:spPr>
          <a:xfrm>
            <a:off x="838080" y="574524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Подкладывайте ве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19320" y="5715000"/>
            <a:ext cx="6858000" cy="7621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219320" y="538200"/>
            <a:ext cx="6781680" cy="487188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119" name=""/>
          <p:cNvSpPr/>
          <p:nvPr/>
        </p:nvSpPr>
        <p:spPr>
          <a:xfrm>
            <a:off x="2232000" y="5783400"/>
            <a:ext cx="37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95280" y="57913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Укладывайте по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80880" y="457200"/>
            <a:ext cx="8458200" cy="990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1828800" cy="17496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2514600" y="24382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На торфяном боло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33520" y="4343400"/>
            <a:ext cx="1828800" cy="175248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125" name=""/>
          <p:cNvSpPr/>
          <p:nvPr/>
        </p:nvSpPr>
        <p:spPr>
          <a:xfrm>
            <a:off x="2362320" y="487980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В зарослях сухого камы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952880" y="1828800"/>
            <a:ext cx="1828800" cy="176832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127" name=""/>
          <p:cNvSpPr/>
          <p:nvPr/>
        </p:nvSpPr>
        <p:spPr>
          <a:xfrm>
            <a:off x="6629400" y="24415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Среди сухосто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5029200" y="4267080"/>
            <a:ext cx="1828800" cy="17654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6934320" y="472428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Под деревь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53352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Где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нельзя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разводить костёр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228600"/>
            <a:ext cx="8458200" cy="838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14600" y="175248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43200" y="1676520"/>
            <a:ext cx="1066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175248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7200" y="1571760"/>
            <a:ext cx="1733400" cy="17049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136" name=""/>
          <p:cNvSpPr/>
          <p:nvPr/>
        </p:nvSpPr>
        <p:spPr>
          <a:xfrm>
            <a:off x="2362320" y="182736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Не поджигать сухое стоящее дере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57200" y="4800600"/>
            <a:ext cx="1752480" cy="167652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138" name=""/>
          <p:cNvSpPr/>
          <p:nvPr/>
        </p:nvSpPr>
        <p:spPr>
          <a:xfrm>
            <a:off x="2286000" y="51055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Не лить в костёр горючие жид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2895480" y="3105000"/>
            <a:ext cx="1752840" cy="161928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140" name=""/>
          <p:cNvSpPr/>
          <p:nvPr/>
        </p:nvSpPr>
        <p:spPr>
          <a:xfrm>
            <a:off x="4724280" y="342756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Не приближаться в синтетической одеж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5410080" y="1600200"/>
            <a:ext cx="1752840" cy="167652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142" name=""/>
          <p:cNvSpPr/>
          <p:nvPr/>
        </p:nvSpPr>
        <p:spPr>
          <a:xfrm>
            <a:off x="7238880" y="1676520"/>
            <a:ext cx="1905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е быть у костра с распущен- ными волос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5410080" y="4772160"/>
            <a:ext cx="1743120" cy="17049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7543800" y="502920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Уходя, тушить костё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3520" y="30492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Правила безопас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4360" y="873000"/>
            <a:ext cx="3558960" cy="5112000"/>
          </a:xfrm>
          <a:prstGeom prst="rect">
            <a:avLst/>
          </a:prstGeom>
          <a:ln w="57240">
            <a:solidFill>
              <a:srgbClr val="666699"/>
            </a:solidFill>
            <a:miter/>
          </a:ln>
        </p:spPr>
      </p:pic>
      <p:sp>
        <p:nvSpPr>
          <p:cNvPr id="147" name=""/>
          <p:cNvSpPr/>
          <p:nvPr/>
        </p:nvSpPr>
        <p:spPr>
          <a:xfrm>
            <a:off x="4284720" y="198900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30305"/>
                </a:solidFill>
                <a:latin typeface="Arial"/>
              </a:rPr>
              <a:t>Презентация подготовлена   преподавателем</a:t>
            </a:r>
            <a:r>
              <a:rPr b="1" lang="en-US" sz="2400" spc="-1" strike="noStrike">
                <a:solidFill>
                  <a:srgbClr val="030305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30305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30305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30305"/>
                </a:solidFill>
                <a:latin typeface="Arial"/>
              </a:rPr>
              <a:t>организа</a:t>
            </a:r>
            <a:r>
              <a:rPr b="1" lang="en-US" sz="2400" spc="-1" strike="noStrike">
                <a:solidFill>
                  <a:srgbClr val="030305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030305"/>
                </a:solidFill>
                <a:latin typeface="Arial"/>
              </a:rPr>
              <a:t>тором ОБЖ, методистом по ОБЖ  Адмиралтейского НМЦ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МАРДЕРФЕЛЬДОМ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                    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ладимиром Леонидович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9280" y="333360"/>
            <a:ext cx="8640720" cy="633564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2743200"/>
            <a:ext cx="853416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743200"/>
            <a:ext cx="8534160" cy="1295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43200"/>
            <a:ext cx="84582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2895480"/>
            <a:ext cx="8458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Добывание огня и разведение кост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14400" y="4572000"/>
            <a:ext cx="1714680" cy="17334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400800" y="533520"/>
            <a:ext cx="1752480" cy="171432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990720" y="533520"/>
            <a:ext cx="1752480" cy="175248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6267600" y="4495680"/>
            <a:ext cx="1733400" cy="17528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880" y="304920"/>
            <a:ext cx="8458200" cy="685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22860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Способы добывания ог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8458200" cy="535608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3520" y="304920"/>
            <a:ext cx="8153280" cy="6094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2860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Виды топли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53337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1219320" y="3276720"/>
            <a:ext cx="201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Дере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276720"/>
            <a:ext cx="156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Тор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19320" y="60199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Каменный уг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10080" y="59436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Горючие сланц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943600" y="5562720"/>
            <a:ext cx="68580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380880"/>
            <a:ext cx="8763120" cy="6098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80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Как правильно выбрать место для кост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715000" y="1523880"/>
            <a:ext cx="68580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3505320"/>
            <a:ext cx="68580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077320" y="3505320"/>
            <a:ext cx="68580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48120" y="2514600"/>
            <a:ext cx="3124080" cy="2743200"/>
          </a:xfrm>
          <a:custGeom>
            <a:avLst/>
            <a:gdLst>
              <a:gd name="textAreaLeft" fmla="*/ 780840 w 3124080"/>
              <a:gd name="textAreaRight" fmla="*/ 2343240 w 3124080"/>
              <a:gd name="textAreaTop" fmla="*/ 685800 h 2743200"/>
              <a:gd name="textAreaBottom" fmla="*/ 2057400 h 274320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809880" y="3200400"/>
            <a:ext cx="1600200" cy="136692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7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371600" y="3200400"/>
            <a:ext cx="1676520" cy="143028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7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733920" y="1143000"/>
            <a:ext cx="1676160" cy="13971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7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172200" y="3200400"/>
            <a:ext cx="1676520" cy="13971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7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809880" y="5308560"/>
            <a:ext cx="1676520" cy="13971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914400" y="5486400"/>
            <a:ext cx="7391520" cy="10666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66680" y="533520"/>
            <a:ext cx="7162920" cy="470052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80" name=""/>
          <p:cNvSpPr/>
          <p:nvPr/>
        </p:nvSpPr>
        <p:spPr>
          <a:xfrm>
            <a:off x="990720" y="5578560"/>
            <a:ext cx="723888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Заготовьте дрова и растопку –                                 сухие веточки, траву, берес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80880" y="5638680"/>
            <a:ext cx="8458200" cy="685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533520"/>
            <a:ext cx="8305920" cy="46479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83" name=""/>
          <p:cNvSpPr/>
          <p:nvPr/>
        </p:nvSpPr>
        <p:spPr>
          <a:xfrm>
            <a:off x="457200" y="56689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Найдите поляну, защищённую от вет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80880" y="5410080"/>
            <a:ext cx="8382240" cy="990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9480"/>
            <a:ext cx="8229600" cy="45212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86" name=""/>
          <p:cNvSpPr/>
          <p:nvPr/>
        </p:nvSpPr>
        <p:spPr>
          <a:xfrm>
            <a:off x="533520" y="5486400"/>
            <a:ext cx="830556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Очистите место от сухой травы и листвы (зимой – от снега), обложите камн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5486400"/>
            <a:ext cx="8229600" cy="990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609480"/>
            <a:ext cx="8153280" cy="456408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sp>
        <p:nvSpPr>
          <p:cNvPr id="89" name=""/>
          <p:cNvSpPr/>
          <p:nvPr/>
        </p:nvSpPr>
        <p:spPr>
          <a:xfrm>
            <a:off x="609480" y="5578560"/>
            <a:ext cx="80010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На глубоком снегу или на болоте сделайте наст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5T09:11:11Z</dcterms:created>
  <dc:creator>svega</dc:creator>
  <dc:description/>
  <dc:language>en-US</dc:language>
  <cp:lastModifiedBy>vgavina</cp:lastModifiedBy>
  <dcterms:modified xsi:type="dcterms:W3CDTF">2011-05-31T08:08:16Z</dcterms:modified>
  <cp:revision>7</cp:revision>
  <dc:subject/>
  <dc:title>Слайд 1</dc:title>
</cp:coreProperties>
</file>