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1576-47C4-4BF2-B962-52B7366459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4F08-E532-4F62-A792-AD884AB2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82D6-E3CE-446A-839F-6BF88AA3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7256-48C5-4895-B2C3-43983C9077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D63D9-0295-4CE0-8AC0-2DACC492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E17C-1648-4BE6-9B05-D104A7EF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EEA0-7F7B-4E75-A8B8-04547BCB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E74D-12D2-49B5-AE46-66D984C3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90B7-FA26-4D7D-96BD-AA2B13D1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8731B-063B-492E-8A1D-E28FF359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ABBF-DEF1-48F6-A8D1-088CC660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3FCB-C211-477B-8FF1-DD3C4771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3B1406-D5C0-489E-9B4F-37EB14210FB3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рожные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рещающие зна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079640" y="539640"/>
            <a:ext cx="755964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л преподаватель дополнительного образ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школы им.Жака — Ива Кус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живых А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82472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0760" y="324000"/>
            <a:ext cx="382248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9720" y="274680"/>
            <a:ext cx="372456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58880" y="527040"/>
            <a:ext cx="402624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10000" y="603360"/>
            <a:ext cx="392400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10000" y="450720"/>
            <a:ext cx="3924000" cy="549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33680" y="603360"/>
            <a:ext cx="407664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8120" y="647640"/>
            <a:ext cx="412776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58880" y="603360"/>
            <a:ext cx="402624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82920" y="285840"/>
            <a:ext cx="4178160" cy="58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49280" y="1306440"/>
            <a:ext cx="644364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43240" y="349200"/>
            <a:ext cx="445752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17528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404640"/>
            <a:ext cx="47530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92280" y="274680"/>
            <a:ext cx="41594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76440" y="304920"/>
            <a:ext cx="419112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35200" y="501480"/>
            <a:ext cx="3873600" cy="53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84440" y="374760"/>
            <a:ext cx="3975120" cy="56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968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19360" y="274680"/>
            <a:ext cx="39052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65360" y="482760"/>
            <a:ext cx="4013280" cy="54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85880" y="274680"/>
            <a:ext cx="39704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82436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35200" y="399960"/>
            <a:ext cx="38736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82920" y="552600"/>
            <a:ext cx="417816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58880" y="552600"/>
            <a:ext cx="402624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57360" y="374760"/>
            <a:ext cx="4229280" cy="56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8120" y="298440"/>
            <a:ext cx="412776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229600" cy="56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229600" cy="56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725480"/>
            <a:ext cx="8229600" cy="29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2160" y="304920"/>
            <a:ext cx="427968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898560"/>
            <a:ext cx="822960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8880" y="324000"/>
            <a:ext cx="402624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410364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32040" y="274680"/>
            <a:ext cx="367992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46360" y="274680"/>
            <a:ext cx="38512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19360" y="274680"/>
            <a:ext cx="39052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8280" y="274680"/>
            <a:ext cx="37274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08280" y="274680"/>
            <a:ext cx="37274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42:27Z</dcterms:created>
  <dc:creator>НДШБД</dc:creator>
  <dc:description/>
  <dc:language>en-US</dc:language>
  <cp:lastModifiedBy>0</cp:lastModifiedBy>
  <dcterms:modified xsi:type="dcterms:W3CDTF">2012-01-17T09:14:36Z</dcterms:modified>
  <cp:revision>35</cp:revision>
  <dc:subject/>
  <dc:title>Слайд 1</dc:title>
</cp:coreProperties>
</file>