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7D49-7D75-475E-B048-7F12C216F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AA8B-3AF2-4B70-92B4-2E1F832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E4B3-8FFB-4E06-91CF-97A08A98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5852-F298-4036-953F-9A37AA5A8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DB71-BF87-4ADB-888E-3E45514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041C-D17F-47C3-8CB4-DC4C217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8026-E695-4FB0-9084-88C8CB96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71F9-286C-4272-A032-4BD896A6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62CF-5F59-40EE-8D93-22248DF1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9DAF-7270-40A6-858F-A33B06F6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E45D-D1A4-4B55-863F-51E3286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3E69-936A-4740-8B37-6471EBEB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CF5CCD-4534-4156-9F5B-50A2C3D65DC2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39640"/>
            <a:ext cx="755964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 преподаватель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школы им.Жака — Ива Кус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живых А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24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0760" y="324000"/>
            <a:ext cx="38224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9720" y="274680"/>
            <a:ext cx="37245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8880" y="527040"/>
            <a:ext cx="402624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10000" y="603360"/>
            <a:ext cx="392400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10000" y="450720"/>
            <a:ext cx="3924000" cy="54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33680" y="603360"/>
            <a:ext cx="40766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8120" y="647640"/>
            <a:ext cx="41277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8880" y="603360"/>
            <a:ext cx="40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2920" y="285840"/>
            <a:ext cx="417816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49280" y="1306440"/>
            <a:ext cx="644364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3240" y="349200"/>
            <a:ext cx="44575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1752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2280" y="274680"/>
            <a:ext cx="4159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76440" y="304920"/>
            <a:ext cx="419112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35200" y="501480"/>
            <a:ext cx="387360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84440" y="374760"/>
            <a:ext cx="397512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65360" y="482760"/>
            <a:ext cx="4013280" cy="54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85880" y="274680"/>
            <a:ext cx="3970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8243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35200" y="399960"/>
            <a:ext cx="38736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2920" y="552600"/>
            <a:ext cx="41781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8880" y="552600"/>
            <a:ext cx="402624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57360" y="374760"/>
            <a:ext cx="422928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8120" y="298440"/>
            <a:ext cx="412776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725480"/>
            <a:ext cx="822960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2160" y="304920"/>
            <a:ext cx="42796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2296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8880" y="324000"/>
            <a:ext cx="402624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10364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32040" y="274680"/>
            <a:ext cx="36799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46360" y="274680"/>
            <a:ext cx="3851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2:27Z</dcterms:created>
  <dc:creator>НДШБД</dc:creator>
  <dc:description/>
  <dc:language>en-US</dc:language>
  <cp:lastModifiedBy>0</cp:lastModifiedBy>
  <dcterms:modified xsi:type="dcterms:W3CDTF">2012-01-17T09:14:36Z</dcterms:modified>
  <cp:revision>35</cp:revision>
  <dc:subject/>
  <dc:title>Слайд 1</dc:title>
</cp:coreProperties>
</file>