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6739-847E-4638-ACDE-FA7D57636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0629B-6BF5-4F2B-B059-98740EF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251F-59BC-4163-942F-741A752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0943-67B2-4D9F-8103-B628FF807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C2D8-A5DB-4974-8AA2-94B2203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1C78-6FA8-4A24-B1DF-BDC2D8F3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790C-6742-44BD-B236-80FAA325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C075-93CD-4AA1-9F1E-D1A4004C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1505-39FF-475B-9646-A0D970C3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8DD6-C1F7-42C1-ADB8-4B0A688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03C9-8E92-4BCA-BCA2-2F0DB5F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AE23-6924-495D-8B22-6669590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1AB44B-3290-42A6-90D4-5B769A34A09B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рещающие 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79640" y="539640"/>
            <a:ext cx="755964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 преподаватель дополнительного образ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школы им.Жака — Ива Кус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живых А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824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0760" y="324000"/>
            <a:ext cx="38224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9720" y="274680"/>
            <a:ext cx="372456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58880" y="527040"/>
            <a:ext cx="402624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10000" y="603360"/>
            <a:ext cx="392400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10000" y="450720"/>
            <a:ext cx="3924000" cy="549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33680" y="603360"/>
            <a:ext cx="40766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8120" y="647640"/>
            <a:ext cx="41277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58880" y="603360"/>
            <a:ext cx="40262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82920" y="285840"/>
            <a:ext cx="417816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49280" y="1306440"/>
            <a:ext cx="644364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3240" y="349200"/>
            <a:ext cx="445752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17528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92280" y="274680"/>
            <a:ext cx="4159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76440" y="304920"/>
            <a:ext cx="419112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35200" y="501480"/>
            <a:ext cx="3873600" cy="539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84440" y="374760"/>
            <a:ext cx="397512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968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19360" y="274680"/>
            <a:ext cx="3905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65360" y="482760"/>
            <a:ext cx="4013280" cy="54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85880" y="274680"/>
            <a:ext cx="3970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8243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635200" y="399960"/>
            <a:ext cx="38736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2920" y="552600"/>
            <a:ext cx="417816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58880" y="552600"/>
            <a:ext cx="402624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57360" y="374760"/>
            <a:ext cx="4229280" cy="56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8120" y="298440"/>
            <a:ext cx="412776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22960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725480"/>
            <a:ext cx="822960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2160" y="304920"/>
            <a:ext cx="42796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22960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8880" y="324000"/>
            <a:ext cx="402624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10364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32040" y="274680"/>
            <a:ext cx="36799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46360" y="274680"/>
            <a:ext cx="3851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19360" y="274680"/>
            <a:ext cx="3905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8280" y="274680"/>
            <a:ext cx="3727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08280" y="274680"/>
            <a:ext cx="37274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2:27Z</dcterms:created>
  <dc:creator>НДШБД</dc:creator>
  <dc:description/>
  <dc:language>en-US</dc:language>
  <cp:lastModifiedBy>0</cp:lastModifiedBy>
  <dcterms:modified xsi:type="dcterms:W3CDTF">2012-01-17T09:14:36Z</dcterms:modified>
  <cp:revision>35</cp:revision>
  <dc:subject/>
  <dc:title>Слайд 1</dc:title>
</cp:coreProperties>
</file>