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214-0697-4AD7-8A07-10AD858D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4AE-427F-4693-AD9B-2BE79B33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7F7-2FED-4B4C-84C2-6185D5CD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8B9-4D36-48FE-8CEF-1E949D7D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58F7-1EBC-47DD-8271-7DCB62C2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99F1-4739-40C1-9B37-28602795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F93-FAAB-4382-87CF-BE838464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816A-85C0-4E46-8F8C-CEBE922D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C4C1-D427-4C3E-9C23-49570563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5645-BC66-4041-8551-4F11A5D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3FFB-B777-428F-8601-72B2FFB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281-4BF4-43A2-9E2F-526AB45F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9566-879E-4E76-B785-8C391E93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2A9C-EF5A-4214-BE3F-418C49BC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841D-F49E-415D-A771-F98F42FD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82DC-A27A-45C2-81CE-5C305F61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7A93-E0A9-4812-AB9A-C821876B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E3B-E1D7-4E53-9802-E2B5C8D1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1F1-D2FB-40F9-AFD3-2E3528DF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AE2-A032-42DA-BED0-36AFA873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813-30BE-4007-8FFE-A8CD9B45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7BE-A148-47FA-9E79-A3DFCE8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255-B226-4752-BC32-5F8E2461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A71-2F17-4004-86B4-4E7F01F6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09C5-581C-410B-9AEB-742B541998A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4DF-8CFC-4569-B7AA-714A6239A8F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 Black"/>
              </a:rPr>
              <a:t>ШКОЛА  БЕЗОПАС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image3981"/>
          <p:cNvPicPr/>
          <p:nvPr/>
        </p:nvPicPr>
        <p:blipFill>
          <a:blip r:embed="rId1"/>
          <a:stretch/>
        </p:blipFill>
        <p:spPr>
          <a:xfrm>
            <a:off x="500040" y="1357200"/>
            <a:ext cx="3630600" cy="489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неклассное мероприяти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ля 4 кла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бота выполнена учителем начальных класс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У «БСОШ№96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островных Т.Н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5" descr="AG00428_"/>
          <p:cNvPicPr/>
          <p:nvPr/>
        </p:nvPicPr>
        <p:blipFill>
          <a:blip r:embed="rId2"/>
          <a:stretch/>
        </p:blipFill>
        <p:spPr>
          <a:xfrm rot="1309200">
            <a:off x="3059280" y="4868640"/>
            <a:ext cx="1726920" cy="137304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5"/>
          <p:cNvSpPr/>
          <p:nvPr/>
        </p:nvSpPr>
        <p:spPr>
          <a:xfrm>
            <a:off x="371484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bfef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971640" y="11826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 знаток дорожных правил,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 машину здесь заправил. </a:t>
            </a:r>
            <a:br>
              <a:rPr sz="3600"/>
            </a:b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6" descr="i?id=123547950&amp;tov=0"/>
          <p:cNvPicPr/>
          <p:nvPr/>
        </p:nvPicPr>
        <p:blipFill>
          <a:blip r:embed="rId1"/>
          <a:stretch/>
        </p:blipFill>
        <p:spPr>
          <a:xfrm>
            <a:off x="5867280" y="2924280"/>
            <a:ext cx="2320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477800" y="90828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то знак такого рода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н на страже перехода.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еходим с куклой вместе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дорогу в этом месте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5" descr="MCj04320290000[1]"/>
          <p:cNvPicPr/>
          <p:nvPr/>
        </p:nvPicPr>
        <p:blipFill>
          <a:blip r:embed="rId1"/>
          <a:stretch/>
        </p:blipFill>
        <p:spPr>
          <a:xfrm>
            <a:off x="5796000" y="364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Это знак всем говорит -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удь внимателен предельно,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в этом месте и внезапн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оявиться могут дети!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Picture 5" descr="i?id=4674581&amp;tov=6"/>
          <p:cNvPicPr/>
          <p:nvPr/>
        </p:nvPicPr>
        <p:blipFill>
          <a:blip r:embed="rId1"/>
          <a:stretch/>
        </p:blipFill>
        <p:spPr>
          <a:xfrm>
            <a:off x="5003640" y="4022640"/>
            <a:ext cx="3403800" cy="2552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i?id=81488350&amp;tov=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Verdana"/>
              </a:rPr>
              <a:t>Конкурс «Если ты заболел?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Picture 5" descr="j0240719"/>
          <p:cNvPicPr/>
          <p:nvPr/>
        </p:nvPicPr>
        <p:blipFill>
          <a:blip r:embed="rId1"/>
          <a:stretch/>
        </p:blipFill>
        <p:spPr>
          <a:xfrm>
            <a:off x="5003640" y="1341360"/>
            <a:ext cx="3672000" cy="504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i?id=45753633&amp;tov=6"/>
          <p:cNvPicPr/>
          <p:nvPr/>
        </p:nvPicPr>
        <p:blipFill>
          <a:blip r:embed="rId2"/>
          <a:stretch/>
        </p:blipFill>
        <p:spPr>
          <a:xfrm>
            <a:off x="611280" y="1557360"/>
            <a:ext cx="2047680" cy="27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i?id=4503946&amp;tov=4"/>
          <p:cNvPicPr/>
          <p:nvPr/>
        </p:nvPicPr>
        <p:blipFill>
          <a:blip r:embed="rId3"/>
          <a:stretch/>
        </p:blipFill>
        <p:spPr>
          <a:xfrm>
            <a:off x="2916360" y="2565360"/>
            <a:ext cx="20653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</a:rPr>
              <a:t>«Когда ты дома один?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Вспомни правила поведения, если ты остался дома один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5" descr="Правила поведения и безопасности для детей в картинках"/>
          <p:cNvPicPr/>
          <p:nvPr/>
        </p:nvPicPr>
        <p:blipFill>
          <a:blip r:embed="rId1"/>
          <a:stretch/>
        </p:blipFill>
        <p:spPr>
          <a:xfrm>
            <a:off x="1187280" y="2924280"/>
            <a:ext cx="4105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00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AG00428_"/>
          <p:cNvPicPr/>
          <p:nvPr/>
        </p:nvPicPr>
        <p:blipFill>
          <a:blip r:embed="rId2"/>
          <a:stretch/>
        </p:blipFill>
        <p:spPr>
          <a:xfrm rot="19600800">
            <a:off x="755640" y="2492280"/>
            <a:ext cx="2266920" cy="1801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>
                <a:solidFill>
                  <a:srgbClr val="ff0066"/>
                </a:solidFill>
                <a:latin typeface="Kozuka Gothic Pro B"/>
              </a:rPr>
              <a:t>Подведем итоги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Конкурс “Размин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3" name="Picture 4" descr="ученик"/>
          <p:cNvPicPr/>
          <p:nvPr/>
        </p:nvPicPr>
        <p:blipFill>
          <a:blip r:embed="rId1"/>
          <a:stretch/>
        </p:blipFill>
        <p:spPr>
          <a:xfrm>
            <a:off x="4427640" y="1197000"/>
            <a:ext cx="4281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Назови  “Дорожные знаки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4" descr="image3961"/>
          <p:cNvPicPr/>
          <p:nvPr/>
        </p:nvPicPr>
        <p:blipFill>
          <a:blip r:embed="rId1"/>
          <a:stretch/>
        </p:blipFill>
        <p:spPr>
          <a:xfrm>
            <a:off x="4859280" y="1916280"/>
            <a:ext cx="2232000" cy="36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image3781"/>
          <p:cNvPicPr/>
          <p:nvPr/>
        </p:nvPicPr>
        <p:blipFill>
          <a:blip r:embed="rId2"/>
          <a:stretch/>
        </p:blipFill>
        <p:spPr>
          <a:xfrm>
            <a:off x="2556000" y="1916280"/>
            <a:ext cx="2303280" cy="3673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image3371"/>
          <p:cNvPicPr/>
          <p:nvPr/>
        </p:nvPicPr>
        <p:blipFill>
          <a:blip r:embed="rId3"/>
          <a:stretch/>
        </p:blipFill>
        <p:spPr>
          <a:xfrm>
            <a:off x="179280" y="1916280"/>
            <a:ext cx="2421000" cy="3673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image3591"/>
          <p:cNvPicPr/>
          <p:nvPr/>
        </p:nvPicPr>
        <p:blipFill>
          <a:blip r:embed="rId4"/>
          <a:stretch/>
        </p:blipFill>
        <p:spPr>
          <a:xfrm>
            <a:off x="7056360" y="1916280"/>
            <a:ext cx="2087640" cy="36003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9"/>
          <p:cNvSpPr/>
          <p:nvPr/>
        </p:nvSpPr>
        <p:spPr>
          <a:xfrm>
            <a:off x="179280" y="4506840"/>
            <a:ext cx="2305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2484360" y="4506840"/>
            <a:ext cx="22669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7164360" y="4506840"/>
            <a:ext cx="197964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4435560"/>
            <a:ext cx="226836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Ответь на вопросы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 получи 1 балл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за правильный ответ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пешеходы должны ходить, находясь на улиц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де должны ходить пешеходы, если нет тротуа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чему по тротуару надо идти по правой стороне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олько сигналов у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де находится “островок безопасности”?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Что обозначает красный сигнал светофор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entury Gothic"/>
              </a:rPr>
              <a:t>Конкурс “Музыкальный”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6" name="Picture 9" descr="EN00523A"/>
          <p:cNvPicPr/>
          <p:nvPr/>
        </p:nvPicPr>
        <p:blipFill>
          <a:blip r:embed="rId1"/>
          <a:stretch/>
        </p:blipFill>
        <p:spPr>
          <a:xfrm>
            <a:off x="1979640" y="1628640"/>
            <a:ext cx="4249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Verdana"/>
              </a:rPr>
              <a:t>Конкурс “Мы пассажиры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954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го мы называем пассажирами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разговаривать с водителем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во время проезда в транспорте высовываться из окна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ногами вставать на сиденье в транспорте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жно ли ходить по автобусу во время движения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жно ли в автобусе громко разговаривать, петь?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4e"/>
                </a:solidFill>
                <a:latin typeface="Verdana"/>
              </a:rPr>
              <a:t>Конкурс “Викторин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311796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Быстро отвечайте на вопросы и получайте по одному баллу за правильный отве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15" descr="image3511"/>
          <p:cNvPicPr/>
          <p:nvPr/>
        </p:nvPicPr>
        <p:blipFill>
          <a:blip r:embed="rId1"/>
          <a:stretch/>
        </p:blipFill>
        <p:spPr>
          <a:xfrm>
            <a:off x="468360" y="1268280"/>
            <a:ext cx="1295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Verdana"/>
              </a:rPr>
              <a:t>Конкурс “Загадка”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О каких дорожных знаках идет речь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4" descr="MCj04326510000[1]"/>
          <p:cNvPicPr/>
          <p:nvPr/>
        </p:nvPicPr>
        <p:blipFill>
          <a:blip r:embed="rId1"/>
          <a:stretch/>
        </p:blipFill>
        <p:spPr>
          <a:xfrm>
            <a:off x="6300720" y="3284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i?id=67691683&amp;tov=2"/>
          <p:cNvPicPr/>
          <p:nvPr/>
        </p:nvPicPr>
        <p:blipFill>
          <a:blip r:embed="rId2"/>
          <a:stretch/>
        </p:blipFill>
        <p:spPr>
          <a:xfrm>
            <a:off x="684360" y="3284640"/>
            <a:ext cx="26636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Тут и вилка, тут и ложка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Подзаправились немножко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кормили и собаку,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Говорим “спасибо” знак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5" descr="i?id=26792133&amp;tov=5"/>
          <p:cNvPicPr/>
          <p:nvPr/>
        </p:nvPicPr>
        <p:blipFill>
          <a:blip r:embed="rId1"/>
          <a:stretch/>
        </p:blipFill>
        <p:spPr>
          <a:xfrm>
            <a:off x="1187280" y="3789360"/>
            <a:ext cx="1594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4:33:45Z</dcterms:created>
  <dc:creator>мама</dc:creator>
  <dc:description/>
  <dc:language>en-US</dc:language>
  <cp:lastModifiedBy>Admin</cp:lastModifiedBy>
  <dcterms:modified xsi:type="dcterms:W3CDTF">2012-09-10T11:35:40Z</dcterms:modified>
  <cp:revision>9</cp:revision>
  <dc:subject/>
  <dc:title>Слайд 1</dc:title>
</cp:coreProperties>
</file>