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5BE-1703-4AE9-9EA2-C37D58C5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550-8FEC-47C0-AED8-3A706B6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41D-154A-461C-B3AB-6965AEDB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EEA-8B7B-4290-9C81-7B73FC7C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B5A1-A744-4A93-969E-54F2742F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F1DF-554F-4E08-9965-CBE5FCEC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990-2102-4540-A260-EF9ABB5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5B4F-164F-41B0-955A-DF8863A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EC2-952C-4C53-9E16-CFE6C245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23F7-6BB0-47D7-8578-08E34D9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7661-6329-448D-B049-209D1E4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885-304E-4ED2-A83F-98FFBE2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2C2-E8D8-4CA8-9FA4-7DA60DD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256A-9998-4674-81D8-4A01B45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76F6-334E-47CB-A173-6AD93A0F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6EF-848A-4D95-BC1D-F7AA6335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3698-F9A1-4E69-9270-18A16644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9DA-3715-4E1F-B867-72515AB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481-5E1C-42CB-873A-6FC20279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FCA-0D6B-4FAF-A835-8AB253C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224-6A92-4098-B756-8BBB227E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C25-0F29-454B-922E-AB63051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91F-2B38-4CA2-8EF5-3C74CF3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680-7C96-4780-9CF1-3C63D7A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1FAD-1B10-4EC3-85DF-94C0BE009D0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885-EE3B-45FE-A274-FC3242298C7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bfef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Admin</cp:lastModifiedBy>
  <dcterms:modified xsi:type="dcterms:W3CDTF">2012-09-10T11:35:40Z</dcterms:modified>
  <cp:revision>9</cp:revision>
  <dc:subject/>
  <dc:title>Слайд 1</dc:title>
</cp:coreProperties>
</file>