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718D-A382-4FA6-BC17-C2A3A6BB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E58-85DD-40D9-85F6-53232593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025-1C04-4388-AF53-07B56593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669-54F2-4846-9457-15188A52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915F-81FF-4513-84CD-9CEBC4F1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7F68-67B5-4FAF-B9F2-B675A825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914C-8BD6-4999-B07B-877D5F41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161D-1477-4BC6-BEB5-27C6CDED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3FF1-1869-49A9-9F38-5E7D6591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8C56-1815-4759-ADD7-50E6ED20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2ADD-D8FC-4082-B98E-988B11D0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B9B-0213-47B0-88FF-B5D7A86D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A0FC-23A7-4857-BDAF-9F56CB5C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9630-75AD-45EB-A02E-903A6A40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0FBB-43F7-436B-9FB3-988BFCB8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7A94-AD83-4255-A8E3-F11D143E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B434-C8DA-4AD4-A0D8-B57DD640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91E37-0CF4-4798-9438-65F39FAA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882B2-7927-44B5-9FEA-34EEC466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938AA-D4B4-46F8-B294-5FBC9192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2AD40-1B9B-46F0-8820-FE27C589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20EE1-E69D-476E-A96C-485394EC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6B2E-27A5-4BB5-8933-8A402790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0DE8D-1693-4DE0-AC97-3B084427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9CD62-3C91-4EE0-A92E-FCB7B74D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C0A92-A769-463D-8219-93112578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03C9A-055F-4F42-9255-603EA77C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76015-4F0E-417C-81E8-0FD3F83E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B6D5C-71D7-49BC-B41D-4BCDAC2D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4A86B-36AB-4AEB-96BD-1AD9DEA3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6F99-08E7-4997-AD76-8EFE9155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2ED-B3E3-4880-99AE-D02B992B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FFE-7F2A-4E42-AD79-A2EC16D6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DC6-55D2-4F34-AD66-1406BA70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EDA-5C7A-4A25-9DC6-EEC3B92F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E6B-8EB0-4101-B7E6-57D79BE2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1B7D-EDB3-4E57-9FFA-5A4F419279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6707-F0C1-4CC2-9134-EA946C6E2D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D0D0-322E-4DF4-B10A-962DFE0EE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4000" y="1268280"/>
            <a:ext cx="842472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Уголок пожарной безопасности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40464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нформацион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763280" y="1341360"/>
            <a:ext cx="1295640" cy="71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2133720"/>
            <a:ext cx="345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средств противопожарной защ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51640" y="1268280"/>
            <a:ext cx="86508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2060640"/>
            <a:ext cx="3456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целей эвак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1076400" cy="1081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771640" y="2852640"/>
            <a:ext cx="1009800" cy="1081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11280" y="4724280"/>
            <a:ext cx="1125360" cy="1152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700360" y="4724280"/>
            <a:ext cx="1127160" cy="1154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5280" y="3933720"/>
            <a:ext cx="165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лефон для использования при пожа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400536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жарная лест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27280" y="58770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гнетуш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58770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жарный к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4859280" y="2924280"/>
            <a:ext cx="1513080" cy="772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6877080" y="2924280"/>
            <a:ext cx="1511280" cy="772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5003640" y="4076640"/>
            <a:ext cx="1081080" cy="10382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7164360" y="4221000"/>
            <a:ext cx="1150920" cy="1089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716360" y="37162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казатель вы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371628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казатель запасного вы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5157720"/>
            <a:ext cx="15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правление к эвакуационному выходу по лестнице вн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32720" y="544500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ункт (место) сб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7500"/>
                            </p:stCondLst>
                            <p:childTnLst>
                              <p:par>
                                <p:cTn id="4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500"/>
                            </p:stCondLst>
                            <p:childTnLst>
                              <p:par>
                                <p:cTn id="4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9500"/>
                            </p:stCondLst>
                            <p:childTnLst>
                              <p:par>
                                <p:cTn id="4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2820"/>
                            </p:stCondLst>
                            <p:childTnLst>
                              <p:par>
                                <p:cTn id="5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4820"/>
                            </p:stCondLst>
                            <p:childTnLst>
                              <p:par>
                                <p:cTn id="5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7500"/>
                            </p:stCondLst>
                            <p:childTnLst>
                              <p:par>
                                <p:cTn id="5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8020"/>
                            </p:stCondLst>
                            <p:childTnLst>
                              <p:par>
                                <p:cTn id="5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20"/>
                            </p:stCondLst>
                            <p:childTnLst>
                              <p:par>
                                <p:cTn id="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540"/>
                            </p:stCondLst>
                            <p:childTnLst>
                              <p:par>
                                <p:cTn id="5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40"/>
                            </p:stCondLst>
                            <p:childTnLst>
                              <p:par>
                                <p:cTn id="5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2540"/>
                            </p:stCondLst>
                            <p:childTnLst>
                              <p:par>
                                <p:cTn id="5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3040"/>
                            </p:stCondLst>
                            <p:childTnLst>
                              <p:par>
                                <p:cTn id="5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3680"/>
                            </p:stCondLst>
                            <p:childTnLst>
                              <p:par>
                                <p:cTn id="6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180"/>
                            </p:stCondLst>
                            <p:childTnLst>
                              <p:par>
                                <p:cTn id="6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5180"/>
                            </p:stCondLst>
                            <p:childTnLst>
                              <p:par>
                                <p:cTn id="6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5680"/>
                            </p:stCondLst>
                            <p:childTnLst>
                              <p:par>
                                <p:cTn id="6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7560"/>
                            </p:stCondLst>
                            <p:childTnLst>
                              <p:par>
                                <p:cTn id="6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8060"/>
                            </p:stCondLst>
                            <p:childTnLst>
                              <p:par>
                                <p:cTn id="6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omic Sans MS"/>
              </a:rPr>
              <a:t>Требование закона – требование жизн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79246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Граждане имеют право 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щиту их жизни, здоровья и имущества в случае пожа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ещение ущерба, причиненного пожаром, в порядке, установленном действующим законодательств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ие в установлении причин пожара, нанесшего ущерб их здоровью и имущест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учение информации по вопросам пожарной безопасности, в том числе от органов управления и подразделений пожарной охр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624242"/>
              </a:buClr>
              <a:buSzPct val="8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стие в обеспечении пожарной безопасности, в том числе добровольной пожарной ох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341360"/>
            <a:ext cx="806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Обеспечение пожарной безопасности является одной из важнейшей функции государ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ждане обяза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людать требования пожарной безопас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ть в помещениях и строениях первичные средства тушения пожаров и противопожарный инвентар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обнаружении пожаров немедленно уведомлять о них пожарную охран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 прибытия пожарной охраны принимать посильные меры по спасению людей, имущества и тушению пожа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азывать содействие пожарной охране при тушении пожа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ять предписания и иные законные требования должностных лиц пожарной ох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26028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За нарушение требований пожарной безопасности граждане могут быть привлечены к дисциплинарной, административной или уголовной ответственности в соответствии с действующим законодатель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87640" y="4653000"/>
            <a:ext cx="6012000" cy="1942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519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ервичные средства пожаротуш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10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жарный щ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ДНАЗНАЧЕН для размещения первичных средств пожаротушения, немеханизированного инструмента и пожарного инвентаря в производственных и складских помещениях, не оборудованных противопожарным водопроводом и автоматическими установками пожаротушения, а также на территории предприятий, не имеющих наружного противопожарного водопровода, или при удалении зданий на расстоянии более 100 м от наружных пожарных источ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мплектуется в зависим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 типа щита и класса пожа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248360" cy="2909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900"/>
                            </p:stCondLst>
                            <p:childTnLst>
                              <p:par>
                                <p:cTn id="11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900"/>
                            </p:stCondLst>
                            <p:childTnLst>
                              <p:par>
                                <p:cTn id="1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9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38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126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230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жарный кран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3746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жарный кр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НАЗНАЧЕН для тушения пожаров и загораний веществ и материалов, кроме электроустановок под напряж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о хранения клю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льт дистанционного включения насоса – повыс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ный 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ный рук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780000" y="2997360"/>
            <a:ext cx="5184720" cy="3116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100"/>
                            </p:stCondLst>
                            <p:childTnLst>
                              <p:par>
                                <p:cTn id="1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1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62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380"/>
                            </p:stCondLst>
                            <p:childTnLst>
                              <p:par>
                                <p:cTn id="1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14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98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6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гнетушител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851280" cy="1770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2808360" cy="1811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4360" y="35002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глекисл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58053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ош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35733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душно – п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3779640" cy="1920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932360" y="3933720"/>
            <a:ext cx="3168720" cy="592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5364000" y="4508640"/>
            <a:ext cx="2411640" cy="1344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859280" y="58053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рабатыв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200"/>
                            </p:stCondLst>
                            <p:childTnLst>
                              <p:par>
                                <p:cTn id="2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2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700"/>
                            </p:stCondLst>
                            <p:childTnLst>
                              <p:par>
                                <p:cTn id="2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7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7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1200"/>
                            </p:stCondLst>
                            <p:childTnLst>
                              <p:par>
                                <p:cTn id="2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17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700"/>
                            </p:stCondLst>
                            <p:childTnLst>
                              <p:par>
                                <p:cTn id="2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3200"/>
                            </p:stCondLst>
                            <p:childTnLst>
                              <p:par>
                                <p:cTn id="26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ки пожарной безопасно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1363680" cy="1314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843280" y="2565360"/>
            <a:ext cx="1379520" cy="1314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7020000" y="2565360"/>
            <a:ext cx="1371600" cy="1314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55640" y="126828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прещ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3860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рещается загромождать проходы и (или) склад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рещается кур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386064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рещается пользоваться открытым огнём и ку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8800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ход запрещ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9960"/>
                            </p:stCondLst>
                            <p:childTnLst>
                              <p:par>
                                <p:cTn id="3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96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2680"/>
                            </p:stCondLst>
                            <p:childTnLst>
                              <p:par>
                                <p:cTn id="3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468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6440"/>
                            </p:stCondLst>
                            <p:childTnLst>
                              <p:par>
                                <p:cTn id="3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8440"/>
                            </p:stCondLst>
                            <p:childTnLst>
                              <p:par>
                                <p:cTn id="3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11280" y="26028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упрежд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1257480" cy="1101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771640" y="3573360"/>
            <a:ext cx="1371600" cy="1101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1257480" cy="1101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732720" y="3500280"/>
            <a:ext cx="1371600" cy="11019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95640" y="2781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рывоопас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4724280"/>
            <a:ext cx="27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асно. Радиоактивные вещества или ионизирующее изл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47973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асность поражения электрото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63700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ароопасно. Легковоспламеняющиеся ве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80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220"/>
                            </p:stCondLst>
                            <p:childTnLst>
                              <p:par>
                                <p:cTn id="3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122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460"/>
                            </p:stCondLst>
                            <p:childTnLst>
                              <p:par>
                                <p:cTn id="37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46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98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4980"/>
                            </p:stCondLst>
                            <p:childTnLst>
                              <p:par>
                                <p:cTn id="3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5640" y="3333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писывающ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1371600" cy="1387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1379520" cy="1387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00360" y="3933720"/>
            <a:ext cx="1469880" cy="1379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372360" y="3933720"/>
            <a:ext cx="1493640" cy="1397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411280" y="1773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рить зд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00720" y="170028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ючить штепсельную ви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00000" y="393372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4005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лючить перед рабо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88000" y="3933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ход зд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41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50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8980"/>
                            </p:stCondLst>
                            <p:childTnLst>
                              <p:par>
                                <p:cTn id="4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948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520"/>
                            </p:stCondLst>
                            <p:childTnLst>
                              <p:par>
                                <p:cTn id="438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252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3400"/>
                            </p:stCondLst>
                            <p:childTnLst>
                              <p:par>
                                <p:cTn id="4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40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9:39:42Z</dcterms:created>
  <dc:creator>1</dc:creator>
  <dc:description/>
  <dc:language>en-US</dc:language>
  <cp:lastModifiedBy>ALEX</cp:lastModifiedBy>
  <dcterms:modified xsi:type="dcterms:W3CDTF">2008-01-16T14:59:03Z</dcterms:modified>
  <cp:revision>7</cp:revision>
  <dc:subject/>
  <dc:title>Слайд 1</dc:title>
</cp:coreProperties>
</file>