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8A1-9EE5-41EE-B560-FE3B7029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E7C-4F43-47EC-B686-8345D653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281-91C0-444F-9D4B-A38F7DCF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E75-0A9B-4992-89E1-73DE13F7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A7D3-88D4-444E-9BE1-50744B78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B9CD-BA8D-4383-ADD3-E4DA4EE0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7B6E-E032-429B-B8DB-D58A1046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8A4C-B9D5-4C99-87CA-A2967E4E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5449-9340-40EE-AFD4-C30A3A80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D188-C9F9-41C8-85B6-90DAFD1D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3BA8-6115-48E4-97AD-8A709E0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8FC-582C-4DE0-A54D-D09B545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1E37-CCCB-4C6B-9218-62C1C22A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5249-B7B6-45B9-B4AD-2EDF281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FAEE-8716-4A36-A49A-991A346C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68D6-A1E1-45D2-9212-1728C877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3CA2-C5A6-48AB-81AB-EAB53EA7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2A361-A3A5-4B41-938F-4652BBB5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6C68-A4A2-43FE-8AEC-0520B1DE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93C0-91B0-4F09-A829-8B4A62FE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F9F4-1D90-4814-A204-F67ED1BB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D508-F176-4C09-9AE1-394ECDEE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712-55A9-432D-AB83-2CD573A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2C28-7070-4B55-9ECE-691CB0D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A459-9935-4C30-AF90-57671011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F816-0CC1-4FE3-9417-0966B57F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6D50-01CB-49FE-BD75-C9C3D1E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2F8D-477F-4620-9B51-8691A4BE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DC6D-8AE7-4111-BF79-30EDE543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18BA3-08E5-4B93-A872-FDF3F34D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2C5-0EFA-454F-90B5-DAFB1DF6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029-C2E9-4554-A92C-16414DF6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11A-D8C6-4F95-9889-3CA2A727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944-6976-457B-A935-6F385FE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D12-E287-4CE8-92D6-2DBFF03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8E9-BF8B-405C-9DB0-FFC56327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AE62-A71D-4283-9556-F44B48752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D7DC-280F-405B-A42C-E49FBF5D9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7999-7BC6-4ECF-ACFD-414792023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1268280"/>
            <a:ext cx="8424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Уголок пожарной безопасност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404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63280" y="1341360"/>
            <a:ext cx="129564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13372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редств противопожарной за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1268280"/>
            <a:ext cx="86508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2060640"/>
            <a:ext cx="345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целей эвак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1076400" cy="10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1009800" cy="10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112536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700360" y="4724280"/>
            <a:ext cx="1127160" cy="11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393372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лефон для использования при пож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4005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ая лест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нет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859280" y="2924280"/>
            <a:ext cx="1513080" cy="772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877080" y="2924280"/>
            <a:ext cx="1511280" cy="77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003640" y="4076640"/>
            <a:ext cx="1081080" cy="103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7164360" y="4221000"/>
            <a:ext cx="1150920" cy="1089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16360" y="3716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371628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запасного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15772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правление к эвакуационному выходу по лестнице вн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544500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нкт (место) с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820"/>
                            </p:stCondLst>
                            <p:childTnLst>
                              <p:par>
                                <p:cTn id="5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4820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802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2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540"/>
                            </p:stCondLst>
                            <p:childTnLst>
                              <p:par>
                                <p:cTn id="5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40"/>
                            </p:stCondLst>
                            <p:childTnLst>
                              <p:par>
                                <p:cTn id="5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2540"/>
                            </p:stCondLst>
                            <p:childTnLst>
                              <p:par>
                                <p:cTn id="5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40"/>
                            </p:stCondLst>
                            <p:childTnLst>
                              <p:par>
                                <p:cTn id="6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3680"/>
                            </p:stCondLst>
                            <p:childTnLst>
                              <p:par>
                                <p:cTn id="6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18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18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5680"/>
                            </p:stCondLst>
                            <p:childTnLst>
                              <p:par>
                                <p:cTn id="6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7560"/>
                            </p:stCondLst>
                            <p:childTnLst>
                              <p:par>
                                <p:cTn id="6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6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mic Sans MS"/>
              </a:rPr>
              <a:t>Требование закона – требование жизн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аждане имеют право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щиту их жизни, здоровья и имущества в случае пож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ещение ущерба, причиненного пожаром, в порядке, установленном действующим законодательст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установлении причин пожара, нанесшего ущерб их здоровью и имущ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ие информации по вопросам пожарной безопасности, в том числе от органов управления и подразделений пожарной 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обеспечении пожарной безопасности, в том числе добровольной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0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Обеспечение пожарной безопасности является одной из важнейшей функции госуда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е 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людать требования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ть в помещениях и строениях первичные средства тушения пожаров и противопожарный инвентар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бнаружении пожаров немедленно уведомлять о них пожарную охра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прибытия пожарной охраны принимать посильные меры по спасению людей, имущества и тушению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ывать содействие пожарной охране при тушении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ть предписания и иные законные требования должностных лиц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6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 нарушение требований пожарной безопасности граждане могут быть привлечены к дисциплинарной, административной или уголовной ответственности в соответствии с действующим законод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87640" y="4653000"/>
            <a:ext cx="6012000" cy="1942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519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10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ый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НАЗНАЧЕН для размещения первичных средств пожаротушения, немеханизированного инструмента и пожарного инвентаря в производственных и складских помещениях, не оборудованных противопожарным водопроводом и автоматическими установками пожаротушения, а также на территории предприятий, не имеющих наружного противопожарного водопровода, или при удалении зданий на расстоянии более 100 м от наружных пожарных источ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лектуется в завис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ипа щита и класса пожа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248360" cy="290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900"/>
                            </p:stCondLst>
                            <p:childTnLst>
                              <p:par>
                                <p:cTn id="1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900"/>
                            </p:stCondLst>
                            <p:childTnLst>
                              <p:par>
                                <p:cTn id="1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9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38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26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23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жарный кра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746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 для тушения пожаров и загораний веществ и материалов, кроме электроустановок под напря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хранения кл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льт дистанционного включения насоса – повыс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518472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10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62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38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14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8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06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гнетуши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851280" cy="1770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808360" cy="1811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3500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е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ош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3573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ушно – п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3779640" cy="192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168720" cy="592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364000" y="4508640"/>
            <a:ext cx="2411640" cy="134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59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рабат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2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2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7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7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7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200"/>
                            </p:stCondLst>
                            <p:childTnLst>
                              <p:par>
                                <p:cTn id="2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7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27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200"/>
                            </p:stCondLst>
                            <p:childTnLst>
                              <p:par>
                                <p:cTn id="2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ки пожарной безопасн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363680" cy="131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43280" y="2565360"/>
            <a:ext cx="1379520" cy="131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020000" y="2565360"/>
            <a:ext cx="1371600" cy="131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126828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рещ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загромождать проходы и (или) склад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ку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пользоваться открытым огнём и ку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апрещ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960"/>
                            </p:stCondLst>
                            <p:childTnLst>
                              <p:par>
                                <p:cTn id="3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96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68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68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44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844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2602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упрежд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1257480" cy="110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1371600" cy="1101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1257480" cy="110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732720" y="3500280"/>
            <a:ext cx="1371600" cy="1101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95640" y="27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ывоопа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472428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. Радиоактивные вещества или ионизирующее изл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797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сть поражения электрот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637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оопасно. Легковоспламеняющиеся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5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22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122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460"/>
                            </p:stCondLst>
                            <p:childTnLst>
                              <p:par>
                                <p:cTn id="3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46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398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98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пис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1371600" cy="13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1379520" cy="138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14698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72360" y="3933720"/>
            <a:ext cx="1493640" cy="1397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1280" y="177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ить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1700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штепсельную ви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3933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перед раб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39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500"/>
                            </p:stCondLst>
                            <p:childTnLst>
                              <p:par>
                                <p:cTn id="4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980"/>
                            </p:stCondLst>
                            <p:childTnLst>
                              <p:par>
                                <p:cTn id="4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48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520"/>
                            </p:stCondLst>
                            <p:childTnLst>
                              <p:par>
                                <p:cTn id="44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52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3400"/>
                            </p:stCondLst>
                            <p:childTnLst>
                              <p:par>
                                <p:cTn id="4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9:39:42Z</dcterms:created>
  <dc:creator>1</dc:creator>
  <dc:description/>
  <dc:language>en-US</dc:language>
  <cp:lastModifiedBy>ALEX</cp:lastModifiedBy>
  <dcterms:modified xsi:type="dcterms:W3CDTF">2008-01-16T14:59:03Z</dcterms:modified>
  <cp:revision>7</cp:revision>
  <dc:subject/>
  <dc:title>Слайд 1</dc:title>
</cp:coreProperties>
</file>