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74E83-A91F-43E8-856F-28558561B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2D2DA-6E0A-46B7-BB7C-4DE176E49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4E4B4-CBCD-4B3F-802C-51E028E84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8427E-083E-4678-8BE1-E1BBC08E3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26EA5-A545-4B53-B06F-778D8C448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A8480-97F8-421C-BF68-84CC6539D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66811-C191-49EA-A941-F935E3329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B060B-1D00-4A8E-B21A-7DA7A7F4B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0F9FB-A050-4E52-9DDC-725622B4D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8EFEB-CAEF-4A5F-87AD-F39C074B8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36CB5-1C66-4AA2-AFA7-DCB321845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2CC54-B913-4234-BCF1-720571037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C27CE-6D28-453D-9EE1-E411F94B5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6F4BF-8D98-4DE5-996A-2BBC0FC55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DB356-FB5B-4166-AC9E-61F333E16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C4650-E0D5-47EB-9BA5-02A44A17C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6B70B-9DC9-4759-AED4-8B523E63D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FC0F6C-71EE-40FF-B5E1-0CD40E516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0FF41E-8CA2-4003-A64B-C4A4DA53F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FE1C75-DF21-4F8A-AE97-7ADDA5F13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A955F3-7D54-455E-8A94-BE2EED489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9C16ED-771F-4623-8A50-AD526C835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0AF30-9B8D-4BC0-AA9B-FB65E51F1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07072C-4D86-45AF-A2C8-302937477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A4DFE5-391D-42E2-B801-33E293C75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AF7905-D5AD-4E31-95D0-442FF835E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6B6EDE-1BE3-420F-9D2E-524D013BE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6AF518-C519-476C-A432-227E70060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D5879D-A792-4773-B4E4-FAE180937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458F7C-AC7D-44AD-8393-3FC356EA5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8398E-20E9-4105-9B92-CE27367B3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67588-4288-490F-B783-A845C1C42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9F7B5-E61A-4717-86DB-4727F1DE5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A86C5-FE8F-4635-AA15-19B574CDE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ACF1A-20B6-4BC6-8198-5D44F6CD1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44710-4A18-4B2A-BA5A-13D5435DB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4D638-E30D-44E6-9DA7-94C07C50515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2B265-3EB4-4989-80C6-5BEF2A6C7FB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E224E-05E2-4C9E-8EBA-CF76B62051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image" Target="../media/image28.png"/><Relationship Id="rId9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324000" y="1268280"/>
            <a:ext cx="8424720" cy="196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Impact"/>
              </a:rPr>
              <a:t>Уголок пожарной безопасности</a:t>
            </a:r>
            <a:endParaRPr b="0" lang="en-US" sz="1800" spc="1" strike="noStrike">
              <a:ln w="936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Impact"/>
              <a:ea typeface="Impact"/>
            </a:endParaRPr>
          </a:p>
        </p:txBody>
      </p:sp>
    </p:spTree>
  </p:cSld>
  <p:transition spd="med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755640" y="404640"/>
            <a:ext cx="7129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Информационны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H="1">
            <a:off x="1763280" y="1341360"/>
            <a:ext cx="1295640" cy="7192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68360" y="2133720"/>
            <a:ext cx="34560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ля средств противопожарной защи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651640" y="1268280"/>
            <a:ext cx="865080" cy="720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076720" y="2060640"/>
            <a:ext cx="345600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ля целей эваку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611280" y="2852640"/>
            <a:ext cx="1076400" cy="108108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2771640" y="2852640"/>
            <a:ext cx="1009800" cy="108108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3"/>
          <a:stretch/>
        </p:blipFill>
        <p:spPr>
          <a:xfrm>
            <a:off x="611280" y="4724280"/>
            <a:ext cx="1125360" cy="115272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2700360" y="4724280"/>
            <a:ext cx="1127160" cy="115416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395280" y="3933720"/>
            <a:ext cx="1655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Телефон для использования при пожар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627280" y="4005360"/>
            <a:ext cx="136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ожарная лестниц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627280" y="587700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Огнетушите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39640" y="587700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ожарный кра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4859280" y="2924280"/>
            <a:ext cx="1513080" cy="77292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6877080" y="2924280"/>
            <a:ext cx="1511280" cy="77292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5003640" y="4076640"/>
            <a:ext cx="1081080" cy="103824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7164360" y="4221000"/>
            <a:ext cx="1150920" cy="108936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4716360" y="3716280"/>
            <a:ext cx="180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Указатель вых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659640" y="3716280"/>
            <a:ext cx="180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Указатель запасного вых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859280" y="5157720"/>
            <a:ext cx="1513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Направление к эвакуационному выходу по лестнице вниз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732720" y="5445000"/>
            <a:ext cx="180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ункт (место) сбо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7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7500"/>
                            </p:stCondLst>
                            <p:childTnLst>
                              <p:par>
                                <p:cTn id="47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2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8500"/>
                            </p:stCondLst>
                            <p:childTnLst>
                              <p:par>
                                <p:cTn id="484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8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9500"/>
                            </p:stCondLst>
                            <p:childTnLst>
                              <p:par>
                                <p:cTn id="4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11500"/>
                            </p:stCondLst>
                            <p:childTnLst>
                              <p:par>
                                <p:cTn id="5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9" dur="8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0" dur="8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1" dur="8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12820"/>
                            </p:stCondLst>
                            <p:childTnLst>
                              <p:par>
                                <p:cTn id="51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2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14820"/>
                            </p:stCondLst>
                            <p:childTnLst>
                              <p:par>
                                <p:cTn id="53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2" dur="8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3" dur="8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4" dur="8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15500"/>
                            </p:stCondLst>
                            <p:childTnLst>
                              <p:par>
                                <p:cTn id="53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4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4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4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4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5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fill="hold">
                            <p:stCondLst>
                              <p:cond delay="17500"/>
                            </p:stCondLst>
                            <p:childTnLst>
                              <p:par>
                                <p:cTn id="55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5" dur="8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6" dur="8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7" dur="8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fill="hold">
                            <p:stCondLst>
                              <p:cond delay="18020"/>
                            </p:stCondLst>
                            <p:childTnLst>
                              <p:par>
                                <p:cTn id="55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6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6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7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7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7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fill="hold">
                            <p:stCondLst>
                              <p:cond delay="20020"/>
                            </p:stCondLst>
                            <p:childTnLst>
                              <p:par>
                                <p:cTn id="57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8" dur="8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9" dur="8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0" dur="8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fill="hold">
                            <p:stCondLst>
                              <p:cond delay="20540"/>
                            </p:stCondLst>
                            <p:childTnLst>
                              <p:par>
                                <p:cTn id="58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7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21540"/>
                            </p:stCondLst>
                            <p:childTnLst>
                              <p:par>
                                <p:cTn id="58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3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fill="hold">
                            <p:stCondLst>
                              <p:cond delay="22540"/>
                            </p:stCondLst>
                            <p:childTnLst>
                              <p:par>
                                <p:cTn id="59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0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fill="hold">
                            <p:stCondLst>
                              <p:cond delay="23040"/>
                            </p:stCondLst>
                            <p:childTnLst>
                              <p:par>
                                <p:cTn id="60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4" dur="8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5" dur="8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6" dur="8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23680"/>
                            </p:stCondLst>
                            <p:childTnLst>
                              <p:par>
                                <p:cTn id="60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3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fill="hold">
                            <p:stCondLst>
                              <p:cond delay="24180"/>
                            </p:stCondLst>
                            <p:childTnLst>
                              <p:par>
                                <p:cTn id="61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7" dur="8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8" dur="8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9" dur="8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fill="hold">
                            <p:stCondLst>
                              <p:cond delay="25180"/>
                            </p:stCondLst>
                            <p:childTnLst>
                              <p:par>
                                <p:cTn id="62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6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25680"/>
                            </p:stCondLst>
                            <p:childTnLst>
                              <p:par>
                                <p:cTn id="62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0" dur="8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1" dur="8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2" dur="8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fill="hold">
                            <p:stCondLst>
                              <p:cond delay="27560"/>
                            </p:stCondLst>
                            <p:childTnLst>
                              <p:par>
                                <p:cTn id="63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fill="hold">
                            <p:stCondLst>
                              <p:cond delay="28060"/>
                            </p:stCondLst>
                            <p:childTnLst>
                              <p:par>
                                <p:cTn id="64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3" dur="8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4" dur="8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5" dur="8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Comic Sans MS"/>
              </a:rPr>
              <a:t>Требование закона – требование жизни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94920" y="2276280"/>
            <a:ext cx="792468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Граждане имеют право н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624242"/>
              </a:buClr>
              <a:buSzPct val="80000"/>
              <a:buFont typeface="Wingding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защиту их жизни, здоровья и имущества в случае пожар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624242"/>
              </a:buClr>
              <a:buSzPct val="80000"/>
              <a:buFont typeface="Wingding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озмещение ущерба, причиненного пожаром, в порядке, установленном действующим законодательством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624242"/>
              </a:buClr>
              <a:buSzPct val="80000"/>
              <a:buFont typeface="Wingding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участие в установлении причин пожара, нанесшего ущерб их здоровью и имуществ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624242"/>
              </a:buClr>
              <a:buSzPct val="80000"/>
              <a:buFont typeface="Wingding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лучение информации по вопросам пожарной безопасности, в том числе от органов управления и подразделений пожарной охран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624242"/>
              </a:buClr>
              <a:buSzPct val="80000"/>
              <a:buFont typeface="Wingding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участие в обеспечении пожарной безопасности, в том числе добровольной пожарной охра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68360" y="1341360"/>
            <a:ext cx="80643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Обеспечение пожарной безопасности является одной из важнейшей функции государств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" dur="8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" dur="8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" dur="8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" dur="5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" dur="500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457200" y="2071800"/>
            <a:ext cx="8229600" cy="40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Граждане обязан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Wingdings" charset="2"/>
              <a:buChar char="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облюдать требования пожарной безопасност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Wingdings" charset="2"/>
              <a:buChar char="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меть в помещениях и строениях первичные средства тушения пожаров и противопожарный инвентарь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Wingdings" charset="2"/>
              <a:buChar char="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и обнаружении пожаров немедленно уведомлять о них пожарную охран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Wingdings" charset="2"/>
              <a:buChar char="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о прибытия пожарной охраны принимать посильные меры по спасению людей, имущества и тушению пожар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Wingdings" charset="2"/>
              <a:buChar char="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казывать содействие пожарной охране при тушении пожар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Wingdings" charset="2"/>
              <a:buChar char="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ыполнять предписания и иные законные требования должностных лиц пожарной охра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0920" y="260280"/>
            <a:ext cx="856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За нарушение требований пожарной безопасности граждане могут быть привлечены к дисциплинарной, административной или уголовной ответственности в соответствии с действующим законодательств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" dur="8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" dur="8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" dur="8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" dur="8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" dur="8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" dur="8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1" dur="8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2" dur="8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" dur="8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8" dur="8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9" dur="8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" dur="8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5" dur="8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6" dur="8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" dur="8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2" dur="80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3" dur="80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" dur="80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9" dur="80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0" dur="80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" dur="80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2987640" y="4653000"/>
            <a:ext cx="6012000" cy="194292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95120" y="228600"/>
            <a:ext cx="5199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Первичные средства пожаротушения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50560" y="1557360"/>
            <a:ext cx="4105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жарный щ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РЕДНАЗНАЧЕН для размещения первичных средств пожаротушения, немеханизированного инструмента и пожарного инвентаря в производственных и складских помещениях, не оборудованных противопожарным водопроводом и автоматическими установками пожаротушения, а также на территории предприятий, не имеющих наружного противопожарного водопровода, или при удалении зданий на расстоянии более 100 м от наружных пожарных источник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Комплектуется в зависимост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от типа щита и класса пожар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4716360" y="1773360"/>
            <a:ext cx="4248360" cy="290988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3900"/>
                            </p:stCondLst>
                            <p:childTnLst>
                              <p:par>
                                <p:cTn id="123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4900"/>
                            </p:stCondLst>
                            <p:childTnLst>
                              <p:par>
                                <p:cTn id="130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5900"/>
                            </p:stCondLst>
                            <p:childTnLst>
                              <p:par>
                                <p:cTn id="1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9" dur="8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0" dur="8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1" dur="8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6380"/>
                            </p:stCondLst>
                            <p:childTnLst>
                              <p:par>
                                <p:cTn id="1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5" dur="8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6" dur="8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7" dur="8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1260"/>
                            </p:stCondLst>
                            <p:childTnLst>
                              <p:par>
                                <p:cTn id="1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1" dur="8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2" dur="8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3" dur="8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22300"/>
                            </p:stCondLst>
                            <p:childTnLst>
                              <p:par>
                                <p:cTn id="1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7" dur="8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8" dur="8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9" dur="8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Пожарный кран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37465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ожарный кра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ДНАЗНАЧЕН для тушения пожаров и загораний веществ и материалов, кроме электроустановок под напряжени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сто хранения ключ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ульт дистанционного включения насоса – повысител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жарный кр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жарный рука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во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3780000" y="2997360"/>
            <a:ext cx="5184720" cy="311616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6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6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2100"/>
                            </p:stCondLst>
                            <p:childTnLst>
                              <p:par>
                                <p:cTn id="17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9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3100"/>
                            </p:stCondLst>
                            <p:childTnLst>
                              <p:par>
                                <p:cTn id="17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0" dur="8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1" dur="8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2" dur="8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3620"/>
                            </p:stCondLst>
                            <p:childTnLst>
                              <p:par>
                                <p:cTn id="18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6" dur="8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7" dur="8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8" dur="8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7380"/>
                            </p:stCondLst>
                            <p:childTnLst>
                              <p:par>
                                <p:cTn id="19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2" dur="8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3" dur="8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4" dur="8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8140"/>
                            </p:stCondLst>
                            <p:childTnLst>
                              <p:par>
                                <p:cTn id="19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8" dur="8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9" dur="8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0" dur="8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9980"/>
                            </p:stCondLst>
                            <p:childTnLst>
                              <p:par>
                                <p:cTn id="20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4" dur="80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5" dur="80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6" dur="80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10500"/>
                            </p:stCondLst>
                            <p:childTnLst>
                              <p:par>
                                <p:cTn id="20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0" dur="80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1" dur="80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2" dur="80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060"/>
                            </p:stCondLst>
                            <p:childTnLst>
                              <p:par>
                                <p:cTn id="21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6" dur="80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7" dur="80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8" dur="80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Огнетушители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539640" y="1700280"/>
            <a:ext cx="3851280" cy="17701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5364000" y="1700280"/>
            <a:ext cx="2808360" cy="18111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684360" y="3500280"/>
            <a:ext cx="338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глекислот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11280" y="5805360"/>
            <a:ext cx="338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рошков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76720" y="3573360"/>
            <a:ext cx="338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оздушно – пенны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611280" y="3860640"/>
            <a:ext cx="3779640" cy="192096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4"/>
          <a:stretch/>
        </p:blipFill>
        <p:spPr>
          <a:xfrm>
            <a:off x="4932360" y="3933720"/>
            <a:ext cx="3168720" cy="59220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5"/>
          <a:stretch/>
        </p:blipFill>
        <p:spPr>
          <a:xfrm>
            <a:off x="5364000" y="4508640"/>
            <a:ext cx="2411640" cy="134460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4859280" y="5805360"/>
            <a:ext cx="338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амосрабатывающ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4200"/>
                            </p:stCondLst>
                            <p:childTnLst>
                              <p:par>
                                <p:cTn id="22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1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6200"/>
                            </p:stCondLst>
                            <p:childTnLst>
                              <p:par>
                                <p:cTn id="23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6700"/>
                            </p:stCondLst>
                            <p:childTnLst>
                              <p:par>
                                <p:cTn id="23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1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8700"/>
                            </p:stCondLst>
                            <p:childTnLst>
                              <p:par>
                                <p:cTn id="2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0700"/>
                            </p:stCondLst>
                            <p:childTnLst>
                              <p:par>
                                <p:cTn id="24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11200"/>
                            </p:stCondLst>
                            <p:childTnLst>
                              <p:par>
                                <p:cTn id="253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11700"/>
                            </p:stCondLst>
                            <p:childTnLst>
                              <p:par>
                                <p:cTn id="26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12700"/>
                            </p:stCondLst>
                            <p:childTnLst>
                              <p:par>
                                <p:cTn id="26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13200"/>
                            </p:stCondLst>
                            <p:childTnLst>
                              <p:par>
                                <p:cTn id="271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2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8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8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Знаки пожарной безопасности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684360" y="2565360"/>
            <a:ext cx="1371600" cy="131436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5003640" y="2565360"/>
            <a:ext cx="1363680" cy="131436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2843280" y="2565360"/>
            <a:ext cx="1379520" cy="131436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4"/>
          <a:stretch/>
        </p:blipFill>
        <p:spPr>
          <a:xfrm>
            <a:off x="7020000" y="2565360"/>
            <a:ext cx="1371600" cy="131436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755640" y="1268280"/>
            <a:ext cx="720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Запрещающ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39640" y="3860640"/>
            <a:ext cx="194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апрещается загромождать проходы и (или) складирова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556000" y="3860640"/>
            <a:ext cx="19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апрещается кури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716360" y="3860640"/>
            <a:ext cx="194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апрещается пользоваться открытым огнём и кури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588000" y="3860640"/>
            <a:ext cx="19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оход запреще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9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6000"/>
                            </p:stCondLst>
                            <p:childTnLst>
                              <p:par>
                                <p:cTn id="29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8000"/>
                            </p:stCondLst>
                            <p:childTnLst>
                              <p:par>
                                <p:cTn id="30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6" dur="8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7" dur="8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8" dur="8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9960"/>
                            </p:stCondLst>
                            <p:childTnLst>
                              <p:par>
                                <p:cTn id="31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2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1960"/>
                            </p:stCondLst>
                            <p:childTnLst>
                              <p:par>
                                <p:cTn id="31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7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8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12680"/>
                            </p:stCondLst>
                            <p:childTnLst>
                              <p:par>
                                <p:cTn id="32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14680"/>
                            </p:stCondLst>
                            <p:childTnLst>
                              <p:par>
                                <p:cTn id="32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9" dur="8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0" dur="8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1" dur="8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16440"/>
                            </p:stCondLst>
                            <p:childTnLst>
                              <p:par>
                                <p:cTn id="33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5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1844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11280" y="260280"/>
            <a:ext cx="720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Предупреждающ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1042920" y="1557360"/>
            <a:ext cx="1257480" cy="110160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2771640" y="3573360"/>
            <a:ext cx="1371600" cy="110196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3"/>
          <a:stretch/>
        </p:blipFill>
        <p:spPr>
          <a:xfrm>
            <a:off x="4716360" y="1628640"/>
            <a:ext cx="1257480" cy="110196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4"/>
          <a:stretch/>
        </p:blipFill>
        <p:spPr>
          <a:xfrm>
            <a:off x="6732720" y="3500280"/>
            <a:ext cx="1371600" cy="110196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3995640" y="2781360"/>
            <a:ext cx="27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зрывоопасн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940360" y="4724280"/>
            <a:ext cx="2737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пасно. Радиоактивные вещества или ионизирующее излуч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95640" y="4797360"/>
            <a:ext cx="273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пасность поражения электроток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95280" y="2637000"/>
            <a:ext cx="302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жароопасно. Легковоспламеняющиеся веществ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4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8000"/>
                            </p:stCondLst>
                            <p:childTnLst>
                              <p:par>
                                <p:cTn id="35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8500"/>
                            </p:stCondLst>
                            <p:childTnLst>
                              <p:par>
                                <p:cTn id="36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2" dur="8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4" dur="8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10220"/>
                            </p:stCondLst>
                            <p:childTnLst>
                              <p:par>
                                <p:cTn id="36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11220"/>
                            </p:stCondLst>
                            <p:childTnLst>
                              <p:par>
                                <p:cTn id="37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5" dur="8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6" dur="8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7" dur="8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12460"/>
                            </p:stCondLst>
                            <p:childTnLst>
                              <p:par>
                                <p:cTn id="379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1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2" dur="4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4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13460"/>
                            </p:stCondLst>
                            <p:childTnLst>
                              <p:par>
                                <p:cTn id="38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9" dur="8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0" dur="8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1" dur="8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13980"/>
                            </p:stCondLst>
                            <p:childTnLst>
                              <p:par>
                                <p:cTn id="39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14980"/>
                            </p:stCondLst>
                            <p:childTnLst>
                              <p:par>
                                <p:cTn id="39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0" dur="8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1" dur="8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2" dur="8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755640" y="333360"/>
            <a:ext cx="7129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Предписывающ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826920" y="1700280"/>
            <a:ext cx="1371600" cy="138744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4716360" y="1700280"/>
            <a:ext cx="1379520" cy="138744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3"/>
          <a:stretch/>
        </p:blipFill>
        <p:spPr>
          <a:xfrm>
            <a:off x="2700360" y="3933720"/>
            <a:ext cx="1469880" cy="137952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4"/>
          <a:stretch/>
        </p:blipFill>
        <p:spPr>
          <a:xfrm>
            <a:off x="6372360" y="3933720"/>
            <a:ext cx="1493640" cy="139716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2411280" y="1773360"/>
            <a:ext cx="13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урить здес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00720" y="1700280"/>
            <a:ext cx="208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тключить штепсельную вилк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900000" y="3933720"/>
            <a:ext cx="15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55640" y="4005360"/>
            <a:ext cx="172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тключить перед работ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788000" y="3933720"/>
            <a:ext cx="143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оход здес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0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7500"/>
                            </p:stCondLst>
                            <p:childTnLst>
                              <p:par>
                                <p:cTn id="415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1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8500"/>
                            </p:stCondLst>
                            <p:childTnLst>
                              <p:par>
                                <p:cTn id="42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5" dur="8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6" dur="8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7" dur="8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8980"/>
                            </p:stCondLst>
                            <p:childTnLst>
                              <p:par>
                                <p:cTn id="42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9480"/>
                            </p:stCondLst>
                            <p:childTnLst>
                              <p:par>
                                <p:cTn id="43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8" dur="8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9" dur="8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0" dur="8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10520"/>
                            </p:stCondLst>
                            <p:childTnLst>
                              <p:par>
                                <p:cTn id="442" nodeType="afterEffect" fill="hold" presetClass="entr" presetID="19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12520"/>
                            </p:stCondLst>
                            <p:childTnLst>
                              <p:par>
                                <p:cTn id="44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9" dur="8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0" dur="8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1" dur="8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13400"/>
                            </p:stCondLst>
                            <p:childTnLst>
                              <p:par>
                                <p:cTn id="453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55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56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57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58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5400"/>
                            </p:stCondLst>
                            <p:childTnLst>
                              <p:par>
                                <p:cTn id="46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2" dur="8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3" dur="8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4" dur="8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7T19:39:42Z</dcterms:created>
  <dc:creator>1</dc:creator>
  <dc:description/>
  <dc:language>en-US</dc:language>
  <cp:lastModifiedBy>ALEX</cp:lastModifiedBy>
  <dcterms:modified xsi:type="dcterms:W3CDTF">2008-01-16T14:59:03Z</dcterms:modified>
  <cp:revision>7</cp:revision>
  <dc:subject/>
  <dc:title>Слайд 1</dc:title>
</cp:coreProperties>
</file>