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19C-69DC-4E4B-B326-DD1A43CB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C8B-042F-48C5-BFEE-F4B2CDAD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F68-9511-40F6-88FC-AB17E699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524-5BD7-4EA4-B640-9D05678A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D4C-814F-43F9-9B45-18E010B9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068-37CD-4EBD-BDB1-A1D5C3F6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919-F3EF-49CA-B7F9-A6F40E08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8B6-3878-4AE1-90B7-98FDE335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13A-AA50-4B03-8EFC-A38416A5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7CA-596A-42C1-8E7C-7E8DE0F6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5B1-9830-4AD5-9CA8-3B3B06F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A3F-315E-4DF0-9E22-468C9DE7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CF00-91E3-4466-9EB4-07858DF767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РЕБОВАНИЯ К ДВИЖЕНИЮ ВЕЛОСИПЕДОВ И МОПЕД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http://im2-tub.yandex.net/i?id=33480925-23-24"/>
          <p:cNvPicPr/>
          <p:nvPr/>
        </p:nvPicPr>
        <p:blipFill>
          <a:blip r:embed="rId1"/>
          <a:stretch/>
        </p:blipFill>
        <p:spPr>
          <a:xfrm>
            <a:off x="2571840" y="2728800"/>
            <a:ext cx="2485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ОРАЧИВАТЬ НАЛЕВО РАЗВОРАЧИВАТЬСЯ НА ДОРОГАХ С ТРАМВАЙНЫМ ДВИЖЕНИЕМ И НА ДОРОГАХ, ИМЕЮЩИХ БОЛЕЕ ОДНОЙ ПОЛОСЫ ДЛЯ ДВИЖЕНИЯ В ДАННОМ НАП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прещ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ПРЕЩАЕТС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УКСИРОВКА ВЕЛОСИПЕДОВ И МОПЕДОВ, А ТАКЖЕ ВЕЛОСИПЕДАМИ И МОПЕДАМИ, КРОМЕ БУКСИРОВКИ ПРИЦЕПА, ПРЕДНАЗНАЧЕННОГО ДЛЯ ЭКСПЛУАТАЦИИ С ВЕЛОСИПЕДОМ ИЛИ МОПЕ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так мож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-main-pic" descr="Картинка 10 из 164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НЕРЕГУЛИРУЕМОМ ПЕРЕСЕЧЕНИИ ВЕЛОСИПЕДНОЙ ДОРОЖКИ С ДОРОГОЙ, РАСПОЛОЖЕННОМ ВНЕ ПЕРЕКРЁСТКА, ВОДИТЕЛИ ВЕЛОСИПЕДОВ И МОПЕДОВ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ЛЖНЫ УСТУПАТЬ ДОРОГУ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ТРАНСПОРТНЫМ СРЕДСТВА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5786280" y="3357720"/>
            <a:ext cx="290520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АВТОМАГИСТРАЛЯХ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ПРЕЩАЕ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ВИЖЕНИЕ ПЕШЕХОДОВ, ДОМАШНИХ ЖИВОТНЫХ, ВЕЛОСИПЕДОВ, МОПЕДОВ, ТРАКТОРОВ И САМОХОДНЫХ МАШИН, ИНЫХ ТРАНСПОРТНЫХ СРЕДСТВ, СКОРОСТЬ КОТОРЫХ ПО ТЕХНИЧЕСКОЙ ХАРАКТЕРИСТИКЕ ИЛИ ИХ СОСТОЯНИЮ </a:t>
            </a: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МЕНЕЕ 40 КМ\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03152"/>
                </a:solidFill>
                <a:latin typeface="Calibri"/>
              </a:rPr>
              <a:t>Объясните значение знако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Е НА ВЕЛОСИПЕДАХ ЗАПРЕЩЕ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0" y="1428840"/>
            <a:ext cx="57862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е на мопедах запреще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2143080" y="1571760"/>
            <a:ext cx="50720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е на мотоциклах запреще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1"/>
          <a:stretch/>
        </p:blipFill>
        <p:spPr>
          <a:xfrm>
            <a:off x="2286000" y="1500120"/>
            <a:ext cx="50007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некоторых городах России есть и такой знак. Не разрешается ездить в науш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2357280" y="1571760"/>
            <a:ext cx="5429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РАВЛЯТЬ ВЕЛОСИПЕДОМ ПРИ ДВИЖЕНИИ ПО ДОРОГЕ РАЗРЕШАЕТСЯ ЛИЦАМ НЕ МОЛОЖЕ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4 ЛЕТ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МОПЕДОМ-НЕ МОЛОЖЕ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6 ЛЕ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УПРЕЖДАЮЩИЕ ЗНАК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453852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5072040" y="1785960"/>
            <a:ext cx="2500200" cy="2000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3"/>
          <a:stretch/>
        </p:blipFill>
        <p:spPr>
          <a:xfrm>
            <a:off x="5643720" y="3929040"/>
            <a:ext cx="2786040" cy="2928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4"/>
          <a:stretch/>
        </p:blipFill>
        <p:spPr>
          <a:xfrm>
            <a:off x="142920" y="4214880"/>
            <a:ext cx="211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24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ЕСЕЧЕНИЕ С ВЕЛОСИПЕДНОЙ ДОРОЖ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"/>
          <p:cNvPicPr/>
          <p:nvPr/>
        </p:nvPicPr>
        <p:blipFill>
          <a:blip r:embed="rId1"/>
          <a:stretch/>
        </p:blipFill>
        <p:spPr>
          <a:xfrm>
            <a:off x="2643120" y="1571760"/>
            <a:ext cx="4929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.16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РОВНАЯ ДОР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"/>
          <p:cNvPicPr/>
          <p:nvPr/>
        </p:nvPicPr>
        <p:blipFill>
          <a:blip r:embed="rId1"/>
          <a:stretch/>
        </p:blipFill>
        <p:spPr>
          <a:xfrm>
            <a:off x="2643120" y="1285920"/>
            <a:ext cx="3857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лосипедная доро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"/>
          <p:cNvPicPr/>
          <p:nvPr/>
        </p:nvPicPr>
        <p:blipFill>
          <a:blip r:embed="rId1"/>
          <a:stretch/>
        </p:blipFill>
        <p:spPr>
          <a:xfrm>
            <a:off x="1785960" y="1428840"/>
            <a:ext cx="5500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Е РАЗРЕШАЕТСЯ ТОЛЬКО ВЕЛОСИПЕДАМ И МОПЕДА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"/>
          <p:cNvPicPr/>
          <p:nvPr/>
        </p:nvPicPr>
        <p:blipFill>
          <a:blip r:embed="rId1"/>
          <a:stretch/>
        </p:blipFill>
        <p:spPr>
          <a:xfrm>
            <a:off x="2857680" y="1500120"/>
            <a:ext cx="40716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4.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ЛОСИПЕДЫ И МОПЕДЫ ДОЛЖНЫ ДВИГАТЬСЯ ТОЛЬКО ПО КРАЙНЕЙ ПРАВОЙ ПОЛОСЕ В ОДИН РЯД, ВОЗМОЖНО ПРАВЕЕ. ДОПУСКАЕТСЯ ДВИЖЕНИЕ ПО ОБОЧИНЕ, ЕСЛИ ЭТО НЕ СОЗДАЕТ ПОМЕХ ПЕШЕХОД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4143240" y="3286080"/>
            <a:ext cx="4214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ОЛОННЫ ВЕЛОСИПЕДИСТОВ ПРИ ДВИЖЕНИИ ПО ПРОЕЗЖЕЙ ЧАСТИ ДОЛЖНЫ БЫТЬ РАЗДЕЛЕНЫ НА ГРУППЫ ПО 10 ВЕЛОСИПЕДИСТОВ, РАССТОЯНИЕ МЕЖДУ ГРУППАМИ ДОЛЖНО СОСТАВЛЯТЬ 80-100М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-main-pic" descr="Картинка 29 из 109"/>
          <p:cNvPicPr/>
          <p:nvPr/>
        </p:nvPicPr>
        <p:blipFill>
          <a:blip r:embed="rId1"/>
          <a:stretch/>
        </p:blipFill>
        <p:spPr>
          <a:xfrm>
            <a:off x="3214800" y="2714760"/>
            <a:ext cx="5076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1" lang="ru-RU" sz="5900" spc="-1" strike="noStrike">
                <a:solidFill>
                  <a:srgbClr val="ff0000"/>
                </a:solidFill>
                <a:latin typeface="Calibri"/>
              </a:rPr>
              <a:t>ВОДИТЕЛЯМ ВЕЛОСИПЕДА И МОПЕДА ЗАПРЕЩАЕТСЯ: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ЗДИТЬ, НЕ ДЕРЖАСЬ ЗА РУЛЬ ХОТЯ БЫ ОДНОЙ РУКО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-main-pic" descr="Картинка 71 из 164"/>
          <p:cNvPicPr/>
          <p:nvPr/>
        </p:nvPicPr>
        <p:blipFill>
          <a:blip r:embed="rId1"/>
          <a:stretch/>
        </p:blipFill>
        <p:spPr>
          <a:xfrm>
            <a:off x="642960" y="1357200"/>
            <a:ext cx="3294000" cy="4840560"/>
          </a:xfrm>
          <a:prstGeom prst="rect">
            <a:avLst/>
          </a:prstGeom>
          <a:ln w="0">
            <a:noFill/>
          </a:ln>
        </p:spPr>
      </p:pic>
      <p:pic>
        <p:nvPicPr>
          <p:cNvPr id="56" name="i-main-pic" descr="Картинка 141 из 164"/>
          <p:cNvPicPr/>
          <p:nvPr/>
        </p:nvPicPr>
        <p:blipFill>
          <a:blip r:embed="rId2"/>
          <a:stretch/>
        </p:blipFill>
        <p:spPr>
          <a:xfrm>
            <a:off x="4500720" y="1428840"/>
            <a:ext cx="3571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ВОЗИТЬ ПАССАЖИРОВ, КРОМЕ РЕБЁНКАВ ВОЗРАСТЕ ДО 7 ЛЕТ, НА ДОПОЛНИТЕЛЬНОМ СИДЕНЬЕ,ОБОРУДОВАННОМ НАДЁЖНЫМИ ПОДНОЖКАМ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http://rideabike.ru/wp-content/action_smiley-150x150.gif"/>
          <p:cNvPicPr/>
          <p:nvPr/>
        </p:nvPicPr>
        <p:blipFill>
          <a:blip r:embed="rId1"/>
          <a:stretch/>
        </p:blipFill>
        <p:spPr>
          <a:xfrm>
            <a:off x="0" y="1714680"/>
            <a:ext cx="3643200" cy="5143320"/>
          </a:xfrm>
          <a:prstGeom prst="rect">
            <a:avLst/>
          </a:prstGeom>
          <a:ln w="0">
            <a:noFill/>
          </a:ln>
        </p:spPr>
      </p:pic>
      <p:pic>
        <p:nvPicPr>
          <p:cNvPr id="59" name="i-main-pic" descr="Картинка 50 из 6824"/>
          <p:cNvPicPr/>
          <p:nvPr/>
        </p:nvPicPr>
        <p:blipFill>
          <a:blip r:embed="rId2"/>
          <a:stretch/>
        </p:blipFill>
        <p:spPr>
          <a:xfrm>
            <a:off x="3929040" y="1785960"/>
            <a:ext cx="347832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апрещаетс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ВОЗИТЬ ГРУЗ, КОТОРЫЙ ВЫСТУПАЕТ БОЛЕЕ ЧЕМ НА 0,5М ПО ДЛИНЕ ИЛИ ШИРИНЕ ЗА ГАБАРИТЫ, ИЛИ ГРУЗ МЕЩАЮЩИЙ УПРАВЛЕНИЮ: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-main-pic" descr="Картинка 1 из 350"/>
          <p:cNvPicPr/>
          <p:nvPr/>
        </p:nvPicPr>
        <p:blipFill>
          <a:blip r:embed="rId1"/>
          <a:stretch/>
        </p:blipFill>
        <p:spPr>
          <a:xfrm>
            <a:off x="785880" y="1214280"/>
            <a:ext cx="71438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Запрещает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ИГАТЬСЯ ПО ДОРОГЕ ПРИ НАЛИЧИИ РЯДОМ ВЕЛОСИПЕДНОЙ ДОРОЖКИ. Датская велосипедная дорожка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-main-pic" descr="Картинка 11 из 583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2:19:30Z</dcterms:created>
  <dc:creator>Елена Александровна</dc:creator>
  <dc:description/>
  <dc:language>en-US</dc:language>
  <cp:lastModifiedBy>Елена Александровна</cp:lastModifiedBy>
  <dcterms:modified xsi:type="dcterms:W3CDTF">2012-02-12T11:46:14Z</dcterms:modified>
  <cp:revision>5</cp:revision>
  <dc:subject/>
  <dc:title>Слайд 1</dc:title>
</cp:coreProperties>
</file>