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FFB-2AC3-49C4-A3C7-A5E98A7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9C1-7171-40E6-9419-6BA03B2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1A7-AF84-461A-9DB2-AFE8E8D0C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173-98CF-457E-A3E2-6625E2B2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F71-CA70-493A-9857-42B4AE4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EA6-B129-41E9-B989-5EB0509D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23B-BCAE-4770-B082-3BA040F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281-FE44-41DB-BCD2-948944F3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B0B-14B3-4118-BAF3-09765ECE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008-F829-4DDE-81D1-D331105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9B6-75E3-4BEA-BEC9-1E283DF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57D-B447-4C5E-BFFA-1273233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BFA-B439-41B5-8CB6-C82D0B1F3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8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ЕБОВАНИЯ К ДВИЖЕНИЮ ВЕЛОСИПЕДОВ И МОПЕД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im2-tub.yandex.net/i?id=33480925-23-24"/>
          <p:cNvPicPr/>
          <p:nvPr/>
        </p:nvPicPr>
        <p:blipFill>
          <a:blip r:embed="rId1"/>
          <a:stretch/>
        </p:blipFill>
        <p:spPr>
          <a:xfrm>
            <a:off x="2571840" y="2728800"/>
            <a:ext cx="2485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ВОРАЧИВАТЬ НАЛЕВО РАЗВОРАЧИВАТЬСЯ НА ДОРОГАХ С ТРАМВАЙНЫМ ДВИЖЕНИЕМ И НА ДОРОГАХ, ИМЕЮЩИХ БОЛЕЕ ОДНОЙ ПОЛОСЫ ДЛЯ ДВИЖЕНИЯ В ДАННОМ НАП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УКСИРОВКА ВЕЛОСИПЕДОВ И МОПЕДОВ, А ТАКЖЕ ВЕЛОСИПЕДАМИ И МОПЕДАМИ, КРОМЕ БУКСИРОВКИ ПРИЦЕПА, ПРЕДНАЗНАЧЕННОГО ДЛЯ ЭКСПЛУАТАЦИИ С ВЕЛОСИПЕДОМ ИЛИ МОПЕ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так мож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-main-pic" descr="Картинка 10 из 164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ПЕДНОЙ ДОРОЖКИ С ДОРОГОЙ, РАСПОЛОЖЕННОМ ВНЕ ПЕРЕКРЁСТКА, ВОДИТЕЛИ ВЕЛОСИПЕДОВ И МОПЕДОВ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ЛЖНЫ УСТУПАТЬ ДОРОГУ </a:t>
            </a: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ТРАНСПОРТНЫМ СРЕДСТВА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786280" y="3357720"/>
            <a:ext cx="290520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АВТОМАГИСТРАЛЯХ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ПРЕЩА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ВИЖЕНИЕ ПЕШЕХОДОВ, ДОМАШНИХ ЖИВОТНЫХ, ВЕЛОСИПЕДОВ, МОПЕДОВ, ТРАКТОРОВ И САМОХОДНЫХ МАШИН, ИНЫХ ТРАНСПОРТНЫХ СРЕДСТВ, СКОРОСТЬ КОТОРЫХ ПО ТЕХНИЧЕСКОЙ ХАРАКТЕРИСТИКЕ ИЛИ ИХ СОСТОЯНИЮ </a:t>
            </a: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МЕНЕЕ 40 КМ\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03152"/>
                </a:solidFill>
                <a:latin typeface="Calibri"/>
              </a:rPr>
              <a:t>Объясните значение знако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ВЕЛОСИ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0" y="1428840"/>
            <a:ext cx="57862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педах запреще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2143080" y="1571760"/>
            <a:ext cx="50720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на мотоциклах запреще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"/>
          <p:cNvPicPr/>
          <p:nvPr/>
        </p:nvPicPr>
        <p:blipFill>
          <a:blip r:embed="rId1"/>
          <a:stretch/>
        </p:blipFill>
        <p:spPr>
          <a:xfrm>
            <a:off x="2286000" y="1500120"/>
            <a:ext cx="5000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екоторых городах России есть и такой знак. Не разрешается ездить в науш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2357280" y="1571760"/>
            <a:ext cx="5429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РАВЛЯТЬ ВЕЛОСИПЕДОМ ПРИ ДВИЖЕНИИ ПО ДОРОГЕ РАЗРЕШАЕТСЯ ЛИЦАМ 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4 ЛЕТ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МОПЕДОМ-НЕ МОЛОЖЕ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6 ЛЕ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УПРЕЖДАЮЩИЕ ЗНА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45385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3"/>
          <a:stretch/>
        </p:blipFill>
        <p:spPr>
          <a:xfrm>
            <a:off x="5643720" y="392904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4"/>
          <a:stretch/>
        </p:blipFill>
        <p:spPr>
          <a:xfrm>
            <a:off x="142920" y="4214880"/>
            <a:ext cx="211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2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СЕЧЕНИЕ С ВЕЛОСИПЕДНОЙ ДОРОЖ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5717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.1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РОВНАЯ ДОР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2643120" y="1285920"/>
            <a:ext cx="3857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лосипедная доро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"/>
          <p:cNvPicPr/>
          <p:nvPr/>
        </p:nvPicPr>
        <p:blipFill>
          <a:blip r:embed="rId1"/>
          <a:stretch/>
        </p:blipFill>
        <p:spPr>
          <a:xfrm>
            <a:off x="1785960" y="1428840"/>
            <a:ext cx="5500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ВИЖЕНИЕ РАЗРЕШАЕТСЯ ТОЛЬКО ВЕЛОСИПЕДАМ И МОПЕДА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"/>
          <p:cNvPicPr/>
          <p:nvPr/>
        </p:nvPicPr>
        <p:blipFill>
          <a:blip r:embed="rId1"/>
          <a:stretch/>
        </p:blipFill>
        <p:spPr>
          <a:xfrm>
            <a:off x="2857680" y="1500120"/>
            <a:ext cx="4071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24.2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ЛОСИПЕДЫ И МОПЕДЫ ДОЛЖНЫ ДВИГАТЬСЯ ТОЛЬКО ПО КРАЙНЕЙ ПРАВОЙ ПОЛОСЕ В ОДИН РЯД, ВОЗМОЖНО ПРАВЕЕ. ДОПУСКАЕТСЯ ДВИЖЕНИЕ ПО ОБОЧИНЕ, ЕСЛИ ЭТО НЕ СОЗДАЕ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4143240" y="328608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ОЛОННЫ ВЕЛОСИПЕДИСТОВ ПРИ ДВИЖЕНИИ ПО ПРОЕЗЖЕЙ ЧАСТИ ДОЛЖНЫ БЫТЬ РАЗДЕЛЕНЫ НА ГРУППЫ ПО 10 ВЕЛОСИПЕДИСТОВ, РАССТОЯНИЕ МЕЖДУ ГРУППАМИ ДОЛЖНО СОСТАВЛЯТЬ 80-100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29 из 109"/>
          <p:cNvPicPr/>
          <p:nvPr/>
        </p:nvPicPr>
        <p:blipFill>
          <a:blip r:embed="rId1"/>
          <a:stretch/>
        </p:blipFill>
        <p:spPr>
          <a:xfrm>
            <a:off x="3214800" y="2714760"/>
            <a:ext cx="507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1" lang="ru-RU" sz="5900" spc="-1" strike="noStrike">
                <a:solidFill>
                  <a:srgbClr val="ff0000"/>
                </a:solidFill>
                <a:latin typeface="Calibri"/>
              </a:rPr>
              <a:t>ВОДИТЕЛЯМ ВЕЛОСИПЕДА И МОПЕДА ЗАПРЕЩАЕТСЯ: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71 из 164"/>
          <p:cNvPicPr/>
          <p:nvPr/>
        </p:nvPicPr>
        <p:blipFill>
          <a:blip r:embed="rId1"/>
          <a:stretch/>
        </p:blipFill>
        <p:spPr>
          <a:xfrm>
            <a:off x="642960" y="1357200"/>
            <a:ext cx="3294000" cy="484056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141 из 164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ЕВОЗИТЬ ПАССАЖИРОВ, КРОМЕ РЕБЁНКАВ ВОЗРАСТЕ ДО 7 ЛЕТ, НА ДОПОЛНИТЕЛЬНОМ СИДЕНЬЕ,ОБОРУДОВАННОМ НАДЁЖНЫМИ ПОДНОЖКАМ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rideabike.ru/wp-content/action_smiley-150x150.gif"/>
          <p:cNvPicPr/>
          <p:nvPr/>
        </p:nvPicPr>
        <p:blipFill>
          <a:blip r:embed="rId1"/>
          <a:stretch/>
        </p:blipFill>
        <p:spPr>
          <a:xfrm>
            <a:off x="0" y="1714680"/>
            <a:ext cx="3643200" cy="5143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50 из 6824"/>
          <p:cNvPicPr/>
          <p:nvPr/>
        </p:nvPicPr>
        <p:blipFill>
          <a:blip r:embed="rId2"/>
          <a:stretch/>
        </p:blipFill>
        <p:spPr>
          <a:xfrm>
            <a:off x="3929040" y="1785960"/>
            <a:ext cx="34783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ВОЗИТЬ ГРУЗ, КОТОРЫЙ ВЫСТУПАЕТ БОЛЕЕ ЧЕМ НА 0,5М ПО ДЛИНЕ ИЛИ ШИРИНЕ ЗА ГАБАРИТЫ, ИЛИ ГРУЗ МЕЩАЮЩИЙ УПРАВЛЕНИЮ: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-main-pic" descr="Картинка 1 из 350"/>
          <p:cNvPicPr/>
          <p:nvPr/>
        </p:nvPicPr>
        <p:blipFill>
          <a:blip r:embed="rId1"/>
          <a:stretch/>
        </p:blipFill>
        <p:spPr>
          <a:xfrm>
            <a:off x="785880" y="1214280"/>
            <a:ext cx="71438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прещает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ИГАТЬСЯ ПО ДОРОГЕ ПРИ НАЛИЧИИ РЯДОМ ВЕЛОСИПЕДНОЙ ДОРОЖКИ. Датская велосипедная дорожка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-main-pic" descr="Картинка 11 из 583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19:30Z</dcterms:created>
  <dc:creator>Елена Александровна</dc:creator>
  <dc:description/>
  <dc:language>en-US</dc:language>
  <cp:lastModifiedBy>Елена Александровна</cp:lastModifiedBy>
  <dcterms:modified xsi:type="dcterms:W3CDTF">2012-02-12T11:46:14Z</dcterms:modified>
  <cp:revision>5</cp:revision>
  <dc:subject/>
  <dc:title>Слайд 1</dc:title>
</cp:coreProperties>
</file>