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A90F-53B5-423D-A208-6BE05FA0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D81A-1B14-429D-B8A5-56F9BB61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393E-C2EF-418F-9791-4FC28BD6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8C64-7413-4B89-9672-C68031D5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7598-9E0F-4051-8BBF-182CB66B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EC74-E893-4B00-8D55-3EC855A9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FA24-FF99-458C-91BC-77FB99F9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29A6-B796-46D9-9B23-04CBAD98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4660-15D6-4FDA-9631-BFAE9299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5383-7992-40E1-9013-DF85AEE4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55F0-756C-4E36-AF2E-4A5FA8C1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EADD-6151-491F-A146-2801EDFC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3EB3-EC82-4EB0-80C3-99A8E844B6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28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РЕБОВАНИЯ К ДВИЖЕНИЮ ВЕЛОСИПЕДОВ И МОПЕД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http://im2-tub.yandex.net/i?id=33480925-23-24"/>
          <p:cNvPicPr/>
          <p:nvPr/>
        </p:nvPicPr>
        <p:blipFill>
          <a:blip r:embed="rId1"/>
          <a:stretch/>
        </p:blipFill>
        <p:spPr>
          <a:xfrm>
            <a:off x="2571840" y="2728800"/>
            <a:ext cx="24858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ВОРАЧИВАТЬ НАЛЕВО РАЗВОРАЧИВАТЬСЯ НА ДОРОГАХ С ТРАМВАЙНЫМ ДВИЖЕНИЕМ И НА ДОРОГАХ, ИМЕЮЩИХ БОЛЕЕ ОДНОЙ ПОЛОСЫ ДЛЯ ДВИЖЕНИЯ В ДАННОМ НАПРАВЛЕ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апреща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АПРЕЩАЕТСЯ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УКСИРОВКА ВЕЛОСИПЕДОВ И МОПЕДОВ, А ТАКЖЕ ВЕЛОСИПЕДАМИ И МОПЕДАМИ, КРОМЕ БУКСИРОВКИ ПРИЦЕПА, ПРЕДНАЗНАЧЕННОГО ДЛЯ ЭКСПЛУАТАЦИИ С ВЕЛОСИПЕДОМ ИЛИ МОПЕД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 так можн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i-main-pic" descr="Картинка 10 из 164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 НЕРЕГУЛИРУЕМОМ ПЕРЕСЕЧЕНИИ ВЕЛОСИПЕДНОЙ ДОРОЖКИ С ДОРОГОЙ, РАСПОЛОЖЕННОМ ВНЕ ПЕРЕКРЁСТКА, ВОДИТЕЛИ ВЕЛОСИПЕДОВ И МОПЕДОВ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ОЛЖНЫ УСТУПАТЬ ДОРОГУ </a:t>
            </a: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ТРАНСПОРТНЫМ СРЕДСТВАМ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" descr=""/>
          <p:cNvPicPr/>
          <p:nvPr/>
        </p:nvPicPr>
        <p:blipFill>
          <a:blip r:embed="rId1"/>
          <a:stretch/>
        </p:blipFill>
        <p:spPr>
          <a:xfrm>
            <a:off x="5786280" y="3357720"/>
            <a:ext cx="290520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 АВТОМАГИСТРАЛЯХ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АПРЕЩАЕТ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ВИЖЕНИЕ ПЕШЕХОДОВ, ДОМАШНИХ ЖИВОТНЫХ, ВЕЛОСИПЕДОВ, МОПЕДОВ, ТРАКТОРОВ И САМОХОДНЫХ МАШИН, ИНЫХ ТРАНСПОРТНЫХ СРЕДСТВ, СКОРОСТЬ КОТОРЫХ ПО ТЕХНИЧЕСКОЙ ХАРАКТЕРИСТИКЕ ИЛИ ИХ СОСТОЯНИЮ </a:t>
            </a:r>
            <a:r>
              <a:rPr b="1" lang="ru-RU" sz="3600" spc="-1" strike="noStrike">
                <a:solidFill>
                  <a:srgbClr val="77933c"/>
                </a:solidFill>
                <a:latin typeface="Calibri"/>
              </a:rPr>
              <a:t>МЕНЕЕ 40 КМ\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03152"/>
                </a:solidFill>
                <a:latin typeface="Calibri"/>
              </a:rPr>
              <a:t>Объясните значение знаков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ВИЖЕНИЕ НА ВЕЛОСИПЕДАХ ЗАПРЕЩЕ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"/>
          <p:cNvPicPr/>
          <p:nvPr/>
        </p:nvPicPr>
        <p:blipFill>
          <a:blip r:embed="rId1"/>
          <a:stretch/>
        </p:blipFill>
        <p:spPr>
          <a:xfrm>
            <a:off x="0" y="1428840"/>
            <a:ext cx="57862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вижение на мопедах запреще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3" descr=""/>
          <p:cNvPicPr/>
          <p:nvPr/>
        </p:nvPicPr>
        <p:blipFill>
          <a:blip r:embed="rId1"/>
          <a:stretch/>
        </p:blipFill>
        <p:spPr>
          <a:xfrm>
            <a:off x="2143080" y="1571760"/>
            <a:ext cx="50720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вижение на мотоциклах запрещен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"/>
          <p:cNvPicPr/>
          <p:nvPr/>
        </p:nvPicPr>
        <p:blipFill>
          <a:blip r:embed="rId1"/>
          <a:stretch/>
        </p:blipFill>
        <p:spPr>
          <a:xfrm>
            <a:off x="2286000" y="1500120"/>
            <a:ext cx="50007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некоторых городах России есть и такой знак. Не разрешается ездить в наушни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"/>
          <p:cNvPicPr/>
          <p:nvPr/>
        </p:nvPicPr>
        <p:blipFill>
          <a:blip r:embed="rId1"/>
          <a:stretch/>
        </p:blipFill>
        <p:spPr>
          <a:xfrm>
            <a:off x="2357280" y="1571760"/>
            <a:ext cx="54295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ПРАВЛЯТЬ ВЕЛОСИПЕДОМ ПРИ ДВИЖЕНИИ ПО ДОРОГЕ РАЗРЕШАЕТСЯ ЛИЦАМ НЕ МОЛОЖЕ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4 ЛЕТ,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МОПЕДОМ-НЕ МОЛОЖЕ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6 ЛЕТ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ЕДУПРЕЖДАЮЩИЕ ЗНАК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2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4538520" cy="28576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3" descr=""/>
          <p:cNvPicPr/>
          <p:nvPr/>
        </p:nvPicPr>
        <p:blipFill>
          <a:blip r:embed="rId2"/>
          <a:stretch/>
        </p:blipFill>
        <p:spPr>
          <a:xfrm>
            <a:off x="5072040" y="1785960"/>
            <a:ext cx="2500200" cy="20001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"/>
          <p:cNvPicPr/>
          <p:nvPr/>
        </p:nvPicPr>
        <p:blipFill>
          <a:blip r:embed="rId3"/>
          <a:stretch/>
        </p:blipFill>
        <p:spPr>
          <a:xfrm>
            <a:off x="5643720" y="3929040"/>
            <a:ext cx="2786040" cy="29289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7" descr=""/>
          <p:cNvPicPr/>
          <p:nvPr/>
        </p:nvPicPr>
        <p:blipFill>
          <a:blip r:embed="rId4"/>
          <a:stretch/>
        </p:blipFill>
        <p:spPr>
          <a:xfrm>
            <a:off x="142920" y="4214880"/>
            <a:ext cx="2116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24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ЕРЕСЕЧЕНИЕ С ВЕЛОСИПЕДНОЙ ДОРОЖК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"/>
          <p:cNvPicPr/>
          <p:nvPr/>
        </p:nvPicPr>
        <p:blipFill>
          <a:blip r:embed="rId1"/>
          <a:stretch/>
        </p:blipFill>
        <p:spPr>
          <a:xfrm>
            <a:off x="2643120" y="1571760"/>
            <a:ext cx="49291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.16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ЕРОВНАЯ ДОРО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3" descr=""/>
          <p:cNvPicPr/>
          <p:nvPr/>
        </p:nvPicPr>
        <p:blipFill>
          <a:blip r:embed="rId1"/>
          <a:stretch/>
        </p:blipFill>
        <p:spPr>
          <a:xfrm>
            <a:off x="2643120" y="1285920"/>
            <a:ext cx="38577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лосипедная дорож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Содержимое 3" descr=""/>
          <p:cNvPicPr/>
          <p:nvPr/>
        </p:nvPicPr>
        <p:blipFill>
          <a:blip r:embed="rId1"/>
          <a:stretch/>
        </p:blipFill>
        <p:spPr>
          <a:xfrm>
            <a:off x="1785960" y="1428840"/>
            <a:ext cx="55008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ВИЖЕНИЕ РАЗРЕШАЕТСЯ ТОЛЬКО ВЕЛОСИПЕДАМ И МОПЕДАМ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Содержимое 3" descr=""/>
          <p:cNvPicPr/>
          <p:nvPr/>
        </p:nvPicPr>
        <p:blipFill>
          <a:blip r:embed="rId1"/>
          <a:stretch/>
        </p:blipFill>
        <p:spPr>
          <a:xfrm>
            <a:off x="2857680" y="1500120"/>
            <a:ext cx="40716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24.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ЛОСИПЕДЫ И МОПЕДЫ ДОЛЖНЫ ДВИГАТЬСЯ ТОЛЬКО ПО КРАЙНЕЙ ПРАВОЙ ПОЛОСЕ В ОДИН РЯД, ВОЗМОЖНО ПРАВЕЕ. ДОПУСКАЕТСЯ ДВИЖЕНИЕ ПО ОБОЧИНЕ, ЕСЛИ ЭТО НЕ СОЗДАЕТ ПОМЕХ ПЕШЕХОД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4143240" y="3286080"/>
            <a:ext cx="4214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КОЛОННЫ ВЕЛОСИПЕДИСТОВ ПРИ ДВИЖЕНИИ ПО ПРОЕЗЖЕЙ ЧАСТИ ДОЛЖНЫ БЫТЬ РАЗДЕЛЕНЫ НА ГРУППЫ ПО 10 ВЕЛОСИПЕДИСТОВ, РАССТОЯНИЕ МЕЖДУ ГРУППАМИ ДОЛЖНО СОСТАВЛЯТЬ 80-100М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-main-pic" descr="Картинка 29 из 109"/>
          <p:cNvPicPr/>
          <p:nvPr/>
        </p:nvPicPr>
        <p:blipFill>
          <a:blip r:embed="rId1"/>
          <a:stretch/>
        </p:blipFill>
        <p:spPr>
          <a:xfrm>
            <a:off x="3214800" y="2714760"/>
            <a:ext cx="507672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1" lang="ru-RU" sz="5900" spc="-1" strike="noStrike">
                <a:solidFill>
                  <a:srgbClr val="ff0000"/>
                </a:solidFill>
                <a:latin typeface="Calibri"/>
              </a:rPr>
              <a:t>ВОДИТЕЛЯМ ВЕЛОСИПЕДА И МОПЕДА ЗАПРЕЩАЕТСЯ:</a:t>
            </a:r>
            <a:br>
              <a:rPr sz="5900"/>
            </a:b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ЗДИТЬ, НЕ ДЕРЖАСЬ ЗА РУЛЬ ХОТЯ БЫ ОДНОЙ РУКОЙ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-main-pic" descr="Картинка 71 из 164"/>
          <p:cNvPicPr/>
          <p:nvPr/>
        </p:nvPicPr>
        <p:blipFill>
          <a:blip r:embed="rId1"/>
          <a:stretch/>
        </p:blipFill>
        <p:spPr>
          <a:xfrm>
            <a:off x="642960" y="1357200"/>
            <a:ext cx="3294000" cy="4840560"/>
          </a:xfrm>
          <a:prstGeom prst="rect">
            <a:avLst/>
          </a:prstGeom>
          <a:ln w="0">
            <a:noFill/>
          </a:ln>
        </p:spPr>
      </p:pic>
      <p:pic>
        <p:nvPicPr>
          <p:cNvPr id="56" name="i-main-pic" descr="Картинка 141 из 164"/>
          <p:cNvPicPr/>
          <p:nvPr/>
        </p:nvPicPr>
        <p:blipFill>
          <a:blip r:embed="rId2"/>
          <a:stretch/>
        </p:blipFill>
        <p:spPr>
          <a:xfrm>
            <a:off x="4500720" y="1428840"/>
            <a:ext cx="35715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ЕВОЗИТЬ ПАССАЖИРОВ, КРОМЕ РЕБЁНКАВ ВОЗРАСТЕ ДО 7 ЛЕТ, НА ДОПОЛНИТЕЛЬНОМ СИДЕНЬЕ,ОБОРУДОВАННОМ НАДЁЖНЫМИ ПОДНОЖКАМИ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http://rideabike.ru/wp-content/action_smiley-150x150.gif"/>
          <p:cNvPicPr/>
          <p:nvPr/>
        </p:nvPicPr>
        <p:blipFill>
          <a:blip r:embed="rId1"/>
          <a:stretch/>
        </p:blipFill>
        <p:spPr>
          <a:xfrm>
            <a:off x="0" y="1714680"/>
            <a:ext cx="3643200" cy="5143320"/>
          </a:xfrm>
          <a:prstGeom prst="rect">
            <a:avLst/>
          </a:prstGeom>
          <a:ln w="0">
            <a:noFill/>
          </a:ln>
        </p:spPr>
      </p:pic>
      <p:pic>
        <p:nvPicPr>
          <p:cNvPr id="59" name="i-main-pic" descr="Картинка 50 из 6824"/>
          <p:cNvPicPr/>
          <p:nvPr/>
        </p:nvPicPr>
        <p:blipFill>
          <a:blip r:embed="rId2"/>
          <a:stretch/>
        </p:blipFill>
        <p:spPr>
          <a:xfrm>
            <a:off x="3929040" y="1785960"/>
            <a:ext cx="347832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Запрещаетс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РЕВОЗИТЬ ГРУЗ, КОТОРЫЙ ВЫСТУПАЕТ БОЛЕЕ ЧЕМ НА 0,5М ПО ДЛИНЕ ИЛИ ШИРИНЕ ЗА ГАБАРИТЫ, ИЛИ ГРУЗ МЕЩАЮЩИЙ УПРАВЛЕНИЮ: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i-main-pic" descr="Картинка 1 из 350"/>
          <p:cNvPicPr/>
          <p:nvPr/>
        </p:nvPicPr>
        <p:blipFill>
          <a:blip r:embed="rId1"/>
          <a:stretch/>
        </p:blipFill>
        <p:spPr>
          <a:xfrm>
            <a:off x="785880" y="1214280"/>
            <a:ext cx="714384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Запрещаетс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ИГАТЬСЯ ПО ДОРОГЕ ПРИ НАЛИЧИИ РЯДОМ ВЕЛОСИПЕДНОЙ ДОРОЖКИ. Датская велосипедная дорожка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-main-pic" descr="Картинка 11 из 583"/>
          <p:cNvPicPr/>
          <p:nvPr/>
        </p:nvPicPr>
        <p:blipFill>
          <a:blip r:embed="rId1"/>
          <a:stretch/>
        </p:blipFill>
        <p:spPr>
          <a:xfrm>
            <a:off x="1714680" y="1719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2:19:30Z</dcterms:created>
  <dc:creator>Елена Александровна</dc:creator>
  <dc:description/>
  <dc:language>en-US</dc:language>
  <cp:lastModifiedBy>Елена Александровна</cp:lastModifiedBy>
  <dcterms:modified xsi:type="dcterms:W3CDTF">2012-02-12T11:46:14Z</dcterms:modified>
  <cp:revision>5</cp:revision>
  <dc:subject/>
  <dc:title>Слайд 1</dc:title>
</cp:coreProperties>
</file>