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A5C-B1DF-439E-A81A-5F5C2DDB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0EE-716F-4965-8380-F36E4E78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730-702B-4BB7-BEF3-7D437B74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1AC-D7D2-448B-8645-93E5C592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0129-FEBD-4767-B5C4-CF8A9314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122B-68E3-400C-A54D-361BBD1D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9B27-C1A1-427D-A456-59CACC90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8182-B948-4BFC-A9C2-C92FFF38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32AE-E64E-47DE-9339-8D1DBF47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EFEF-26CC-4016-A1A6-FA42DBD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4EB6-870E-4030-8828-BD2E38C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24A-9D4A-46BA-B842-79AE2EE0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51DB-A100-44AA-A483-4ABC7BDB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C200-E5F4-4EF0-B862-8F0EB77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D8BA-48DA-4AA8-81EC-961E631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C80C-8047-4983-B1EF-480BDA72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BC4A-D6A9-4AF7-8A04-B47C1A01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908-20E0-4E1E-9AEE-CCCB7EC9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335-D2D1-4FAE-8203-D40E41D3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B1D-A966-473D-A442-5BCB6790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5E3-6D32-4CF3-8BFB-A0D291EB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0FF-1D78-463C-9BCD-2A574224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28B-0160-4B2E-AAB6-819C3D8A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8F3-D647-4C59-825A-2E3A4471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0C7C-2A35-4DAD-B6BE-135F6AE366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45A1-9E9A-4956-994E-B1740592D1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Nagasakibomb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24000" y="1125360"/>
            <a:ext cx="8642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генн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тастроф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63640" y="551628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псаков А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 класс «А» МОУ «СОШ №16», г. Северодвинс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2b87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f0e2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964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норвежской колонизации Гренландии - один из наиболее трагических примеров этого 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1220135317_00h7h2c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598920" y="1484280"/>
            <a:ext cx="5581440" cy="4548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234936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916280"/>
            <a:ext cx="2735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86 году на остров высадились исландские викинги норвежского происхож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вежские общины в Гренландии продержались около 500 л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25"/>
          <p:cNvPicPr/>
          <p:nvPr/>
        </p:nvPicPr>
        <p:blipFill>
          <a:blip r:embed="rId1"/>
          <a:stretch/>
        </p:blipFill>
        <p:spPr>
          <a:xfrm>
            <a:off x="324000" y="425520"/>
            <a:ext cx="36003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067280" y="836640"/>
            <a:ext cx="42498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днако в середине XIV века колония оказалась полностью заброшена. Причина вымирания не известна…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ногие  считают, что норвежских поселенцев погубила исключительно скверная погода. Действительно, в течение 800-1300 годов климат на севере Атлантики был весьма мягким. После 1300 года в регионе началось длительное похолодан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2"/>
          <p:cNvPicPr/>
          <p:nvPr/>
        </p:nvPicPr>
        <p:blipFill>
          <a:blip r:embed="rId1"/>
          <a:stretch/>
        </p:blipFill>
        <p:spPr>
          <a:xfrm>
            <a:off x="1187280" y="90792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356000" y="836640"/>
            <a:ext cx="403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холодание наступило отнюдь не мгновенно, жестокие зимы чередовались с умеренными, поэтому поселенцы имели время на то, чтобы приспособиться к капризам природы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58920" y="3789360"/>
            <a:ext cx="662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из причин наиболее неожиданная: викинги практически не прикасались к рыбе…( отравление первопоселенцев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1220135317_00h7kq1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419640" y="2409840"/>
            <a:ext cx="572436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68360" y="404640"/>
            <a:ext cx="49687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была классическая рукотворная катастрофа. Она совершилась под воздействием всех трех ключевых причин подобных бедствий, отмеченных Ли Дэвисом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упости, небрежности и коры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19763"/>
          <p:cNvPicPr/>
          <p:nvPr/>
        </p:nvPicPr>
        <p:blipFill>
          <a:blip r:embed="rId1"/>
          <a:stretch/>
        </p:blipFill>
        <p:spPr>
          <a:xfrm>
            <a:off x="3635280" y="2224080"/>
            <a:ext cx="5329440" cy="4157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84360" y="620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ная подводная лодка "Курск" затонула 12 августа 2000 года в ходе учений Северного флота в Баренцевом мор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826920" y="220500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рту лодки находились 118 моряков. Все они погибли.  По официальной версии, подлодка погибла из-за взрыва неисправной торпеды на борту АП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метро"/>
          <p:cNvPicPr/>
          <p:nvPr/>
        </p:nvPicPr>
        <p:blipFill>
          <a:blip r:embed="rId1"/>
          <a:stretch/>
        </p:blipFill>
        <p:spPr>
          <a:xfrm>
            <a:off x="5065560" y="2492280"/>
            <a:ext cx="4043520" cy="3751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28720" y="1644480"/>
            <a:ext cx="4319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бросил горящую  банку с бензином в глубь вагона. Пламя перекинулось на весь поезд. К счастью, двери были раскрыты, и многие пассажиры сумели выскочить на платформу. И тут произошло самое страшное: через несколько минут после начала пожара на станцию пришел другой состав, переполненных людьми, и встал с другой стороны платформы, и огонь немедленно перекинулся на этот поезд. Люди во втором поезде оказались в ловушке и были отданы огню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11280" y="333360"/>
            <a:ext cx="828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земка в южнокорейском городе Тэгу. Пожар. 18 февраля 2003 г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971640"/>
            <a:ext cx="70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ствие показало, что администрация метро проявила удивительную беспечность и полную растеряннос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вный диспетчер разрешил машинисту второго поезда прибыть на станцую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отя знал, что там пожар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тались в сообщениях для пожарной служ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шинист второго поезда в панике бежал, прихватив ключи управления. Именно это напрочь заблокировало двери в ваго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Взрыв атомной бомбы в Нагасаки (1945)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08000" y="18900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340000" y="54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ая авар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 апреля 1986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916360" y="1197000"/>
            <a:ext cx="5903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нормальной эксплуатации объектов атомной промышленности загрязнение окружающей среды радиоактивными элементами составляет малую долю от естественного фона. Иная ситуация складывается при авариях на атомных объекта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, при  взрыве на Чернобыльской атомной станции, в среду было выброшено лишь около 5% ядерного топлива. Но это привело к облучению многих людей, большие территории были загрязнены настолько, что стали опасными для здоровь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224000" y="1424160"/>
            <a:ext cx="7020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же был виноват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новаты были люди. Физики и инженеры, создавшие далеко не совершенный атомный реактор, операторы, управлявшие его работой и неосторожно отключившие систему аварийной защиты, политики, трусливо дрожавшие за свои кресла и поэтому сразу после взрыва не предупредившие людей о грозящей им 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828720" y="1974960"/>
            <a:ext cx="7488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катастрофы  - результат столкновения человека с искусственной средой, которую он создал для своей безопасности и комф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ин из основных парадоксов развития человеческой циви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907560"/>
            <a:ext cx="7766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различие между природными и техногенными катастроф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ить причины техногенных катастро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литературу  по данной теме и ответить на  вопрос:  «Рано или поздно созданная нами техника уничтожит ли Вселенную и нас вместе с ней»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116000" y="1336680"/>
            <a:ext cx="7272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уже понятно, что искусственная среда, созданная человеком, столь же сложна и непредсказуема, как и природа. Ее необходимо изучать, как мы изучаем среду природн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http://www.laes.ru/content/actual/2006/20let/tab1.gif"/>
          <p:cNvPicPr/>
          <p:nvPr/>
        </p:nvPicPr>
        <p:blipFill>
          <a:blip r:embed="rId1"/>
          <a:stretch/>
        </p:blipFill>
        <p:spPr>
          <a:xfrm>
            <a:off x="611280" y="1220760"/>
            <a:ext cx="8064360" cy="44402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042920" y="476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крупные техногенные катастрофы ХХ 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3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4572000" y="3441600"/>
            <a:ext cx="4572000" cy="318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5280" y="692280"/>
            <a:ext cx="626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сю свою историю человечество не раз сталкивалось с катастрофами - неожиданными, губительными событиями, которые несли смерть людям, разрушали их города и посевы. Причиной их были разнообразные природные явления - извержение вулканов, землетрясения, цунами, наводнения, смерчи, эпидемии. Но самый главный вопрос, который волнует людей - почему происходят катастрофы? До недавних пор казалось, что основным виновником неожиданных бедствий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зумная стих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1"/>
          <p:cNvPicPr/>
          <p:nvPr/>
        </p:nvPicPr>
        <p:blipFill>
          <a:blip r:embed="rId1"/>
          <a:stretch/>
        </p:blipFill>
        <p:spPr>
          <a:xfrm>
            <a:off x="6300720" y="2421000"/>
            <a:ext cx="2490840" cy="3502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71640" y="765000"/>
            <a:ext cx="518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од был ошеломляюще неожиданным: главной причиной так называемых стихийных природных бедствий также является вмешательство Человека! Землетрясения и наводнения, засухи и взрывы подземных газов - ко всем этим губительным событиям человек тем или иным способом прикладывал свою ру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Что такое т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ехногенная катастрофа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5708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генная катастроф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ледствие умышленных или неумышленных действий человека (в большинстве случаев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генные катастрофы появились сразу после того, как человек стал придумывать новые технологии. Подобные происшествия - неизбежная плата за технологический прогрес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8720" y="763560"/>
            <a:ext cx="7630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сти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авле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ст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мысле технологии возникли одновременно с появлением человека, так что не случайно антропологи говорят о технологиях каменного или бронзового века. По сути дела, технология просто продолжает естественное стремление всего живого господствовать над средой обитания или, как минимум, сопротивляться ее давлению в борьбе за существование. Следовательно, технологические катастрофы могут случаться (и случались) не только в наше время, но и в очень далеком прош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iтитаник 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24000" y="576360"/>
            <a:ext cx="3240000" cy="26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view_news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64000" y="3789360"/>
            <a:ext cx="3637080" cy="2727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995640" y="189000"/>
            <a:ext cx="4537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бель "Титаника" - это техногенная катастрофа, главной, но отнюдь не единственной причиной, которой скорее всего была некачественная клепка металлической обшивки корпуса корабл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8360" y="3475080"/>
            <a:ext cx="4390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то же время катастрофа 11 сентября 2001 года (Взрыв в Америке двух высоток) к числу технологических не относится, поскольку была вызвана действиями террористов-камикад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5148360" y="4076640"/>
            <a:ext cx="3619440" cy="2603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00000" y="549360"/>
            <a:ext cx="72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ООН показывают, что техногенные катастрофы - третьи среди всех видов стихийных бедствий по числу погибших. На первом месте гидрометеорологические катастрофы, например, наводнения и цунами, на втором - геологические (землетрясения, сходы селевых потоков, извержения вулканов и пр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00000" y="127476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техногенная катастрофа по-своему уникальна.  Американский исследователь Ли Дэвис, перечисляет причины в таком порядк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уп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реж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ы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случаи, когда антропогенные катастрофы становились причиной гибели целых цивилиз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5:18:25Z</dcterms:created>
  <dc:creator>учитель</dc:creator>
  <dc:description/>
  <dc:language>en-US</dc:language>
  <cp:lastModifiedBy>Admin</cp:lastModifiedBy>
  <dcterms:modified xsi:type="dcterms:W3CDTF">2012-05-12T22:01:50Z</dcterms:modified>
  <cp:revision>48</cp:revision>
  <dc:subject/>
  <dc:title>Слайд 1</dc:title>
</cp:coreProperties>
</file>