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66A-C3D0-4BE1-A8D2-2472C4AD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59D-A372-4FEE-8355-B7F709D1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2AA-E5C8-4E00-92B1-D6BF1249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526-D142-43BD-BD6D-8998B4C6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0EDF-45DA-42AE-91D0-5F5B81FD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4E9F-A98B-4B06-8EDE-23F3D2DE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7468-E10B-4388-8033-4F68E274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2473-BE3A-493F-A14E-E57C6B4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EDC5-15D1-45F2-A041-CF7E35FA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24F9-EB35-450E-9898-B6DE0C9B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105A-F585-4498-ACC4-309166AF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6D7-B6B8-4FBF-85CD-8F8BEBFC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715E-61F0-4BE5-AC33-163E7086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7D2E-94C8-4BCB-8D3B-F1276AA1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C4F3-94C8-4B0B-BDF1-10ADF8F6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A079-2540-4067-83AB-5B973DF7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C3ED-9F0D-4BF6-BD63-792C7711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62E-1E5A-4FBA-83F1-F23244AD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300-959F-4A36-A2D8-20BB7658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9F9-BC29-49AF-A2F3-A3805A28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82B-7313-42A5-8B71-93BEE1CC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0BA-CCC6-455F-B07B-F65D93D8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3C9-DAF2-4D48-899F-8E1EC39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C81-77D7-42BC-ADD3-6B37C73E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5A7D-FB17-4CD2-8550-77BFFA8277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05B1-2D18-4EAA-BC4C-05261544F51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Nagasakibomb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324000" y="1125360"/>
            <a:ext cx="864216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генны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тастроф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763640" y="551628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псаков Алексан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 класс «А» МОУ «СОШ №16», г. Северодвинс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Рамка 5"/>
          <p:cNvSpPr/>
          <p:nvPr/>
        </p:nvSpPr>
        <p:spPr>
          <a:xfrm>
            <a:off x="3786120" y="6357960"/>
            <a:ext cx="278604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2b87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f0e2"/>
                </a:solidFill>
                <a:latin typeface="Arial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53964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норвежской колонизации Гренландии - один из наиболее трагических примеров этого 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1220135317_00h7h2c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598920" y="1484280"/>
            <a:ext cx="5581440" cy="4548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611280" y="234936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1916280"/>
            <a:ext cx="2735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86 году на остров высадились исландские викинги норвежского происхожд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вежские общины в Гренландии продержались около 500 л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25"/>
          <p:cNvPicPr/>
          <p:nvPr/>
        </p:nvPicPr>
        <p:blipFill>
          <a:blip r:embed="rId1"/>
          <a:stretch/>
        </p:blipFill>
        <p:spPr>
          <a:xfrm>
            <a:off x="324000" y="425520"/>
            <a:ext cx="36003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067280" y="836640"/>
            <a:ext cx="42498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днако в середине XIV века колония оказалась полностью заброшена. Причина вымирания не известна…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ногие  считают, что норвежских поселенцев погубила исключительно скверная погода. Действительно, в течение 800-1300 годов климат на севере Атлантики был весьма мягким. После 1300 года в регионе началось длительное похолодани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22"/>
          <p:cNvPicPr/>
          <p:nvPr/>
        </p:nvPicPr>
        <p:blipFill>
          <a:blip r:embed="rId1"/>
          <a:stretch/>
        </p:blipFill>
        <p:spPr>
          <a:xfrm>
            <a:off x="1187280" y="907920"/>
            <a:ext cx="2951280" cy="2214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356000" y="836640"/>
            <a:ext cx="403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холодание наступило отнюдь не мгновенно, жестокие зимы чередовались с умеренными, поэтому поселенцы имели время на то, чтобы приспособиться к капризам природы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258920" y="3789360"/>
            <a:ext cx="662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из причин наиболее неожиданная: викинги практически не прикасались к рыбе…( отравление первопоселенцев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1220135317_00h7kq1g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3419640" y="2409840"/>
            <a:ext cx="5724360" cy="3816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68360" y="404640"/>
            <a:ext cx="496872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была классическая рукотворная катастрофа. Она совершилась под воздействием всех трех ключевых причин подобных бедствий, отмеченных Ли Дэвисом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лупости, небрежности и коры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19763"/>
          <p:cNvPicPr/>
          <p:nvPr/>
        </p:nvPicPr>
        <p:blipFill>
          <a:blip r:embed="rId1"/>
          <a:stretch/>
        </p:blipFill>
        <p:spPr>
          <a:xfrm>
            <a:off x="3635280" y="2224080"/>
            <a:ext cx="5329440" cy="4157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84360" y="620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ная подводная лодка "Курск" затонула 12 августа 2000 года в ходе учений Северного флота в Баренцевом мор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826920" y="2205000"/>
            <a:ext cx="28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рту лодки находились 118 моряков. Все они погибли.  По официальной версии, подлодка погибла из-за взрыва неисправной торпеды на борту АП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метро"/>
          <p:cNvPicPr/>
          <p:nvPr/>
        </p:nvPicPr>
        <p:blipFill>
          <a:blip r:embed="rId1"/>
          <a:stretch/>
        </p:blipFill>
        <p:spPr>
          <a:xfrm>
            <a:off x="5065560" y="2492280"/>
            <a:ext cx="4043520" cy="3751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28720" y="1644480"/>
            <a:ext cx="4319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бросил горящую  банку с бензином в глубь вагона. Пламя перекинулось на весь поезд. К счастью, двери были раскрыты, и многие пассажиры сумели выскочить на платформу. И тут произошло самое страшное: через несколько минут после начала пожара на станцию пришел другой состав, переполненных людьми, и встал с другой стороны платформы, и огонь немедленно перекинулся на этот поезд. Люди во втором поезде оказались в ловушке и были отданы огню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11280" y="333360"/>
            <a:ext cx="828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дземка в южнокорейском городе Тэгу. Пожар. 18 февраля 2003 г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16000" y="971640"/>
            <a:ext cx="70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ствие показало, что администрация метро проявила удивительную беспечность и полную растеряннос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вный диспетчер разрешил машинисту второго поезда прибыть на станцую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отя знал, что там пожар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тались в сообщениях для пожарной служб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шинист второго поезда в панике бежал, прихватив ключи управления. Именно это напрочь заблокировало двери в ваго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Взрыв атомной бомбы в Нагасаки (1945)">
            <a:hlinkClick r:id="rId1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08000" y="189000"/>
            <a:ext cx="2633760" cy="3600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2340000" y="549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ая авар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 апреля 1986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916360" y="1197000"/>
            <a:ext cx="590364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нормальной эксплуатации объектов атомной промышленности загрязнение окружающей среды радиоактивными элементами составляет малую долю от естественного фона. Иная ситуация складывается при авариях на атомных объектах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к, при  взрыве на Чернобыльской атомной станции, в среду было выброшено лишь около 5% ядерного топлива. Но это привело к облучению многих людей, большие территории были загрязнены настолько, что стали опасными для здоровь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224000" y="1424160"/>
            <a:ext cx="702000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то же был виноват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новаты были люди. Физики и инженеры, создавшие далеко не совершенный атомный реактор, операторы, управлявшие его работой и неосторожно отключившие систему аварийной защиты, политики, трусливо дрожавшие за свои кресла и поэтому сразу после взрыва не предупредившие людей о грозящей им 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828720" y="1974960"/>
            <a:ext cx="7488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ти катастрофы  - результат столкновения человека с искусственной средой, которую он создал для своей безопасности и комфо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дин из основных парадоксов развития человеческой циви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907560"/>
            <a:ext cx="7766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различие между природными и техногенными катастроф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ить причины техногенных катастро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литературу  по данной теме и ответить на  вопрос:  «Рано или поздно созданная нами техника уничтожит ли Вселенную и нас вместе с ней»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116000" y="1336680"/>
            <a:ext cx="7272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уже понятно, что искусственная среда, созданная человеком, столь же сложна и непредсказуема, как и природа. Ее необходимо изучать, как мы изучаем среду природн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http://www.laes.ru/content/actual/2006/20let/tab1.gif"/>
          <p:cNvPicPr/>
          <p:nvPr/>
        </p:nvPicPr>
        <p:blipFill>
          <a:blip r:embed="rId1"/>
          <a:stretch/>
        </p:blipFill>
        <p:spPr>
          <a:xfrm>
            <a:off x="611280" y="1220760"/>
            <a:ext cx="8064360" cy="44402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042920" y="476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крупные техногенные катастрофы ХХ 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3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4572000" y="3441600"/>
            <a:ext cx="4572000" cy="318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95280" y="692280"/>
            <a:ext cx="6265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сю свою историю человечество не раз сталкивалось с катастрофами - неожиданными, губительными событиями, которые несли смерть людям, разрушали их города и посевы. Причиной их были разнообразные природные явления - извержение вулканов, землетрясения, цунами, наводнения, смерчи, эпидемии. Но самый главный вопрос, который волнует людей - почему происходят катастрофы? До недавних пор казалось, что основным виновником неожиданных бедствий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зумная стих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11"/>
          <p:cNvPicPr/>
          <p:nvPr/>
        </p:nvPicPr>
        <p:blipFill>
          <a:blip r:embed="rId1"/>
          <a:stretch/>
        </p:blipFill>
        <p:spPr>
          <a:xfrm>
            <a:off x="6300720" y="2421000"/>
            <a:ext cx="2490840" cy="3502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71640" y="765000"/>
            <a:ext cx="518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од был ошеломляюще неожиданным: главной причиной так называемых стихийных природных бедствий также является вмешательство Человека! Землетрясения и наводнения, засухи и взрывы подземных газов - ко всем этим губительным событиям человек тем или иным способом прикладывал свою рук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Что такое т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ехногенная катастрофа?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57080" y="173052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генная катастроф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следствие умышленных или неумышленных действий человека (в большинстве случаев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огенные катастрофы появились сразу после того, как человек стал придумывать новые технологии. Подобные происшествия - неизбежная плата за технологический прогрес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28720" y="763560"/>
            <a:ext cx="7630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сти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тавле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ест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смысле технологии возникли одновременно с появлением человека, так что не случайно антропологи говорят о технологиях каменного или бронзового века. По сути дела, технология просто продолжает естественное стремление всего живого господствовать над средой обитания или, как минимум, сопротивляться ее давлению в борьбе за существование. Следовательно, технологические катастрофы могут случаться (и случались) не только в наше время, но и в очень далеком прош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iтитаник 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324000" y="576360"/>
            <a:ext cx="3240000" cy="26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view_news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64000" y="3789360"/>
            <a:ext cx="3637080" cy="2727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995640" y="189000"/>
            <a:ext cx="4537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бель "Титаника" - это техногенная катастрофа, главной, но отнюдь не единственной причиной, которой скорее всего была некачественная клепка металлической обшивки корпуса корабл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68360" y="3475080"/>
            <a:ext cx="4390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то же время катастрофа 11 сентября 2001 года (Взрыв в Америке двух высоток) к числу технологических не относится, поскольку была вызвана действиями террористов-камикад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8"/>
          <p:cNvPicPr/>
          <p:nvPr/>
        </p:nvPicPr>
        <p:blipFill>
          <a:blip r:embed="rId1"/>
          <a:stretch/>
        </p:blipFill>
        <p:spPr>
          <a:xfrm>
            <a:off x="5148360" y="4076640"/>
            <a:ext cx="3619440" cy="2603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900000" y="549360"/>
            <a:ext cx="72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ООН показывают, что техногенные катастрофы - третьи среди всех видов стихийных бедствий по числу погибших. На первом месте гидрометеорологические катастрофы, например, наводнения и цунами, на втором - геологические (землетрясения, сходы селевых потоков, извержения вулканов и пр.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900000" y="127476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техногенная катастрофа по-своему уникальна.  Американский исследователь Ли Дэвис, перечисляет причины в таком порядк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уп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бреж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ы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 случаи, когда антропогенные катастрофы становились причиной гибели целых цивилиз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5:18:25Z</dcterms:created>
  <dc:creator>учитель</dc:creator>
  <dc:description/>
  <dc:language>en-US</dc:language>
  <cp:lastModifiedBy>Admin</cp:lastModifiedBy>
  <dcterms:modified xsi:type="dcterms:W3CDTF">2012-05-12T22:01:50Z</dcterms:modified>
  <cp:revision>48</cp:revision>
  <dc:subject/>
  <dc:title>Слайд 1</dc:title>
</cp:coreProperties>
</file>