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FC5-0663-4B9B-BFDA-390E1FDD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187-7FA7-40C8-B42A-4C5DF0E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AFD-5C50-4AE5-9956-DF69F4B7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E41-6833-41BE-9FB7-5E4770B3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497-79D7-47A4-BAF2-75BA5827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71E-3326-4176-B56C-77F8343A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C31-8F87-4AE5-AB11-B530AF98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2D7-08F6-45D4-9F59-077F56D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97D-35C6-4FBD-9365-EB0770E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EE4-2CA8-4DF0-A218-BF0C547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22F-2AF1-4BEE-9F76-B851006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D11-1C49-4C0A-8384-CDA593C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104-76DE-4644-A0FB-B324730DA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9280" y="692280"/>
            <a:ext cx="41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тлый праздник 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схи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91628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Христос Воскре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Любуйтесь, д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Небесной яркой сине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Весна нарядит пышно ве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Пушистой нежною лист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3068640"/>
            <a:ext cx="5220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Прудников Егор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ченик 4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МКОУ  Бетлицкая С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алужской о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Руководитель: Семенчук Н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29760" y="2205000"/>
            <a:ext cx="49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ff"/>
                </a:solidFill>
                <a:latin typeface="Arial"/>
                <a:ea typeface="Arial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997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306160" y="397980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happy-school.ru/photo/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910600" y="448308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kartinki24.ru/kartinki/pash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760040" y="34750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mga.ucoz.ru/load/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464640" y="505944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best-animation.ru/pacha_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пасха\577e6dd25fd86ed3db60лоee3a31b65656_full.jpg"/>
          <p:cNvPicPr/>
          <p:nvPr/>
        </p:nvPicPr>
        <p:blipFill>
          <a:blip r:embed="rId1"/>
          <a:stretch/>
        </p:blipFill>
        <p:spPr>
          <a:xfrm>
            <a:off x="357120" y="285840"/>
            <a:ext cx="370512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14880" y="-157320"/>
            <a:ext cx="4714920" cy="72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асха, день Воскресения Христова – самый главный праздник Православной Церкви.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Именно в нем заключается основной смысл Православной веры - сам Бог стал человеком, умер за нас и, воскреснув, избавил людей от власти смерти и греха. </a:t>
            </a: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асха – это праздник праздников! Православная Церковь празднует Пасху уже более двух тысяч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214200"/>
            <a:ext cx="478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Пасху принято христосоваться  и целовать трижды друг друга. Принято, чтобы младшие слов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"Христо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Воскресе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!" приветствовали первыми, а старшие отвечали им: "Воистину Воскресе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F:\пасха\0_2915л4_36a108b1_L.jpeg"/>
          <p:cNvPicPr/>
          <p:nvPr/>
        </p:nvPicPr>
        <p:blipFill>
          <a:blip r:embed="rId1"/>
          <a:stretch/>
        </p:blipFill>
        <p:spPr>
          <a:xfrm>
            <a:off x="5102280" y="714240"/>
            <a:ext cx="3763800" cy="581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608360" cy="318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пасха\3л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464000" cy="299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40464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Дети любили  «чокаться» яйцами друг с другом, ударяя тупым или острым концом крашеного крутого яйца яйцо соперника. Выигрывал тот, чье яйцо не тресну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329400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360" y="6020640"/>
            <a:ext cx="90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Христос дал нам жизнь, а яйцо - это знак жиз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Красив и радостен праздничный пасхальный сто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F:\пасха\1д0.jpg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337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836640"/>
            <a:ext cx="251640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56000" y="1413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Главным украшением стола являются куличи и пас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42160"/>
            <a:ext cx="42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Пасхальный кулич является церковно-обрядовой пищ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84360" y="4795920"/>
            <a:ext cx="129564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4000" y="476100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00720" y="3789360"/>
            <a:ext cx="128088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08720" y="45640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012000" y="537372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F:\пасха\easter-eggs-pashalnie-yaitsa-800дx600.jpg"/>
          <p:cNvPicPr/>
          <p:nvPr/>
        </p:nvPicPr>
        <p:blipFill>
          <a:blip r:embed="rId1"/>
          <a:stretch/>
        </p:blipFill>
        <p:spPr>
          <a:xfrm>
            <a:off x="6156360" y="3645000"/>
            <a:ext cx="2797200" cy="209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500040" y="5786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Раньше яйца красили по-особому: обматывали их сухими листьями дуба, березы, крапивы, перевязывали нитками и вари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Получались красивые «мраморные» яй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F:\пасха\happyeasterchristianwallpaper1_S.jpg"/>
          <p:cNvPicPr/>
          <p:nvPr/>
        </p:nvPicPr>
        <p:blipFill>
          <a:blip r:embed="rId2"/>
          <a:stretch/>
        </p:blipFill>
        <p:spPr>
          <a:xfrm>
            <a:off x="5580000" y="333360"/>
            <a:ext cx="125892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пасха\lovely-loopy-egg-easter-craft-photo-420-FF0409EGGSA13.jpg"/>
          <p:cNvPicPr/>
          <p:nvPr/>
        </p:nvPicPr>
        <p:blipFill>
          <a:blip r:embed="rId3"/>
          <a:stretch/>
        </p:blipFill>
        <p:spPr>
          <a:xfrm>
            <a:off x="1979640" y="1844640"/>
            <a:ext cx="128412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F:\пасха\news_257.jpg"/>
          <p:cNvPicPr/>
          <p:nvPr/>
        </p:nvPicPr>
        <p:blipFill>
          <a:blip r:embed="rId4"/>
          <a:stretch/>
        </p:blipFill>
        <p:spPr>
          <a:xfrm>
            <a:off x="7308720" y="333360"/>
            <a:ext cx="1500480" cy="170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:\пасха\ZC00OдDBlL.jpg"/>
          <p:cNvPicPr/>
          <p:nvPr/>
        </p:nvPicPr>
        <p:blipFill>
          <a:blip r:embed="rId5"/>
          <a:stretch/>
        </p:blipFill>
        <p:spPr>
          <a:xfrm>
            <a:off x="324000" y="3716280"/>
            <a:ext cx="1788840" cy="2009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932360" y="2637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Calibri"/>
              </a:rPr>
              <a:t>Весело придумывать новые способы укра</a:t>
            </a: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шения </a:t>
            </a:r>
            <a:r>
              <a:rPr b="0" i="1" lang="en-US" sz="2000" spc="-1" strike="noStrike">
                <a:solidFill>
                  <a:srgbClr val="7030a0"/>
                </a:solidFill>
                <a:latin typeface="Calibri"/>
              </a:rPr>
              <a:t>я</a:t>
            </a: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241280" cy="200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924360" y="1268280"/>
            <a:ext cx="1171440" cy="16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2920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4211640" y="3716280"/>
            <a:ext cx="1501920" cy="204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 rot="21265800">
            <a:off x="1902960" y="263520"/>
            <a:ext cx="33847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227"/>
                <a:gd name="adj2" fmla="val -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Идеи украше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пасхальных яи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пасха\pasha_kataоlka.jpg"/>
          <p:cNvPicPr/>
          <p:nvPr/>
        </p:nvPicPr>
        <p:blipFill>
          <a:blip r:embed="rId1"/>
          <a:stretch/>
        </p:blipFill>
        <p:spPr>
          <a:xfrm>
            <a:off x="4697280" y="260280"/>
            <a:ext cx="4156200" cy="6408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0" y="1890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Любимой пасхальной игрой на Руси было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катанье яиц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. Устраивали эту игру так: устанавливали деревянный или картонный «каток» и вокруг него освобождали ровное место, на котором раскладывали крашеные яйца, игрушечки, незамысловатые сувениры. Играющие дети подходили по очереди к «катку» и катили каждый свое яйцо.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Выигрышем становился тот предмет, которого яичко косну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3744720" cy="27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1\Desktop\рукоделия\Hristos_voskres_.jpg"/>
          <p:cNvPicPr/>
          <p:nvPr/>
        </p:nvPicPr>
        <p:blipFill>
          <a:blip r:embed="rId1"/>
          <a:stretch/>
        </p:blipFill>
        <p:spPr>
          <a:xfrm>
            <a:off x="250920" y="2443320"/>
            <a:ext cx="2592360" cy="177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1\Desktop\рукоделия\1353.jpg"/>
          <p:cNvPicPr/>
          <p:nvPr/>
        </p:nvPicPr>
        <p:blipFill>
          <a:blip r:embed="rId2"/>
          <a:stretch/>
        </p:blipFill>
        <p:spPr>
          <a:xfrm>
            <a:off x="2987640" y="1413000"/>
            <a:ext cx="2455920" cy="28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124000" cy="17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338796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32720" y="189000"/>
            <a:ext cx="197640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50920" y="4365720"/>
            <a:ext cx="173520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3640" y="4437000"/>
            <a:ext cx="494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Рукодельницы готовятся отмечать Пасху и с пяльцами в руках– они приподносят красивую пасхальную вышивку в подарок, украшают ею свой дом, расстилают вышитые крестом скатерти на праздничный стол. Глаз радуется мастерству вышивальщиц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516720" y="4437000"/>
            <a:ext cx="233676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411280" y="33336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дели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4ed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\Desktop\цыплёнок\5a1886ce607da4426618dл6d0fc011eb7f8ff63cd.jpg"/>
          <p:cNvPicPr/>
          <p:nvPr/>
        </p:nvPicPr>
        <p:blipFill>
          <a:blip r:embed="rId1"/>
          <a:stretch/>
        </p:blipFill>
        <p:spPr>
          <a:xfrm>
            <a:off x="3276720" y="4724280"/>
            <a:ext cx="20160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1\Desktop\цыплёнок\66ba2257259e5d3b2260fdb2432ddd1950d58c49.jpg"/>
          <p:cNvPicPr/>
          <p:nvPr/>
        </p:nvPicPr>
        <p:blipFill>
          <a:blip r:embed="rId2"/>
          <a:stretch/>
        </p:blipFill>
        <p:spPr>
          <a:xfrm>
            <a:off x="179280" y="4724280"/>
            <a:ext cx="2051280" cy="17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1\Desktop\цыплёнок\cьhick1.jpg"/>
          <p:cNvPicPr/>
          <p:nvPr/>
        </p:nvPicPr>
        <p:blipFill>
          <a:blip r:embed="rId3"/>
          <a:stretch/>
        </p:blipFill>
        <p:spPr>
          <a:xfrm>
            <a:off x="6732720" y="4653000"/>
            <a:ext cx="204624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1\Desktop\цыплёнок\e5211506964266504d367721254feь34fdf05c9f7.jpg"/>
          <p:cNvPicPr/>
          <p:nvPr/>
        </p:nvPicPr>
        <p:blipFill>
          <a:blip r:embed="rId4"/>
          <a:stretch/>
        </p:blipFill>
        <p:spPr>
          <a:xfrm>
            <a:off x="1908000" y="2852640"/>
            <a:ext cx="145584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цыплёнок\f59ede209117f367f7b0abbь2a501a1bc6b8bf26d.jpg"/>
          <p:cNvPicPr/>
          <p:nvPr/>
        </p:nvPicPr>
        <p:blipFill>
          <a:blip r:embed="rId5"/>
          <a:stretch/>
        </p:blipFill>
        <p:spPr>
          <a:xfrm>
            <a:off x="5219640" y="2781360"/>
            <a:ext cx="149400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6"/>
          <a:stretch/>
        </p:blipFill>
        <p:spPr>
          <a:xfrm>
            <a:off x="250920" y="3573360"/>
            <a:ext cx="1469880" cy="11462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7"/>
          <a:stretch/>
        </p:blipFill>
        <p:spPr>
          <a:xfrm>
            <a:off x="2050920" y="4724280"/>
            <a:ext cx="1228680" cy="9241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10" descr=""/>
          <p:cNvPicPr/>
          <p:nvPr/>
        </p:nvPicPr>
        <p:blipFill>
          <a:blip r:embed="rId8"/>
          <a:stretch/>
        </p:blipFill>
        <p:spPr>
          <a:xfrm>
            <a:off x="3564000" y="3789360"/>
            <a:ext cx="1285920" cy="9493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1" descr=""/>
          <p:cNvPicPr/>
          <p:nvPr/>
        </p:nvPicPr>
        <p:blipFill>
          <a:blip r:embed="rId9"/>
          <a:stretch/>
        </p:blipFill>
        <p:spPr>
          <a:xfrm>
            <a:off x="5435640" y="4797360"/>
            <a:ext cx="1157400" cy="7794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10"/>
          <a:stretch/>
        </p:blipFill>
        <p:spPr>
          <a:xfrm>
            <a:off x="6556320" y="3645000"/>
            <a:ext cx="25876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692360" y="33336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85b00"/>
                  </a:outerShdw>
                </a:effectLst>
                <a:latin typeface="Arial"/>
              </a:rPr>
              <a:t>Пасхальный  цыпленок</a:t>
            </a:r>
            <a:endParaRPr b="0" i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985b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84464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етали пасхального цыпл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учной работы   для сши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976680" y="1125360"/>
            <a:ext cx="68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Цыпленок – символ обновленной нов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9:56:32Z</dcterms:created>
  <dc:creator>1</dc:creator>
  <dc:description/>
  <dc:language>en-US</dc:language>
  <cp:lastModifiedBy>Comp</cp:lastModifiedBy>
  <dcterms:modified xsi:type="dcterms:W3CDTF">2012-03-23T16:16:51Z</dcterms:modified>
  <cp:revision>28</cp:revision>
  <dc:subject/>
  <dc:title>Слайд 1</dc:title>
</cp:coreProperties>
</file>