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10.jpeg" ContentType="image/jpeg"/>
  <Override PartName="/ppt/media/image29.jpeg" ContentType="image/jpeg"/>
  <Override PartName="/ppt/media/image8.gif" ContentType="image/gif"/>
  <Override PartName="/ppt/media/image18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1F3-3DE8-4184-8576-795A6F1C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8B1-4E7E-4692-AB01-4A3E9B64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99B-2162-4A26-96E5-D71742A1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B20-BA6C-4C23-8508-1491B087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61A-5FC4-44CE-88AD-ABB34046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432-664B-47ED-813F-14A4ECC0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F73-F1A1-4FD6-81CA-68644171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405-3CB7-48DB-B5A7-121E77E2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CF3-9229-4D08-9AE0-ECF18613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554-61AC-4E1F-AAC5-BE2BEBD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228-E85A-4EBC-95DA-5DA806B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A43-7D5A-46B0-A685-8FE063AB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9E05-F1B0-40FA-A8BD-6B70D90C5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9280" y="692280"/>
            <a:ext cx="410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тлый праздник 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схи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91628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Христос Воскрес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Любуйтесь, дет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Небесной яркой сине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Весна нарядит пышно ве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Пушистой нежною лист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3068640"/>
            <a:ext cx="52200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Автор: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Прудников Егор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ученик 4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МКОУ  Бетлицкая С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Калужской об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Руководитель: Семенчук Н.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29760" y="2205000"/>
            <a:ext cx="49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ff"/>
                </a:solidFill>
                <a:latin typeface="Arial"/>
                <a:ea typeface="Arial"/>
              </a:rPr>
              <a:t>Интернет-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997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images.yandex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2306160" y="397980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happy-school.ru/photo/2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910600" y="448308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kartinki24.ru/kartinki/pash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760040" y="347508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mga.ucoz.ru/load/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464640" y="5059440"/>
            <a:ext cx="50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best-animation.ru/pacha_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пасха\577e6dd25fd86ed3db60лоee3a31b65656_full.jpg"/>
          <p:cNvPicPr/>
          <p:nvPr/>
        </p:nvPicPr>
        <p:blipFill>
          <a:blip r:embed="rId1"/>
          <a:stretch/>
        </p:blipFill>
        <p:spPr>
          <a:xfrm>
            <a:off x="357120" y="285840"/>
            <a:ext cx="370512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214880" y="-157320"/>
            <a:ext cx="4714920" cy="72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асха, день Воскресения Христова – самый главный праздник Православной Церкви.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Именно в нем заключается основной смысл Православной веры - сам Бог стал человеком, умер за нас и, воскреснув, избавил людей от власти смерти и греха. </a:t>
            </a:r>
            <a:r>
              <a:rPr b="1" i="1" lang="en-US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Пасха – это праздник праздников! Православная Церковь празднует Пасху уже более двух тысяч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214200"/>
            <a:ext cx="478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На Пасху принято христосоваться  и целовать трижды друг друга. Принято, чтобы младшие слов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"Христос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 Воскресе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!" приветствовали первыми, а старшие отвечали им: "Воистину Воскресе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F:\пасха\0_2915л4_36a108b1_L.jpeg"/>
          <p:cNvPicPr/>
          <p:nvPr/>
        </p:nvPicPr>
        <p:blipFill>
          <a:blip r:embed="rId1"/>
          <a:stretch/>
        </p:blipFill>
        <p:spPr>
          <a:xfrm>
            <a:off x="5102280" y="714240"/>
            <a:ext cx="3763800" cy="5810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4608360" cy="318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пасха\3л3.jpg"/>
          <p:cNvPicPr/>
          <p:nvPr/>
        </p:nvPicPr>
        <p:blipFill>
          <a:blip r:embed="rId1"/>
          <a:stretch/>
        </p:blipFill>
        <p:spPr>
          <a:xfrm>
            <a:off x="3995640" y="2852640"/>
            <a:ext cx="4464000" cy="299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5640" y="404640"/>
            <a:ext cx="48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Дети любили  «чокаться» яйцами друг с другом, ударяя тупым или острым концом крашеного крутого яйца яйцо соперника. Выигрывал тот, чье яйцо не тресну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3294000" cy="5256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360" y="6020640"/>
            <a:ext cx="90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Христос дал нам жизнь, а яйцо - это знак жиз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0" y="189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Красив и радостен праздничный пасхальный сто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F:\пасха\1д0.jpg"/>
          <p:cNvPicPr/>
          <p:nvPr/>
        </p:nvPicPr>
        <p:blipFill>
          <a:blip r:embed="rId1"/>
          <a:stretch/>
        </p:blipFill>
        <p:spPr>
          <a:xfrm>
            <a:off x="395280" y="907920"/>
            <a:ext cx="3745080" cy="337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00720" y="836640"/>
            <a:ext cx="251640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56000" y="1413000"/>
            <a:ext cx="172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Главным украшением стола являются куличи и пасх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942160"/>
            <a:ext cx="42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Пасхальный кулич является церковно-обрядовой пищ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484360" y="4795920"/>
            <a:ext cx="1295640" cy="103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24000" y="476100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500720" y="3789360"/>
            <a:ext cx="1280880" cy="15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7308720" y="4564080"/>
            <a:ext cx="151128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012000" y="5373720"/>
            <a:ext cx="1511280" cy="113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F:\пасха\easter-eggs-pashalnie-yaitsa-800дx600.jpg"/>
          <p:cNvPicPr/>
          <p:nvPr/>
        </p:nvPicPr>
        <p:blipFill>
          <a:blip r:embed="rId1"/>
          <a:stretch/>
        </p:blipFill>
        <p:spPr>
          <a:xfrm>
            <a:off x="6156360" y="3645000"/>
            <a:ext cx="2797200" cy="2097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500040" y="57862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Раньше яйца красили по-особому: обматывали их сухими листьями дуба, березы, крапивы, перевязывали нитками и вари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Получались красивые «мраморные» яй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F:\пасха\happyeasterchristianwallpaper1_S.jpg"/>
          <p:cNvPicPr/>
          <p:nvPr/>
        </p:nvPicPr>
        <p:blipFill>
          <a:blip r:embed="rId2"/>
          <a:stretch/>
        </p:blipFill>
        <p:spPr>
          <a:xfrm>
            <a:off x="5580000" y="333360"/>
            <a:ext cx="125892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F:\пасха\lovely-loopy-egg-easter-craft-photo-420-FF0409EGGSA13.jpg"/>
          <p:cNvPicPr/>
          <p:nvPr/>
        </p:nvPicPr>
        <p:blipFill>
          <a:blip r:embed="rId3"/>
          <a:stretch/>
        </p:blipFill>
        <p:spPr>
          <a:xfrm>
            <a:off x="1979640" y="1844640"/>
            <a:ext cx="128412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F:\пасха\news_257.jpg"/>
          <p:cNvPicPr/>
          <p:nvPr/>
        </p:nvPicPr>
        <p:blipFill>
          <a:blip r:embed="rId4"/>
          <a:stretch/>
        </p:blipFill>
        <p:spPr>
          <a:xfrm>
            <a:off x="7308720" y="333360"/>
            <a:ext cx="1500480" cy="1706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F:\пасха\ZC00OдDBlL.jpg"/>
          <p:cNvPicPr/>
          <p:nvPr/>
        </p:nvPicPr>
        <p:blipFill>
          <a:blip r:embed="rId5"/>
          <a:stretch/>
        </p:blipFill>
        <p:spPr>
          <a:xfrm>
            <a:off x="324000" y="3716280"/>
            <a:ext cx="1788840" cy="2009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4932360" y="263700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Calibri"/>
              </a:rPr>
              <a:t>Весело придумывать новые способы укра</a:t>
            </a: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шения </a:t>
            </a:r>
            <a:r>
              <a:rPr b="0" i="1" lang="en-US" sz="2000" spc="-1" strike="noStrike">
                <a:solidFill>
                  <a:srgbClr val="7030a0"/>
                </a:solidFill>
                <a:latin typeface="Calibri"/>
              </a:rPr>
              <a:t>я</a:t>
            </a: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и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2556000" y="3716280"/>
            <a:ext cx="1241280" cy="2006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924360" y="1268280"/>
            <a:ext cx="1171440" cy="1624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29204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4211640" y="3716280"/>
            <a:ext cx="1501920" cy="2040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 rot="21265800">
            <a:off x="1902960" y="263520"/>
            <a:ext cx="338472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5227"/>
                <a:gd name="adj2" fmla="val -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Идеи украшени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пасхальных яи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:\пасха\pasha_kataоlka.jpg"/>
          <p:cNvPicPr/>
          <p:nvPr/>
        </p:nvPicPr>
        <p:blipFill>
          <a:blip r:embed="rId1"/>
          <a:stretch/>
        </p:blipFill>
        <p:spPr>
          <a:xfrm>
            <a:off x="4697280" y="260280"/>
            <a:ext cx="4156200" cy="64087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0" y="18900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Любимой пасхальной игрой на Руси было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катанье яиц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. Устраивали эту игру так: устанавливали деревянный или картонный «каток» и вокруг него освобождали ровное место, на котором раскладывали крашеные яйца, игрушечки, незамысловатые сувениры. Играющие дети подходили по очереди к «катку» и катили каждый свое яйцо.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Выигрышем становился тот предмет, которого яичко коснуло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3744720" cy="270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1\Desktop\рукоделия\Hristos_voskres_.jpg"/>
          <p:cNvPicPr/>
          <p:nvPr/>
        </p:nvPicPr>
        <p:blipFill>
          <a:blip r:embed="rId1"/>
          <a:stretch/>
        </p:blipFill>
        <p:spPr>
          <a:xfrm>
            <a:off x="250920" y="2443320"/>
            <a:ext cx="2592360" cy="177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1\Desktop\рукоделия\1353.jpg"/>
          <p:cNvPicPr/>
          <p:nvPr/>
        </p:nvPicPr>
        <p:blipFill>
          <a:blip r:embed="rId2"/>
          <a:stretch/>
        </p:blipFill>
        <p:spPr>
          <a:xfrm>
            <a:off x="2987640" y="1413000"/>
            <a:ext cx="2455920" cy="28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2124000" cy="1705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580000" y="2421000"/>
            <a:ext cx="3387960" cy="18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732720" y="189000"/>
            <a:ext cx="197640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50920" y="4365720"/>
            <a:ext cx="173520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63640" y="4437000"/>
            <a:ext cx="494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  <a:ea typeface="Arial"/>
              </a:rPr>
              <a:t>Рукодельницы готовятся отмечать Пасху и с пяльцами в руках– они приподносят красивую пасхальную вышивку в подарок, украшают ею свой дом, расстилают вышитые крестом скатерти на праздничный стол. Глаз радуется мастерству вышивальщиц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516720" y="4437000"/>
            <a:ext cx="2336760" cy="1981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411280" y="333360"/>
            <a:ext cx="395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коделие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4ed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1\Desktop\цыплёнок\5a1886ce607da4426618dл6d0fc011eb7f8ff63cd.jpg"/>
          <p:cNvPicPr/>
          <p:nvPr/>
        </p:nvPicPr>
        <p:blipFill>
          <a:blip r:embed="rId1"/>
          <a:stretch/>
        </p:blipFill>
        <p:spPr>
          <a:xfrm>
            <a:off x="3276720" y="4724280"/>
            <a:ext cx="20160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1\Desktop\цыплёнок\66ba2257259e5d3b2260fdb2432ddd1950d58c49.jpg"/>
          <p:cNvPicPr/>
          <p:nvPr/>
        </p:nvPicPr>
        <p:blipFill>
          <a:blip r:embed="rId2"/>
          <a:stretch/>
        </p:blipFill>
        <p:spPr>
          <a:xfrm>
            <a:off x="179280" y="4724280"/>
            <a:ext cx="2051280" cy="1795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1\Desktop\цыплёнок\cьhick1.jpg"/>
          <p:cNvPicPr/>
          <p:nvPr/>
        </p:nvPicPr>
        <p:blipFill>
          <a:blip r:embed="rId3"/>
          <a:stretch/>
        </p:blipFill>
        <p:spPr>
          <a:xfrm>
            <a:off x="6732720" y="4653000"/>
            <a:ext cx="2046240" cy="200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1\Desktop\цыплёнок\e5211506964266504d367721254feь34fdf05c9f7.jpg"/>
          <p:cNvPicPr/>
          <p:nvPr/>
        </p:nvPicPr>
        <p:blipFill>
          <a:blip r:embed="rId4"/>
          <a:stretch/>
        </p:blipFill>
        <p:spPr>
          <a:xfrm>
            <a:off x="1908000" y="2852640"/>
            <a:ext cx="145584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1\Desktop\цыплёнок\f59ede209117f367f7b0abbь2a501a1bc6b8bf26d.jpg"/>
          <p:cNvPicPr/>
          <p:nvPr/>
        </p:nvPicPr>
        <p:blipFill>
          <a:blip r:embed="rId5"/>
          <a:stretch/>
        </p:blipFill>
        <p:spPr>
          <a:xfrm>
            <a:off x="5219640" y="2781360"/>
            <a:ext cx="1494000" cy="199548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8" descr=""/>
          <p:cNvPicPr/>
          <p:nvPr/>
        </p:nvPicPr>
        <p:blipFill>
          <a:blip r:embed="rId6"/>
          <a:stretch/>
        </p:blipFill>
        <p:spPr>
          <a:xfrm>
            <a:off x="250920" y="3573360"/>
            <a:ext cx="1469880" cy="11462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7"/>
          <a:stretch/>
        </p:blipFill>
        <p:spPr>
          <a:xfrm>
            <a:off x="2050920" y="4724280"/>
            <a:ext cx="1228680" cy="92412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10" descr=""/>
          <p:cNvPicPr/>
          <p:nvPr/>
        </p:nvPicPr>
        <p:blipFill>
          <a:blip r:embed="rId8"/>
          <a:stretch/>
        </p:blipFill>
        <p:spPr>
          <a:xfrm>
            <a:off x="3564000" y="3789360"/>
            <a:ext cx="1285920" cy="94932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1" descr=""/>
          <p:cNvPicPr/>
          <p:nvPr/>
        </p:nvPicPr>
        <p:blipFill>
          <a:blip r:embed="rId9"/>
          <a:stretch/>
        </p:blipFill>
        <p:spPr>
          <a:xfrm>
            <a:off x="5435640" y="4797360"/>
            <a:ext cx="1157400" cy="7794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2" descr=""/>
          <p:cNvPicPr/>
          <p:nvPr/>
        </p:nvPicPr>
        <p:blipFill>
          <a:blip r:embed="rId10"/>
          <a:stretch/>
        </p:blipFill>
        <p:spPr>
          <a:xfrm>
            <a:off x="6556320" y="3645000"/>
            <a:ext cx="258768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692360" y="33336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85b00"/>
                  </a:outerShdw>
                </a:effectLst>
                <a:latin typeface="Arial"/>
              </a:rPr>
              <a:t>Пасхальный  цыпленок</a:t>
            </a:r>
            <a:endParaRPr b="0" i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985b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844640"/>
            <a:ext cx="84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Детали пасхального цыпл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ручной работы   для сши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976680" y="1125360"/>
            <a:ext cx="68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Цыпленок – символ обновленной нов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9:56:32Z</dcterms:created>
  <dc:creator>1</dc:creator>
  <dc:description/>
  <dc:language>en-US</dc:language>
  <cp:lastModifiedBy>Comp</cp:lastModifiedBy>
  <dcterms:modified xsi:type="dcterms:W3CDTF">2012-03-23T16:16:51Z</dcterms:modified>
  <cp:revision>28</cp:revision>
  <dc:subject/>
  <dc:title>Слайд 1</dc:title>
</cp:coreProperties>
</file>