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615A-27C6-41B5-8EDC-5FE1C67C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E89-A75D-495C-BD38-BE8900C3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748B-EABC-473E-902B-38DCD182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B3F9-84CD-4B9B-8124-63D36E4E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B06F-6172-4494-9FB2-39741152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D5AB-64CE-4888-B5B3-E84B5525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7A82-0D8C-4545-A668-6AE09130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4205-3329-4F9A-80A7-D2E1649A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7745-8B1F-469F-9788-A9C34522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25E3-8DE7-492E-ACB3-94A20D2F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0439-59BC-4CBA-BB32-CE18376F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D9F8-EBDB-43AF-A1C9-B243790A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1A4F-59C5-4166-A844-0B11B150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3043-5D34-4807-9342-8F4EBC34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972E-8DDE-41B2-A961-F310456D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8F03-340C-4377-A034-A8DAF9BD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5070-9670-48F6-8513-94A20EAE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EAE7-4D47-4F62-A63D-E7D896F2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0B7E-FD35-4C5E-B0C7-1BE6466A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B6B5-6A86-4EA6-90C3-91DD17B4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A258-1ABC-4D80-AD2C-CE4A53FE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1536-8AE0-472C-B9DE-5F19BB09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EB3B-6019-443A-9767-A21D3C09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8D68-D6B6-4F83-984D-84C7F5B7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E1BD-AEE3-4D3E-B8EE-DD183F52625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D854-F6C5-4598-A603-F4E192588D8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7623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Снятие мерок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с фигуры человека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18960" y="40384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Построение чертежа фарту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571500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читель: Рябинина Оксана Альберт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7320" y="6858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хнология. 5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2120" y="609480"/>
            <a:ext cx="7848360" cy="15242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0000"/>
                </a:solidFill>
                <a:latin typeface="Arial"/>
              </a:rPr>
              <a:t>Требования,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0000"/>
                </a:solidFill>
                <a:latin typeface="Arial"/>
              </a:rPr>
              <a:t>предъявляемые к фартука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3581280"/>
            <a:ext cx="403884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0000"/>
                </a:solidFill>
                <a:latin typeface="Arial"/>
              </a:rPr>
              <a:t>Утилитарность</a:t>
            </a:r>
            <a:r>
              <a:rPr b="1" lang="en-US" sz="2400" spc="-1" strike="noStrike">
                <a:solidFill>
                  <a:srgbClr val="8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4952880"/>
            <a:ext cx="4343400" cy="10670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0000"/>
                </a:solidFill>
                <a:latin typeface="Arial"/>
              </a:rPr>
              <a:t>Эстетичность</a:t>
            </a:r>
            <a:r>
              <a:rPr b="1" lang="en-US" sz="2400" spc="-1" strike="noStrike">
                <a:solidFill>
                  <a:srgbClr val="8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3848400">
            <a:off x="5562360" y="3124080"/>
            <a:ext cx="2057400" cy="685800"/>
          </a:xfrm>
          <a:custGeom>
            <a:avLst/>
            <a:gdLst>
              <a:gd name="textAreaLeft" fmla="*/ 321480 w 2057400"/>
              <a:gd name="textAreaRight" fmla="*/ 1800360 w 2057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7669200">
            <a:off x="2182320" y="2531520"/>
            <a:ext cx="1524240" cy="68580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Мерки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3848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Мерки – это основные размеры фигуры человека, полученные путём измерения по основным условным линиям на фигур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39211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Основные линии фигуры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Линия ше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Линия груд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Линия тал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Линия бёде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Линия коле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30135" t="47901" r="13899" b="896"/>
          <a:stretch/>
        </p:blipFill>
        <p:spPr>
          <a:xfrm>
            <a:off x="4724280" y="1371600"/>
            <a:ext cx="3706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Мерки снимают по правой стороне фигуры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Сначала снимают мерки обхватов, а затем мерки длин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При измерении сантиметровую ленту не следует натягивать или ослаблять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На обмеряемом должна быть лёгкая одежд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Стоять надо прямо, без напряжен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Талию предварительно опоясывают шнурком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Мерки длины записывают полностью, мерки ширины и обхватов в половинном размер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638680" y="1447920"/>
            <a:ext cx="3314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Инструменты и материалы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64832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Бумага для выкрое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Ножницы (предпочтительно закройные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Шило для маркировки вытачек и карман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Линейки (длиной 30-50 см, 1 м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арандаш, ласти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Лекала, пластиковые треугольник и квадра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опировальная бумаг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Сантиметровая лен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3638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Обхват груд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024440" y="1295280"/>
            <a:ext cx="3886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Обхват тал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495680" y="1219320"/>
            <a:ext cx="4071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Обхват бёде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2070"/>
          <a:stretch/>
        </p:blipFill>
        <p:spPr>
          <a:xfrm>
            <a:off x="4038480" y="1447920"/>
            <a:ext cx="42195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Обхват ше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4207"/>
          <a:stretch/>
        </p:blipFill>
        <p:spPr>
          <a:xfrm>
            <a:off x="4267080" y="1143000"/>
            <a:ext cx="4502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352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Длина спины до тал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38480" y="1295280"/>
            <a:ext cx="4380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Цели урока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накомиться с видами одеж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формировать навыки по измерению фигуры челове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вивать эстетический вкус, аккуратность и внимательность в работ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ысота плеча спин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62520" y="1295280"/>
            <a:ext cx="4395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Длина переда до талии по середин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84480" y="1371600"/>
            <a:ext cx="4426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ысота плеча пере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267080" y="1143000"/>
            <a:ext cx="464832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Ширина спин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419720" y="1295280"/>
            <a:ext cx="42368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Полная ширина спин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41144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Ширина груд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267080" y="1371600"/>
            <a:ext cx="4073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Полная ширина груд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0384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Боковой шов лиф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876920" y="1295280"/>
            <a:ext cx="4043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Ширина плеч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038480" y="1295280"/>
            <a:ext cx="4338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ысота сидень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343400" y="1219320"/>
            <a:ext cx="4290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0592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Одежда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о назначению бывает: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Бытова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изводственна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портивна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Форменная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048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Боковой шов брю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4279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Длина рукава по верх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733920" y="1295280"/>
            <a:ext cx="4437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Длина рукава по низ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29876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Обхват локт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962520" y="1295280"/>
            <a:ext cx="436716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Обхват предплечь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967200" y="1219320"/>
            <a:ext cx="43164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Размерная таблица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1295280"/>
          <a:ext cx="8229600" cy="4772160"/>
        </p:xfrm>
        <a:graphic>
          <a:graphicData uri="http://schemas.openxmlformats.org/drawingml/2006/table">
            <a:tbl>
              <a:tblPr/>
              <a:tblGrid>
                <a:gridCol w="5486400"/>
                <a:gridCol w="27432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рки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меры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хват груд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хват тал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хват бед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хват ше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лина спины по середи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та плеча пере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ирина плеч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лина рукава по верх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хват предплечь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хват запясть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лина брюк по боковому шв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71600" y="380880"/>
            <a:ext cx="655308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20000"/>
                </a:solidFill>
                <a:latin typeface="Arial"/>
              </a:rPr>
              <a:t>Бытовая одежд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3200400"/>
            <a:ext cx="297180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0000"/>
                </a:solidFill>
                <a:latin typeface="Arial"/>
              </a:rPr>
              <a:t>Торжественна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3200400"/>
            <a:ext cx="274320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0000"/>
                </a:solidFill>
                <a:latin typeface="Arial"/>
              </a:rPr>
              <a:t>Повседневна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77120" y="3200400"/>
            <a:ext cx="243828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0000"/>
                </a:solidFill>
                <a:latin typeface="Arial"/>
              </a:rPr>
              <a:t>Домашня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8100000">
            <a:off x="1142640" y="2056680"/>
            <a:ext cx="1447920" cy="60948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3078000">
            <a:off x="6362640" y="2019240"/>
            <a:ext cx="1447920" cy="60984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3695400" y="2095560"/>
            <a:ext cx="1447560" cy="60948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Специальная одежд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для выполнения различных раб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Одежда медик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Одежда повар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Одежда продавц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380880"/>
            <a:ext cx="7315200" cy="2133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20000"/>
                </a:solidFill>
                <a:latin typeface="Arial"/>
              </a:rPr>
              <a:t>Производственная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20000"/>
                </a:solidFill>
                <a:latin typeface="Arial"/>
              </a:rPr>
              <a:t>одежд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6095880"/>
            <a:ext cx="876312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???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риведите примеры производственной одеж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портивная одежда –                                         это   одежда, предназначенная для занятий спорт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380880"/>
            <a:ext cx="7315200" cy="1752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20000"/>
                </a:solidFill>
                <a:latin typeface="Arial"/>
              </a:rPr>
              <a:t>Спортивная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20000"/>
                </a:solidFill>
                <a:latin typeface="Arial"/>
              </a:rPr>
              <a:t>одежд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5105520"/>
            <a:ext cx="891540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???  Почему спортивную одежду                  не принято носить в повседневной жизн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380880"/>
            <a:ext cx="7315200" cy="1752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20000"/>
                </a:solidFill>
                <a:latin typeface="Arial"/>
              </a:rPr>
              <a:t>Спортивная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20000"/>
                </a:solidFill>
                <a:latin typeface="Arial"/>
              </a:rPr>
              <a:t>одежд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Форменная одежда –                             это одежда железнодорожников, милиционеров, военных и д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380880"/>
            <a:ext cx="7315200" cy="1752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20000"/>
                </a:solidFill>
                <a:latin typeface="Arial"/>
              </a:rPr>
              <a:t>Форменная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20000"/>
                </a:solidFill>
                <a:latin typeface="Arial"/>
              </a:rPr>
              <a:t>одежд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удожник-модельер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придумывает модели, воплощает их в эскизах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удожник-конструктор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(воплощает идеи художника-модельера в чертежи и выкройки – лекала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Технолог швейного производства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(определяет способы изготовления швейных изделий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Швея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выполняет швейные операции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380880"/>
            <a:ext cx="7315200" cy="1295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0000"/>
                </a:solidFill>
                <a:latin typeface="Arial"/>
              </a:rPr>
              <a:t>Специалист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0000"/>
                </a:solidFill>
                <a:latin typeface="Arial"/>
              </a:rPr>
              <a:t>по изготовлению одеж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Фартуки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1523880"/>
            <a:ext cx="640080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0000"/>
                </a:solidFill>
                <a:latin typeface="Arial"/>
              </a:rPr>
              <a:t>Назначение фартуко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34320" y="2971800"/>
            <a:ext cx="198108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0000"/>
                </a:solidFill>
                <a:latin typeface="Arial"/>
              </a:rPr>
              <a:t>Нарядные</a:t>
            </a:r>
            <a:r>
              <a:rPr b="1" lang="en-US" sz="1800" spc="-1" strike="noStrike">
                <a:solidFill>
                  <a:srgbClr val="82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2819520"/>
            <a:ext cx="1981080" cy="990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0000"/>
                </a:solidFill>
                <a:latin typeface="Arial"/>
              </a:rPr>
              <a:t>Повседневные</a:t>
            </a:r>
            <a:r>
              <a:rPr b="1" lang="en-US" sz="1800" spc="-1" strike="noStrike">
                <a:solidFill>
                  <a:srgbClr val="82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4876920"/>
            <a:ext cx="2057400" cy="990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0000"/>
                </a:solidFill>
                <a:latin typeface="Arial"/>
              </a:rPr>
              <a:t>Детские</a:t>
            </a:r>
            <a:r>
              <a:rPr b="1" lang="en-US" sz="1800" spc="-1" strike="noStrike">
                <a:solidFill>
                  <a:srgbClr val="82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4876920"/>
            <a:ext cx="2133360" cy="990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0000"/>
                </a:solidFill>
                <a:latin typeface="Arial"/>
              </a:rPr>
              <a:t>Женск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876920"/>
            <a:ext cx="2133720" cy="990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0000"/>
                </a:solidFill>
                <a:latin typeface="Arial"/>
              </a:rPr>
              <a:t>Мужские</a:t>
            </a:r>
            <a:r>
              <a:rPr b="1" lang="en-US" sz="1800" spc="-1" strike="noStrike">
                <a:solidFill>
                  <a:srgbClr val="82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3352320" y="3124080"/>
            <a:ext cx="2667240" cy="152424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6522600">
            <a:off x="1790640" y="3619080"/>
            <a:ext cx="1981440" cy="53352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4206600">
            <a:off x="5523840" y="3543120"/>
            <a:ext cx="1981080" cy="533160"/>
          </a:xfrm>
          <a:custGeom>
            <a:avLst/>
            <a:gdLst>
              <a:gd name="textAreaLeft" fmla="*/ 309600 w 1981080"/>
              <a:gd name="textAreaRight" fmla="*/ 1733760 w 1981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09:26:31Z</dcterms:created>
  <dc:creator>Admin</dc:creator>
  <dc:description/>
  <dc:language>en-US</dc:language>
  <cp:lastModifiedBy>Admin</cp:lastModifiedBy>
  <dcterms:modified xsi:type="dcterms:W3CDTF">2009-03-29T11:29:33Z</dcterms:modified>
  <cp:revision>18</cp:revision>
  <dc:subject/>
  <dc:title>Снятие мерок  с фигуры человека</dc:title>
</cp:coreProperties>
</file>