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C16-CE81-4249-929D-97946B79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384-EB94-45DB-B523-D7ECEDB3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F26-7B6C-43E1-9E83-8091FB55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927-77ED-4C22-8541-4954787C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17D5-8CBC-4ACB-9488-C0654FA9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309B-C46B-4D14-BE13-DFEF7B1F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ADDB-3BAA-4903-B7EE-832D76CF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AE28-790E-491C-AD50-2FE5ED79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DF4B-943F-450E-8184-596F8632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43D3-4F55-480F-8E8F-CF50E480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1CA1-43D6-46DF-A860-F3690A35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00D-5736-448C-9C00-8FF7BB3B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61AB-CE01-4F79-BF59-C5045AB8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3D86-5C64-4B0A-B3FA-F46ADB0D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5261-CCFC-48DB-8BBA-1CF55519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89A5-1E35-4C28-BB59-A2153297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951C-A2EC-4C81-97DC-147580C3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810-E2D0-4C1D-AD46-0A1E149A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865-F79E-49E8-BCDD-76D16ED4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5D2-D2B1-497B-B333-3162823C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FC5-32DC-49E3-8C06-ED606363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1EE-9E58-42BA-BA94-56FEF2D6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7CA-57CF-47C5-AA51-30A60690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C4B-AFEB-478B-8D25-05866AA7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2AE0-37F6-489F-8662-6155D3C6F6F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1B7D-6240-4B50-8913-3BDA3529B57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623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Снятие мерок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с фигуры человек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8960" y="40384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остроение чертежа фарту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7150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читель: Рябинина Оксана Альберт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7320" y="6858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хнология. 5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609480"/>
            <a:ext cx="7848360" cy="15242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0000"/>
                </a:solidFill>
                <a:latin typeface="Arial"/>
              </a:rPr>
              <a:t>Требования,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0000"/>
                </a:solidFill>
                <a:latin typeface="Arial"/>
              </a:rPr>
              <a:t>предъявляемые к фартук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3581280"/>
            <a:ext cx="403884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Утилитарность</a:t>
            </a:r>
            <a:r>
              <a:rPr b="1" lang="en-US" sz="2400" spc="-1" strike="noStrike">
                <a:solidFill>
                  <a:srgbClr val="8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4952880"/>
            <a:ext cx="4343400" cy="10670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Эстетичность</a:t>
            </a:r>
            <a:r>
              <a:rPr b="1" lang="en-US" sz="2400" spc="-1" strike="noStrike">
                <a:solidFill>
                  <a:srgbClr val="8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3848400">
            <a:off x="5562360" y="3124080"/>
            <a:ext cx="2057400" cy="685800"/>
          </a:xfrm>
          <a:custGeom>
            <a:avLst/>
            <a:gdLst>
              <a:gd name="textAreaLeft" fmla="*/ 321480 w 2057400"/>
              <a:gd name="textAreaRight" fmla="*/ 1800360 w 2057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669200">
            <a:off x="2182320" y="2531520"/>
            <a:ext cx="1524240" cy="68580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Мерки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3848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Мерки – это основные размеры фигуры человека, полученные путём измерения по основным условным линиям на фигур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9211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Основные линии фигуры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Линия ше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Линия груд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Линия тал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Линия бёде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Линия коле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30135" t="47901" r="13899" b="896"/>
          <a:stretch/>
        </p:blipFill>
        <p:spPr>
          <a:xfrm>
            <a:off x="4724280" y="1371600"/>
            <a:ext cx="3706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Мерки снимают по правой стороне фигур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Сначала снимают мерки обхватов, а затем мерки дли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При измерении сантиметровую ленту не следует натягивать или ослаблять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На обмеряемом должна быть лёгкая одежд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Стоять надо прямо, без напряжен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Талию предварительно опоясывают шнурком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Мерки длины записывают полностью, мерки ширины и обхватов в половинном размер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314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Инструменты и материалы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6483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Бумага для выкрое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Ножницы (предпочтительно закройные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Шило для маркировки вытачек и карман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инейки (длиной 30-50 см, 1 м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арандаш, ласти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екала, пластиковые треугольник и квадра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пировальная бумаг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Сантиметровая лен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63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груд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024440" y="129528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тал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4071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бёде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2070"/>
          <a:stretch/>
        </p:blipFill>
        <p:spPr>
          <a:xfrm>
            <a:off x="4038480" y="1447920"/>
            <a:ext cx="42195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ше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4207"/>
          <a:stretch/>
        </p:blipFill>
        <p:spPr>
          <a:xfrm>
            <a:off x="4267080" y="1143000"/>
            <a:ext cx="4502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Длина спины до тал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4380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Цели урока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накомиться с видами одеж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формировать навыки по измерению фигуры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вивать эстетический вкус, аккуратность и внимательность в рабо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ысота плеча спин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4395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Длина переда до талии по середин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84480" y="1371600"/>
            <a:ext cx="442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ысота плеча пере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64832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Ширина спин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236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олная ширина спин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41144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Ширина груд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267080" y="1371600"/>
            <a:ext cx="4073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олная ширина груд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038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Боковой шов лиф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4043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Ширина плеч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4338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ысота сидень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290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0592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Одежда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о назначению бывает: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ытов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изводственн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ортивн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Форменная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Боковой шов брю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279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Длина рукава по верх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4437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Длина рукава по низ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2987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локт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43671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предплечь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967200" y="1219320"/>
            <a:ext cx="4316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Размерная таблиц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295280"/>
          <a:ext cx="8229600" cy="4772160"/>
        </p:xfrm>
        <a:graphic>
          <a:graphicData uri="http://schemas.openxmlformats.org/drawingml/2006/table">
            <a:tbl>
              <a:tblPr/>
              <a:tblGrid>
                <a:gridCol w="5486400"/>
                <a:gridCol w="27432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ки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мер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гру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тал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бед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ше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на спины по середи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та плеча пере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рина плеч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на рукава по верх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предплеч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запяст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на брюк по боковому шв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380880"/>
            <a:ext cx="655308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Бытовая одеж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3200400"/>
            <a:ext cx="297180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Торжественна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3200400"/>
            <a:ext cx="274320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Повседневна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3200400"/>
            <a:ext cx="243828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Домашня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8100000">
            <a:off x="1142640" y="2056680"/>
            <a:ext cx="1447920" cy="60948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3078000">
            <a:off x="6362640" y="201924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3695400" y="2095560"/>
            <a:ext cx="1447560" cy="60948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Специальная одежд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для выполнения различных раб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дежда медик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дежда повар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дежда продавц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380880"/>
            <a:ext cx="7315200" cy="2133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Производственная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одеж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095880"/>
            <a:ext cx="87631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???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иведите примеры производственной одеж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ортивная одежда –                                         это   одежда, предназначенная для занятий спорт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80880"/>
            <a:ext cx="7315200" cy="1752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Спортивная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одеж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5105520"/>
            <a:ext cx="891540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???  Почему спортивную одежду                  не принято носить в повседневной жизн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80880"/>
            <a:ext cx="7315200" cy="1752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Спортивная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одеж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Форменная одежда –                             это одежда железнодорожников, милиционеров, военных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380880"/>
            <a:ext cx="7315200" cy="1752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Форменная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одеж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удожник-модельер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придумывает модели, воплощает их в эскизах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удожник-конструктор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(воплощает идеи художника-модельера в чертежи и выкройки – лекала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Технолог швейного производства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(определяет способы изготовления швейных изделий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Швея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выполняет швейные операции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80880"/>
            <a:ext cx="731520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0000"/>
                </a:solidFill>
                <a:latin typeface="Arial"/>
              </a:rPr>
              <a:t>Специалист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0000"/>
                </a:solidFill>
                <a:latin typeface="Arial"/>
              </a:rPr>
              <a:t>по изготовлению одеж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Фартуки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1523880"/>
            <a:ext cx="640080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0000"/>
                </a:solidFill>
                <a:latin typeface="Arial"/>
              </a:rPr>
              <a:t>Назначение фартуко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2971800"/>
            <a:ext cx="19810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0000"/>
                </a:solidFill>
                <a:latin typeface="Arial"/>
              </a:rPr>
              <a:t>Нарядные</a:t>
            </a:r>
            <a:r>
              <a:rPr b="1" lang="en-US" sz="1800" spc="-1" strike="noStrike">
                <a:solidFill>
                  <a:srgbClr val="82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819520"/>
            <a:ext cx="198108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0000"/>
                </a:solidFill>
                <a:latin typeface="Arial"/>
              </a:rPr>
              <a:t>Повседневные</a:t>
            </a:r>
            <a:r>
              <a:rPr b="1" lang="en-US" sz="1800" spc="-1" strike="noStrike">
                <a:solidFill>
                  <a:srgbClr val="82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4876920"/>
            <a:ext cx="205740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0000"/>
                </a:solidFill>
                <a:latin typeface="Arial"/>
              </a:rPr>
              <a:t>Детские</a:t>
            </a:r>
            <a:r>
              <a:rPr b="1" lang="en-US" sz="1800" spc="-1" strike="noStrike">
                <a:solidFill>
                  <a:srgbClr val="82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876920"/>
            <a:ext cx="213336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0000"/>
                </a:solidFill>
                <a:latin typeface="Arial"/>
              </a:rPr>
              <a:t>Жен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876920"/>
            <a:ext cx="213372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0000"/>
                </a:solidFill>
                <a:latin typeface="Arial"/>
              </a:rPr>
              <a:t>Мужские</a:t>
            </a:r>
            <a:r>
              <a:rPr b="1" lang="en-US" sz="1800" spc="-1" strike="noStrike">
                <a:solidFill>
                  <a:srgbClr val="82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3352320" y="3124080"/>
            <a:ext cx="2667240" cy="152424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6522600">
            <a:off x="1790640" y="3619080"/>
            <a:ext cx="1981440" cy="53352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4206600">
            <a:off x="5523840" y="3543120"/>
            <a:ext cx="1981080" cy="533160"/>
          </a:xfrm>
          <a:custGeom>
            <a:avLst/>
            <a:gdLst>
              <a:gd name="textAreaLeft" fmla="*/ 309600 w 1981080"/>
              <a:gd name="textAreaRight" fmla="*/ 1733760 w 1981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9:26:31Z</dcterms:created>
  <dc:creator>Admin</dc:creator>
  <dc:description/>
  <dc:language>en-US</dc:language>
  <cp:lastModifiedBy>Admin</cp:lastModifiedBy>
  <dcterms:modified xsi:type="dcterms:W3CDTF">2009-03-29T11:29:33Z</dcterms:modified>
  <cp:revision>18</cp:revision>
  <dc:subject/>
  <dc:title>Снятие мерок  с фигуры человека</dc:title>
</cp:coreProperties>
</file>