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BA3-1DBE-44AB-B206-1CAE105D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449-8EE2-429F-91F6-E1C5C6AD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38D-7F45-4EBF-82B1-1309C107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6B6-9434-4478-BB06-FE2D5AFF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12DD-EEBF-4DD4-8E12-DFB67D9B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0D99-1EB1-459D-B45C-E960911B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A83D-962B-439B-ADE3-2B90B235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A12E-80ED-46B4-B53E-7FE27F69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F4EC-9790-4277-9799-F67C3576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B1DE-9C9C-485D-84C6-067ED665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F40-CEDD-4119-8B23-839A552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F4F-2772-4ECB-9E66-16B71E5E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50C2-57B3-495D-B02F-91E4157C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7603-C9C6-4656-9711-5C68AF2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07A4-B4CF-45DC-92D9-F38BEA41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6BD9-1341-4973-8B1E-70B4FEB4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DEA8-1745-4D3D-BBD1-D8EC5B78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BEB-E6E7-4F84-BF16-C822A98F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C0E-372F-4B9E-B8FF-2029E02B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D9F-5AD3-4507-946A-3BAADB9E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6B8-21A0-428C-A814-4B5A8D6F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591-63A4-4273-BD6E-485D1411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64F-1D5B-4FAC-8FF2-CA81EC2D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65D-DFB7-4CE3-B600-2B1B3332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15D6-4BEC-4E87-9B52-6FA47614023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A5F7-4E79-41A9-86D9-414E85E45B2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623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Снятие мерок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с фигуры человек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40384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остроение чертежа фарту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7150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итель: Рябинина Оксана Альберт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7320" y="6858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хнология. 5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609480"/>
            <a:ext cx="784836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0000"/>
                </a:solidFill>
                <a:latin typeface="Arial"/>
              </a:rPr>
              <a:t>Требования,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0000"/>
                </a:solidFill>
                <a:latin typeface="Arial"/>
              </a:rPr>
              <a:t>предъявляемые к фартук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581280"/>
            <a:ext cx="403884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Утилитарность</a:t>
            </a:r>
            <a:r>
              <a:rPr b="1" lang="en-US" sz="24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4952880"/>
            <a:ext cx="4343400" cy="1067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Эстетичность</a:t>
            </a:r>
            <a:r>
              <a:rPr b="1" lang="en-US" sz="24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3848400">
            <a:off x="5562360" y="3124080"/>
            <a:ext cx="2057400" cy="685800"/>
          </a:xfrm>
          <a:custGeom>
            <a:avLst/>
            <a:gdLst>
              <a:gd name="textAreaLeft" fmla="*/ 321480 w 2057400"/>
              <a:gd name="textAreaRight" fmla="*/ 1800360 w 2057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669200">
            <a:off x="2182320" y="2531520"/>
            <a:ext cx="1524240" cy="68580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Мерки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Мерки – это основные размеры фигуры человека, полученные путём измерения по основным условным линиям на фигур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9211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Основные линии фигуры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ше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тал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бёде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иния коле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30135" t="47901" r="13899" b="896"/>
          <a:stretch/>
        </p:blipFill>
        <p:spPr>
          <a:xfrm>
            <a:off x="4724280" y="1371600"/>
            <a:ext cx="370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Мерки снимают по правой стороне фигур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Сначала снимают мерки обхватов, а затем мерки длин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При измерении сантиметровую ленту не следует натягивать или ослаблять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На обмеряемом должна быть лёгкая одеж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Стоять надо прямо, без напряжен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Талию предварительно опоясывают шнурком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Мерки длины записывают полностью, мерки ширины и обхватов в половинном разме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1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Инструменты и материал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6483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умага для выкрое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Ножницы (предпочтительно закройные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Шило для маркировки вытачек и карман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инейки (длиной 30-50 см, 1 м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арандаш, ласти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екала, пластиковые треугольник и квадра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пировальная бумаг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Сантиметровая лен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63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024440" y="129528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тал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071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бёде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2070"/>
          <a:stretch/>
        </p:blipFill>
        <p:spPr>
          <a:xfrm>
            <a:off x="4038480" y="1447920"/>
            <a:ext cx="4219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ше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4207"/>
          <a:stretch/>
        </p:blipFill>
        <p:spPr>
          <a:xfrm>
            <a:off x="4267080" y="1143000"/>
            <a:ext cx="4502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спины до тал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438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Цели уро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накомиться с видами одеж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навыки по измерению фигуры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вивать эстетический вкус, аккуратность и внимательность в рабо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ысота плеча спи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395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переда до талии по середин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84480" y="1371600"/>
            <a:ext cx="442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ысота плеча пере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6483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Ширина спи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236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олная ширина спи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4114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Ширина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073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олная ширина груд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Боковой шов лиф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40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Ширина плеч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433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ысота сидень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29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Одежда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о назначению бывает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ытов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изводствен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ортив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Форменная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Боковой шов брю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27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рукава по верх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4437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Длина рукава по низ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2987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локт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3671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Правила снятия мерок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бхват предплечь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67200" y="1219320"/>
            <a:ext cx="4316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Размерная таблиц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295280"/>
          <a:ext cx="8229600" cy="4772160"/>
        </p:xfrm>
        <a:graphic>
          <a:graphicData uri="http://schemas.openxmlformats.org/drawingml/2006/table">
            <a:tbl>
              <a:tblPr/>
              <a:tblGrid>
                <a:gridCol w="5486400"/>
                <a:gridCol w="2743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ки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гру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тал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бед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ше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спины по середи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та плеча пере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рина пле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рукава по верх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предплеч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хват запяст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брюк по боковому шв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380880"/>
            <a:ext cx="65530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Бытовая 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200400"/>
            <a:ext cx="29718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Торжественна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200400"/>
            <a:ext cx="27432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Повседневна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3200400"/>
            <a:ext cx="24382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Домашня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8100000">
            <a:off x="1142640" y="2056680"/>
            <a:ext cx="1447920" cy="60948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3078000">
            <a:off x="6362640" y="201924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695400" y="2095560"/>
            <a:ext cx="1447560" cy="60948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Специальная одежд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для выполнения различных рабо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ежда медик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ежда повар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Одежда продавц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380880"/>
            <a:ext cx="7315200" cy="2133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Производственна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095880"/>
            <a:ext cx="87631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???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ведите примеры производственной одеж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ортивная одежда –                                         это   одежда, предназначенная для занятий спорт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80880"/>
            <a:ext cx="7315200" cy="1752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Спортивна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5105520"/>
            <a:ext cx="891540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???  Почему спортивную одежду                  не принято носить в повседневной жиз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380880"/>
            <a:ext cx="7315200" cy="1752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Спортивна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Форменная одежда –                             это одежда железнодорожников, милиционеров, военных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80880"/>
            <a:ext cx="7315200" cy="1752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Форменная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20000"/>
                </a:solidFill>
                <a:latin typeface="Arial"/>
              </a:rPr>
              <a:t>одеж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удожник-модельер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придумывает модели, воплощает их в эскизах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удожник-конструктор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(воплощает идеи художника-модельера в чертежи и выкройки – лекала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Технолог швейного производства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(определяет способы изготовления швейных изделий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Швея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выполняет швейные операции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80880"/>
            <a:ext cx="731520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0000"/>
                </a:solidFill>
                <a:latin typeface="Arial"/>
              </a:rPr>
              <a:t>Специалист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0000"/>
                </a:solidFill>
                <a:latin typeface="Arial"/>
              </a:rPr>
              <a:t>по изготовлению одеж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Фартуки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1523880"/>
            <a:ext cx="64008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0000"/>
                </a:solidFill>
                <a:latin typeface="Arial"/>
              </a:rPr>
              <a:t>Назначение фарту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2971800"/>
            <a:ext cx="1981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Нарядны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19520"/>
            <a:ext cx="198108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Повседневны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4876920"/>
            <a:ext cx="205740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Детски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876920"/>
            <a:ext cx="213336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Жен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876920"/>
            <a:ext cx="213372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0000"/>
                </a:solidFill>
                <a:latin typeface="Arial"/>
              </a:rPr>
              <a:t>Мужские</a:t>
            </a:r>
            <a:r>
              <a:rPr b="1" lang="en-US" sz="1800" spc="-1" strike="noStrike">
                <a:solidFill>
                  <a:srgbClr val="82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352320" y="3124080"/>
            <a:ext cx="2667240" cy="152424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6522600">
            <a:off x="1790640" y="3619080"/>
            <a:ext cx="1981440" cy="53352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206600">
            <a:off x="5523840" y="3543120"/>
            <a:ext cx="1981080" cy="533160"/>
          </a:xfrm>
          <a:custGeom>
            <a:avLst/>
            <a:gdLst>
              <a:gd name="textAreaLeft" fmla="*/ 309600 w 1981080"/>
              <a:gd name="textAreaRight" fmla="*/ 1733760 w 1981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9:26:31Z</dcterms:created>
  <dc:creator>Admin</dc:creator>
  <dc:description/>
  <dc:language>en-US</dc:language>
  <cp:lastModifiedBy>Admin</cp:lastModifiedBy>
  <dcterms:modified xsi:type="dcterms:W3CDTF">2009-03-29T11:29:33Z</dcterms:modified>
  <cp:revision>18</cp:revision>
  <dc:subject/>
  <dc:title>Снятие мерок  с фигуры человека</dc:title>
</cp:coreProperties>
</file>