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3.gif" ContentType="image/gif"/>
  <Override PartName="/ppt/media/image5.jpeg" ContentType="image/jpeg"/>
  <Override PartName="/ppt/media/image22.png" ContentType="image/png"/>
  <Override PartName="/ppt/media/image21.wmf" ContentType="image/x-wmf"/>
  <Override PartName="/ppt/media/image1.jpeg" ContentType="image/jpeg"/>
  <Override PartName="/ppt/media/image10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D5A-3A2C-4521-A265-A0FC5A2E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57E-2C72-4319-A7BC-2FDB3C17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D3B-B6C3-48A1-B8F6-A50692B2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144-35A1-42C6-AB65-2173E112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6495-976D-455F-B75F-AE34F994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93B8-BA6E-429B-B624-FB0092F4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7466-57BD-45C5-A8B1-96AC8EEE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CE0-B3E2-41D4-AEDE-50C74DB3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2A76-5C28-4F96-8FB0-764849CC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CF82-909A-413B-BFFA-AE9CE2C6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6B23-3B0A-4B3F-8A63-DCD428B1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622-774C-4FDF-806B-53C9CD40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3E71-2EA7-438E-9CE9-E8610FD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233E-E281-482B-B2EC-5BB4A123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EB7F-2161-49CF-BA2A-26CACD17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CA65-C1F4-49DF-A2B8-14263B84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CB9B-5B3A-4F4F-B74C-419350FF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2332-2EB1-416B-A3DD-C6C9DD69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31F8-A7B9-415A-9633-FFE7F414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F206-5886-47B8-A0E6-2ADBE543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85EF-F723-47C9-82BE-DDAF4C85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EA6B-795B-4971-A7DC-AB3A09AC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A83-0359-4D1A-9F16-C72A5671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ED30-C714-43F9-B93E-A5887F42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1651-C7AF-4A0D-99A8-6303507C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8CA7-C1FA-4789-8D84-2957E31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66C5-7C0E-4DCF-BD8F-D48EF549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6B37-22DF-49BC-BA13-7CDC8F11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45F2-8E48-4243-902F-F23CFEC9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9C4C-543C-455D-AB53-5E9BD13C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11E-13D8-4654-AAD9-7437B60A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B48-BD1A-4963-9767-F4D82C71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BF4-815B-434E-AA62-9693EE5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350-0D0D-4EDB-ACDE-C09E6747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673-69F3-47F2-87C9-0CC43636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7F0-3540-404D-913B-7BB3751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03D6-71CB-4555-91EE-B54C0A63CC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AC66-1046-47FB-A522-D8041AF157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006E-DA9C-40E1-81A5-B70E45172B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рок технологии,1 класс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ОУ СОШ №886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Бочкова Е.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плик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50920" y="765000"/>
            <a:ext cx="871380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Times New Roman"/>
              </a:rPr>
              <a:t>Симметричное вырезание из бумаги.</a:t>
            </a:r>
            <a:endParaRPr b="0" lang="en-US" sz="20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514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24520" cy="279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3564000" y="3429000"/>
            <a:ext cx="22669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Правила работы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400720" cy="2998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1333440" y="1843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467320" cy="2629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260360" y="1843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33559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1333440" y="1340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45673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1044360" y="835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rcRect l="25260" t="23155" r="44625" b="13449"/>
          <a:stretch/>
        </p:blipFill>
        <p:spPr>
          <a:xfrm>
            <a:off x="3419640" y="1989000"/>
            <a:ext cx="230328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376360" cy="2361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2308320" cy="237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4"/>
          <a:stretch/>
        </p:blipFill>
        <p:spPr>
          <a:xfrm>
            <a:off x="6372360" y="4149720"/>
            <a:ext cx="2173320" cy="223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208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«Твоя мастерск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09520" y="1600200"/>
            <a:ext cx="273240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и ещё раз и подумай, как будет выглядеть твоя компози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Творческое 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я2"/>
          <p:cNvPicPr/>
          <p:nvPr/>
        </p:nvPicPr>
        <p:blipFill>
          <a:blip r:embed="rId1"/>
          <a:stretch/>
        </p:blipFill>
        <p:spPr>
          <a:xfrm>
            <a:off x="2195640" y="2252520"/>
            <a:ext cx="4608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Выставка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ряд                  2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878160" y="1650960"/>
            <a:ext cx="12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39640" y="2421000"/>
            <a:ext cx="2376720" cy="331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492360" y="2421000"/>
            <a:ext cx="2376720" cy="331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443640" y="2421000"/>
            <a:ext cx="2376360" cy="331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Творческое задание: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оставить из бумажных листьев различной формы, величины и цвета композицию.</a:t>
            </a: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Учебные задачи:</a:t>
            </a:r>
            <a:br>
              <a:rPr sz="32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1. Познакомить с датами народного календаря, с приметами, поговорками, связанными с этими днями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2. Развивать ассоциативные связи явлений осенней природы с художественно-пластическими свойствами материала (бумаги)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3. Освоить простейшие примы складывания из бумаги: сгибание, отглаживание сгибов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4. Формировать умение создавать декоративный образ на основе уподобления в технике художественного вырезания из листа, сложенного вдвое, и аппликации.</a:t>
            </a:r>
            <a:br>
              <a:rPr sz="2000"/>
            </a:b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                    Материалы и инструменты:</a:t>
            </a:r>
            <a:br>
              <a:rPr sz="32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белая и цветная бумага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карандаш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ножницы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клей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Уборка рабочего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MCj03434010000[1]"/>
          <p:cNvPicPr/>
          <p:nvPr/>
        </p:nvPicPr>
        <p:blipFill>
          <a:blip r:embed="rId1"/>
          <a:stretch/>
        </p:blipFill>
        <p:spPr>
          <a:xfrm>
            <a:off x="2268360" y="2205000"/>
            <a:ext cx="43196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!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 новых встреч!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6" descr="36_2_53"/>
          <p:cNvPicPr/>
          <p:nvPr/>
        </p:nvPicPr>
        <p:blipFill>
          <a:blip r:embed="rId3"/>
          <a:stretch/>
        </p:blipFill>
        <p:spPr>
          <a:xfrm>
            <a:off x="3492360" y="2060640"/>
            <a:ext cx="1727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Формы и краски ос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дубы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Золотая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laude Monet. Autumn at Argenteuil."/>
          <p:cNvPicPr/>
          <p:nvPr/>
        </p:nvPicPr>
        <p:blipFill>
          <a:blip r:embed="rId1"/>
          <a:stretch/>
        </p:blipFill>
        <p:spPr>
          <a:xfrm>
            <a:off x="1403280" y="1932120"/>
            <a:ext cx="62643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Лес, точно терем расписной,</a:t>
            </a:r>
            <a:br>
              <a:rPr sz="2000"/>
            </a:b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Лиловый, золотой, багряный,</a:t>
            </a:r>
            <a:br>
              <a:rPr sz="2000"/>
            </a:b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Весёлой, пёстрою стеной</a:t>
            </a:r>
            <a:br>
              <a:rPr sz="2000"/>
            </a:b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Левитан И"/>
          <p:cNvPicPr/>
          <p:nvPr/>
        </p:nvPicPr>
        <p:blipFill>
          <a:blip r:embed="rId1"/>
          <a:stretch/>
        </p:blipFill>
        <p:spPr>
          <a:xfrm>
            <a:off x="995400" y="1600200"/>
            <a:ext cx="71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Золотая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Vasiliy Polenov"/>
          <p:cNvPicPr/>
          <p:nvPr/>
        </p:nvPicPr>
        <p:blipFill>
          <a:blip r:embed="rId1"/>
          <a:stretch/>
        </p:blipFill>
        <p:spPr>
          <a:xfrm>
            <a:off x="922320" y="1600200"/>
            <a:ext cx="729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Какие краски у ос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Какого цвета неб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Тра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Листья деревь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Приходилось ли тебе любоваться опавшими листь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1716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Показ приёмов работ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335640" cy="31734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1754640" y="177228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                                    2      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0:58:12Z</dcterms:created>
  <dc:creator>Sergey</dc:creator>
  <dc:description/>
  <dc:language>en-US</dc:language>
  <cp:lastModifiedBy>Ананьева</cp:lastModifiedBy>
  <dcterms:modified xsi:type="dcterms:W3CDTF">2008-12-22T09:55:16Z</dcterms:modified>
  <cp:revision>4</cp:revision>
  <dc:subject/>
  <dc:title>Урок технологии,1 класс ГОУ СОШ №886 Учитель Бочкова Е.В.</dc:title>
</cp:coreProperties>
</file>