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3.gif" ContentType="image/gif"/>
  <Override PartName="/ppt/media/image5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10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6B9-5FC8-44AF-A407-9EB96C68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2DE-E8D1-417A-AD8F-3E7F8AF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9E1-B8ED-4C9C-BC02-D19F97A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761-72D2-4871-B87D-5A148B67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997-9117-4933-98EA-80D10D0B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C8C2-D431-4676-9375-91C6334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32B2-D697-4A73-AC32-2DD845A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8D2-E0E3-4155-A0FD-3E46490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391E-81D8-4C76-8171-FE755B3F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3AA-1914-458C-881D-9DDD8CC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3C61-98D6-4C1D-B87C-CCFEE6D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1EA-5E98-4AB3-B1E5-CA159BE1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044-B2E4-4A74-8BEE-0366DB9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2579-ED9E-420C-BD25-4EDAC9E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29B-230E-4730-B54A-4DD5F59A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A5F-D511-45B9-BDEB-611FD537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F92D-D572-4031-B75F-7123CAE5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DA7A-4343-4007-B13C-53BB8846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2ED6-B558-4D97-AF45-27B7BA8C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69C0-8B04-4395-A5AD-50DE2EB3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BBD54-94D1-4780-BB65-61F175E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E312-921C-4ABB-BF75-7105469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E33-97FC-4577-BC86-C8DD7E5C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D6C5-9A88-45E2-AFC3-B58731EB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CF70-F487-4E18-AF41-76102829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3F59-75A2-4746-BA51-909C6CBE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C37E-E638-4AE3-9160-E2E9BC6C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EC45-CB1A-47D7-9B93-F6DF2D9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A9E8-D820-4CE0-BF3A-C638C80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DCCA-8693-4973-86F4-C1492CAB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1B9-B451-4653-9290-9DFF4937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7B6-9512-4027-8684-94DBA35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9C2-54C5-401F-89F3-ADD51A2C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CDD-CF1F-491D-8F1D-ECD5817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0F6-82E2-4EFE-B11A-0DEB24A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BD6-6A15-4D64-98FB-F9A22A2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E25-7081-4AA1-B905-5DBF690719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530F-4E15-4458-8A1E-8A97CB655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5B04-5D73-4CC1-8180-07328D0B19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рок технологии,1 класс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ОУ СОШ №886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Бочкова Е.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50920" y="765000"/>
            <a:ext cx="871380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Times New Roman"/>
              </a:rPr>
              <a:t>Симметричное вырезание из бумаги.</a:t>
            </a:r>
            <a:endParaRPr b="0" lang="en-US" sz="20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514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924520" cy="27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564000" y="3429000"/>
            <a:ext cx="22669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равила работы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400720" cy="299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33344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67320" cy="2629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1260360" y="18439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57800" cy="33559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333440" y="1340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45673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044360" y="835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rcRect l="25260" t="23155" r="44625" b="13449"/>
          <a:stretch/>
        </p:blipFill>
        <p:spPr>
          <a:xfrm>
            <a:off x="3419640" y="1989000"/>
            <a:ext cx="2303280" cy="3672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3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308320" cy="237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6372360" y="4149720"/>
            <a:ext cx="21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611280" y="4149720"/>
            <a:ext cx="208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«Твоя мастерск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09520" y="1600200"/>
            <a:ext cx="273240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и ещё раз и подумай, как будет выглядеть твоя компози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Творческ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я2"/>
          <p:cNvPicPr/>
          <p:nvPr/>
        </p:nvPicPr>
        <p:blipFill>
          <a:blip r:embed="rId1"/>
          <a:stretch/>
        </p:blipFill>
        <p:spPr>
          <a:xfrm>
            <a:off x="2195640" y="2252520"/>
            <a:ext cx="4608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Выставка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яд                  2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78160" y="1650960"/>
            <a:ext cx="12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3964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492360" y="2421000"/>
            <a:ext cx="237672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443640" y="2421000"/>
            <a:ext cx="2376360" cy="331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Творческое задание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оставить из бумажных листьев различной формы, величины и цвета композицию.</a:t>
            </a: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Учебные задачи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1. Познакомить с датами народного календаря, с приметами, поговорками, связанными с этими днями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2. Развивать ассоциативные связи явлений осенней природы с художественно-пластическими свойствами материала (бумаги)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3. Освоить простейшие примы складывания из бумаги: сгибание, отглаживание сгибов.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4. Формировать умение создавать декоративный образ на основе уподобления в технике художественного вырезания из листа, сложенного вдвое, и аппликации.</a:t>
            </a:r>
            <a:br>
              <a:rPr sz="2000"/>
            </a:b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                  Материалы и инструменты:</a:t>
            </a:r>
            <a:br>
              <a:rPr sz="32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белая и цветная бумага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арандаш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ножницы</a:t>
            </a:r>
            <a:br>
              <a:rPr sz="20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 - клей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Уборка рабочего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Cj03434010000[1]"/>
          <p:cNvPicPr/>
          <p:nvPr/>
        </p:nvPicPr>
        <p:blipFill>
          <a:blip r:embed="rId1"/>
          <a:stretch/>
        </p:blipFill>
        <p:spPr>
          <a:xfrm>
            <a:off x="2268360" y="2205000"/>
            <a:ext cx="43196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 новых встреч!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36_2_53"/>
          <p:cNvPicPr/>
          <p:nvPr/>
        </p:nvPicPr>
        <p:blipFill>
          <a:blip r:embed="rId3"/>
          <a:stretch/>
        </p:blipFill>
        <p:spPr>
          <a:xfrm>
            <a:off x="3492360" y="2060640"/>
            <a:ext cx="1727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Формы и краски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дубы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laude Monet. Autumn at Argenteuil."/>
          <p:cNvPicPr/>
          <p:nvPr/>
        </p:nvPicPr>
        <p:blipFill>
          <a:blip r:embed="rId1"/>
          <a:stretch/>
        </p:blipFill>
        <p:spPr>
          <a:xfrm>
            <a:off x="1403280" y="1932120"/>
            <a:ext cx="6264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ес, точно терем расписно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Лиловый, золотой, багряный,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Весёлой, пёстрою стеной</a:t>
            </a:r>
            <a:br>
              <a:rPr sz="2000"/>
            </a:br>
            <a:r>
              <a:rPr b="1" i="1" lang="ru-RU" sz="2000" spc="-1" strike="noStrike">
                <a:solidFill>
                  <a:srgbClr val="669900"/>
                </a:solidFill>
                <a:latin typeface="Arial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Левитан И"/>
          <p:cNvPicPr/>
          <p:nvPr/>
        </p:nvPicPr>
        <p:blipFill>
          <a:blip r:embed="rId1"/>
          <a:stretch/>
        </p:blipFill>
        <p:spPr>
          <a:xfrm>
            <a:off x="995400" y="1600200"/>
            <a:ext cx="715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Золотая 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Vasiliy Polenov"/>
          <p:cNvPicPr/>
          <p:nvPr/>
        </p:nvPicPr>
        <p:blipFill>
          <a:blip r:embed="rId1"/>
          <a:stretch/>
        </p:blipFill>
        <p:spPr>
          <a:xfrm>
            <a:off x="922320" y="1600200"/>
            <a:ext cx="729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ие краски у ос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Какого цвета неб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Тра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Листья дерев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Приходилось ли тебе любоваться опавшими листь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1716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9900"/>
                </a:solidFill>
                <a:latin typeface="Arial"/>
              </a:rPr>
              <a:t>Показ приёмов работ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335640" cy="31734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1754640" y="177228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                                    2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0:58:12Z</dcterms:created>
  <dc:creator>Sergey</dc:creator>
  <dc:description/>
  <dc:language>en-US</dc:language>
  <cp:lastModifiedBy>Ананьева</cp:lastModifiedBy>
  <dcterms:modified xsi:type="dcterms:W3CDTF">2008-12-22T09:55:16Z</dcterms:modified>
  <cp:revision>4</cp:revision>
  <dc:subject/>
  <dc:title>Урок технологии,1 класс ГОУ СОШ №886 Учитель Бочкова Е.В.</dc:title>
</cp:coreProperties>
</file>