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4.wmf" ContentType="image/x-wmf"/>
  <Override PartName="/ppt/media/image23.gif" ContentType="image/gif"/>
  <Override PartName="/ppt/media/image5.jpeg" ContentType="image/jpeg"/>
  <Override PartName="/ppt/media/image22.png" ContentType="image/png"/>
  <Override PartName="/ppt/media/image21.wmf" ContentType="image/x-wmf"/>
  <Override PartName="/ppt/media/image1.jpeg" ContentType="image/jpeg"/>
  <Override PartName="/ppt/media/image10.png" ContentType="image/png"/>
  <Override PartName="/ppt/media/image19.png" ContentType="image/png"/>
  <Override PartName="/ppt/media/image15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DE19-1EFC-4648-BEE6-6C137B50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1A0-8731-44A5-B8A1-3EE1CAF0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3E4-8AEC-406E-A39D-C4EC2109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4BD-32BB-47C0-B24F-AD943090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4D5B-D1CB-4B9A-B02D-99A44830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B61C-D964-4FCC-999F-B680D76B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5459-F4DE-43C2-A16D-E91FBA6D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B84D-6CB8-40A4-882C-04D03D2B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146E-DAF0-489F-B1DF-436381B7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3BCC-D71D-4C48-A58F-C3BF456D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0DD3-0194-4996-A5AC-9AC1772E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D35-57B2-4328-9D1F-53848BBC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7DDE-09A8-428F-8509-E11E33EA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8750-F66A-4F93-812A-26448987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09B8-FB05-459C-8C39-64C4B339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DA60-F326-4315-A402-89887FBF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7F8E-2374-4822-8A07-122842F2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11073-A986-43A2-B15F-7F06FA93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5C29A-F22B-423F-886D-D6BBF7C6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1A7F0-7748-4B24-B248-82B18269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21AC9-D61B-4605-B670-73D46B92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8212C-F251-4465-82EB-C033F2D4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7A9-95CD-4A25-B937-37EE9B34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2012D-6833-4653-926C-82382416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A0D20-E0D2-4B85-BCD8-1CDE6B76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B0DD8-3079-49BB-848C-AFEEB42B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92986-2FE8-4DC9-874B-0DFCC81F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1A983-9A67-4685-8F44-BA8E3E9E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D67E5-52DB-4965-B712-FF867E1B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9BE0A-D648-44EA-B956-385E12C2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231-F712-4BBE-809E-2B8F701A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897-6ECB-4BCB-9A81-E6BB305D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155-2146-42E9-86A4-666A8839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5CF5-D2CE-4D5E-AADC-47448AE8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95C6-C943-46E3-BA4E-5B8AA90A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E76-8297-4AF2-86C0-9FF3F533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D20E-687A-4B9B-B820-4890BD4A1D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4A14-C96F-44C9-BD76-5DEB6C636A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86A1-12E5-49E7-B785-D1CD3ABC08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рок технологии,1 класс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ГОУ СОШ №886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читель Бочкова Е.В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плика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250920" y="765000"/>
            <a:ext cx="8713800" cy="10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Times New Roman"/>
              </a:rPr>
              <a:t>Симметричное вырезание из бумаги.</a:t>
            </a:r>
            <a:endParaRPr b="0" lang="en-US" sz="20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3514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924520" cy="2790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3564000" y="3429000"/>
            <a:ext cx="22669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Правила работы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400720" cy="2998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1333440" y="18439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467320" cy="26290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1260360" y="18439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5257800" cy="33559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1333440" y="13406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545080" cy="45673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1044360" y="8355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rcRect l="25260" t="23155" r="44625" b="13449"/>
          <a:stretch/>
        </p:blipFill>
        <p:spPr>
          <a:xfrm>
            <a:off x="3419640" y="1989000"/>
            <a:ext cx="2303280" cy="3672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376360" cy="2361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"/>
          <p:cNvPicPr/>
          <p:nvPr/>
        </p:nvPicPr>
        <p:blipFill>
          <a:blip r:embed="rId3"/>
          <a:stretch/>
        </p:blipFill>
        <p:spPr>
          <a:xfrm>
            <a:off x="6227640" y="1484280"/>
            <a:ext cx="2308320" cy="237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"/>
          <p:cNvPicPr/>
          <p:nvPr/>
        </p:nvPicPr>
        <p:blipFill>
          <a:blip r:embed="rId4"/>
          <a:stretch/>
        </p:blipFill>
        <p:spPr>
          <a:xfrm>
            <a:off x="6372360" y="4149720"/>
            <a:ext cx="2173320" cy="223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"/>
          <p:cNvPicPr/>
          <p:nvPr/>
        </p:nvPicPr>
        <p:blipFill>
          <a:blip r:embed="rId5"/>
          <a:stretch/>
        </p:blipFill>
        <p:spPr>
          <a:xfrm>
            <a:off x="611280" y="4149720"/>
            <a:ext cx="208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«Твоя мастерск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09520" y="1600200"/>
            <a:ext cx="2732400" cy="4525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мотри ещё раз и подумай, как будет выглядеть твоя компози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Творческое оформ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я2"/>
          <p:cNvPicPr/>
          <p:nvPr/>
        </p:nvPicPr>
        <p:blipFill>
          <a:blip r:embed="rId1"/>
          <a:stretch/>
        </p:blipFill>
        <p:spPr>
          <a:xfrm>
            <a:off x="2195640" y="2252520"/>
            <a:ext cx="4608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Выставка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ряд                  2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878160" y="1650960"/>
            <a:ext cx="12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39640" y="2421000"/>
            <a:ext cx="2376720" cy="331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492360" y="2421000"/>
            <a:ext cx="2376720" cy="331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6443640" y="2421000"/>
            <a:ext cx="2376360" cy="331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Творческое задание: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составить из бумажных листьев различной формы, величины и цвета композицию.</a:t>
            </a:r>
            <a:br>
              <a:rPr sz="20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               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Учебные задачи:</a:t>
            </a:r>
            <a:br>
              <a:rPr sz="32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1. Познакомить с датами народного календаря, с приметами, поговорками, связанными с этими днями.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2. Развивать ассоциативные связи явлений осенней природы с художественно-пластическими свойствами материала (бумаги).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3. Освоить простейшие примы складывания из бумаги: сгибание, отглаживание сгибов.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4. Формировать умение создавать декоративный образ на основе уподобления в технике художественного вырезания из листа, сложенного вдвое, и аппликации.</a:t>
            </a:r>
            <a:br>
              <a:rPr sz="2000"/>
            </a:b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                    Материалы и инструменты:</a:t>
            </a:r>
            <a:br>
              <a:rPr sz="32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- белая и цветная бумага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- карандаш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- ножницы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- клей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Уборка рабочего м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MCj03434010000[1]"/>
          <p:cNvPicPr/>
          <p:nvPr/>
        </p:nvPicPr>
        <p:blipFill>
          <a:blip r:embed="rId1"/>
          <a:stretch/>
        </p:blipFill>
        <p:spPr>
          <a:xfrm>
            <a:off x="2268360" y="2205000"/>
            <a:ext cx="43196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!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 новых встреч!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1" name="Picture 6" descr="36_2_53"/>
          <p:cNvPicPr/>
          <p:nvPr/>
        </p:nvPicPr>
        <p:blipFill>
          <a:blip r:embed="rId3"/>
          <a:stretch/>
        </p:blipFill>
        <p:spPr>
          <a:xfrm>
            <a:off x="3492360" y="2060640"/>
            <a:ext cx="17272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Формы и краски ос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дубы"/>
          <p:cNvPicPr/>
          <p:nvPr/>
        </p:nvPicPr>
        <p:blipFill>
          <a:blip r:embed="rId1"/>
          <a:stretch/>
        </p:blipFill>
        <p:spPr>
          <a:xfrm>
            <a:off x="900000" y="1341360"/>
            <a:ext cx="741708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Золотая 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laude Monet. Autumn at Argenteuil."/>
          <p:cNvPicPr/>
          <p:nvPr/>
        </p:nvPicPr>
        <p:blipFill>
          <a:blip r:embed="rId1"/>
          <a:stretch/>
        </p:blipFill>
        <p:spPr>
          <a:xfrm>
            <a:off x="1403280" y="1932120"/>
            <a:ext cx="626436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00"/>
                </a:solidFill>
                <a:latin typeface="Arial"/>
              </a:rPr>
              <a:t>Лес, точно терем расписной,</a:t>
            </a:r>
            <a:br>
              <a:rPr sz="2000"/>
            </a:br>
            <a:r>
              <a:rPr b="1" i="1" lang="ru-RU" sz="2000" spc="-1" strike="noStrike">
                <a:solidFill>
                  <a:srgbClr val="669900"/>
                </a:solidFill>
                <a:latin typeface="Arial"/>
              </a:rPr>
              <a:t>Лиловый, золотой, багряный,</a:t>
            </a:r>
            <a:br>
              <a:rPr sz="2000"/>
            </a:br>
            <a:r>
              <a:rPr b="1" i="1" lang="ru-RU" sz="2000" spc="-1" strike="noStrike">
                <a:solidFill>
                  <a:srgbClr val="669900"/>
                </a:solidFill>
                <a:latin typeface="Arial"/>
              </a:rPr>
              <a:t>Весёлой, пёстрою стеной</a:t>
            </a:r>
            <a:br>
              <a:rPr sz="2000"/>
            </a:br>
            <a:r>
              <a:rPr b="1" i="1" lang="ru-RU" sz="2000" spc="-1" strike="noStrike">
                <a:solidFill>
                  <a:srgbClr val="669900"/>
                </a:solidFill>
                <a:latin typeface="Arial"/>
              </a:rPr>
              <a:t>Стоит над светлою поля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Левитан И"/>
          <p:cNvPicPr/>
          <p:nvPr/>
        </p:nvPicPr>
        <p:blipFill>
          <a:blip r:embed="rId1"/>
          <a:stretch/>
        </p:blipFill>
        <p:spPr>
          <a:xfrm>
            <a:off x="995400" y="1600200"/>
            <a:ext cx="715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Золотая 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Vasiliy Polenov"/>
          <p:cNvPicPr/>
          <p:nvPr/>
        </p:nvPicPr>
        <p:blipFill>
          <a:blip r:embed="rId1"/>
          <a:stretch/>
        </p:blipFill>
        <p:spPr>
          <a:xfrm>
            <a:off x="922320" y="1600200"/>
            <a:ext cx="729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Какие краски у ос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Какого цвета неб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Тра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Листья деревье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Приходилось ли тебе любоваться опавшими листь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417168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Показ приёмов работ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335640" cy="31734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1754640" y="1772280"/>
            <a:ext cx="614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                                    2                              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0:58:12Z</dcterms:created>
  <dc:creator>Sergey</dc:creator>
  <dc:description/>
  <dc:language>en-US</dc:language>
  <cp:lastModifiedBy>Ананьева</cp:lastModifiedBy>
  <dcterms:modified xsi:type="dcterms:W3CDTF">2008-12-22T09:55:16Z</dcterms:modified>
  <cp:revision>4</cp:revision>
  <dc:subject/>
  <dc:title>Урок технологии,1 класс ГОУ СОШ №886 Учитель Бочкова Е.В.</dc:title>
</cp:coreProperties>
</file>