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F17B-9EE5-4CB1-B02E-CAC25CBB26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40B9-6BCE-4F52-9320-80301C14B146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8CDA-31E1-4A32-B41C-A3D0B898B580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F559-6BC0-4321-BB3F-5EE3AF7C415A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2625-821C-4557-B5C8-30F2B973ACE2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1E4-2D2E-49F8-B089-68617F87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D9F-8BF9-41B1-819F-E9DDCB11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8FA7F-AEB5-4078-B496-C95C40BE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1F377-09F8-4F34-BA25-84116B4D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06A81-4B91-417C-A44F-F09B525B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B55EE-90DB-4BDA-9D20-6E9BBB0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9E898-88B0-4A7F-81CC-329DC9A2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E1769-355C-4C9C-AA4C-4059DE75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FCB2E-AADE-4A66-997D-DDA37F88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13301-1409-49D1-A536-FCB5D54D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1FDEC-0C41-4D83-8A2D-4BFFE2E1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28EC1-399C-4ECD-9E27-83AA6C51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C13-57B1-4F13-A07F-98C0AFA7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9DAFE-C018-43F7-A644-F555E77F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345E0-8182-43C7-B1CD-F61BE7C8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77574-28FE-4FFE-8766-A85DE1AD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9AB54-510A-4BE6-BEAB-88EF7075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664D8-D48C-4003-A941-C17B3DE7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727D0-4B4E-4E3E-8B69-17C25A51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E8893-ED96-4513-945E-54AFB4F1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4BF31-4340-434C-892F-B870460F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D7326-2A11-41DA-BEC9-A177AD29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240B5-05BD-41AB-A289-96919C49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1DD-F798-49DF-A690-092041D7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F14B8-9A36-44B9-A0BD-E43163CD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B6A41-6BA9-4DA1-95E6-370F4B49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FA848-214D-48D8-A3BF-7F6AACA2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52DC4-241D-4210-8521-5BD447EA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850D1-DA54-42B1-8D6F-B340F3B2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E8207-EA22-43FA-9A0A-1386E2DB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31F36-7942-4427-8279-45FA90EB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53E11-7071-4E61-BBC5-577C47C3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825BA-D24A-4E8F-A99C-759A4C71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586CD-6680-4653-A3CD-067013B2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A415-4861-4D21-AC75-F612FC3D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E4C3B-F164-4071-BFBA-5E729ABF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FDCF4-429E-4A48-BC8E-4168A655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3B50D-A690-4B43-A89B-5B552F77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D74CB-7CF4-40A3-AF1B-F8AD839B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A5F08-9410-4B1A-96B3-9FBD9F6F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6C9AD-A76A-4DEE-835D-884270E1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FD51F-4050-4044-B9DF-18F11C07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B4336-20BE-4BC8-A0FA-205677B7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3CD06-477D-4059-90CF-5BA4125C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09697-DFD1-4013-AB60-2FE52F18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AB15-6484-4B8E-A762-797020AC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96B24-BFD9-4357-BE08-7502304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16060-A540-424B-9CA0-718EBD0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4207E-40CF-4B26-8215-E3431187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0E4F5-CED8-44CA-8085-AA672DE6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49EFA-5D77-4488-BC82-242ACB46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E066-B2CF-49FE-9C34-73EFE09F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0AF5-EE97-4A37-95CC-ED630289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48AA-5E78-4801-BDE2-63F6C23A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6247-0059-4380-A33F-3767A130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5902-A33B-4AFC-98C7-31DD6099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2B9-3E4D-41D2-83FD-5B294198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1FD0-A15F-4287-B868-30C8AE55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62A0-D799-4387-AFDE-B4167FF7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1B22-8961-4BD9-B6D3-D38B0938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EB33-6E92-41E8-AD07-FD8EBAA6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9677-D719-4262-9A4D-D34C1781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8FFB-C1FA-4CF6-90E8-28A28CA4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3036-2F04-4E6A-A6CB-D11B98AD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9C67-BF60-408D-ACBA-7DC8B997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1BFF-9D06-4C13-BDC7-8A1D5B7A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6E951-4780-4814-AE7D-4BDC7701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E37-3BC1-46F5-8BCE-EDF060CD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015F5-01C5-4B4A-8668-FA9BA376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1A86-6277-452E-AF98-32B18DE3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A1FD-FFCC-4949-A6CA-9DCF73E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77FD-5EDF-49F9-8739-678FD9F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419A-08CC-42A4-AD56-CECCC0FB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DF6D-761E-4B5D-A48A-38E3A400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69D20-C044-47BC-B48D-D803D49A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BC6E-E272-4DF9-9FE6-159642F9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E836-4F74-4393-9D12-CBA10F57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5DC0B-A320-406B-A9DB-D0E6C860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282-0DD4-4BE6-A066-D955CB2B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F3A6-D81C-4130-953A-D82312C2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B2A9-4883-4AD8-9F07-79006675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6E9CE-89C7-4B1E-A955-3169DE1F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66FC7-61FE-4816-949E-4CDD8505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DBFD9-E162-4F25-A7F9-31ADBB8C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5080-DAD8-4FA6-9683-2726AB0C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F586-3675-4681-9CE5-49543048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6828-72AB-4B3D-A732-F38DFE07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460B8-4075-4237-B1E5-20F584A7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69C8C-A018-4BD9-A7EC-048375C5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A6A-51AA-4502-BF60-E29C78A6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B4D75-A170-496B-AFD5-8FBF9457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BA1AC-5A66-4AD5-8775-C3470813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5CF65-8744-4A31-89AB-9F245842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02A5-502B-4761-AF1F-27F40026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81584-8F33-45AD-AD3A-A7E5687C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01728-80D5-4CF1-9C11-81D45E2B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A9727-C33F-44D0-AAC9-B769FC7F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6476F-7D0D-4788-B91C-02D3B5D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20590-3378-41DE-98D2-B18CC87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384CF-D904-4D5C-A1F8-2CCBB343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C5F-AC54-4ACB-A216-2F8F01FA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C6C7A-A4E6-4622-B5DD-E38D0234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FF6B6-FC90-4D08-8BB0-50C8F32F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2AA5A-68D0-4DA4-9597-87D6574D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15DC6-FC21-4519-8B85-37688AE6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01D1C-71ED-458A-925A-F691AB44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FFB81-E825-4E58-ACC0-0EE45B40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853C7-5438-4C12-8266-970DD0B5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3DB0C-5AF9-4122-9E07-D37CA9F0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D5B40-95D9-4EE4-941F-C50BF743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A265F-F739-4A32-AEF1-1B554477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DFB-AE50-40A7-80E9-6459ED39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0A933-0B25-4C6B-B381-4FF77C12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350BD-2C35-4535-8092-CA9D84AF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96507-1329-4557-9913-5B106C72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0E81F-0EF7-46A0-B600-A1CFD084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9E050-1885-418C-9CA1-27C1ABFB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FDA7B-D743-4EC9-BCFA-EFD77AF4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AD1B6-852A-4618-8EBE-70863635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C2788-D4FB-43A1-BB83-67960BC4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A9EE2-E953-470D-9462-3992B915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4B91B-27A2-4081-91C6-0796C871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48F-8284-468E-A40F-4EF0E897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BB40D-8A00-4144-8754-50E1A5A1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B6E3A-4A30-415D-BD47-0738A0A1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576F0-8701-4627-ACC4-1025626E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B3537-48DD-4A70-828A-12BC7980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B0971-906D-49C8-9A03-FFD23546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63F3E-A9E5-495F-B68C-7DD66080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726D2-3F5E-44A6-B931-318AFDBF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F398B-B6D1-447C-9518-356D6AB0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38C54-6758-4070-9002-AE9B9687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896C3-3D0E-4C6B-81D6-A256535A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214-E365-499A-B04A-ACE17381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E7D62-5DEA-47B1-B958-28363116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4802-1C7D-4C1C-BD32-FF713883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D1D24-6333-4E01-8D2F-53DB890A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3294-CE78-4B68-AE3F-26E56EED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F0C09-5A43-4BF5-A31F-7DA73D9D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12B25-2F31-42DA-85B7-D47F7BB0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B976E-A25A-4875-A202-DCA1CD34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2C921-2415-49E7-BFB1-20F6F9AF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48CDB-4564-434A-BEE1-FA22433F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52479-12EE-4A74-9564-4ED17CE6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B297-DF3D-4E92-A0F6-86C932C83356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9D3E-548A-4208-A8A1-08699CC3E041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7CDE-8744-4CF7-90B9-ED1E7045CEFF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DF03-2F64-4CF1-AEFC-34AFCBB4BA7A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F16F-C9C9-4951-B512-1FF794405EDE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A213-B7B3-4AC8-A738-986873AA2902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A247-3A67-4BED-8169-2AC1C72B7741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FD1A-7AE3-4F0F-85BE-3DC135C5726A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B987-70E4-4A04-8ABA-70F516C4647C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6881-DA3D-4509-8D05-902A6C146156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0E86-BB90-4966-BA77-154C5FEC2598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909B-90F6-499F-9DBC-484EB67B565E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Рисунок 3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821640" cy="49896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7280" y="58680"/>
            <a:ext cx="885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Tahoma"/>
              </a:rPr>
              <a:t>Россия в мировом сообществе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285840" y="685440"/>
            <a:ext cx="657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При определении места и роли России в мировом сообществе и в мировой политике важно учитывать основные тенденции, действующие в современном мире: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1. Укрепление экономических и политических позиций значительного числа государств и их интеграционных объединений, развитие глобализации, совершенствование механизмов многостороннего управления международными процессами, формирование многополярного мира. При этом все более значительную роль играют экономические, политические, научно-технические, экологические и информационные факторы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2. Усиление стремления к созданию системы международных отношений, основанной на доминировании в мире развитых западных стран при лидерстве США, рассчитанной на односторонние, прежде всего военно-силовые, решения ключевых проблем мировой политики в обход норм международного права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3. Возрастание конкурентной борьбы в мире за перераспределение и контроль над сырьевыми ресурсами планеты, стремление ряда государств усилить свое влияние на мировую политику, в том числе путем создания оружия массового уничтожения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Все эти процессы не могут обойти стороной Россию - крупнейшую державу мира, всегда игравшую огромную роль в мировой политике. Этому способствует ее политический, экономический, духовный и военный потенциал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14" name="Picture 3" descr="C:\Users\Денис\Desktop\1880346.jpg"/>
          <p:cNvPicPr/>
          <p:nvPr/>
        </p:nvPicPr>
        <p:blipFill>
          <a:blip r:embed="rId1"/>
          <a:stretch/>
        </p:blipFill>
        <p:spPr>
          <a:xfrm>
            <a:off x="6692760" y="1889280"/>
            <a:ext cx="18478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285840" y="685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В политическом плане Россия выступает державой с многовекторными глобальными интересами и общепризнанным международным авторитетом. Являясь постоянным членом Совета Безопасности (СБ) ООН, представителем других влиятельных международных организаций, она активно участвует в развитии и укреплении на демократической основе содружества наций, реформировании модели международных отношений в соответствии с новыми политическими реалиями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84400" indent="-2844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Принципиальным показателем положения России в мировом сообществе остается состояние и уровень ее отношений с США как наиболее могущественным государством мира. Трагические события 11 сентября 2001 года сблизили интересы двух стран, прежде всего в сфере решения глобальных проблем, борьбы с новыми вызовами и угрозами национальной и международной безопасности. В то же время многие факты и события международной политики в наступившем тысячелетии свидетельствуют, что в отличие от 90-х годов XX века Россия не только не следует в фарватере американской политики, но и стремится отстаивать свои интересы, выстраивать свою линию поведения, которая, как показывает ситуация с Афганистаном, Ираком, Ираном и т.д., более реалистична и продумана. Все это не исключает столкновения интересов, противоборства между двумя державами и свидетельствует о росте мощи России и возрастании проблем у США с установлением однополярного мира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84400" indent="-2844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16" name="Picture 2" descr="C:\Users\Денис\Desktop\flagrususa.jpg"/>
          <p:cNvPicPr/>
          <p:nvPr/>
        </p:nvPicPr>
        <p:blipFill>
          <a:blip r:embed="rId1"/>
          <a:stretch/>
        </p:blipFill>
        <p:spPr>
          <a:xfrm>
            <a:off x="6461280" y="2200320"/>
            <a:ext cx="2133360" cy="1341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C:\Users\Денис\Desktop\Наклейка 160.png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6840" y="785520"/>
            <a:ext cx="590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В своем стремлении к многополярному миру Россия не одинока и находит все больше поддержки среди ведущих стран Европы, что обусловило одну из политических причин усиления ее популярности в европейском сообществе. Более того, участие и позиция России в различных европейских форумах усиливает значимость всей Европы в глобальных процессах</a:t>
            </a:r>
            <a:r>
              <a:rPr b="1" lang="ru-RU" sz="1600" spc="-1" strike="noStrike">
                <a:solidFill>
                  <a:srgbClr val="3a566e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Параллельно с развитием новых отношений со странами Запада, Россия активизировала свои отношения со странами Востока. Наша страна стремится вернуть себе былой авторитет и строить взаимовыгодные отношения с крупнейшими государствами этого региона. В свою очередь, ряд наиболее динамично развивающихся стран Азии нуждаются в политической и экономической поддержке России, что усиливает их международный статуе. Например, за последние 15 лет только между Россией и КНР подписано более 180 соглашений. В 2006 г. в Китае прошел Год России, а 2007 год объявлен Годом Китая в России. 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19" name="Picture 2" descr="C:\Users\Денис\Desktop\8.jpg"/>
          <p:cNvPicPr/>
          <p:nvPr/>
        </p:nvPicPr>
        <p:blipFill>
          <a:blip r:embed="rId1"/>
          <a:stretch/>
        </p:blipFill>
        <p:spPr>
          <a:xfrm>
            <a:off x="5675400" y="2170080"/>
            <a:ext cx="2962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214200" y="685440"/>
            <a:ext cx="585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Россия как евразийская держава объективно претендует на важнейшее место геополитического моста и роль активного игрока и посредника в отношениях между странами Запада и Востока. Более того, в последние годы характерной чертой активности российской дипломатии стало интенсивное развитие сотрудничества со странами Азиатско-Тихоокеанского региона, Персидского залива, Латинской Америки, Южной Африки, традиционно считавшихся сферой американских интересов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Статус России в мировом сообществе проявляется также через ее место и роль в СНГ. Став правопреемницей бывшего Советского Союза, Россия фактически возложила на себя ответственность за будущее постсоветского пространства, обеспечение стран СНГ политической и экономической поддержкой. Благодаря своему потенциалу и авторитету, она стала консолидирующей силой для большинства бывших союзных республик, активно противодействуя попыткам внутри и извне расколоть Содружество. В сложнейших условиях Россия не раз становилась гарантом стабилизации обстановки на постсоветском пространстве. Она выступает инициатором совершенствования модели СНГ с конечной целью создания оптимальной военно-политической и экономической системы, которая должна обеспечить эффективное развитие каждого из ее участников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Политическая значимость России подкреплена ее экономическим потенциалом, что особенно важно в условиях глобализации. Российские просторы и природные богатства всегда привлекали взоры многих стран</a:t>
            </a:r>
            <a:r>
              <a:rPr b="1" lang="ru-RU" sz="1300" spc="-1" strike="noStrike">
                <a:solidFill>
                  <a:srgbClr val="3a566e"/>
                </a:solidFill>
                <a:latin typeface="Tahoma"/>
              </a:rPr>
              <a:t>.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21" name="Picture 3" descr="C:\Users\Денис\Desktop\69.jpg"/>
          <p:cNvPicPr/>
          <p:nvPr/>
        </p:nvPicPr>
        <p:blipFill>
          <a:blip r:embed="rId1"/>
          <a:stretch/>
        </p:blipFill>
        <p:spPr>
          <a:xfrm>
            <a:off x="5815080" y="2030400"/>
            <a:ext cx="2786040" cy="19321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C:\Users\Денис\Desktop\Наклейка 160.png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285840" y="713880"/>
            <a:ext cx="628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Россия обладает огромным природным потенциалом (около 15 - 17% мировых запасов полезных ископаемых, 25% мировых запасов леса, питьевой воды), что автоматически отводит ей значимое место в развитии мировой экономики. Она является одним из мировых лидеров в добыче и экспорте полезных ископаемых, особенно в энергетическом секторе. Это позволяет России традиционно влиять на экономику и безопасность Европы, а в последнее время значительно активизировать свою энергетическую роль и в "восточном" векторе политики. 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88000" indent="-2880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Место России как ведущего поставщика стабильной и дешевой энергии на значительную часть Евразийского рынка усиливается ключевой ролью России в формировании единой европейской энергетической стратегии. Уже сегодня Германия обеспечивает свои потребности российским газом на 42%, Италия - на 32%, Франция - на 30%, Австрия - на 75%, а в целом его получает каждый четвертый европейский потребитель. Предполагается, что только за 15 ближайших лет объем общих поставок газа в ЕС будет удвоен. Такая же ситуация характерна и для других видов энергетического сырья</a:t>
            </a:r>
            <a:r>
              <a:rPr b="1" lang="ru-RU" sz="1600" spc="-1" strike="noStrike">
                <a:solidFill>
                  <a:srgbClr val="3a566e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88000" indent="-2880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24" name="Picture 2" descr="C:\Users\Денис\Desktop\medium.jpg"/>
          <p:cNvPicPr/>
          <p:nvPr/>
        </p:nvPicPr>
        <p:blipFill>
          <a:blip r:embed="rId1"/>
          <a:stretch/>
        </p:blipFill>
        <p:spPr>
          <a:xfrm>
            <a:off x="6205680" y="2163600"/>
            <a:ext cx="23954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85480" y="642600"/>
            <a:ext cx="600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Толерантность России к другим народам с их культурой и традициями стала характерной чертой восприятия россиянами окружающего многоликого мира. Не подавление, а взаимное обогащение, переплетение культур определяет основной курс национальной политики России в течение многих веков. Исторически это способствовало росту влияния и авторитета России среди различных народов как европейских, так и азиатских. В условиях разрастающейся на планете религиозной конфронтации Россия как многоконфессиональное государство обретает особую миротворческую миссию, подавая остальному сообществу пример возможности единения представителей различных религиозных воззрений и культур на основе общечеловеческих ценностей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Весь этот огромный культурный потенциал России наделяет ее важнейшей притягательной силой, позволяющей нашей стране занимать одно из центральных мест в мировой цивилизации, играть важнейшую роль в определении ее облика и пути дальнейшего развития. Чтобы не случилось, Россия уже вечна своим культурным влиянием. В этом есть заслуга не только гениев, но и всего народа в целом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Таким образом, место и роль России в мировом сообществе нового тысячелетия определяются ее статусом евразийской державы с соответствующими интересами, возможностями и влиянием. Мощь и источники возрождения величия России кроются в недрах ее собственного пространства собственной социально-культурной традиции и собственного геополитического и геоэкономического потенциала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26" name="Picture 2" descr="C:\Users\Денис\Desktop\173681056.jpg"/>
          <p:cNvPicPr/>
          <p:nvPr/>
        </p:nvPicPr>
        <p:blipFill>
          <a:blip r:embed="rId1"/>
          <a:stretch/>
        </p:blipFill>
        <p:spPr>
          <a:xfrm>
            <a:off x="5937120" y="2170080"/>
            <a:ext cx="2694240" cy="20239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C:\Users\Денис\Desktop\Наклейка 160.png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28" name="Подзаголовок 2"/>
          <p:cNvSpPr/>
          <p:nvPr/>
        </p:nvSpPr>
        <p:spPr>
          <a:xfrm>
            <a:off x="3492360" y="6458040"/>
            <a:ext cx="2735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a0bc"/>
                </a:solidFill>
                <a:uFillTx/>
                <a:latin typeface="Tahoma"/>
                <a:hlinkClick r:id="rId3"/>
              </a:rPr>
              <a:t>Prezentacii.co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2:10:04Z</dcterms:created>
  <dc:creator>Денис</dc:creator>
  <dc:description/>
  <dc:language>en-US</dc:language>
  <cp:lastModifiedBy>Admin</cp:lastModifiedBy>
  <dcterms:modified xsi:type="dcterms:W3CDTF">2012-11-26T08:45:56Z</dcterms:modified>
  <cp:revision>12</cp:revision>
  <dc:subject/>
  <dc:title>Россия в мировом сообществе</dc:title>
</cp:coreProperties>
</file>