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move the slide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F0F1-2600-44AF-A557-167A3D6268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58A2-32E2-4C3D-8F71-0F3553B97F7B}" type="slidenum">
              <a:rPr b="0" lang="ru-RU" sz="1200" spc="-1" strike="noStrike">
                <a:solidFill>
                  <a:srgbClr val="0033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FC0A-09BE-4D26-908D-7BF07B31840C}" type="slidenum">
              <a:rPr b="0" lang="ru-RU" sz="1200" spc="-1" strike="noStrike">
                <a:solidFill>
                  <a:srgbClr val="0033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44B4-801E-4E20-B21F-D49F8DE1FB94}" type="slidenum">
              <a:rPr b="0" lang="ru-RU" sz="1200" spc="-1" strike="noStrike">
                <a:solidFill>
                  <a:srgbClr val="0033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CC56-C3AD-401C-ADED-40201BF15759}" type="slidenum">
              <a:rPr b="0" lang="ru-RU" sz="1200" spc="-1" strike="noStrike">
                <a:solidFill>
                  <a:srgbClr val="0033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02A7-CC07-498C-B310-454A13E1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149A-C23B-4886-9F3C-5F3C31CF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7C88D-CFCB-4DDF-A515-D25BC434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0E593-38CB-49EC-A0A8-E8333958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C3BEE-3031-4E53-BB64-9F8541FB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603CF-046A-4C00-9113-023C2704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A1C3C-EA54-49AA-863B-D8C48BC6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7ECAE0-186F-4F3A-9596-83BD498B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F4C1A-0FB2-49DE-B4FC-E06131EA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EF5A0-CFF4-4F53-AE7F-C9E2F5E7A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13537-B8FA-4D75-BED8-9C038002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BE5031-5ECA-47E1-868D-F555B4343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C159-8129-4471-B6CF-68504EE0C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CA5A8-AC82-484E-A33A-A144F930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C58DE7-6BA0-4E66-A23E-7AF98A5D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1F1E8-8C2A-478D-9FA6-174DD1BD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E7BA1B-7DFA-4CB4-BEB7-488D27EC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FDE87F-C44D-44EE-B090-D19BDA8E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2B43E4-E4B8-44B1-9414-63FFCB78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71869-3BC8-4EDA-83DD-2D13575C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C336A-0C8B-41E9-AE78-C79EBDA5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A82768-8AFB-42F5-B0F9-1A3713BF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D44B5D-0CF7-4BAF-9351-43F1CF52E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61CE-202C-49D4-A328-BCBAED00D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370AE5-FFCF-4D38-88FF-F7D46ACC3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FC0D0-32CA-4600-B1C2-C846B30A1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14CF1-7AF7-412A-9A54-2C779138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9B8CF-BB47-4D09-8D4C-3EDAEB49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66837-D28C-4C4A-A35C-C9E62A07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F767C-92AC-43FD-908A-AEB2ED04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6A9D8-801F-4C41-9EB0-D094F5A0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1D921-55FD-4803-935B-263E2F8E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D43BD-019D-470B-9660-2A89150B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E2627-9FC9-43D5-AB59-3149D151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8E24-4950-4DF3-B23F-84E2E0692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8A4AE-490F-446E-B5F4-7004AE64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64AA8-BA41-4079-909C-25C5A02FC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1C63A-3EEE-4C56-8520-63CE2BEE6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7642E1-D36D-4E2B-9A1D-D12CA0358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D7A0B9-A29C-4CDA-BDFB-A329B5B1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2C5798-625C-44A1-94F7-C42409F6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A52797-B916-4796-9214-46A5B2C5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39910-E73B-4B7A-A93B-7F0AF9AC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0414C1-287C-4128-978A-412FCBF8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75BFA7-A222-4D02-97D0-E9FE3E27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9B30-6E15-454F-9F06-107A816E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73ED24-D857-4385-AEF0-B41C85F1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10AC4B-21B4-46EA-8A28-EA47DC46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9708D5-2FDA-4EBD-B546-0234880C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39E782-6BFC-430A-A368-B18E1ABB9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4EA0A6-986B-4B62-A89C-BE2A6250C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54EB-2F6E-4501-8615-2D3C5074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6960-1D89-4A37-90C3-614AF139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62EB-B21C-4058-A782-2B114BE3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4957-4EE9-4FE5-932A-D145957B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6954-2311-4431-9337-D30A4FC2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FE69-A2F4-4E88-81EC-BF445BAD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DB10-2E69-4E32-B0F8-B3B2122D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51E1-6D3A-4A30-8326-8C7FCA5C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D574-074A-4A00-871C-49A427E3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1B6E-E97B-4CFD-9B7F-D917ECDBC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A83F-EA8C-44A2-99F6-FDD43701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92E81-D693-4AC1-A82D-BAECCA0BA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CC612-3079-4582-8B56-CD7032BE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4118C-BF92-4D56-BE4E-989C7380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A8834-34D7-4785-B1EC-69CE0427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28655-9790-4A77-9623-F7C60B6B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9FE6-F256-4BC0-B52E-FFD82844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925E7-6CA5-4D96-8F69-94849620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C70D3-6C41-4998-AC57-7CF32435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C3A8E-8855-4D2C-ABF4-F1BDABCF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FD614-037F-4E11-8171-EE1D6EF2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E0401-AEE6-4FC3-AC12-F526B56A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4A7C7-E059-4543-9B47-FC9835CAD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59E19-9C61-4EC7-B663-DA0CCBADE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7E4FB-C850-423E-80B9-8D228A29C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C5550-7599-4E88-A7D2-EA367DE1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2E55E-8DC0-4FF1-9064-18D5CB6D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2804-8CEA-4070-B3BE-F244D303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41DC1-A112-4561-AC50-837A1596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90955-9054-4367-A04F-1E79F3B9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603D0-B68C-40B2-A571-E227B9AB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6728A-F341-4FF8-9F4F-139F94BF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8C6E0-9A18-4CC9-A652-4AB3B9E6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65FF4-3459-4BBA-ACCD-C6EE4437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9E284-5FC7-4A5B-BE14-6EEA9973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A72CD-9FF1-4B8F-AB9F-367EB8062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2ADE8-CBF7-4B79-9287-1F5CA197B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0F079-1D90-41C0-B281-3587502B9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97DC-1D59-4569-B7E2-F9D6B887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7C409-B750-4987-A17A-1835B631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AE2B9-4920-47EC-8191-9E9DA782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368B6-A5DF-4A17-96C6-510180DF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7E179-694F-4DD9-97F9-D51FDECD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36A91-1E39-4449-8FC7-17EF2077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6D24D-115D-4EFA-AB65-15F4AED7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C0861-154F-4F43-BFDB-C575B830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178C8-9233-4F3E-838C-01C44461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4CAA3-C01B-4980-B9F4-D636A798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0D858-AE16-4402-8F98-CDA246FF6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015B-7021-4D65-9862-44A49297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9E764-5D33-4C99-A68E-393460B11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DF4E6-F7D7-45AF-BAF6-B75AF3CE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CEA11-3875-4574-AB2D-1A99609F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F0D6B-D321-4F1E-AA61-3EF68DC0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51764-AD3A-4A42-AD80-5D90430A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3C836-831C-46D6-8D5F-5806502D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B2411-7139-42AD-AF8A-6C5DBBD9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F873A-E9B2-441D-B521-05BF1995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C05E4-032D-408E-86F2-C5D11280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8DB9D-96C9-49FC-A1B0-57B8C947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A9AB-B37F-4A81-9B4D-B26CE6DD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9918B-502E-4565-B703-4E14F493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DE2FD-2440-4C4E-85B1-E47880CE3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426C2-3A59-4F2D-812B-E2025A466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6543C-A181-4739-A6D1-1C97CD772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66512-88A2-4B61-B202-4D5CC472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56D6F-5C1F-4B2F-B64D-388C65DC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7FF01-30E9-4542-B3E0-74AB895B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9C5C1-3B79-4F18-B374-D6C182CC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25646-2789-4241-9008-B96360DC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17FA0-E4AC-4421-B46E-233EA692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8FAB-E503-4F4A-A40D-5BBC8837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A3940-D136-4155-9D34-C31CED64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52A3F-572D-4149-AE23-C20EF0B0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D99B6-3389-4F5C-836B-C4E1FD13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596D5-E3A3-4440-9848-2FAA34686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7E426-B6A9-430C-87A2-7A2FAEC48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404AB-5C93-4970-82C6-71812DB42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BAB98-A5E8-489A-BE4C-D2D3962F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D507C-12EB-45AE-901D-3D6413FF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F5AAF-9222-4B8A-8D4E-05C96537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BDC1C-13A2-42D6-B68E-3F8DB070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A59D-63D2-4B3E-A2B5-0A7DF501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0511F-E8E6-4BC5-A54D-7CE99542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C6A49-49ED-43A7-BC55-80E8383C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2C394-A43D-4D89-9A44-9B85CB3B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456AD-C197-42C6-8780-7B23EF0E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808A6-268E-438D-88CF-9633CB27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8484E-13E8-4FAE-94E6-1D56CDCE6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4D47E-638C-4CAC-9AA7-63E0E6B28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F09491-2DF9-4F24-B90C-949A93517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7B1A1-F7EE-4676-A01F-4C21F890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153F8-3990-4EFF-BFE1-724035C1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buClr>
                <a:srgbClr val="3a566e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C947-0961-4DA7-A3F3-E8D7F2322D9E}" type="slidenum">
              <a:rPr b="0" lang="en-US" sz="1200" spc="-1" strike="noStrike">
                <a:solidFill>
                  <a:srgbClr val="3a566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buClr>
                <a:srgbClr val="3a566e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B163-1A5C-4611-ABDE-EF7A71B2D4A3}" type="slidenum">
              <a:rPr b="0" lang="en-US" sz="1200" spc="-1" strike="noStrike">
                <a:solidFill>
                  <a:srgbClr val="3a566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buClr>
                <a:srgbClr val="3a566e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7AC2-3174-4346-A210-AC9C126E3B4E}" type="slidenum">
              <a:rPr b="0" lang="en-US" sz="1200" spc="-1" strike="noStrike">
                <a:solidFill>
                  <a:srgbClr val="3a566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buClr>
                <a:srgbClr val="3a566e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0BA5-DDF0-4AB0-BC0F-CADC969D4037}" type="slidenum">
              <a:rPr b="0" lang="en-US" sz="1200" spc="-1" strike="noStrike">
                <a:solidFill>
                  <a:srgbClr val="3a566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buClr>
                <a:srgbClr val="3a566e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928E-A6A5-4CC1-A621-6954101403AE}" type="slidenum">
              <a:rPr b="0" lang="en-US" sz="1200" spc="-1" strike="noStrike">
                <a:solidFill>
                  <a:srgbClr val="3a566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buClr>
                <a:srgbClr val="3a566e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9323-6FDA-4238-936C-6AED7473D0BE}" type="slidenum">
              <a:rPr b="0" lang="en-US" sz="1200" spc="-1" strike="noStrike">
                <a:solidFill>
                  <a:srgbClr val="3a566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buClr>
                <a:srgbClr val="3a566e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D7F8-930D-4D1D-A9AC-3F64FC86EBDE}" type="slidenum">
              <a:rPr b="0" lang="en-US" sz="1200" spc="-1" strike="noStrike">
                <a:solidFill>
                  <a:srgbClr val="3a566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buClr>
                <a:srgbClr val="3a566e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B910-C785-4503-8B5A-4755DD141148}" type="slidenum">
              <a:rPr b="0" lang="en-US" sz="1200" spc="-1" strike="noStrike">
                <a:solidFill>
                  <a:srgbClr val="3a566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buClr>
                <a:srgbClr val="3a566e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3EAC-CBB8-4FB8-852E-4B2C47A5C7BF}" type="slidenum">
              <a:rPr b="0" lang="en-US" sz="1200" spc="-1" strike="noStrike">
                <a:solidFill>
                  <a:srgbClr val="3a566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buClr>
                <a:srgbClr val="3a566e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4F5F-7EE8-4009-8879-55E70BE459B7}" type="slidenum">
              <a:rPr b="0" lang="en-US" sz="1200" spc="-1" strike="noStrike">
                <a:solidFill>
                  <a:srgbClr val="3a566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buClr>
                <a:srgbClr val="3a566e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DFCF-0DD5-40AE-BCED-4C3214DD5DB1}" type="slidenum">
              <a:rPr b="0" lang="en-US" sz="1200" spc="-1" strike="noStrike">
                <a:solidFill>
                  <a:srgbClr val="3a566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buClr>
                <a:srgbClr val="3a566e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63DB-A15E-419A-9D27-428D50FEE62E}" type="slidenum">
              <a:rPr b="0" lang="en-US" sz="1200" spc="-1" strike="noStrike">
                <a:solidFill>
                  <a:srgbClr val="3a566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hyperlink" Target="http://prezentacii.com/" TargetMode="External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Рисунок 3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821640" cy="498960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87280" y="58680"/>
            <a:ext cx="88567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00000"/>
                </a:solidFill>
                <a:latin typeface="Tahoma"/>
              </a:rPr>
              <a:t>Россия в мировом сообществе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285840" y="685440"/>
            <a:ext cx="6572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349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a566e"/>
                </a:solidFill>
                <a:latin typeface="Tahoma"/>
              </a:rPr>
              <a:t>При определении места и роли России в мировом сообществе и в мировой политике важно учитывать основные тенденции, действующие в современном мире: </a:t>
            </a:r>
            <a:endParaRPr b="0" lang="en-US" sz="1400" spc="-1" strike="noStrike">
              <a:solidFill>
                <a:srgbClr val="3a566e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a566e"/>
                </a:solidFill>
                <a:latin typeface="Tahoma"/>
              </a:rPr>
              <a:t>1. Укрепление экономических и политических позиций значительного числа государств и их интеграционных объединений, развитие глобализации, совершенствование механизмов многостороннего управления международными процессами, формирование многополярного мира. При этом все более значительную роль играют экономические, политические, научно-технические, экологические и информационные факторы. </a:t>
            </a:r>
            <a:endParaRPr b="0" lang="en-US" sz="1400" spc="-1" strike="noStrike">
              <a:solidFill>
                <a:srgbClr val="3a566e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a566e"/>
                </a:solidFill>
                <a:latin typeface="Tahoma"/>
              </a:rPr>
              <a:t>2. Усиление стремления к созданию системы международных отношений, основанной на доминировании в мире развитых западных стран при лидерстве США, рассчитанной на односторонние, прежде всего военно-силовые, решения ключевых проблем мировой политики в обход норм международного права. </a:t>
            </a:r>
            <a:endParaRPr b="0" lang="en-US" sz="1400" spc="-1" strike="noStrike">
              <a:solidFill>
                <a:srgbClr val="3a566e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a566e"/>
                </a:solidFill>
                <a:latin typeface="Tahoma"/>
              </a:rPr>
              <a:t>3. Возрастание конкурентной борьбы в мире за перераспределение и контроль над сырьевыми ресурсами планеты, стремление ряда государств усилить свое влияние на мировую политику, в том числе путем создания оружия массового уничтожения. </a:t>
            </a:r>
            <a:endParaRPr b="0" lang="en-US" sz="1400" spc="-1" strike="noStrike">
              <a:solidFill>
                <a:srgbClr val="3a566e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a566e"/>
                </a:solidFill>
                <a:latin typeface="Tahoma"/>
              </a:rPr>
              <a:t>Все эти процессы не могут обойти стороной Россию - крупнейшую державу мира, всегда игравшую огромную роль в мировой политике. Этому способствует ее политический, экономический, духовный и военный потенциал. </a:t>
            </a:r>
            <a:endParaRPr b="0" lang="en-US" sz="1400" spc="-1" strike="noStrike">
              <a:solidFill>
                <a:srgbClr val="3a566e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514" name="Picture 3" descr="C:\Users\Денис\Desktop\1880346.jpg"/>
          <p:cNvPicPr/>
          <p:nvPr/>
        </p:nvPicPr>
        <p:blipFill>
          <a:blip r:embed="rId1"/>
          <a:stretch/>
        </p:blipFill>
        <p:spPr>
          <a:xfrm>
            <a:off x="6692760" y="1889280"/>
            <a:ext cx="184788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285840" y="68544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349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a566e"/>
                </a:solidFill>
                <a:latin typeface="Tahoma"/>
              </a:rPr>
              <a:t>В политическом плане Россия выступает державой с многовекторными глобальными интересами и общепризнанным международным авторитетом. Являясь постоянным членом Совета Безопасности (СБ) ООН, представителем других влиятельных международных организаций, она активно участвует в развитии и укреплении на демократической основе содружества наций, реформировании модели международных отношений в соответствии с новыми политическими реалиями. </a:t>
            </a:r>
            <a:endParaRPr b="0" lang="en-US" sz="1400" spc="-1" strike="noStrike">
              <a:solidFill>
                <a:srgbClr val="3a566e"/>
              </a:solidFill>
              <a:latin typeface="Tahoma"/>
            </a:endParaRPr>
          </a:p>
          <a:p>
            <a:pPr marL="284400" indent="-284400">
              <a:spcBef>
                <a:spcPts val="349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a566e"/>
                </a:solidFill>
                <a:latin typeface="Tahoma"/>
              </a:rPr>
              <a:t>Принципиальным показателем положения России в мировом сообществе остается состояние и уровень ее отношений с США как наиболее могущественным государством мира. Трагические события 11 сентября 2001 года сблизили интересы двух стран, прежде всего в сфере решения глобальных проблем, борьбы с новыми вызовами и угрозами национальной и международной безопасности. В то же время многие факты и события международной политики в наступившем тысячелетии свидетельствуют, что в отличие от 90-х годов XX века Россия не только не следует в фарватере американской политики, но и стремится отстаивать свои интересы, выстраивать свою линию поведения, которая, как показывает ситуация с Афганистаном, Ираком, Ираном и т.д., более реалистична и продумана. Все это не исключает столкновения интересов, противоборства между двумя державами и свидетельствует о росте мощи России и возрастании проблем у США с установлением однополярного мира. </a:t>
            </a:r>
            <a:endParaRPr b="0" lang="en-US" sz="1400" spc="-1" strike="noStrike">
              <a:solidFill>
                <a:srgbClr val="3a566e"/>
              </a:solidFill>
              <a:latin typeface="Tahoma"/>
            </a:endParaRPr>
          </a:p>
          <a:p>
            <a:pPr marL="284400" indent="-284400">
              <a:spcBef>
                <a:spcPts val="349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516" name="Picture 2" descr="C:\Users\Денис\Desktop\flagrususa.jpg"/>
          <p:cNvPicPr/>
          <p:nvPr/>
        </p:nvPicPr>
        <p:blipFill>
          <a:blip r:embed="rId1"/>
          <a:stretch/>
        </p:blipFill>
        <p:spPr>
          <a:xfrm>
            <a:off x="6461280" y="2200320"/>
            <a:ext cx="2133360" cy="134136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2" descr="C:\Users\Денис\Desktop\Наклейка 160.png"/>
          <p:cNvPicPr/>
          <p:nvPr/>
        </p:nvPicPr>
        <p:blipFill>
          <a:blip r:embed="rId2"/>
          <a:stretch/>
        </p:blipFill>
        <p:spPr>
          <a:xfrm>
            <a:off x="7632720" y="0"/>
            <a:ext cx="15112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456840" y="785520"/>
            <a:ext cx="5900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00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a566e"/>
                </a:solidFill>
                <a:latin typeface="Tahoma"/>
              </a:rPr>
              <a:t>В своем стремлении к многополярному миру Россия не одинока и находит все больше поддержки среди ведущих стран Европы, что обусловило одну из политических причин усиления ее популярности в европейском сообществе. Более того, участие и позиция России в различных европейских форумах усиливает значимость всей Европы в глобальных процессах</a:t>
            </a:r>
            <a:r>
              <a:rPr b="1" lang="ru-RU" sz="1600" spc="-1" strike="noStrike">
                <a:solidFill>
                  <a:srgbClr val="3a566e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3a566e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a566e"/>
                </a:solidFill>
                <a:latin typeface="Tahoma"/>
              </a:rPr>
              <a:t>Параллельно с развитием новых отношений со странами Запада, Россия активизировала свои отношения со странами Востока. Наша страна стремится вернуть себе былой авторитет и строить взаимовыгодные отношения с крупнейшими государствами этого региона. В свою очередь, ряд наиболее динамично развивающихся стран Азии нуждаются в политической и экономической поддержке России, что усиливает их международный статуе. Например, за последние 15 лет только между Россией и КНР подписано более 180 соглашений. В 2006 г. в Китае прошел Год России, а 2007 год объявлен Годом Китая в России. </a:t>
            </a:r>
            <a:endParaRPr b="0" lang="en-US" sz="1600" spc="-1" strike="noStrike">
              <a:solidFill>
                <a:srgbClr val="3a566e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519" name="Picture 2" descr="C:\Users\Денис\Desktop\8.jpg"/>
          <p:cNvPicPr/>
          <p:nvPr/>
        </p:nvPicPr>
        <p:blipFill>
          <a:blip r:embed="rId1"/>
          <a:stretch/>
        </p:blipFill>
        <p:spPr>
          <a:xfrm>
            <a:off x="5675400" y="2170080"/>
            <a:ext cx="2962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214200" y="685440"/>
            <a:ext cx="5857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326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a566e"/>
                </a:solidFill>
                <a:latin typeface="Tahoma"/>
              </a:rPr>
              <a:t>Россия как евразийская держава объективно претендует на важнейшее место геополитического моста и роль активного игрока и посредника в отношениях между странами Запада и Востока. Более того, в последние годы характерной чертой активности российской дипломатии стало интенсивное развитие сотрудничества со странами Азиатско-Тихоокеанского региона, Персидского залива, Латинской Америки, Южной Африки, традиционно считавшихся сферой американских интересов. </a:t>
            </a:r>
            <a:endParaRPr b="0" lang="en-US" sz="1300" spc="-1" strike="noStrike">
              <a:solidFill>
                <a:srgbClr val="3a566e"/>
              </a:solidFill>
              <a:latin typeface="Tahoma"/>
            </a:endParaRPr>
          </a:p>
          <a:p>
            <a:pPr marL="291600" indent="-291600">
              <a:spcBef>
                <a:spcPts val="326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a566e"/>
                </a:solidFill>
                <a:latin typeface="Tahoma"/>
              </a:rPr>
              <a:t>Статус России в мировом сообществе проявляется также через ее место и роль в СНГ. Став правопреемницей бывшего Советского Союза, Россия фактически возложила на себя ответственность за будущее постсоветского пространства, обеспечение стран СНГ политической и экономической поддержкой. Благодаря своему потенциалу и авторитету, она стала консолидирующей силой для большинства бывших союзных республик, активно противодействуя попыткам внутри и извне расколоть Содружество. В сложнейших условиях Россия не раз становилась гарантом стабилизации обстановки на постсоветском пространстве. Она выступает инициатором совершенствования модели СНГ с конечной целью создания оптимальной военно-политической и экономической системы, которая должна обеспечить эффективное развитие каждого из ее участников. </a:t>
            </a:r>
            <a:endParaRPr b="0" lang="en-US" sz="1300" spc="-1" strike="noStrike">
              <a:solidFill>
                <a:srgbClr val="3a566e"/>
              </a:solidFill>
              <a:latin typeface="Tahoma"/>
            </a:endParaRPr>
          </a:p>
          <a:p>
            <a:pPr marL="291600" indent="-291600">
              <a:spcBef>
                <a:spcPts val="326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a566e"/>
                </a:solidFill>
                <a:latin typeface="Tahoma"/>
              </a:rPr>
              <a:t>Политическая значимость России подкреплена ее экономическим потенциалом, что особенно важно в условиях глобализации. Российские просторы и природные богатства всегда привлекали взоры многих стран</a:t>
            </a:r>
            <a:r>
              <a:rPr b="1" lang="ru-RU" sz="1300" spc="-1" strike="noStrike">
                <a:solidFill>
                  <a:srgbClr val="3a566e"/>
                </a:solidFill>
                <a:latin typeface="Tahoma"/>
              </a:rPr>
              <a:t>.</a:t>
            </a:r>
            <a:endParaRPr b="0" lang="en-US" sz="1300" spc="-1" strike="noStrike">
              <a:solidFill>
                <a:srgbClr val="3a566e"/>
              </a:solidFill>
              <a:latin typeface="Tahoma"/>
            </a:endParaRPr>
          </a:p>
          <a:p>
            <a:pPr marL="291600" indent="-291600">
              <a:spcBef>
                <a:spcPts val="326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521" name="Picture 3" descr="C:\Users\Денис\Desktop\69.jpg"/>
          <p:cNvPicPr/>
          <p:nvPr/>
        </p:nvPicPr>
        <p:blipFill>
          <a:blip r:embed="rId1"/>
          <a:stretch/>
        </p:blipFill>
        <p:spPr>
          <a:xfrm>
            <a:off x="5815080" y="2030400"/>
            <a:ext cx="2786040" cy="19321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2" descr="C:\Users\Денис\Desktop\Наклейка 160.png"/>
          <p:cNvPicPr/>
          <p:nvPr/>
        </p:nvPicPr>
        <p:blipFill>
          <a:blip r:embed="rId2"/>
          <a:stretch/>
        </p:blipFill>
        <p:spPr>
          <a:xfrm>
            <a:off x="7632720" y="0"/>
            <a:ext cx="15112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285840" y="713880"/>
            <a:ext cx="6286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00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a566e"/>
                </a:solidFill>
                <a:latin typeface="Tahoma"/>
              </a:rPr>
              <a:t>Россия обладает огромным природным потенциалом (около 15 - 17% мировых запасов полезных ископаемых, 25% мировых запасов леса, питьевой воды), что автоматически отводит ей значимое место в развитии мировой экономики. Она является одним из мировых лидеров в добыче и экспорте полезных ископаемых, особенно в энергетическом секторе. Это позволяет России традиционно влиять на экономику и безопасность Европы, а в последнее время значительно активизировать свою энергетическую роль и в "восточном" векторе политики. </a:t>
            </a:r>
            <a:endParaRPr b="0" lang="en-US" sz="1600" spc="-1" strike="noStrike">
              <a:solidFill>
                <a:srgbClr val="3a566e"/>
              </a:solidFill>
              <a:latin typeface="Tahoma"/>
            </a:endParaRPr>
          </a:p>
          <a:p>
            <a:pPr marL="288000" indent="-288000">
              <a:spcBef>
                <a:spcPts val="400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a566e"/>
                </a:solidFill>
                <a:latin typeface="Tahoma"/>
              </a:rPr>
              <a:t>Место России как ведущего поставщика стабильной и дешевой энергии на значительную часть Евразийского рынка усиливается ключевой ролью России в формировании единой европейской энергетической стратегии. Уже сегодня Германия обеспечивает свои потребности российским газом на 42%, Италия - на 32%, Франция - на 30%, Австрия - на 75%, а в целом его получает каждый четвертый европейский потребитель. Предполагается, что только за 15 ближайших лет объем общих поставок газа в ЕС будет удвоен. Такая же ситуация характерна и для других видов энергетического сырья</a:t>
            </a:r>
            <a:r>
              <a:rPr b="1" lang="ru-RU" sz="1600" spc="-1" strike="noStrike">
                <a:solidFill>
                  <a:srgbClr val="3a566e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3a566e"/>
              </a:solidFill>
              <a:latin typeface="Tahoma"/>
            </a:endParaRPr>
          </a:p>
          <a:p>
            <a:pPr marL="288000" indent="-288000">
              <a:spcBef>
                <a:spcPts val="400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524" name="Picture 2" descr="C:\Users\Денис\Desktop\medium.jpg"/>
          <p:cNvPicPr/>
          <p:nvPr/>
        </p:nvPicPr>
        <p:blipFill>
          <a:blip r:embed="rId1"/>
          <a:stretch/>
        </p:blipFill>
        <p:spPr>
          <a:xfrm>
            <a:off x="6205680" y="2163600"/>
            <a:ext cx="239544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285480" y="642600"/>
            <a:ext cx="600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326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a566e"/>
                </a:solidFill>
                <a:latin typeface="Tahoma"/>
              </a:rPr>
              <a:t>Толерантность России к другим народам с их культурой и традициями стала характерной чертой восприятия россиянами окружающего многоликого мира. Не подавление, а взаимное обогащение, переплетение культур определяет основной курс национальной политики России в течение многих веков. Исторически это способствовало росту влияния и авторитета России среди различных народов как европейских, так и азиатских. В условиях разрастающейся на планете религиозной конфронтации Россия как многоконфессиональное государство обретает особую миротворческую миссию, подавая остальному сообществу пример возможности единения представителей различных религиозных воззрений и культур на основе общечеловеческих ценностей. </a:t>
            </a:r>
            <a:endParaRPr b="0" lang="en-US" sz="1300" spc="-1" strike="noStrike">
              <a:solidFill>
                <a:srgbClr val="3a566e"/>
              </a:solidFill>
              <a:latin typeface="Tahoma"/>
            </a:endParaRPr>
          </a:p>
          <a:p>
            <a:pPr marL="281160" indent="-281160">
              <a:spcBef>
                <a:spcPts val="326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a566e"/>
                </a:solidFill>
                <a:latin typeface="Tahoma"/>
              </a:rPr>
              <a:t>Весь этот огромный культурный потенциал России наделяет ее важнейшей притягательной силой, позволяющей нашей стране занимать одно из центральных мест в мировой цивилизации, играть важнейшую роль в определении ее облика и пути дальнейшего развития. Чтобы не случилось, Россия уже вечна своим культурным влиянием. В этом есть заслуга не только гениев, но и всего народа в целом. </a:t>
            </a:r>
            <a:endParaRPr b="0" lang="en-US" sz="1300" spc="-1" strike="noStrike">
              <a:solidFill>
                <a:srgbClr val="3a566e"/>
              </a:solidFill>
              <a:latin typeface="Tahoma"/>
            </a:endParaRPr>
          </a:p>
          <a:p>
            <a:pPr marL="281160" indent="-281160">
              <a:spcBef>
                <a:spcPts val="326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a566e"/>
                </a:solidFill>
                <a:latin typeface="Tahoma"/>
              </a:rPr>
              <a:t>Таким образом, место и роль России в мировом сообществе нового тысячелетия определяются ее статусом евразийской державы с соответствующими интересами, возможностями и влиянием. Мощь и источники возрождения величия России кроются в недрах ее собственного пространства собственной социально-культурной традиции и собственного геополитического и геоэкономического потенциала. </a:t>
            </a:r>
            <a:endParaRPr b="0" lang="en-US" sz="1300" spc="-1" strike="noStrike">
              <a:solidFill>
                <a:srgbClr val="3a566e"/>
              </a:solidFill>
              <a:latin typeface="Tahoma"/>
            </a:endParaRPr>
          </a:p>
          <a:p>
            <a:pPr marL="281160" indent="-281160">
              <a:spcBef>
                <a:spcPts val="326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526" name="Picture 2" descr="C:\Users\Денис\Desktop\173681056.jpg"/>
          <p:cNvPicPr/>
          <p:nvPr/>
        </p:nvPicPr>
        <p:blipFill>
          <a:blip r:embed="rId1"/>
          <a:stretch/>
        </p:blipFill>
        <p:spPr>
          <a:xfrm>
            <a:off x="5937120" y="2170080"/>
            <a:ext cx="2694240" cy="20239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2" descr="C:\Users\Денис\Desktop\Наклейка 160.png"/>
          <p:cNvPicPr/>
          <p:nvPr/>
        </p:nvPicPr>
        <p:blipFill>
          <a:blip r:embed="rId2"/>
          <a:stretch/>
        </p:blipFill>
        <p:spPr>
          <a:xfrm>
            <a:off x="763272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528" name="Подзаголовок 2"/>
          <p:cNvSpPr/>
          <p:nvPr/>
        </p:nvSpPr>
        <p:spPr>
          <a:xfrm>
            <a:off x="3492360" y="6458040"/>
            <a:ext cx="27352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a0bc"/>
                </a:solidFill>
                <a:uFillTx/>
                <a:latin typeface="Tahoma"/>
                <a:hlinkClick r:id="rId3"/>
              </a:rPr>
              <a:t>Prezentacii.com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12:10:04Z</dcterms:created>
  <dc:creator>Денис</dc:creator>
  <dc:description/>
  <dc:language>en-US</dc:language>
  <cp:lastModifiedBy>Admin</cp:lastModifiedBy>
  <dcterms:modified xsi:type="dcterms:W3CDTF">2012-11-26T08:45:56Z</dcterms:modified>
  <cp:revision>12</cp:revision>
  <dc:subject/>
  <dc:title>Россия в мировом сообществе</dc:title>
</cp:coreProperties>
</file>