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E2AB-4C9A-475E-B584-CDC5CB14F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1179-4744-4365-933C-93168CBC84AB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DB38-6243-41AD-93B7-DD72E2276E67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EDE2-D52D-4049-B07B-19B4B383ECE8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D8FE-748F-45F8-A6D6-4C924A8C7ECF}" type="slidenum">
              <a:rPr b="0" lang="ru-RU" sz="1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51A-9621-4376-A51D-4F9EAACD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7A0-9240-40E8-B8BA-4ED112B8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D2710-0D6F-4F25-BB32-646F2600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2665A-F033-421B-A82E-06A6021A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F17A9-2D79-4A8F-A79D-028399C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DF86B-8D5C-4D9D-8065-9CBF2062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5167-4576-4CDE-9725-1BE5B7F2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F8E32-EC8A-4D11-9E9B-54B6347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533D4-DBE1-46F1-9943-32A3097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4448C-A1E3-4049-92F5-78919E0C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8A3C8-478E-48B9-B37E-0669311D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CC7E2-1973-458B-9882-9934FAC8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7DD-2C33-4B38-919D-D4FFFB9D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73911-D4CD-4911-B456-538055DD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74E80-E194-4E6F-9DBA-55A3C1B0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F7EF1-8CED-468F-990B-3BF7A976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5BBA8-C12C-46A8-AAFD-666A6B1E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35580-DEE5-4FC3-A06D-910C8BE9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D0AED-FD76-422E-85AA-8483BEB0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0EDC7-1B10-46B9-9FAA-7933FAE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D390B-B24E-4D1F-93DA-334F2F0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96B3E-7E90-4E81-96CE-9C49B97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1D6C1-3585-4A1F-9582-DBE50457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A81-6E83-4634-B32C-57360D6B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3884B-8CE6-4D52-A405-2435734F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010DE-A23C-4646-A474-BE6CAC26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E2649-20DF-4EA8-AC2E-DB8BFC4B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751DA-B6A9-43EE-899E-5510A9B2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892F2-D9FD-4021-93BC-E2FB4815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66ED-D90E-4253-A08E-C10D3467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4F130-4EAF-436D-873E-005CADD2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C70F-EA2C-4677-AA82-E698638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B04DE-F5F1-48D0-AABF-BBE13C63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4DE24-E060-4D08-BEF5-A55E738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1A22-4ED3-4A69-B996-84238E57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5593-9415-43DC-BDA7-D87D1159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455B2-F8B0-4829-ACA8-C486F3F7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93B0D-5F99-4895-9C69-CCD50671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3ED7-0E33-459D-9B7A-884799CE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5CFA7-F2D2-4D8B-956E-19B2DC71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20D1C-6832-4C41-8462-B1DA703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052A-6DCA-481D-BBB6-B5931F1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13BCC-D8C0-48B7-806D-7C9270BC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91CE0-88EE-4B97-8DAD-8ABBB12A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D34DB-947A-420C-AEAA-67538E2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5594-7A01-4671-A185-ADF939A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02624-A594-450B-926F-6790BEF9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84050-4804-4546-8157-7F7060C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1A369-8A7A-426D-9BB6-179FA2A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B1988-D131-43FA-9D9F-EF3BCC7E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D30C3-1418-467F-ACB4-743FC7CA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396C-D486-4C8A-8BAE-91D8286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0DBA-1571-4FA2-9C24-4072BC84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4FD-DCA9-4333-B65C-10B117A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FA89-A6D7-4101-AADC-8C816F3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34A9-0E5C-4423-8C14-ED838B7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1ED-9386-484B-9E98-73A6B2B0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6414-F59C-481C-92B7-4920F191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5740-0888-415B-8064-CBA01FE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1552-B53A-437B-A754-25975203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F430-F7B2-4106-B754-BCD13188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9DD7-3A11-4BFC-BBE3-CFCAA1AD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20CA-4C62-42E4-ADB0-86F092F0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D0EA-D338-4558-B68D-E4BC7283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DE67-3B12-4040-AB2F-C0E6765B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780E-FC48-4579-A580-53348B4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A5B0-E2D1-4316-A054-807866CD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ADC-7347-40E8-A13F-649D18F1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3A0C-FE50-4E1D-8B55-ADBE5759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1150-59C4-400C-A66B-F1337B7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5FD4-1988-4F46-8EE5-A7B11AF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9DAAC-5D1F-4105-A2B4-F866E06A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D334-C98C-4EB7-9B60-7BBDB50D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518D-BB51-4AEB-9AEA-69977F06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C562-EAD4-4E20-BC72-B5257211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A51A-CB51-4831-A0F6-D1D33CED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D692-F313-4DBD-B1D1-B55BEB1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8AF79-4641-4817-B9EE-AA81314F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7A5-C42F-4EAA-BFC7-786A27D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0286-E32C-4CA5-8AD6-65ECA16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8E96-0FA7-489F-A7C5-CAB6B52C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3817-A507-40B1-90A8-3F550D0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56AB-FD95-4717-9288-D6BCE80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2319-5F64-4FB2-AD5C-6220FA2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D0B7-8E3F-4953-B8AD-7F3116C1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9B68-FFB3-46D0-A1BF-D379DA1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2B309-B69C-4CED-BFCF-20B7F700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3403-0460-4D0C-B440-13C1AF9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BD04-C39F-424C-A065-F4B66F07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D23-3A2D-495E-B697-AE42729A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5204-E7CE-4C6C-B1FE-688B48C4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FB1BB-7A3F-4E71-863A-BE51D86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7843A-6937-435E-9947-08336E0E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689E-8EA2-4AD2-9892-8ED014C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42F8-CAC6-4039-B0B3-9B644AC3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6D00-E9D3-49E1-A643-57DE8A4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6275D-8BF5-4591-A3ED-744F778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67CB-DD11-47E0-B276-E98FF7D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D2C95-4467-4703-9970-8CE77DF6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BBAAB-6FFF-40E1-B5F2-08AD5D21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3A2-9E6A-4446-8362-560A365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21C4-F66B-4E67-BDE9-549A63DC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EBE17-2CE8-4B4B-8905-D04FE5BD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D332-B50A-4CA3-98E4-AADE808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2DF3-B379-4B41-952F-90EA81C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ADB7-080D-4680-BA05-203033A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C9753-6BCD-4A6B-9F99-6209B0C5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3680-CD38-4A4E-9C58-1DF0B15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2C4F-A9EB-40AD-8FE6-A6BC6C73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5BE8B-8E9B-4D94-B3C9-87CD9F4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F37F7-023D-4E25-9E85-73E4D6B5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3F0-2DE5-48AE-B23B-4A6B6B7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2D924-9835-4FF4-981E-08BF99D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20E19-F370-4701-B50D-47955B47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9252-06D9-45F1-9589-9F170563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DCFD-E824-4A2C-87CC-D9B439FD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8C9C2-876B-4087-B3C0-9E78BCF6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851F3-F459-4EFD-9A95-1B12C882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B793-2409-408E-BD43-F794539A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BCBE-26E7-4CB4-B0B8-B1EC6309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6576D-8B16-49B2-A1C8-17D2EFF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CE28C-C0F0-469A-A5F0-2A54832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D12-46DD-4B2A-8E49-BCA4768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33119-2E82-4FBB-94E4-FB3F0A67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40B79-ABBA-4046-9A75-1D18AF5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74E2-7D22-418E-BF5C-258304EA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2152D-CE53-4CB3-9920-4F521EF7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F0BE-7A08-4CA3-86B4-34B95A6D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6BD2-431E-4CE7-8F71-77F0EB88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F981A-88B1-4208-8212-56A8E82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572B-DF41-4874-A2A0-7719D522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7BD54-957B-4C50-B525-5D69FC1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4047-563D-4E95-BDB6-9076A9BD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632-2D53-484A-ACFB-34038668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579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0DF6-9756-44BA-AB53-A98E9B8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F2523-16B8-460E-8638-5BF2458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70DC-700E-43AB-A950-FCED471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2875-7C5F-47CA-AD6D-F10F403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348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4210E-D772-4493-A364-C540E59D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348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F9AA-8C5D-444A-BA0A-FA0AC206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348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ACC5-774E-4B70-BCC2-4FA07610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4C10C-6022-4B48-AA85-1145004D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D2756-DFAB-4EAF-B98D-0F3F2C90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17913-CCA3-4BA3-B39F-3E2D8B7C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2104-1BA2-49A1-8E4A-CF87B1FA1834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165D-DBEC-487F-8642-E9C10CC45435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5B5C-DC07-4B6E-AECE-111FDB20CEC8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2C7-5AB1-40FE-B262-5CBCC0453EF9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F12C-C20A-4739-AE01-CBB3A2615406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6730-1676-4519-BE9A-AC3601455295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26B8-5D28-4BE4-BF71-A58E88801F82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7A95-5F8D-415D-869E-84D93DAA6DA7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935-8CE8-45E5-A800-DF1606303272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FB74-5D88-43B5-A433-340B81D8D6F9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DF5-9868-4F16-8513-CF3B7ED27134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a566e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3" marL="1600200" indent="-228600">
              <a:spcBef>
                <a:spcPts val="751"/>
              </a:spcBef>
              <a:buClr>
                <a:srgbClr val="3a566e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4" marL="2057400" indent="-228600">
              <a:spcBef>
                <a:spcPts val="751"/>
              </a:spcBef>
              <a:buClr>
                <a:srgbClr val="3a566e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5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  <a:p>
            <a:pPr lvl="6" marL="2057400" indent="-228600">
              <a:spcBef>
                <a:spcPts val="7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a566e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3a566e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566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a566e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82AE-C90E-4AED-B7A0-871943B00E81}" type="slidenum">
              <a:rPr b="0" lang="en-US" sz="1200" spc="-1" strike="noStrike">
                <a:solidFill>
                  <a:srgbClr val="3a566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21640" cy="49896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7280" y="58680"/>
            <a:ext cx="8856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Tahoma"/>
              </a:rPr>
              <a:t>Россия в мировом сообществе</a:t>
            </a:r>
            <a:endParaRPr b="0" lang="en-US" sz="3800" spc="-1" strike="noStrike">
              <a:solidFill>
                <a:srgbClr val="3a566e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85840" y="68544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При определении места и роли России в мировом сообществе и в мировой политике важно учитывать основные тенденции, действующие в современном мире: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1. Укрепление экономических и политических позиций значительного числа государств и их интеграционных объединений, развитие глобализации, совершенствование механизмов многостороннего управления международными процессами, формирование многополярного мира. При этом все более значительную роль играют экономические, политические, научно-технические, экологические и информационные факторы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2. Усиление стремления к созданию системы международных отношений, основанной на доминировании в мире развитых западных стран при лидерстве США, рассчитанной на односторонние, прежде всего военно-силовые, решения ключевых проблем мировой политики в обход норм международного права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3. Возрастание конкурентной борьбы в мире за перераспределение и контроль над сырьевыми ресурсами планеты, стремление ряда государств усилить свое влияние на мировую политику, в том числе путем создания оружия массового уничтожения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Все эти процессы не могут обойти стороной Россию - крупнейшую державу мира, всегда игравшую огромную роль в мировой политике. Этому способствует ее политический, экономический, духовный и военный потенциал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4" name="Picture 3" descr="C:\Users\Денис\Desktop\1880346.jpg"/>
          <p:cNvPicPr/>
          <p:nvPr/>
        </p:nvPicPr>
        <p:blipFill>
          <a:blip r:embed="rId1"/>
          <a:stretch/>
        </p:blipFill>
        <p:spPr>
          <a:xfrm>
            <a:off x="6692760" y="1889280"/>
            <a:ext cx="1847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285840" y="685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В политическом плане Россия выступает державой с многовекторными глобальными интересами и общепризнанным международным авторитетом. Являясь постоянным членом Совета Безопасности (СБ) ООН, представителем других влиятельных международных организаций, она активно участвует в развитии и укреплении на демократической основе содружества наций, реформировании модели международных отношений в соответствии с новыми политическими реалиями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a566e"/>
                </a:solidFill>
                <a:latin typeface="Tahoma"/>
              </a:rPr>
              <a:t>Принципиальным показателем положения России в мировом сообществе остается состояние и уровень ее отношений с США как наиболее могущественным государством мира. Трагические события 11 сентября 2001 года сблизили интересы двух стран, прежде всего в сфере решения глобальных проблем, борьбы с новыми вызовами и угрозами национальной и международной безопасности. В то же время многие факты и события международной политики в наступившем тысячелетии свидетельствуют, что в отличие от 90-х годов XX века Россия не только не следует в фарватере американской политики, но и стремится отстаивать свои интересы, выстраивать свою линию поведения, которая, как показывает ситуация с Афганистаном, Ираком, Ираном и т.д., более реалистична и продумана. Все это не исключает столкновения интересов, противоборства между двумя державами и свидетельствует о росте мощи России и возрастании проблем у США с установлением однополярного мира. </a:t>
            </a: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  <a:p>
            <a:pPr marL="284400" indent="-284400">
              <a:spcBef>
                <a:spcPts val="34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6" name="Picture 2" descr="C:\Users\Денис\Desktop\flagrususa.jpg"/>
          <p:cNvPicPr/>
          <p:nvPr/>
        </p:nvPicPr>
        <p:blipFill>
          <a:blip r:embed="rId1"/>
          <a:stretch/>
        </p:blipFill>
        <p:spPr>
          <a:xfrm>
            <a:off x="6461280" y="2200320"/>
            <a:ext cx="2133360" cy="1341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6840" y="785520"/>
            <a:ext cx="590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В своем стремлении к многополярному миру Россия не одинока и находит все больше поддержки среди ведущих стран Европы, что обусловило одну из политических причин усиления ее популярности в европейском сообществе. Более того, участие и позиция России в различных европейских форумах усиливает значимость всей Европы в глобальных процессах</a:t>
            </a:r>
            <a:r>
              <a:rPr b="1" lang="ru-RU" sz="16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Параллельно с развитием новых отношений со странами Запада, Россия активизировала свои отношения со странами Востока. Наша страна стремится вернуть себе былой авторитет и строить взаимовыгодные отношения с крупнейшими государствами этого региона. В свою очередь, ряд наиболее динамично развивающихся стран Азии нуждаются в политической и экономической поддержке России, что усиливает их международный статуе. Например, за последние 15 лет только между Россией и КНР подписано более 180 соглашений. В 2006 г. в Китае прошел Год России, а 2007 год объявлен Годом Китая в России. 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19" name="Picture 2" descr="C:\Users\Денис\Desktop\8.jpg"/>
          <p:cNvPicPr/>
          <p:nvPr/>
        </p:nvPicPr>
        <p:blipFill>
          <a:blip r:embed="rId1"/>
          <a:stretch/>
        </p:blipFill>
        <p:spPr>
          <a:xfrm>
            <a:off x="5675400" y="2170080"/>
            <a:ext cx="2962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214200" y="685440"/>
            <a:ext cx="58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Россия как евразийская держава объективно претендует на важнейшее место геополитического моста и роль активного игрока и посредника в отношениях между странами Запада и Востока. Более того, в последние годы характерной чертой активности российской дипломатии стало интенсивное развитие сотрудничества со странами Азиатско-Тихоокеанского региона, Персидского залива, Латинской Америки, Южной Африки, традиционно считавшихся сферой американских интересов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Статус России в мировом сообществе проявляется также через ее место и роль в СНГ. Став правопреемницей бывшего Советского Союза, Россия фактически возложила на себя ответственность за будущее постсоветского пространства, обеспечение стран СНГ политической и экономической поддержкой. Благодаря своему потенциалу и авторитету, она стала консолидирующей силой для большинства бывших союзных республик, активно противодействуя попыткам внутри и извне расколоть Содружество. В сложнейших условиях Россия не раз становилась гарантом стабилизации обстановки на постсоветском пространстве. Она выступает инициатором совершенствования модели СНГ с конечной целью создания оптимальной военно-политической и экономической системы, которая должна обеспечить эффективное развитие каждого из ее участников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Политическая значимость России подкреплена ее экономическим потенциалом, что особенно важно в условиях глобализации. Российские просторы и природные богатства всегда привлекали взоры многих стран</a:t>
            </a:r>
            <a:r>
              <a:rPr b="1" lang="ru-RU" sz="13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91600" indent="-29160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1" name="Picture 3" descr="C:\Users\Денис\Desktop\69.jpg"/>
          <p:cNvPicPr/>
          <p:nvPr/>
        </p:nvPicPr>
        <p:blipFill>
          <a:blip r:embed="rId1"/>
          <a:stretch/>
        </p:blipFill>
        <p:spPr>
          <a:xfrm>
            <a:off x="5815080" y="2030400"/>
            <a:ext cx="2786040" cy="19321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285840" y="713880"/>
            <a:ext cx="628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Россия обладает огромным природным потенциалом (около 15 - 17% мировых запасов полезных ископаемых, 25% мировых запасов леса, питьевой воды), что автоматически отводит ей значимое место в развитии мировой экономики. Она является одним из мировых лидеров в добыче и экспорте полезных ископаемых, особенно в энергетическом секторе. Это позволяет России традиционно влиять на экономику и безопасность Европы, а в последнее время значительно активизировать свою энергетическую роль и в "восточном" векторе политики. 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a566e"/>
                </a:solidFill>
                <a:latin typeface="Tahoma"/>
              </a:rPr>
              <a:t>Место России как ведущего поставщика стабильной и дешевой энергии на значительную часть Евразийского рынка усиливается ключевой ролью России в формировании единой европейской энергетической стратегии. Уже сегодня Германия обеспечивает свои потребности российским газом на 42%, Италия - на 32%, Франция - на 30%, Австрия - на 75%, а в целом его получает каждый четвертый европейский потребитель. Предполагается, что только за 15 ближайших лет объем общих поставок газа в ЕС будет удвоен. Такая же ситуация характерна и для других видов энергетического сырья</a:t>
            </a:r>
            <a:r>
              <a:rPr b="1" lang="ru-RU" sz="1600" spc="-1" strike="noStrike">
                <a:solidFill>
                  <a:srgbClr val="3a566e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  <a:p>
            <a:pPr marL="288000" indent="-288000">
              <a:spcBef>
                <a:spcPts val="400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4" name="Picture 2" descr="C:\Users\Денис\Desktop\medium.jpg"/>
          <p:cNvPicPr/>
          <p:nvPr/>
        </p:nvPicPr>
        <p:blipFill>
          <a:blip r:embed="rId1"/>
          <a:stretch/>
        </p:blipFill>
        <p:spPr>
          <a:xfrm>
            <a:off x="6205680" y="2163600"/>
            <a:ext cx="23954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5480" y="642600"/>
            <a:ext cx="600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Толерантность России к другим народам с их культурой и традициями стала характерной чертой восприятия россиянами окружающего многоликого мира. Не подавление, а взаимное обогащение, переплетение культур определяет основной курс национальной политики России в течение многих веков. Исторически это способствовало росту влияния и авторитета России среди различных народов как европейских, так и азиатских. В условиях разрастающейся на планете религиозной конфронтации Россия как многоконфессиональное государство обретает особую миротворческую миссию, подавая остальному сообществу пример возможности единения представителей различных религиозных воззрений и культур на основе общечеловеческих ценностей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Весь этот огромный культурный потенциал России наделяет ее важнейшей притягательной силой, позволяющей нашей стране занимать одно из центральных мест в мировой цивилизации, играть важнейшую роль в определении ее облика и пути дальнейшего развития. Чтобы не случилось, Россия уже вечна своим культурным влиянием. В этом есть заслуга не только гениев, но и всего народа в целом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a566e"/>
                </a:solidFill>
                <a:latin typeface="Tahoma"/>
              </a:rPr>
              <a:t>Таким образом, место и роль России в мировом сообществе нового тысячелетия определяются ее статусом евразийской державы с соответствующими интересами, возможностями и влиянием. Мощь и источники возрождения величия России кроются в недрах ее собственного пространства собственной социально-культурной традиции и собственного геополитического и геоэкономического потенциала. </a:t>
            </a: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  <a:p>
            <a:pPr marL="281160" indent="-281160">
              <a:spcBef>
                <a:spcPts val="326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566e"/>
              </a:solidFill>
              <a:latin typeface="Tahoma"/>
            </a:endParaRPr>
          </a:p>
        </p:txBody>
      </p:sp>
      <p:pic>
        <p:nvPicPr>
          <p:cNvPr id="526" name="Picture 2" descr="C:\Users\Денис\Desktop\173681056.jpg"/>
          <p:cNvPicPr/>
          <p:nvPr/>
        </p:nvPicPr>
        <p:blipFill>
          <a:blip r:embed="rId1"/>
          <a:stretch/>
        </p:blipFill>
        <p:spPr>
          <a:xfrm>
            <a:off x="5937120" y="2170080"/>
            <a:ext cx="2694240" cy="2023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C:\Users\Денис\Desktop\Наклейка 160.png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28" name="Подзаголовок 2"/>
          <p:cNvSpPr/>
          <p:nvPr/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66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a0bc"/>
                </a:solidFill>
                <a:uFillTx/>
                <a:latin typeface="Tahoma"/>
                <a:hlinkClick r:id="rId3"/>
              </a:rPr>
              <a:t>Prezentacii.co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2:10:04Z</dcterms:created>
  <dc:creator>Денис</dc:creator>
  <dc:description/>
  <dc:language>en-US</dc:language>
  <cp:lastModifiedBy>Admin</cp:lastModifiedBy>
  <dcterms:modified xsi:type="dcterms:W3CDTF">2012-11-26T08:45:56Z</dcterms:modified>
  <cp:revision>12</cp:revision>
  <dc:subject/>
  <dc:title>Россия в мировом сообществе</dc:title>
</cp:coreProperties>
</file>