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186-54DE-42EE-9EA9-6604928F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F14-47C7-4AA8-B39E-DC87A601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7AF-FED9-4483-BA9D-295EE9EA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44B-6BD3-4E4B-B126-4555B899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BCD-BEDF-4AE5-88C1-7F3AF69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72B-BAA0-480E-98B4-D4D4B89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BDB-C2E8-4BC4-BE08-6F68DBB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5AD-ABC5-4CA6-8B40-A4EEFCD9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A23-FCE5-431B-B608-F34E0A3C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541-762F-488E-ABA6-E94EF98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5641-F4BE-4B00-9B4B-5599B99C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E3B-749E-4E10-9297-3C63B4F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3A8-3923-4301-AF22-7D80209B0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87280" y="765000"/>
            <a:ext cx="7056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асных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туаций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орогах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3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4" descr=""/>
          <p:cNvPicPr/>
          <p:nvPr/>
        </p:nvPicPr>
        <p:blipFill>
          <a:blip r:embed="rId1"/>
          <a:stretch/>
        </p:blipFill>
        <p:spPr>
          <a:xfrm>
            <a:off x="-231840" y="1500120"/>
            <a:ext cx="9588600" cy="264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285840"/>
            <a:ext cx="7000920" cy="542916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6"/>
          <p:cNvGrpSpPr/>
          <p:nvPr/>
        </p:nvGrpSpPr>
        <p:grpSpPr>
          <a:xfrm>
            <a:off x="7047000" y="665280"/>
            <a:ext cx="1427040" cy="1066680"/>
            <a:chOff x="7047000" y="665280"/>
            <a:chExt cx="1427040" cy="1066680"/>
          </a:xfrm>
        </p:grpSpPr>
        <p:pic>
          <p:nvPicPr>
            <p:cNvPr id="6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047000" y="665280"/>
              <a:ext cx="1427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7286760" y="785880"/>
              <a:ext cx="100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TextBox 7"/>
          <p:cNvGrpSpPr/>
          <p:nvPr/>
        </p:nvGrpSpPr>
        <p:grpSpPr>
          <a:xfrm>
            <a:off x="219240" y="5389560"/>
            <a:ext cx="8918280" cy="1139760"/>
            <a:chOff x="219240" y="5389560"/>
            <a:chExt cx="8918280" cy="1139760"/>
          </a:xfrm>
        </p:grpSpPr>
        <p:pic>
          <p:nvPicPr>
            <p:cNvPr id="65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389560"/>
              <a:ext cx="89182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0040" y="5643720"/>
              <a:ext cx="835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озможен ли переход в этом мест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5500800"/>
          </a:xfrm>
          <a:prstGeom prst="rect">
            <a:avLst/>
          </a:prstGeom>
          <a:ln w="0">
            <a:noFill/>
          </a:ln>
        </p:spPr>
      </p:pic>
      <p:grpSp>
        <p:nvGrpSpPr>
          <p:cNvPr id="68" name="TextBox 4"/>
          <p:cNvGrpSpPr/>
          <p:nvPr/>
        </p:nvGrpSpPr>
        <p:grpSpPr>
          <a:xfrm>
            <a:off x="579600" y="5462640"/>
            <a:ext cx="7845120" cy="1133280"/>
            <a:chOff x="579600" y="5462640"/>
            <a:chExt cx="7845120" cy="1133280"/>
          </a:xfrm>
        </p:grpSpPr>
        <p:pic>
          <p:nvPicPr>
            <p:cNvPr id="69" name="TextBox 4" descr=""/>
            <p:cNvPicPr/>
            <p:nvPr/>
          </p:nvPicPr>
          <p:blipFill>
            <a:blip r:embed="rId2"/>
            <a:stretch/>
          </p:blipFill>
          <p:spPr>
            <a:xfrm>
              <a:off x="579600" y="5462640"/>
              <a:ext cx="784512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57160" y="5715000"/>
              <a:ext cx="72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то является нарушителем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TextBox 5"/>
          <p:cNvGrpSpPr/>
          <p:nvPr/>
        </p:nvGrpSpPr>
        <p:grpSpPr>
          <a:xfrm>
            <a:off x="122400" y="517680"/>
            <a:ext cx="1425240" cy="1066680"/>
            <a:chOff x="122400" y="517680"/>
            <a:chExt cx="1425240" cy="1066680"/>
          </a:xfrm>
        </p:grpSpPr>
        <p:pic>
          <p:nvPicPr>
            <p:cNvPr id="72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2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7120" y="642960"/>
              <a:ext cx="107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8" descr="D:\Документы\Мама\ПДД\рисунки ПДД\Правила безопасного поведения в любом транспортном средс (6).JPG"/>
          <p:cNvPicPr/>
          <p:nvPr/>
        </p:nvPicPr>
        <p:blipFill>
          <a:blip r:embed="rId1"/>
          <a:stretch/>
        </p:blipFill>
        <p:spPr>
          <a:xfrm>
            <a:off x="0" y="0"/>
            <a:ext cx="6572160" cy="5214960"/>
          </a:xfrm>
          <a:prstGeom prst="rect">
            <a:avLst/>
          </a:prstGeom>
          <a:ln w="0">
            <a:noFill/>
          </a:ln>
        </p:spPr>
      </p:pic>
      <p:grpSp>
        <p:nvGrpSpPr>
          <p:cNvPr id="75" name="Прямоугольник 4"/>
          <p:cNvGrpSpPr/>
          <p:nvPr/>
        </p:nvGrpSpPr>
        <p:grpSpPr>
          <a:xfrm>
            <a:off x="146160" y="4889520"/>
            <a:ext cx="9064440" cy="2120760"/>
            <a:chOff x="146160" y="4889520"/>
            <a:chExt cx="9064440" cy="2120760"/>
          </a:xfrm>
        </p:grpSpPr>
        <p:pic>
          <p:nvPicPr>
            <p:cNvPr id="76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46160" y="4889520"/>
              <a:ext cx="906444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28760" y="5143680"/>
              <a:ext cx="8501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ожет ли пассажир совершать  высадку из транспортного средства в данном случае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TextBox 5"/>
          <p:cNvGrpSpPr/>
          <p:nvPr/>
        </p:nvGrpSpPr>
        <p:grpSpPr>
          <a:xfrm>
            <a:off x="6546960" y="444600"/>
            <a:ext cx="1444680" cy="1073160"/>
            <a:chOff x="6546960" y="444600"/>
            <a:chExt cx="1444680" cy="1073160"/>
          </a:xfrm>
        </p:grpSpPr>
        <p:pic>
          <p:nvPicPr>
            <p:cNvPr id="79" name="TextBox 5" descr=""/>
            <p:cNvPicPr/>
            <p:nvPr/>
          </p:nvPicPr>
          <p:blipFill>
            <a:blip r:embed="rId3"/>
            <a:stretch/>
          </p:blipFill>
          <p:spPr>
            <a:xfrm>
              <a:off x="6546960" y="444600"/>
              <a:ext cx="144468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786720" y="571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D:\Документы\Мама\ПДД\рисунки ПДД\Причины транспортных аварий (причина 1).JPG"/>
          <p:cNvPicPr/>
          <p:nvPr/>
        </p:nvPicPr>
        <p:blipFill>
          <a:blip r:embed="rId1"/>
          <a:stretch/>
        </p:blipFill>
        <p:spPr>
          <a:xfrm>
            <a:off x="1571760" y="214200"/>
            <a:ext cx="69944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Прямоугольник 4"/>
          <p:cNvGrpSpPr/>
          <p:nvPr/>
        </p:nvGrpSpPr>
        <p:grpSpPr>
          <a:xfrm>
            <a:off x="719280" y="5315040"/>
            <a:ext cx="8150040" cy="1141200"/>
            <a:chOff x="719280" y="5315040"/>
            <a:chExt cx="8150040" cy="1141200"/>
          </a:xfrm>
        </p:grpSpPr>
        <p:pic>
          <p:nvPicPr>
            <p:cNvPr id="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719280" y="5315040"/>
              <a:ext cx="815004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30320" y="5572080"/>
              <a:ext cx="752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акую ошибку допускает пассажир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TextBox 5"/>
          <p:cNvGrpSpPr/>
          <p:nvPr/>
        </p:nvGrpSpPr>
        <p:grpSpPr>
          <a:xfrm>
            <a:off x="122400" y="517680"/>
            <a:ext cx="1438200" cy="1066680"/>
            <a:chOff x="122400" y="517680"/>
            <a:chExt cx="1438200" cy="1066680"/>
          </a:xfrm>
        </p:grpSpPr>
        <p:pic>
          <p:nvPicPr>
            <p:cNvPr id="86" name="TextBox 5" descr=""/>
            <p:cNvPicPr/>
            <p:nvPr/>
          </p:nvPicPr>
          <p:blipFill>
            <a:blip r:embed="rId3"/>
            <a:stretch/>
          </p:blipFill>
          <p:spPr>
            <a:xfrm>
              <a:off x="122400" y="517680"/>
              <a:ext cx="14382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357120" y="6429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3"/>
          <p:cNvSpPr/>
          <p:nvPr/>
        </p:nvSpPr>
        <p:spPr>
          <a:xfrm>
            <a:off x="0" y="476280"/>
            <a:ext cx="9144000" cy="4968720"/>
          </a:xfrm>
          <a:prstGeom prst="wedgeEllipseCallout">
            <a:avLst>
              <a:gd name="adj1" fmla="val -32240"/>
              <a:gd name="adj2" fmla="val 757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2"/>
          <p:cNvSpPr txBox="1"/>
          <p:nvPr/>
        </p:nvSpPr>
        <p:spPr>
          <a:xfrm>
            <a:off x="900000" y="1628640"/>
            <a:ext cx="7417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дороге должен каждый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авила движенья знать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, конечно, очень важн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х, ребята, выполнять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0" name="Picture 4" descr="image007"/>
          <p:cNvPicPr/>
          <p:nvPr/>
        </p:nvPicPr>
        <p:blipFill>
          <a:blip r:embed="rId1"/>
          <a:stretch/>
        </p:blipFill>
        <p:spPr>
          <a:xfrm>
            <a:off x="4067280" y="4797360"/>
            <a:ext cx="1819080" cy="17622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298440" y="1603440"/>
            <a:ext cx="4475160" cy="4846680"/>
          </a:xfrm>
          <a:prstGeom prst="rect">
            <a:avLst/>
          </a:prstGeom>
          <a:ln w="0">
            <a:noFill/>
          </a:ln>
        </p:spPr>
      </p:pic>
      <p:grpSp>
        <p:nvGrpSpPr>
          <p:cNvPr id="92" name="Rectangle 5"/>
          <p:cNvGrpSpPr/>
          <p:nvPr/>
        </p:nvGrpSpPr>
        <p:grpSpPr>
          <a:xfrm>
            <a:off x="5010120" y="1420920"/>
            <a:ext cx="3841920" cy="4894200"/>
            <a:chOff x="5010120" y="1420920"/>
            <a:chExt cx="3841920" cy="4894200"/>
          </a:xfrm>
        </p:grpSpPr>
        <p:pic>
          <p:nvPicPr>
            <p:cNvPr id="93" name="Rectangle 5" descr=""/>
            <p:cNvPicPr/>
            <p:nvPr/>
          </p:nvPicPr>
          <p:blipFill>
            <a:blip r:embed="rId2"/>
            <a:stretch/>
          </p:blipFill>
          <p:spPr>
            <a:xfrm>
              <a:off x="5010120" y="1420920"/>
              <a:ext cx="384192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081760" y="1557720"/>
              <a:ext cx="371448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еловек, управляющий транспортным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ёплая погода (зимой, ранней весной) с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таянием снега,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стройство для остановки транспортного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ред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амёрзшая вода, очень опасная для движения  транспорта и пешеход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Зимний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ждь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»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мешающий участникам 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показывает стрелка спидометра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года, когда опавшие листья удлиняют  тормозной пу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ма это используют в пищу, а на улице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—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для таяния ль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то спасает от дождя, но мешает видеть</a:t>
              </a:r>
              <a:br>
                <a:rPr sz="1400"/>
              </a:b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дорогу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ремя суток, когда участники движения очень плохо видят друг друг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Calibri"/>
                <a:buAutoNum type="arabicPeriod"/>
                <a:tabLst>
                  <a:tab algn="l" pos="304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Частое явление природы, ухудшающее обстановку на дорог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xtBox 7"/>
          <p:cNvGrpSpPr/>
          <p:nvPr/>
        </p:nvGrpSpPr>
        <p:grpSpPr>
          <a:xfrm>
            <a:off x="231840" y="85680"/>
            <a:ext cx="5315040" cy="1560600"/>
            <a:chOff x="231840" y="85680"/>
            <a:chExt cx="5315040" cy="1560600"/>
          </a:xfrm>
        </p:grpSpPr>
        <p:pic>
          <p:nvPicPr>
            <p:cNvPr id="96" name="TextBox 7" descr=""/>
            <p:cNvPicPr/>
            <p:nvPr/>
          </p:nvPicPr>
          <p:blipFill>
            <a:blip r:embed="rId3"/>
            <a:stretch/>
          </p:blipFill>
          <p:spPr>
            <a:xfrm>
              <a:off x="231840" y="85680"/>
              <a:ext cx="53150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8520" y="285840"/>
              <a:ext cx="4984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349105"/>
                  </a:solidFill>
                  <a:latin typeface="Arial"/>
                </a:rPr>
                <a:t>КРОССВОРД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684360" y="620640"/>
            <a:ext cx="432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о городу, по улице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е ходят просто так: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132000" y="3860640"/>
            <a:ext cx="5472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огда не знаешь правила,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гко попасть впросак.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Picture 7" descr="image009"/>
          <p:cNvPicPr/>
          <p:nvPr/>
        </p:nvPicPr>
        <p:blipFill>
          <a:blip r:embed="rId1"/>
          <a:stretch/>
        </p:blipFill>
        <p:spPr>
          <a:xfrm>
            <a:off x="5724360" y="765000"/>
            <a:ext cx="198144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mage011"/>
          <p:cNvPicPr/>
          <p:nvPr/>
        </p:nvPicPr>
        <p:blipFill>
          <a:blip r:embed="rId2"/>
          <a:stretch/>
        </p:blipFill>
        <p:spPr>
          <a:xfrm>
            <a:off x="900000" y="3500280"/>
            <a:ext cx="1559160" cy="1729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Причины опасных ситуаций на дорогах (1)"/>
          <p:cNvPicPr/>
          <p:nvPr/>
        </p:nvPicPr>
        <p:blipFill>
          <a:blip r:embed="rId1"/>
          <a:stretch/>
        </p:blipFill>
        <p:spPr>
          <a:xfrm>
            <a:off x="1908000" y="476280"/>
            <a:ext cx="5402520" cy="43178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7" name="WordArt 7"/>
          <p:cNvSpPr txBox="1"/>
          <p:nvPr/>
        </p:nvSpPr>
        <p:spPr>
          <a:xfrm>
            <a:off x="1187280" y="522936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ВНИМАТЕЛЬ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УЧАСТНИКОВ ДВИ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Причины опасных ситуаций на дорогах (2)"/>
          <p:cNvPicPr/>
          <p:nvPr/>
        </p:nvPicPr>
        <p:blipFill>
          <a:blip r:embed="rId1"/>
          <a:stretch/>
        </p:blipFill>
        <p:spPr>
          <a:xfrm>
            <a:off x="1692360" y="404640"/>
            <a:ext cx="5402160" cy="43196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49" name="WordArt 7"/>
          <p:cNvSpPr txBox="1"/>
          <p:nvPr/>
        </p:nvSpPr>
        <p:spPr>
          <a:xfrm>
            <a:off x="1042920" y="5300640"/>
            <a:ext cx="66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ЛОХИЕ ПОГОДНЫЕ УСЛОВ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ричины опасных ситуаций на дорогах (3)"/>
          <p:cNvPicPr/>
          <p:nvPr/>
        </p:nvPicPr>
        <p:blipFill>
          <a:blip r:embed="rId1"/>
          <a:stretch/>
        </p:blipFill>
        <p:spPr>
          <a:xfrm>
            <a:off x="1763640" y="333360"/>
            <a:ext cx="5545080" cy="443376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1" name="WordArt 5"/>
          <p:cNvSpPr txBox="1"/>
          <p:nvPr/>
        </p:nvSpPr>
        <p:spPr>
          <a:xfrm>
            <a:off x="1116000" y="5157720"/>
            <a:ext cx="705636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РУШ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АВИЛ ДОРОЖ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ДВИЖЕНИЯ ПЕШЕХОД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ричины опасных ситуаций на дорогах (4)"/>
          <p:cNvPicPr/>
          <p:nvPr/>
        </p:nvPicPr>
        <p:blipFill>
          <a:blip r:embed="rId1"/>
          <a:stretch/>
        </p:blipFill>
        <p:spPr>
          <a:xfrm>
            <a:off x="1692360" y="260280"/>
            <a:ext cx="5688000" cy="454824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3" name="WordArt 4"/>
          <p:cNvSpPr txBox="1"/>
          <p:nvPr/>
        </p:nvSpPr>
        <p:spPr>
          <a:xfrm>
            <a:off x="1763640" y="5373720"/>
            <a:ext cx="51847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ОЛОМКА ТРАНСПОР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Причины опасных ситуаций на дорогах (5)"/>
          <p:cNvPicPr/>
          <p:nvPr/>
        </p:nvPicPr>
        <p:blipFill>
          <a:blip r:embed="rId1"/>
          <a:stretch/>
        </p:blipFill>
        <p:spPr>
          <a:xfrm>
            <a:off x="1692360" y="404640"/>
            <a:ext cx="5829120" cy="466092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5" name="WordArt 4"/>
          <p:cNvSpPr txBox="1"/>
          <p:nvPr/>
        </p:nvSpPr>
        <p:spPr>
          <a:xfrm>
            <a:off x="755640" y="5445000"/>
            <a:ext cx="767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ЕУДОВЛЕТВОРИТЕЛЬ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ОЯНИЕ ДОР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Причины опасных ситуаций на дорогах (6)"/>
          <p:cNvPicPr/>
          <p:nvPr/>
        </p:nvPicPr>
        <p:blipFill>
          <a:blip r:embed="rId1"/>
          <a:stretch/>
        </p:blipFill>
        <p:spPr>
          <a:xfrm>
            <a:off x="1692360" y="260280"/>
            <a:ext cx="5472000" cy="437508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1692360" y="5445000"/>
            <a:ext cx="554508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РЕЗКОЕ ТОРМОЖЕ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3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Причины опасных ситуаций на дорогах и улицах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27080">
            <a:solidFill>
              <a:srgbClr val="000000"/>
            </a:solidFill>
            <a:miter/>
          </a:ln>
        </p:spPr>
      </p:pic>
    </p:spTree>
  </p:cSld>
  <p:transition spd="med" advTm="3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3:02:17Z</dcterms:created>
  <dc:creator>Felix</dc:creator>
  <dc:description/>
  <dc:language>en-US</dc:language>
  <cp:lastModifiedBy>Коля</cp:lastModifiedBy>
  <dcterms:modified xsi:type="dcterms:W3CDTF">2013-03-18T20:09:48Z</dcterms:modified>
  <cp:revision>24</cp:revision>
  <dc:subject/>
  <dc:title>Слайд 1</dc:title>
</cp:coreProperties>
</file>