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68A-1A3B-4723-B976-F0998ACA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CC4-BBD6-4FCB-8DA2-587CCC17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A91-43A0-405F-B504-AF55FF8D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4AF-1F9C-4957-BBC7-2C043702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092-E626-48BC-8501-8649559D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E17-A6AA-4F53-9476-E34FA732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9E4-88E8-4537-AFB6-5B8D4400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1E9-346A-498A-AEC6-24FE8215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0E9-F0D8-4C53-8F66-CAA80AAD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E71-E1C2-48A2-877D-40FE6476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292-61B5-4609-99CB-CF80658D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238-C3D4-4A9C-B868-92EEA477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B821-279A-431F-B9E2-02CE6A910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765000"/>
            <a:ext cx="7056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ых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туаций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дорога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3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4" descr=""/>
          <p:cNvPicPr/>
          <p:nvPr/>
        </p:nvPicPr>
        <p:blipFill>
          <a:blip r:embed="rId1"/>
          <a:stretch/>
        </p:blipFill>
        <p:spPr>
          <a:xfrm>
            <a:off x="-231840" y="1500120"/>
            <a:ext cx="9588600" cy="264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285840"/>
            <a:ext cx="7000920" cy="5429160"/>
          </a:xfrm>
          <a:prstGeom prst="rect">
            <a:avLst/>
          </a:prstGeom>
          <a:ln w="0">
            <a:noFill/>
          </a:ln>
        </p:spPr>
      </p:pic>
      <p:grpSp>
        <p:nvGrpSpPr>
          <p:cNvPr id="61" name="Прямоугольник 6"/>
          <p:cNvGrpSpPr/>
          <p:nvPr/>
        </p:nvGrpSpPr>
        <p:grpSpPr>
          <a:xfrm>
            <a:off x="7047000" y="665280"/>
            <a:ext cx="1427040" cy="1066680"/>
            <a:chOff x="7047000" y="665280"/>
            <a:chExt cx="1427040" cy="1066680"/>
          </a:xfrm>
        </p:grpSpPr>
        <p:pic>
          <p:nvPicPr>
            <p:cNvPr id="62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7047000" y="665280"/>
              <a:ext cx="1427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286760" y="785880"/>
              <a:ext cx="100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TextBox 7"/>
          <p:cNvGrpSpPr/>
          <p:nvPr/>
        </p:nvGrpSpPr>
        <p:grpSpPr>
          <a:xfrm>
            <a:off x="219240" y="5389560"/>
            <a:ext cx="8918280" cy="1139760"/>
            <a:chOff x="219240" y="5389560"/>
            <a:chExt cx="8918280" cy="1139760"/>
          </a:xfrm>
        </p:grpSpPr>
        <p:pic>
          <p:nvPicPr>
            <p:cNvPr id="65" name="TextBox 7" descr=""/>
            <p:cNvPicPr/>
            <p:nvPr/>
          </p:nvPicPr>
          <p:blipFill>
            <a:blip r:embed="rId3"/>
            <a:stretch/>
          </p:blipFill>
          <p:spPr>
            <a:xfrm>
              <a:off x="219240" y="5389560"/>
              <a:ext cx="89182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0040" y="5643720"/>
              <a:ext cx="835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озможен ли переход в этом месте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1000080" y="214200"/>
            <a:ext cx="7143840" cy="5500800"/>
          </a:xfrm>
          <a:prstGeom prst="rect">
            <a:avLst/>
          </a:prstGeom>
          <a:ln w="0">
            <a:noFill/>
          </a:ln>
        </p:spPr>
      </p:pic>
      <p:grpSp>
        <p:nvGrpSpPr>
          <p:cNvPr id="68" name="TextBox 4"/>
          <p:cNvGrpSpPr/>
          <p:nvPr/>
        </p:nvGrpSpPr>
        <p:grpSpPr>
          <a:xfrm>
            <a:off x="579600" y="5462640"/>
            <a:ext cx="7845120" cy="1133280"/>
            <a:chOff x="579600" y="5462640"/>
            <a:chExt cx="7845120" cy="1133280"/>
          </a:xfrm>
        </p:grpSpPr>
        <p:pic>
          <p:nvPicPr>
            <p:cNvPr id="69" name="TextBox 4" descr=""/>
            <p:cNvPicPr/>
            <p:nvPr/>
          </p:nvPicPr>
          <p:blipFill>
            <a:blip r:embed="rId2"/>
            <a:stretch/>
          </p:blipFill>
          <p:spPr>
            <a:xfrm>
              <a:off x="579600" y="5462640"/>
              <a:ext cx="78451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7160" y="5715000"/>
              <a:ext cx="728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то является нарушителем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TextBox 5"/>
          <p:cNvGrpSpPr/>
          <p:nvPr/>
        </p:nvGrpSpPr>
        <p:grpSpPr>
          <a:xfrm>
            <a:off x="122400" y="517680"/>
            <a:ext cx="1425240" cy="1066680"/>
            <a:chOff x="122400" y="517680"/>
            <a:chExt cx="1425240" cy="1066680"/>
          </a:xfrm>
        </p:grpSpPr>
        <p:pic>
          <p:nvPicPr>
            <p:cNvPr id="72" name="TextBox 5" descr=""/>
            <p:cNvPicPr/>
            <p:nvPr/>
          </p:nvPicPr>
          <p:blipFill>
            <a:blip r:embed="rId3"/>
            <a:stretch/>
          </p:blipFill>
          <p:spPr>
            <a:xfrm>
              <a:off x="122400" y="517680"/>
              <a:ext cx="14252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7120" y="642960"/>
              <a:ext cx="107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8" descr="D:\Документы\Мама\ПДД\рисунки ПДД\Правила безопасного поведения в любом транспортном средс (6).JPG"/>
          <p:cNvPicPr/>
          <p:nvPr/>
        </p:nvPicPr>
        <p:blipFill>
          <a:blip r:embed="rId1"/>
          <a:stretch/>
        </p:blipFill>
        <p:spPr>
          <a:xfrm>
            <a:off x="0" y="0"/>
            <a:ext cx="6572160" cy="5214960"/>
          </a:xfrm>
          <a:prstGeom prst="rect">
            <a:avLst/>
          </a:prstGeom>
          <a:ln w="0">
            <a:noFill/>
          </a:ln>
        </p:spPr>
      </p:pic>
      <p:grpSp>
        <p:nvGrpSpPr>
          <p:cNvPr id="75" name="Прямоугольник 4"/>
          <p:cNvGrpSpPr/>
          <p:nvPr/>
        </p:nvGrpSpPr>
        <p:grpSpPr>
          <a:xfrm>
            <a:off x="146160" y="4889520"/>
            <a:ext cx="9064440" cy="2120760"/>
            <a:chOff x="146160" y="4889520"/>
            <a:chExt cx="9064440" cy="2120760"/>
          </a:xfrm>
        </p:grpSpPr>
        <p:pic>
          <p:nvPicPr>
            <p:cNvPr id="7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46160" y="4889520"/>
              <a:ext cx="906444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28760" y="5143680"/>
              <a:ext cx="8501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Может ли пассажир совершать  высадку из транспортного средства в данном случае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TextBox 5"/>
          <p:cNvGrpSpPr/>
          <p:nvPr/>
        </p:nvGrpSpPr>
        <p:grpSpPr>
          <a:xfrm>
            <a:off x="6546960" y="444600"/>
            <a:ext cx="1444680" cy="1073160"/>
            <a:chOff x="6546960" y="444600"/>
            <a:chExt cx="1444680" cy="1073160"/>
          </a:xfrm>
        </p:grpSpPr>
        <p:pic>
          <p:nvPicPr>
            <p:cNvPr id="79" name="TextBox 5" descr=""/>
            <p:cNvPicPr/>
            <p:nvPr/>
          </p:nvPicPr>
          <p:blipFill>
            <a:blip r:embed="rId3"/>
            <a:stretch/>
          </p:blipFill>
          <p:spPr>
            <a:xfrm>
              <a:off x="6546960" y="444600"/>
              <a:ext cx="1444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786720" y="571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7" descr="D:\Документы\Мама\ПДД\рисунки ПДД\Причины транспортных аварий (причина 1).JPG"/>
          <p:cNvPicPr/>
          <p:nvPr/>
        </p:nvPicPr>
        <p:blipFill>
          <a:blip r:embed="rId1"/>
          <a:stretch/>
        </p:blipFill>
        <p:spPr>
          <a:xfrm>
            <a:off x="1571760" y="214200"/>
            <a:ext cx="69944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Прямоугольник 4"/>
          <p:cNvGrpSpPr/>
          <p:nvPr/>
        </p:nvGrpSpPr>
        <p:grpSpPr>
          <a:xfrm>
            <a:off x="719280" y="5315040"/>
            <a:ext cx="8150040" cy="1141200"/>
            <a:chOff x="719280" y="5315040"/>
            <a:chExt cx="8150040" cy="1141200"/>
          </a:xfrm>
        </p:grpSpPr>
        <p:pic>
          <p:nvPicPr>
            <p:cNvPr id="8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719280" y="5315040"/>
              <a:ext cx="8150040" cy="11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030320" y="5572080"/>
              <a:ext cx="752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акую ошибку допускает пассажир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TextBox 5"/>
          <p:cNvGrpSpPr/>
          <p:nvPr/>
        </p:nvGrpSpPr>
        <p:grpSpPr>
          <a:xfrm>
            <a:off x="122400" y="517680"/>
            <a:ext cx="1438200" cy="1066680"/>
            <a:chOff x="122400" y="517680"/>
            <a:chExt cx="1438200" cy="1066680"/>
          </a:xfrm>
        </p:grpSpPr>
        <p:pic>
          <p:nvPicPr>
            <p:cNvPr id="86" name="TextBox 5" descr=""/>
            <p:cNvPicPr/>
            <p:nvPr/>
          </p:nvPicPr>
          <p:blipFill>
            <a:blip r:embed="rId3"/>
            <a:stretch/>
          </p:blipFill>
          <p:spPr>
            <a:xfrm>
              <a:off x="122400" y="517680"/>
              <a:ext cx="14382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57120" y="6429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/>
          <p:cNvSpPr/>
          <p:nvPr/>
        </p:nvSpPr>
        <p:spPr>
          <a:xfrm>
            <a:off x="0" y="476280"/>
            <a:ext cx="9144000" cy="4968720"/>
          </a:xfrm>
          <a:prstGeom prst="wedgeEllipseCallout">
            <a:avLst>
              <a:gd name="adj1" fmla="val -32240"/>
              <a:gd name="adj2" fmla="val 757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2"/>
          <p:cNvSpPr txBox="1"/>
          <p:nvPr/>
        </p:nvSpPr>
        <p:spPr>
          <a:xfrm>
            <a:off x="900000" y="1628640"/>
            <a:ext cx="741708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дороге должен каждый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а движенья знать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, конечно, очень важн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х, ребята, выполнять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0" name="Picture 4" descr="image007"/>
          <p:cNvPicPr/>
          <p:nvPr/>
        </p:nvPicPr>
        <p:blipFill>
          <a:blip r:embed="rId1"/>
          <a:stretch/>
        </p:blipFill>
        <p:spPr>
          <a:xfrm>
            <a:off x="4067280" y="4797360"/>
            <a:ext cx="1819080" cy="1762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298440" y="1603440"/>
            <a:ext cx="4475160" cy="4846680"/>
          </a:xfrm>
          <a:prstGeom prst="rect">
            <a:avLst/>
          </a:prstGeom>
          <a:ln w="0">
            <a:noFill/>
          </a:ln>
        </p:spPr>
      </p:pic>
      <p:grpSp>
        <p:nvGrpSpPr>
          <p:cNvPr id="92" name="Rectangle 5"/>
          <p:cNvGrpSpPr/>
          <p:nvPr/>
        </p:nvGrpSpPr>
        <p:grpSpPr>
          <a:xfrm>
            <a:off x="5010120" y="1420920"/>
            <a:ext cx="3841920" cy="4894200"/>
            <a:chOff x="5010120" y="1420920"/>
            <a:chExt cx="3841920" cy="4894200"/>
          </a:xfrm>
        </p:grpSpPr>
        <p:pic>
          <p:nvPicPr>
            <p:cNvPr id="93" name="Rectangle 5" descr=""/>
            <p:cNvPicPr/>
            <p:nvPr/>
          </p:nvPicPr>
          <p:blipFill>
            <a:blip r:embed="rId2"/>
            <a:stretch/>
          </p:blipFill>
          <p:spPr>
            <a:xfrm>
              <a:off x="5010120" y="1420920"/>
              <a:ext cx="384192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081760" y="1557720"/>
              <a:ext cx="371448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еловек, управляющий транспортны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редство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ёплая погода (зимой, ранней весной) с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аянием снега, ль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стройство для остановки транспортного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редст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амёрзшая вода, очень опасная для движения  транспорта и пешеход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имний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жд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»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мешающий участникам 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то показывает стрелка спидометра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ремя года, когда опавшие листья удлиняют  тормозной пу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ма это используют в пищу, а на улице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—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для таяния ль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то спасает от дождя, но мешает видеть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рогу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ремя суток, когда участники движения очень плохо видят друг друг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астое явление природы, ухудшающее обстановку на дорог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xtBox 7"/>
          <p:cNvGrpSpPr/>
          <p:nvPr/>
        </p:nvGrpSpPr>
        <p:grpSpPr>
          <a:xfrm>
            <a:off x="231840" y="85680"/>
            <a:ext cx="5315040" cy="1560600"/>
            <a:chOff x="231840" y="85680"/>
            <a:chExt cx="5315040" cy="1560600"/>
          </a:xfrm>
        </p:grpSpPr>
        <p:pic>
          <p:nvPicPr>
            <p:cNvPr id="96" name="TextBox 7" descr=""/>
            <p:cNvPicPr/>
            <p:nvPr/>
          </p:nvPicPr>
          <p:blipFill>
            <a:blip r:embed="rId3"/>
            <a:stretch/>
          </p:blipFill>
          <p:spPr>
            <a:xfrm>
              <a:off x="231840" y="85680"/>
              <a:ext cx="53150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8520" y="285840"/>
              <a:ext cx="4984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349105"/>
                  </a:solidFill>
                  <a:latin typeface="Arial"/>
                </a:rPr>
                <a:t>КРОССВОР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684360" y="620640"/>
            <a:ext cx="432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 городу, по улице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Не ходят просто так: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132000" y="3860640"/>
            <a:ext cx="547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огда не знаешь правила,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гко попасть впросак.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Picture 7" descr="image009"/>
          <p:cNvPicPr/>
          <p:nvPr/>
        </p:nvPicPr>
        <p:blipFill>
          <a:blip r:embed="rId1"/>
          <a:stretch/>
        </p:blipFill>
        <p:spPr>
          <a:xfrm>
            <a:off x="5724360" y="765000"/>
            <a:ext cx="1981440" cy="163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image011"/>
          <p:cNvPicPr/>
          <p:nvPr/>
        </p:nvPicPr>
        <p:blipFill>
          <a:blip r:embed="rId2"/>
          <a:stretch/>
        </p:blipFill>
        <p:spPr>
          <a:xfrm>
            <a:off x="900000" y="3500280"/>
            <a:ext cx="1559160" cy="1729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Причины опасных ситуаций на дорогах (1)"/>
          <p:cNvPicPr/>
          <p:nvPr/>
        </p:nvPicPr>
        <p:blipFill>
          <a:blip r:embed="rId1"/>
          <a:stretch/>
        </p:blipFill>
        <p:spPr>
          <a:xfrm>
            <a:off x="1908000" y="476280"/>
            <a:ext cx="5402520" cy="431784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47" name="WordArt 7"/>
          <p:cNvSpPr txBox="1"/>
          <p:nvPr/>
        </p:nvSpPr>
        <p:spPr>
          <a:xfrm>
            <a:off x="1187280" y="522936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ВНИМАТЕЛЬНО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ЧАСТНИКОВ ДВИ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Причины опасных ситуаций на дорогах (2)"/>
          <p:cNvPicPr/>
          <p:nvPr/>
        </p:nvPicPr>
        <p:blipFill>
          <a:blip r:embed="rId1"/>
          <a:stretch/>
        </p:blipFill>
        <p:spPr>
          <a:xfrm>
            <a:off x="1692360" y="404640"/>
            <a:ext cx="5402160" cy="431964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49" name="WordArt 7"/>
          <p:cNvSpPr txBox="1"/>
          <p:nvPr/>
        </p:nvSpPr>
        <p:spPr>
          <a:xfrm>
            <a:off x="1042920" y="5300640"/>
            <a:ext cx="66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ЛОХИЕ ПОГОДНЫЕ УСЛО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Причины опасных ситуаций на дорогах (3)"/>
          <p:cNvPicPr/>
          <p:nvPr/>
        </p:nvPicPr>
        <p:blipFill>
          <a:blip r:embed="rId1"/>
          <a:stretch/>
        </p:blipFill>
        <p:spPr>
          <a:xfrm>
            <a:off x="1763640" y="333360"/>
            <a:ext cx="5545080" cy="443376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1" name="WordArt 5"/>
          <p:cNvSpPr txBox="1"/>
          <p:nvPr/>
        </p:nvSpPr>
        <p:spPr>
          <a:xfrm>
            <a:off x="1116000" y="5157720"/>
            <a:ext cx="705636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РУШ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АВИЛ ДОРОЖН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ДВИЖЕНИЯ ПЕШЕХОД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ричины опасных ситуаций на дорогах (4)"/>
          <p:cNvPicPr/>
          <p:nvPr/>
        </p:nvPicPr>
        <p:blipFill>
          <a:blip r:embed="rId1"/>
          <a:stretch/>
        </p:blipFill>
        <p:spPr>
          <a:xfrm>
            <a:off x="1692360" y="260280"/>
            <a:ext cx="5688000" cy="454824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3" name="WordArt 4"/>
          <p:cNvSpPr txBox="1"/>
          <p:nvPr/>
        </p:nvSpPr>
        <p:spPr>
          <a:xfrm>
            <a:off x="1763640" y="5373720"/>
            <a:ext cx="51847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ОЛОМКА ТРАНСПОР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Причины опасных ситуаций на дорогах (5)"/>
          <p:cNvPicPr/>
          <p:nvPr/>
        </p:nvPicPr>
        <p:blipFill>
          <a:blip r:embed="rId1"/>
          <a:stretch/>
        </p:blipFill>
        <p:spPr>
          <a:xfrm>
            <a:off x="1692360" y="404640"/>
            <a:ext cx="5829120" cy="466092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5" name="WordArt 4"/>
          <p:cNvSpPr txBox="1"/>
          <p:nvPr/>
        </p:nvSpPr>
        <p:spPr>
          <a:xfrm>
            <a:off x="755640" y="5445000"/>
            <a:ext cx="7670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УДОВЛЕТВОРИ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ОЯНИЕ ДОР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Причины опасных ситуаций на дорогах (6)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437508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1692360" y="5445000"/>
            <a:ext cx="55450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РЕЗКОЕ ТОРМОЖЕ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Причины опасных ситуаций на дорогах и улицах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</p:spTree>
  </p:cSld>
  <p:transition spd="med" advTm="3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3:02:17Z</dcterms:created>
  <dc:creator>Felix</dc:creator>
  <dc:description/>
  <dc:language>en-US</dc:language>
  <cp:lastModifiedBy>Коля</cp:lastModifiedBy>
  <dcterms:modified xsi:type="dcterms:W3CDTF">2013-03-18T20:09:48Z</dcterms:modified>
  <cp:revision>24</cp:revision>
  <dc:subject/>
  <dc:title>Слайд 1</dc:title>
</cp:coreProperties>
</file>