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7B39-3C72-4627-A404-8A20325250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E08F-8854-492A-A323-5AE062CBEE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C385-0562-4988-8458-25B3D1BCD0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7CC3-040F-40D2-917E-3EC322DE86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4684-353B-4339-9F67-3B3CAB29CA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C371-B869-4D1E-B3C8-4A2A7BD679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FC4A-F2A6-46C2-BAE0-562BDFD341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3653-067F-4B34-843C-387924A234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14CF-4E13-4F2B-AB2E-F7C85FB453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1130-5A9E-43D0-86B2-4538B41852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B729-751D-461C-9485-116B9976A4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161D-205B-4339-8716-F285B81CFF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452D-D4E4-446A-A538-DEB9F255E0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5D9A-241B-497B-ABEB-5EB04B6269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A7AA-1061-4F74-8791-1F3E316F34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9801-66D6-4494-B1D9-F7D139242A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773A-46B4-4612-9259-EC64F66F26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B04D-348E-41B8-95B5-EF50832032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2908-0574-4A1C-94F3-8E1B5E7761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97B-FC18-476B-AA90-78A21B75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AF0-5FBD-494D-9D21-6F9847A4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409-11F5-4362-940E-472E90DE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AE5-10BB-43F8-9456-B9497D55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803B-FD10-45FA-A83D-E554C938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77A8-5D81-4AAF-8744-B876F2C3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0C9F-8041-4843-821C-D071B9FF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DE71-232F-4649-92DD-C2BAA247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D2EA-F619-4630-938F-4024B569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B511-975E-4468-BAAB-B995E4C9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67E2-06B5-46F6-BD52-16CD0DE6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0A5-FDA2-43D7-8512-A7C17D82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B363-9AA3-4721-9695-DA74A2FC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EEEA-4C9A-462F-BEEE-76E9E860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5D76-B9B1-48D2-98D6-1CA77482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02F4-20C0-4AEB-86A8-7984FD88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E774-B352-47B8-B116-BC0850F5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E8261-C5B7-48D7-8DFE-CE0BDF9F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680A1-2066-4581-B060-F159A2BD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66EB9-B9BD-4A37-906A-90D13986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2D06A-2F36-462D-A3ED-61F39F79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A1632-C610-4BC4-AB00-91277462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2DF-7098-47E3-91A0-8C90923D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4F885-0FD7-4E79-A0DB-172083A8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BDE6B-AB64-4319-9B7B-4E99A5A5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6B553-4284-45C0-90FF-FA4AE15C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925BE-104A-4E30-B4D4-B966BAD9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20A37-05A9-49A0-A6F5-E075E623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76CA3-2F43-40C7-9F2C-3DDFD2A9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24F43-7290-4ED3-8562-55156342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59CB4-3A31-45D1-A094-6D9BBEF3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9C109-D515-4E30-A962-92E54703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03F9E-2376-428A-BE3F-CFA4F551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DFA-1936-4568-958D-F083DD50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C95E4-8FC7-49D5-89B7-082768D6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CF5D3-CE40-4A94-96CC-E0934B56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774F1-AF92-450C-AABD-3AE4F8F5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CB0A9-D19C-4836-B51C-4FA073F6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636AC-78BA-465A-ACE0-DE3CD56D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BD1AB-B499-4BD9-89E1-EF3FB8DC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31B6B-A47C-42EE-811D-3F3420B4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9B0D0-CA82-4CF4-B504-9CD91AA0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F201-49DA-4CEE-8ED7-3C1B42CC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03C-FCF2-447A-B95C-4FEE815E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046-5291-4FB0-B8A0-71208132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534-125D-4389-A898-69FCF208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F87-CE32-4C4A-B8D1-56590449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7D8-664F-4B72-8008-DCC57F18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B65D-1D30-4D73-8CC6-DAF1603218E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3a44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F429-38F2-40AD-A2F7-501DCCA64BF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973C-2652-4202-AE64-1523F5ECB9D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122D-D990-4EF9-9311-F4A643F316A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упреждение травматизма во время учебно – воспитательного процесса.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4d2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Актуальность проблемы усиливает факт того, что высокие показатели распространенности детского травматизма сопровождаются отсутствием современных подходов к профилактике травм</a:t>
            </a:r>
            <a:endParaRPr b="0" lang="en-US" sz="25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заставить ребенка на перемене не бегать, не прыгать, не играть невозможно. А вот организовать эту потребность в движении, создать условия для безопасного выплеска энергии – задача решаема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седы медицинского работника школы с учащимися 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формление в классах уголков по профилактике детского травматизма. создание папки методической литературы по обучению детей дорожной безопасности 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общешкольного тематического стенд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ведение цикла бесед, показ иллюстративного материала «Поведение в школе и на улицах города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обретение необходимой методической литературы и видеофильмов по теме травмат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гулярное проведение бесед, инструктажей учащихся с использованием таких наглядных пособий как кинофильмы, телевизионные передач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ационные общешкольные линейки :«Предупреждение   травматизма  в  школе».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лассные часы по данной тематик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седы с родителями на родительских собраниях и с учащимися на классных часах о необходимости соблюдения правил поведения в школе и требований к одежде и обуви обучающихс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лассные часы с учащимися по темам: «Спорт-это жизнь», «Культура поведения в школе», «Устав школы - основной закон для школьника», «Дружба в нашей жизни», «Учимся прощать» и др.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становление школьного радиоузл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ация динамической музыкальной паузы на школьных переменах 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тавить в вестибюле школы теннисные стол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упить спортивные тренажёры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 целью профилактики детского травматизма на переменах с учащимися школы первой ступени необходимо организовывать подвижные игры, которые позволят учащимся подвигаться и отдохнуть в приемлемой и безопасной форме. Привлекать к организации данных мероприятий старшеклассни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работать бальную систему оценки поведения на переменах учащихся школы второй ступени. За нарушение дисциплины, техники безопасности учащимися начислять или снимать баллы со всего класса. В конце каждой четверти проводить подведение итогов и награждать класс, среди учащихся которого не были отмечены нарушения техники безопаснос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ессовые состояния человека заставляют его умышленно делать рискованные действия, которые, как он считает, помогут снять стресс. Следовательно, необходимо обучать учащихся конструктивным навыкам снятия напряжения и преодоления стресс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Статистика: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0 % травм у детей – результат непреднамеренных, или случайных, инцидентов. 830 000 детей в мире умирает ежегодно от таких травм или около 2300 ежедневно. 1000 детей могли бы быть спасены при принятии проверенных мер по предупреждению травмат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Статистика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новременно с ростом травм среди городского детского населения отмечается тенденция увеличения их тяжести 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реди населения бытует мнение о том, что лечение повреждений у детей заканчивается благополучно. Это не так. Последствия ряда травм (послеожоговые рубцы, сужение пищевода после химических ожогов, повреждения глаз, повреждения ростковых зон кости) в 18—20% случаев приводят к инвалидности детей. Легкие травмы также нередко вызывают патологические изменения в организме и в той или иной степени ограничивают функциональные возможности ребен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Статистика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ВОЗ и ЮНИСЕФ, 5 из 6 несчастных случаев с летальным исходом (или 11 000 в год) можно предотвратить. Несчастные случаи являются основной причиной смерти детей старше 9 лет, 95% из них происходит в развивающихся странах. В последние годы в развитых странах наблюдается значительное повышение эффективности мер по профилактике детского травматизма. Но и там несчастные случаи составляют 40% от всех случаев смерти детей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Дорожно – транспортный травматизм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Ежегодно на улицах и дорогах страны гибнет 1500 и получает ранения 24 000 несовершеннолетних участников дорожного движения. Более половины (55%) – школьники в возраст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от 7 до 14 ле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Статистика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нализ литературных данных показал, что в имеющихся работах по проблеме детского травматизма, в основном находит отражение дорожно-транспортный травматизм. Безусловно, данному аспекту необходимо уделять особое внимание, но, по мнению ряда исследователей,  данный вид травм составляет в структуре травматизма всего 3-6%, а самыми распространенными среди детей и взрослых являются бытовые и уличные, школьные занимающие в структуре травм от 80% до 86%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Наиболее распространенные места получения травм:</a:t>
            </a:r>
            <a:r>
              <a:rPr b="0" lang="ru-RU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лица (40% всех травм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 них 78% приходится на укусы собак.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ричин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недосмотр взрослых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следствие грубых шалостей и опасных игр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Необходимые меры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троль за поведением детей на улиц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Наиболее распространенные места получения травм: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стенах школы во время учебного процесса (15%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/5 травм происходит на перемен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Необходимые мер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инструктаж сотрудников школы и учащихся по технике безопасност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контроль за поведением детей на перемен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Наиболее распространенные места получения травм: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0-25% всех школьных травм происходят на урока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физической культуры: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падение со спортивного оборудовани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травмы брошенным предмет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Необходимые меры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инструктаж по правильному поведению на уроках физкультуры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мониторинг состояния спортзала и спортинвентар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6:36:29Z</dcterms:created>
  <dc:creator>COMP</dc:creator>
  <dc:description/>
  <dc:language>en-US</dc:language>
  <cp:lastModifiedBy>User</cp:lastModifiedBy>
  <dcterms:modified xsi:type="dcterms:W3CDTF">2011-08-23T19:55:43Z</dcterms:modified>
  <cp:revision>13</cp:revision>
  <dc:subject/>
  <dc:title>Попередження травматизму  учнsв пыд час </dc:title>
</cp:coreProperties>
</file>