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23C9-3FE3-473F-A548-1B86120EB5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6E7F-59E7-458B-BAE6-23BC2C303D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F9C6-0C7E-48F3-A747-ED99AD59CB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EF7C-0E4E-4666-9D5D-E3E46A36BD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93B6-852F-4E72-B382-99CE2BDB13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9EEB-428C-4ECC-90CC-5B7EC49599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534C-49AD-4994-8328-7DC6CB8844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AB26-3464-4138-96CE-DF3A662B38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F700-9AFB-4DDB-9B70-D9E22391FF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7B7B-A972-4180-B200-9BDFAC8A09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4A47-0DEE-4F6E-B9CE-D49EFE6BBD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F633-7D9C-4CB8-B705-5D9A8261B9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1AB2-DF9D-4007-AF27-99A65D930A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37AF-A372-4FC2-A3B9-E82C2C6568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77BB-6BB1-4936-BE55-30ED00C725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5B03-2EA9-4957-A161-58E294C024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93F2-AEF7-407F-9E9B-BB406856BE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BCCB-4C1D-41CC-8F19-336E0A137D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C519-1CFE-4BB3-BA09-D8BAB14B26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F17-0537-4FB8-AC3E-8B6DE0B4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CCD-6F63-4182-817E-9303A508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982-C467-4452-A924-0F7C89ED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E27-9DAF-43C4-8BD4-66CAA8EB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55D5-1DA2-4520-B98A-B37C5A56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16DB-13DF-4BD7-AFC0-C4D5E099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866E-47DE-40F0-8AFD-7D4CE3CC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E55F-95D3-4AEF-BF8E-62F6D1CB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DD9D-E6EA-4F59-B6C5-DE375CC3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766C-2BBC-43DC-8058-0137FFAE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1FA4-AFA7-4999-9142-5B0B07E8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501-481F-431A-9F1E-3B155C39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78BD-49B9-4950-8379-617FFD66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4AE3-0877-4801-8528-55F09066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E7E2-E324-4AAE-8E91-711361FF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6392-41B8-4C34-B56D-EBFEBAE1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970C-E208-431E-B96C-377E9E1A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80C37-9A88-460B-8340-7EBCB0C2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40FB6-EE5E-403F-AD90-54021C28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D3EDE-C2CC-4188-9B07-85EB2991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C7E09-2B3E-42D1-8CA9-500519B1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538CB-1FAD-46D7-8153-349312F4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3DC-CF06-408A-AFC3-6529D34D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94F17-79B0-46A9-BB99-2DEEA8E9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18264-44B4-4782-82F7-F34C50AD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3DD2D-9085-4DDB-9C50-BA632AEB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887D3-E26E-49DE-B8BA-AF046B6D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A78E6-E676-4D04-85A8-66D4F1C8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52204-A082-4F3C-9FB6-0D10B446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341B5-F7C9-497E-927C-936CCD50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F8A81-BDEB-4BAB-ACEB-19CC600F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2DCD-8578-45E9-B71E-9F1319BD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50BC7-0017-4745-8E02-AAF7D3ED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742-0C4B-4B31-BEB2-95BB0F44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807E-98C2-4123-A7FB-90C38A75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E11E-B5A4-4C79-AF1F-EBF75E3D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51D3-AB31-4A4F-A4D1-3FADE351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9504-18CF-40AA-8FCD-1E52D3D0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A4E5-3DEF-410C-AB24-55E6D2DF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3081-E9DB-4C47-A81C-AC5B4069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DD3A-3EDF-47F9-BFA0-5CD5C124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07496-04EA-459B-9AE3-9117D7F6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8C40-1DEE-4B18-8CBE-36EC8F26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7E1-6897-4001-BDBC-CBC5233B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9B2-5849-41F6-9475-BF84148C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4E9-F1DF-4B4A-A7B9-CD1E9B93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520-EDB3-4E7C-A21A-F2583FE4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00E-A230-4C83-8F0B-1FAB114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0640-2685-4A01-A864-1B7D28632DD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1F18-5FEB-404B-A09D-8842B8D7F0D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24C3-A395-4086-8610-7158A48015A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B0A1-3033-4E1C-AEF4-C7955C9BA32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упреждение травматизма во время учебно – воспитательного процесса.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4d2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Актуальность проблемы усиливает факт того, что высокие показатели распространенности детского травматизма сопровождаются отсутствием современных подходов к профилактике травм</a:t>
            </a:r>
            <a:endParaRPr b="0" lang="en-US" sz="25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заставить ребенка на перемене не бегать, не прыгать, не играть невозможно. А вот организовать эту потребность в движении, создать условия для безопасного выплеска энергии – задача решаема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седы медицинского работника школы с учащимися 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формление в классах уголков по профилактике детского травматизма. создание папки методической литературы по обучению детей дорожной безопасности 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общешкольного тематического стенд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ведение цикла бесед, показ иллюстративного материала «Поведение в школе и на улицах города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обретение необходимой методической литературы и видеофильмов по теме травмат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гулярное проведение бесед, инструктажей учащихся с использованием таких наглядных пособий как кинофильмы, телевизионные передач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онные общешкольные линейки :«Предупреждение   травматизма  в  школе»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лассные часы по данной тематик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седы с родителями на родительских собраниях и с учащимися на классных часах о необходимости соблюдения правил поведения в школе и требований к одежде и обуви обучающихс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лассные часы с учащимися по темам: «Спорт-это жизнь», «Культура поведения в школе», «Устав школы - основной закон для школьника», «Дружба в нашей жизни», «Учимся прощать» и др.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становление школьного радиоуз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я динамической музыкальной паузы на школьных переменах 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авить в вестибюле школы теннисные стол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упить спортивные тренажёры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 целью профилактики детского травматизма на переменах с учащимися школы первой ступени необходимо организовывать подвижные игры, которые позволят учащимся подвигаться и отдохнуть в приемлемой и безопасной форме. Привлекать к организации данных мероприятий старшекласс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аботать бальную систему оценки поведения на переменах учащихся школы второй ступени. За нарушение дисциплины, техники безопасности учащимися начислять или снимать баллы со всего класса. В конце каждой четверти проводить подведение итогов и награждать класс, среди учащихся которого не были отмечены нарушения техники безопаснос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ессовые состояния человека заставляют его умышленно делать рискованные действия, которые, как он считает, помогут снять стресс. Следовательно, необходимо обучать учащихся конструктивным навыкам снятия напряжения и преодоления стресс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0 % травм у детей – результат непреднамеренных, или случайных, инцидентов. 830 000 детей в мире умирает ежегодно от таких травм или около 2300 ежедневно. 1000 детей могли бы быть спасены при принятии проверенных мер по предупреждению травмат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новременно с ростом травм среди городского детского населения отмечается тенденция увеличения их тяжести 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реди населения бытует мнение о том, что лечение повреждений у детей заканчивается благополучно. Это не так. Последствия ряда травм (послеожоговые рубцы, сужение пищевода после химических ожогов, повреждения глаз, повреждения ростковых зон кости) в 18—20% случаев приводят к инвалидности детей. Легкие травмы также нередко вызывают патологические изменения в организме и в той или иной степени ограничивают функциональные возможности ребе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ВОЗ и ЮНИСЕФ, 5 из 6 несчастных случаев с летальным исходом (или 11 000 в год) можно предотвратить. Несчастные случаи являются основной причиной смерти детей старше 9 лет, 95% из них происходит в развивающихся странах. В последние годы в развитых странах наблюдается значительное повышение эффективности мер по профилактике детского травматизма. Но и там несчастные случаи составляют 40% от всех случаев смерти дете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Дорожно – транспортный травматизм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Ежегодно на улицах и дорогах страны гибнет 1500 и получает ранения 24 000 несовершеннолетних участников дорожного движения. Более половины (55%) – школьники в возраст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т 7 до 14 л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нализ литературных данных показал, что в имеющихся работах по проблеме детского травматизма, в основном находит отражение дорожно-транспортный травматизм. Безусловно, данному аспекту необходимо уделять особое внимание, но, по мнению ряда исследователей,  данный вид травм составляет в структуре травматизма всего 3-6%, а самыми распространенными среди детей и взрослых являются бытовые и уличные, школьные занимающие в структуре травм от 80% до 86%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Наиболее распространенные места получения травм:</a:t>
            </a:r>
            <a:r>
              <a:rPr b="0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лица (40% всех травм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 них 78% приходится на укусы собак.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ичин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недосмотр взрослых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следствие грубых шалостей и опасных игр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Необходимые меры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троль за поведением детей на улиц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Наиболее распространенные места получения травм: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тенах школы во время учебного процесса (15%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/5 травм происходит на перемен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Необходимые ме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инструктаж сотрудников школы и учащихся по технике безопасност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троль за поведением детей на перемен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Наиболее распространенные места получения травм: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0-25% всех школьных травм происходят на урока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физической культуры: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падение со спортивного оборудовани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травмы брошенным предмет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Необходимые меры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инструктаж по правильному поведению на уроках физкультур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мониторинг состояния спортзала и спортинвентар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36:29Z</dcterms:created>
  <dc:creator>COMP</dc:creator>
  <dc:description/>
  <dc:language>en-US</dc:language>
  <cp:lastModifiedBy>User</cp:lastModifiedBy>
  <dcterms:modified xsi:type="dcterms:W3CDTF">2011-08-23T19:55:43Z</dcterms:modified>
  <cp:revision>13</cp:revision>
  <dc:subject/>
  <dc:title>Попередження травматизму  учнsв пыд час </dc:title>
</cp:coreProperties>
</file>