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44d2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CEB06-3444-4553-A6F9-F63F739C1F5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7D243-EC52-4AD1-8B3B-128229E2C84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736E8-7C83-4516-8F02-6AC61F76387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70DB1-5736-49C1-8316-8C48FD929FF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37E2D-9D97-4FC3-B125-BC647A05BE4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59D1A-6452-4879-8799-34D4EA2F8E6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702FC-9BB1-4CA4-B70E-F5E7DDF2B08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8DCB4-BCEC-4E21-90F9-78B70405084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D6616-3377-4E58-9951-7BE913277ED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9FC18-338A-490C-B0B0-A3B23CE0811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34372-9655-4A44-8A29-CF3B332D0CA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C26A8-AB53-4BC4-BBB7-F6920642A52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60AB3-74B9-434D-BD88-C7BA20CB566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390DB-26C6-4D99-9018-A0B719479D9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4F875-04FE-4CD4-9E94-B0EC556F5AF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C945B-27E3-4D80-90D8-69FD3CF981F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8FA2C-F5B5-458B-93BC-ECA9A9FD742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4600B-7400-42FE-9269-4D46EBD8641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546D9-788E-4394-96A7-97CE9993967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00308-B6FE-4426-80DD-4A66A6B81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202BE-895D-4D66-B380-425AA925F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A3E05-16F9-4DB1-AD1C-E3A1F4F10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C5BCC-66D2-439D-A5B0-2D737F1EF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5CBEF-C211-4110-AFBE-3DA367193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44E7A-DA45-45CC-8306-D9F182A6A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BE373-F63D-44A3-9E80-006D0B629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0C749-D8AD-458F-9048-E08548A19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B7E1F-5E73-45FE-8789-4A27FB820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6DD98-E46C-43A6-84AC-679F3D084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E1018-6E16-42E1-AD59-2A1565281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FB32B-EC3A-40EE-9EB1-F0596DB57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3C17A-E458-4588-A94F-AC6318C89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590E1-21FD-4758-ABE7-CB54A5C31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B6E84-52F6-41AE-B107-4BC852F4E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46CB2-459B-4DF4-BE19-2C84FA971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15365-24DC-46B1-868B-B9D1FFC0F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FF04315-3136-46C9-A86A-DA009C40D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130AB42-6B4B-4809-BA4B-0051C0D60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6FE6C54-1633-449F-B8AB-3CB0A63DE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627524C-0B7E-4B61-9046-0A61C70E1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B9C0D88-AFFC-44C6-9914-29F01C13E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0D1C6-D018-4596-9ADD-9D4CD5F93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06BF31-B4C1-4EDE-B4B9-259C6452A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6EEA4AE-4884-498B-9BAD-6436A14AE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FC6FC44-E52E-44D5-A609-565CE02F1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55DAD26-CDD0-4B12-8CDD-58301EA1D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ADC940E-B2CF-4F37-A1DD-8682434B4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EC4A033-805C-4FD5-8B79-D9A8F750E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F30DF0-7FAE-4544-BBE0-52F2F78EA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390202-3220-44C9-94B6-42518DF74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66F3AA-A486-4041-A4CA-0AD73F5AB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614EF4-0636-435E-A26C-1645B4CCD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A7577-F850-4F1F-B1ED-A23D06D41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F6D4CB-882F-436E-AD97-CF3561485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33FADD-248A-4C91-97BF-22F5CCC61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B3620B-529B-4071-9B2D-B4EEE68D5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F9A7C1-C445-4C29-87F5-92CB4AAFD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1CD240-7DBA-436E-9384-F7D6A787F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B7391D-04C2-4995-9C47-A0083277E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09716E-B162-4569-961F-3D1427646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7A331D-19C7-4CDE-AD63-9E37FB342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7E2468-4E4D-48A0-BB0A-5CFB82EEF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B27DE-C32D-40EC-B7B7-671D73516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897E7-0A6C-47E2-9A20-DBBD16578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EB860-A599-4946-B667-7E234908F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FC848-85DE-44A6-B3D9-546122294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AA4E3-0A51-41F8-AB12-77D490A0A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f3a44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44d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f3a4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f3a4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f3a44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44d2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f3a447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a5b59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a5b59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e7bc2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f3a44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3a447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41B6A-9127-46D7-91AE-B40E6C552881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f3a4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f3a44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3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f3a447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4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f3a447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25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f3a447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Скругленный прямоугольник 26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Скругленный прямоугольник 40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41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f3a44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42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f3a4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43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f3a4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44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44d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44d2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f3a447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a5b59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a5b59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e7bc2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f3a44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3a447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08FB4-5FAD-40E3-8648-31EDACD75F64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f3a44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44d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f3a4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f3a4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f3a44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44d2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f3a447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a5b59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a5b59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e7bc2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f3a44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3a447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19C68-7A8C-4F90-9114-EE430778CD01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f3a44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44d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f3a4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f3a4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f3a44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44d2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f3a447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a5b59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a5b59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e7bc2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f3a44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3a447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BEDFB-54B2-4481-A684-AF5C6FC2383E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356760"/>
            <a:ext cx="7772400" cy="324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едупреждение травматизма во время учебно – воспитательного процесса.</a:t>
            </a: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3900600"/>
            <a:ext cx="49528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444d2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444d26"/>
                </a:solidFill>
                <a:latin typeface="Times New Roman"/>
                <a:ea typeface="Times New Roman"/>
              </a:rPr>
              <a:t>Актуальность проблемы усиливает факт того, что высокие показатели распространенности детского травматизма сопровождаются отсутствием современных подходов к профилактике травм</a:t>
            </a:r>
            <a:endParaRPr b="0" lang="en-US" sz="25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2214360"/>
            <a:ext cx="8229600" cy="39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Но заставить ребенка на перемене не бегать, не прыгать, не играть невозможно. А вот организовать эту потребность в движении, создать условия для безопасного выплеска энергии – задача решаемая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44d26"/>
                </a:solidFill>
                <a:latin typeface="Trebuchet MS"/>
              </a:rPr>
              <a:t>Рекомендуемые мероприятия:</a:t>
            </a: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e7bc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Беседы медицинского работника школы с учащимися 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e7bc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Оформление в классах уголков по профилактике детского травматизма. создание папки методической литературы по обучению детей дорожной безопасности 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e7bc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Создание общешкольного тематического стенда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44d26"/>
                </a:solidFill>
                <a:latin typeface="Trebuchet MS"/>
              </a:rPr>
              <a:t>Рекомендуемые мероприятия:</a:t>
            </a: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57480" indent="-250200">
              <a:lnSpc>
                <a:spcPct val="90000"/>
              </a:lnSpc>
              <a:spcBef>
                <a:spcPts val="300"/>
              </a:spcBef>
              <a:buClr>
                <a:srgbClr val="e7bc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роведение цикла бесед, показ иллюстративного материала «Поведение в школе и на улицах города»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lnSpc>
                <a:spcPct val="90000"/>
              </a:lnSpc>
              <a:spcBef>
                <a:spcPts val="300"/>
              </a:spcBef>
              <a:buClr>
                <a:srgbClr val="e7bc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риобретение необходимой методической литературы и видеофильмов по теме травматизма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lnSpc>
                <a:spcPct val="90000"/>
              </a:lnSpc>
              <a:spcBef>
                <a:spcPts val="300"/>
              </a:spcBef>
              <a:buClr>
                <a:srgbClr val="e7bc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Регулярное проведение бесед, инструктажей учащихся с использованием таких наглядных пособий как кинофильмы, телевизионные передачи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lnSpc>
                <a:spcPct val="90000"/>
              </a:lnSpc>
              <a:spcBef>
                <a:spcPts val="300"/>
              </a:spcBef>
              <a:buClr>
                <a:srgbClr val="e7bc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lnSpc>
                <a:spcPct val="90000"/>
              </a:lnSpc>
              <a:spcBef>
                <a:spcPts val="300"/>
              </a:spcBef>
              <a:buClr>
                <a:srgbClr val="e7bc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44d26"/>
                </a:solidFill>
                <a:latin typeface="Trebuchet MS"/>
              </a:rPr>
              <a:t>Рекомендуемые мероприятия:</a:t>
            </a: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Организационные общешкольные линейки :«Предупреждение   травматизма  в  школе». 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Классные часы по данной тематике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44d26"/>
                </a:solidFill>
                <a:latin typeface="Trebuchet MS"/>
              </a:rPr>
              <a:t>Рекомендуемые мероприятия:</a:t>
            </a: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e7bc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беседы с родителями на родительских собраниях и с учащимися на классных часах о необходимости соблюдения правил поведения в школе и требований к одежде и обуви обучающихся;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e7bc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классные часы с учащимися по темам: «Спорт-это жизнь», «Культура поведения в школе», «Устав школы - основной закон для школьника», «Дружба в нашей жизни», «Учимся прощать» и др.;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e7bc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44d26"/>
                </a:solidFill>
                <a:latin typeface="Trebuchet MS"/>
              </a:rPr>
              <a:t>Рекомендуемые мероприятия:</a:t>
            </a: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Восстановление школьного радиоузла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Организация динамической музыкальной паузы на школьных переменах 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оставить в вестибюле школы теннисные столы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Купить спортивные тренажёры 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44d26"/>
                </a:solidFill>
                <a:latin typeface="Trebuchet MS"/>
              </a:rPr>
              <a:t>Рекомендуемые мероприятия:</a:t>
            </a: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С целью профилактики детского травматизма на переменах с учащимися школы первой ступени необходимо организовывать подвижные игры, которые позволят учащимся подвигаться и отдохнуть в приемлемой и безопасной форме. Привлекать к организации данных мероприятий старшеклассников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44d26"/>
                </a:solidFill>
                <a:latin typeface="Trebuchet MS"/>
              </a:rPr>
              <a:t>Рекомендуемые мероприятия:</a:t>
            </a: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61080" indent="-252720">
              <a:spcBef>
                <a:spcPts val="300"/>
              </a:spcBef>
              <a:buClr>
                <a:srgbClr val="e7bc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Разработать бальную систему оценки поведения на переменах учащихся школы второй ступени. За нарушение дисциплины, техники безопасности учащимися начислять или снимать баллы со всего класса. В конце каждой четверти проводить подведение итогов и награждать класс, среди учащихся которого не были отмечены нарушения техники безопасности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spcBef>
                <a:spcPts val="300"/>
              </a:spcBef>
              <a:buClr>
                <a:srgbClr val="e7bc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44d26"/>
                </a:solidFill>
                <a:latin typeface="Trebuchet MS"/>
              </a:rPr>
              <a:t>Рекомендуемые мероприятия:</a:t>
            </a: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Стрессовые состояния человека заставляют его умышленно делать рискованные действия, которые, как он считает, помогут снять стресс. Следовательно, необходимо обучать учащихся конструктивным навыкам снятия напряжения и преодоления стресса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444d26"/>
                </a:solidFill>
                <a:latin typeface="Times New Roman"/>
                <a:ea typeface="Times New Roman"/>
              </a:rPr>
              <a:t>Статистика:</a:t>
            </a:r>
            <a:endParaRPr b="0" lang="en-US" sz="36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90 % травм у детей – результат непреднамеренных, или случайных, инцидентов. 830 000 детей в мире умирает ежегодно от таких травм или около 2300 ежедневно. 1000 детей могли бы быть спасены при принятии проверенных мер по предупреждению травматизма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444d26"/>
                </a:solidFill>
                <a:latin typeface="Times New Roman"/>
                <a:ea typeface="Times New Roman"/>
              </a:rPr>
              <a:t>Статистика:</a:t>
            </a: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61080" indent="-252720">
              <a:lnSpc>
                <a:spcPct val="80000"/>
              </a:lnSpc>
              <a:spcBef>
                <a:spcPts val="300"/>
              </a:spcBef>
              <a:buClr>
                <a:srgbClr val="e7bc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Одновременно с ростом травм среди городского детского населения отмечается тенденция увеличения их тяжести 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lnSpc>
                <a:spcPct val="80000"/>
              </a:lnSpc>
              <a:spcBef>
                <a:spcPts val="300"/>
              </a:spcBef>
              <a:buClr>
                <a:srgbClr val="e7bc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Среди населения бытует мнение о том, что лечение повреждений у детей заканчивается благополучно. Это не так. Последствия ряда травм (послеожоговые рубцы, сужение пищевода после химических ожогов, повреждения глаз, повреждения ростковых зон кости) в 18—20% случаев приводят к инвалидности детей. Легкие травмы также нередко вызывают патологические изменения в организме и в той или иной степени ограничивают функциональные возможности ребенка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444d26"/>
                </a:solidFill>
                <a:latin typeface="Times New Roman"/>
                <a:ea typeface="Times New Roman"/>
              </a:rPr>
              <a:t>Статистика:</a:t>
            </a: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e7bc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данным ВОЗ и ЮНИСЕФ, 5 из 6 несчастных случаев с летальным исходом (или 11 000 в год) можно предотвратить. Несчастные случаи являются основной причиной смерти детей старше 9 лет, 95% из них происходит в развивающихся странах. В последние годы в развитых странах наблюдается значительное повышение эффективности мер по профилактике детского травматизма. Но и там несчастные случаи составляют 40% от всех случаев смерти детей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444d26"/>
                </a:solidFill>
                <a:latin typeface="Times New Roman"/>
                <a:ea typeface="Times New Roman"/>
              </a:rPr>
              <a:t>Дорожно – транспортный травматизм</a:t>
            </a:r>
            <a:endParaRPr b="0" lang="en-US" sz="36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. Ежегодно на улицах и дорогах страны гибнет 1500 и получает ранения 24 000 несовершеннолетних участников дорожного движения. Более половины (55%) – школьники в возрасте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Georgia"/>
              </a:rPr>
              <a:t>от 7 до 14 лет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444d26"/>
                </a:solidFill>
                <a:latin typeface="Times New Roman"/>
                <a:ea typeface="Times New Roman"/>
              </a:rPr>
              <a:t>Статистика:</a:t>
            </a: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57480" indent="-250200">
              <a:lnSpc>
                <a:spcPct val="90000"/>
              </a:lnSpc>
              <a:spcBef>
                <a:spcPts val="300"/>
              </a:spcBef>
              <a:buClr>
                <a:srgbClr val="e7bc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Анализ литературных данных показал, что в имеющихся работах по проблеме детского травматизма, в основном находит отражение дорожно-транспортный травматизм. Безусловно, данному аспекту необходимо уделять особое внимание, но, по мнению ряда исследователей,  данный вид травм составляет в структуре травматизма всего 3-6%, а самыми распространенными среди детей и взрослых являются бытовые и уличные, школьные занимающие в структуре травм от 80% до 86%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lnSpc>
                <a:spcPct val="90000"/>
              </a:lnSpc>
              <a:spcBef>
                <a:spcPts val="300"/>
              </a:spcBef>
              <a:buClr>
                <a:srgbClr val="e7bc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600" spc="-1" strike="noStrike">
                <a:solidFill>
                  <a:srgbClr val="444d26"/>
                </a:solidFill>
                <a:latin typeface="Times New Roman"/>
                <a:ea typeface="Times New Roman"/>
              </a:rPr>
              <a:t>Наиболее распространенные места получения травм:</a:t>
            </a:r>
            <a:r>
              <a:rPr b="0" lang="ru-RU" sz="3600" spc="-1" strike="noStrike">
                <a:solidFill>
                  <a:srgbClr val="444d26"/>
                </a:solidFill>
                <a:latin typeface="Times New Roman"/>
                <a:ea typeface="Times New Roman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Улица (40% всех травм)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Из них 78% приходится на укусы собак.</a:t>
            </a:r>
            <a:br>
              <a:rPr sz="2800"/>
            </a:br>
            <a:r>
              <a:rPr b="1" lang="ru-RU" sz="2800" spc="-1" strike="noStrike" u="sng">
                <a:solidFill>
                  <a:srgbClr val="000000"/>
                </a:solidFill>
                <a:uFillTx/>
                <a:latin typeface="Georgia"/>
              </a:rPr>
              <a:t>Причины: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- недосмотр взрослых,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- следствие грубых шалостей и опасных игр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Georgia"/>
              </a:rPr>
              <a:t>Необходимые меры: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Georgi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контроль за поведением детей на улице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44d26"/>
                </a:solidFill>
                <a:latin typeface="Times New Roman"/>
                <a:ea typeface="Times New Roman"/>
              </a:rPr>
              <a:t>Наиболее распространенные места получения травм:</a:t>
            </a:r>
            <a:endParaRPr b="0" lang="en-US" sz="36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В стенах школы во время учебного процесса (15%)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4/5 травм происходит на перемене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Georgia"/>
              </a:rPr>
              <a:t>Необходимые меры: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- инструктаж сотрудников школы и учащихся по технике безопасности;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- контроль за поведением детей на переменах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44d26"/>
                </a:solidFill>
                <a:latin typeface="Times New Roman"/>
                <a:ea typeface="Times New Roman"/>
              </a:rPr>
              <a:t>Наиболее распространенные места получения травм:</a:t>
            </a:r>
            <a:endParaRPr b="0" lang="en-US" sz="36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e7bc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20-25% всех школьных травм происходят на уроках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Georgia"/>
              </a:rPr>
              <a:t>физической культуры: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e7bc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- падение со спортивного оборудования;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- травмы брошенным предметом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e7bc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Georgia"/>
              </a:rPr>
              <a:t>Необходимые меры: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-инструктаж по правильному поведению на уроках физкультуры;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-мониторинг состояния спортзала и спортинвентаря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3a447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4T16:36:29Z</dcterms:created>
  <dc:creator>COMP</dc:creator>
  <dc:description/>
  <dc:language>en-US</dc:language>
  <cp:lastModifiedBy>User</cp:lastModifiedBy>
  <dcterms:modified xsi:type="dcterms:W3CDTF">2011-08-23T19:55:43Z</dcterms:modified>
  <cp:revision>13</cp:revision>
  <dc:subject/>
  <dc:title>Попередження травматизму  учнsв пыд час </dc:title>
</cp:coreProperties>
</file>