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1C4-5383-4C56-B67D-C4E030E5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0D4-E1BC-433D-9F31-85422BFA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B4A-4964-489C-BADA-146A1881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0806-FB9E-4751-BAC3-F6D42568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243-3A19-4BC3-90B6-752C1E3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339-CAD0-479E-97EB-491E1631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BB1-22CA-497D-BC5D-BE4B7A74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80D-8F1A-46C3-8E80-443FBAF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C05-B816-437E-AACF-6119D468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3A8-2914-42BA-A7C2-92FA6CE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2DD3-E945-4BA5-AC31-0002844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6EF-5424-4334-8A3A-2D41380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88BD-E368-44B3-AD71-52DE32741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РАВИЛА ДОРОЖНОГО ДВИЖЕНИЯ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И СТАТИСТИКА 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ОРОЖНО-ТРАНСПОРТНЫХ ПРОИСШЕ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3529080" cy="258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51640" y="2565360"/>
            <a:ext cx="1513080" cy="3527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9311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аждый участник дорожного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лжен осознавать свою ответственность за поведение на дорог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ыть внимательн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еукоснительно соблюдать прави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быть вежливым и корректным по отношению к другим водителям и пешеход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ЮНЫЙ ДРУ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ОМНИ И СОБЛЮ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ДОРОЖНЫЕ 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ВСЕГ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9280" y="338040"/>
            <a:ext cx="1513080" cy="125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627280" y="465120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859280" y="4672080"/>
            <a:ext cx="1513080" cy="149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1511280" cy="223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251840" y="3141720"/>
            <a:ext cx="1603080" cy="3527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451640" y="260280"/>
            <a:ext cx="1368360" cy="133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Цель мероприятия:</a:t>
            </a:r>
            <a:br>
              <a:rPr sz="2800"/>
            </a:br>
            <a:br>
              <a:rPr sz="9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ировать представления школьников о безопасности дорожного движе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171520"/>
            <a:ext cx="8362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торить правила движения пешеходов по улице и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вать у детей умение находить наиболее безопасный путь от дома до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спитывать уважительное отношение ко всем участникам дорожного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152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73800" cy="608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83400" y="1916280"/>
            <a:ext cx="1381320" cy="280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Большинство дорожно-транспортных происшествий совершаются по причин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амонадеянности или легкомыслия невнимательности к окружающ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предупреди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достаточной опы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уважения 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м людя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брежного отношения к выполнен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оих обяза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, наконец, просто из-за незнания и нарушения «Правил дорожног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Самые неприятные часы для встречи с пешеходами —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 12 до 20 ч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 эти часы приходится около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80 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всех раненых и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75%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убит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ибольшее количество наездов на пешеходов на загородных дорогах, как показывает статистика, происходит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с 16 до 19 ч и с 0 до 5 ч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028000" y="981000"/>
            <a:ext cx="896760" cy="1224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Статистика ДТ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% всех ДТП случается с легковыми автомоби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% всех ДТП случается с грузовыми автомоби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% ДТП случается с автобу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—7% ДТП случается с мотоцик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1268280"/>
            <a:ext cx="1616040" cy="703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08720" y="2276640"/>
            <a:ext cx="1468440" cy="1147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34440" y="4869000"/>
            <a:ext cx="1104840" cy="1152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164360" y="3573360"/>
            <a:ext cx="1700280" cy="1024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96360" y="5116680"/>
            <a:ext cx="1223640" cy="11919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ВИНОВАТЫ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- взрослы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ьшинство аварий с участием детей происходит по вине взрослых, которые не соблюдают элементарные правила безопасности -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грубо нарушают ПДД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 перевозят несовершеннолетних без специальных удерживающих устройств и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ремней без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 итоге получается ситуация, что дети становятся заложниками взросл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з-за беспечности которых гибну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f3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Больше всего подверже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травматизму на дорог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дети в возраст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т 7 до 14 ле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то есть школьного возраста. </a:t>
            </a:r>
            <a:br>
              <a:rPr sz="40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80360" y="4797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6:18:10Z</dcterms:created>
  <dc:creator>1</dc:creator>
  <dc:description/>
  <dc:language>en-US</dc:language>
  <cp:lastModifiedBy>Elli 2.0 special for GeniEwgen)</cp:lastModifiedBy>
  <dcterms:modified xsi:type="dcterms:W3CDTF">2010-09-14T13:01:16Z</dcterms:modified>
  <cp:revision>26</cp:revision>
  <dc:subject/>
  <dc:title>Слайд 1</dc:title>
</cp:coreProperties>
</file>