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749-9B99-4220-96E7-005CA33E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0DA-75EC-4B12-93A9-CB0C20EE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9ED-5DB4-4926-8E3D-83979248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C63-96B5-4D0E-8F17-FA181DB8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025-1273-4383-9197-8A068B5B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4CD-68E2-457D-A89E-A9B920E2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5FE-9A7D-4076-BD73-CB9D6871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75F-D407-4D28-8E65-8A450BAA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14F-16E9-42C7-BB5F-804BB6A2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405-43C0-455D-9772-2056293C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763-1B9F-4693-93A0-D1C4908C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6EB-942C-4290-8777-B0D2E8C7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A266-5CE1-4E32-AC63-0A487C23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РАВИЛА ДОРОЖНОГО ДВИЖЕНИЯ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И СТАТИСТИКА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ДОРОЖНО-ТРАНСПОРТНЫХ ПРОИСШЕ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3529080" cy="258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51640" y="2565360"/>
            <a:ext cx="1513080" cy="3527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7931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Каждый участник дорожного дви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лжен осознавать свою ответственность за поведение на дорог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ыть внимательн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укоснительно соблюдать прави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ыть вежливым и корректным по отношению к другим водителям и пешехо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ЮНЫЙ ДРУ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ОМНИ И СОБЛЮД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ДОРОЖНЫЕ 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ВСЕГ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338040"/>
            <a:ext cx="1513080" cy="125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627280" y="465120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859280" y="4672080"/>
            <a:ext cx="1513080" cy="149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1511280" cy="223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251840" y="3141720"/>
            <a:ext cx="1603080" cy="3527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451640" y="260280"/>
            <a:ext cx="1368360" cy="1333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Цель мероприятия:</a:t>
            </a:r>
            <a:br>
              <a:rPr sz="2800"/>
            </a:br>
            <a:br>
              <a:rPr sz="9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ировать представления школьников о безопасности дорожного движ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171520"/>
            <a:ext cx="8362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торить правила движения пешеходов по улице и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вать у детей умение находить наиболее безопасный путь от дома до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спитывать уважительное отношение ко всем участникам дорож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15240" cy="586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73800" cy="608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83400" y="1916280"/>
            <a:ext cx="1381320" cy="28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Большинство дорожно-транспортных происшествий совершаются по причин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монадеянности или легкомыслия невнимательности к окружающ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предупреди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достаточной опыт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уважения 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гим людя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брежного отношения к выполнени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оих обяза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, наконец, просто из-за незнания и нарушения «Правил дорожного дви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амые неприятные часы для встречи с пешеходами —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 12 до 20 ч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 эти часы приходится около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80 %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всех раненых и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75%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убит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ибольшее количество наездов на пешеходов на загородных дорогах, как показывает статистика, происходит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 16 до 19 ч и с 0 до 5 ч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028000" y="981000"/>
            <a:ext cx="8967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Статистика ДТ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0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% всех ДТП случается с легковыми автомоби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% всех ДТП случается с грузовыми автомоби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% ДТП случается с автобу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—7% ДТП случается с мотоцик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08720" y="1268280"/>
            <a:ext cx="1616040" cy="70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08720" y="2276640"/>
            <a:ext cx="1468440" cy="114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34440" y="4869000"/>
            <a:ext cx="110484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164360" y="3573360"/>
            <a:ext cx="1700280" cy="1024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96360" y="5116680"/>
            <a:ext cx="1223640" cy="1191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НОВАТЫ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- взрослы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ольшинство аварий с участием детей происходит по вине взрослых, которые не соблюдают элементарные правила безопасности -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грубо нарушают ПДД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перевозят несовершеннолетних без специальных удерживающих устройств и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ремней безопасност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итоге получается ситуация, что дети становятся заложниками взросл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-за беспечности которых гибну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Больше всего подверже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травматизму на дорог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дети в возрас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от 7 до 14 л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то есть школьного возраста. 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80360" y="4797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6:18:10Z</dcterms:created>
  <dc:creator>1</dc:creator>
  <dc:description/>
  <dc:language>en-US</dc:language>
  <cp:lastModifiedBy>Elli 2.0 special for GeniEwgen)</cp:lastModifiedBy>
  <dcterms:modified xsi:type="dcterms:W3CDTF">2010-09-14T13:01:16Z</dcterms:modified>
  <cp:revision>26</cp:revision>
  <dc:subject/>
  <dc:title>Слайд 1</dc:title>
</cp:coreProperties>
</file>