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6AF-A1A3-45BA-9797-0405F3F6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961-77A1-4F9D-B3F6-E6DEBB2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CC2-00AC-461F-AFB8-6F86CAB1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150-B408-44BA-8E23-CE2194AF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BB9-8250-4D59-AA6D-70AEB5E7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315-BDB9-4E39-A542-068C45B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DFA-C352-4AC1-9F3B-1CA5A7C0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FFB-DB13-4F7E-B3B2-AEB40700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92D-2DFD-439E-BEF8-8C523EB9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0C6-0A3E-4639-9FB1-8F9B73B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98E-D1CB-4D72-8073-8F0E81F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2B2-8BA1-4798-84EB-C0799C2A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79E3-C412-4D3E-A067-3D8541C8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РАВИЛА ДОРОЖНОГО ДВИЖЕНИЯ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И СТАТИСТИКА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ОРОЖНО-ТРАНСПОРТНЫХ ПРОИСШЕ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3529080" cy="258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51640" y="2565360"/>
            <a:ext cx="1513080" cy="3527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931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Каждый участник дорожного дв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лжен осознавать свою ответственность за поведение на дорог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ыть внимательн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укоснительно соблюдать прави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ыть вежливым и корректным по отношению к другим водителям и пешех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ЮНЫЙ ДРУ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МНИ И СОБЛЮ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ДОРОЖНЫЕ 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ВСЕГ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338040"/>
            <a:ext cx="1513080" cy="125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27280" y="465120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59280" y="4672080"/>
            <a:ext cx="1513080" cy="149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1511280" cy="223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251840" y="3141720"/>
            <a:ext cx="1603080" cy="352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451640" y="260280"/>
            <a:ext cx="1368360" cy="133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Цель мероприятия:</a:t>
            </a:r>
            <a:br>
              <a:rPr sz="2800"/>
            </a:br>
            <a:br>
              <a:rPr sz="9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ировать представления школьников о безопасности дорожного движ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171520"/>
            <a:ext cx="8362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торить правила движения пешеходов по улице и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вать у детей умение находить наиболее безопасный путь от дома до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спитывать уважительное отношение ко всем участникам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15240" cy="586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73800" cy="608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83400" y="1916280"/>
            <a:ext cx="1381320" cy="28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Большинство дорожно-транспортных происшествий совершаются по причин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онадеянности или легкомыслия невнимательности к окружающ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предупреди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достаточной опыт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уважения 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м люд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брежного отношения к выполнен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оих обяза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, наконец, просто из-за незнания и нарушения «Правил дорожного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амые неприятные часы для встречи с пешеходами —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 12 до 20 ч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 эти часы приходится около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80 %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всех раненых и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75%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убит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ибольшее количество наездов на пешеходов на загородных дорогах, как показывает статистика, происходит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 16 до 19 ч и с 0 до 5 ч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028000" y="981000"/>
            <a:ext cx="8967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Статистика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% всех ДТП случается с легковыми автомоби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% всех ДТП случается с грузовыми автомоби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% ДТП случается с автобу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—7% ДТП случается с мотоцик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08720" y="1268280"/>
            <a:ext cx="1616040" cy="70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08720" y="2276640"/>
            <a:ext cx="1468440" cy="114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34440" y="4869000"/>
            <a:ext cx="110484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164360" y="3573360"/>
            <a:ext cx="1700280" cy="1024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96360" y="5116680"/>
            <a:ext cx="1223640" cy="119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НОВАТЫ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- взрослы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ольшинство аварий с участием детей происходит по вине взрослых, которые не соблюдают элементарные правила безопасности -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грубо нарушают ПДД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перевозят несовершеннолетних без специальных удерживающих устройств и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ремней безопасност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итоге получается ситуация, что дети становятся заложниками взросл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-за беспечности которых гибну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Больше всего подверже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травматизму на дорог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ети в возрас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т 7 до 14 л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то есть школьного возраста. 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80360" y="4797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6:18:10Z</dcterms:created>
  <dc:creator>1</dc:creator>
  <dc:description/>
  <dc:language>en-US</dc:language>
  <cp:lastModifiedBy>Elli 2.0 special for GeniEwgen)</cp:lastModifiedBy>
  <dcterms:modified xsi:type="dcterms:W3CDTF">2010-09-14T13:01:16Z</dcterms:modified>
  <cp:revision>26</cp:revision>
  <dc:subject/>
  <dc:title>Слайд 1</dc:title>
</cp:coreProperties>
</file>