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43.jpeg" ContentType="image/jpeg"/>
  <Override PartName="/ppt/media/image2.wmf" ContentType="image/x-wmf"/>
  <Override PartName="/ppt/media/image13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32.png" ContentType="image/png"/>
  <Override PartName="/ppt/media/image41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26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5.png" ContentType="image/png"/>
  <Override PartName="/ppt/media/image42.jpeg" ContentType="image/jpeg"/>
  <Override PartName="/ppt/media/image36.png" ContentType="image/png"/>
  <Override PartName="/ppt/media/image6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724-F8C5-43A0-9E1F-74398F65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7C4-7F0F-492D-BDF3-3DE386F3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FD9-68DD-48AE-A6DE-030D2A61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129-216E-49E3-862E-285E1761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C6C-5699-4B86-BD88-16D928A6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AEBD-6002-4543-B9D8-AC0095C7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33E1-D2EB-4A4A-8CAA-1754EF6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D63-6F45-4574-A81F-C5CF828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BC7F-A066-4E4D-BE39-DC6CFE9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5A0-0529-4F01-AA55-0D7E9BC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6D70-1766-434C-AFDB-FA661347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51D-5032-4E7B-86AA-8F0C0D59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1D25-A4DE-4EEA-8671-D013EB6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575-C87F-48AD-9206-95CBF8F6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B25B-F9CC-42D6-A940-BD109C5B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522-88EE-4E57-A670-2DAD2D81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17F0-A24B-4253-8AE2-B240E101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84F-5EE7-4D8A-B011-796CBD89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13D-02FA-4FA8-B697-747E87F5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15A-A3B7-4138-85B4-79A5E52D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578-769B-442C-9A51-75DFB22D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705-9309-4037-9E82-3F91C8E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78E-8167-4E4A-9200-F362B89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F7C-31D6-4D20-A82C-EE6228D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Группа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Овал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" name="Овал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4" name="Группа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Овал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Овал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7" name="Группа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Овал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Овал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Группа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Группа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Овал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13" name="Овал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Группа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Группа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Полилиния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Полилиния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Группа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Полилиния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Полилиния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Группа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Полилиния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Полилиния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Группа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Полилиния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Полилиния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Группа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Полилиния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Полилиния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Группа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Полилиния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Полилиния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Группа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Полилиния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Полилиния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Группа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Полилиния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Полилиния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Группа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Полилиния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Полилиния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Группа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Полилиния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Полилиния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Группа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Полилиния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Полилиния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Группа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Полилиния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Полилиния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Группа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Полилиния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Полилиния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Группа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Полилиния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Полилиния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Группа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Полилиния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Полилиния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Группа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Полилиния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Полилиния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Группа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Полилиния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Полилиния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Группа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Полилиния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Полилиния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Группа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Полилиния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Полилиния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Группа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Полилиния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Полилиния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Группа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Полилиния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Полилиния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Полилиния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9" name="Полилиния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Группа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Полилиния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Полилиния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Группа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Полилиния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Полилиния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Группа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Полилиния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Полилиния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Группа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Полилиния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Полилиния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Группа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Полилиния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Полилиния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Группа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Полилиния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Полилиния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Группа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Полилиния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Полилиния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Группа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Полилиния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Полилиния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Группа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Полилиния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Полилиния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Группа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Полилиния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Полилиния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Группа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Полилиния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Полилиния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Полилиния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4" name="Дуга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" name="Дуга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" name="Дуга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7" name="Дуга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8" name="Дуга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9" name="Дуга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0" name="Дуга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1" name="Дуга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2" name="Полилиния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3" name="Полилиния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4" name="Дуга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" name="Дуга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" name="Дуга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7" name="Полилиния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8" name="Полилиния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9" name="Полилиния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0" name="Полилиния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1" name="Полилиния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2" name="Полилиния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3" name="Полилиния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34" name="Полилиния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FE7-26C7-4198-B0A8-15D1204A6F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Группа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Группа 3"/>
            <p:cNvGrpSpPr/>
            <p:nvPr/>
          </p:nvGrpSpPr>
          <p:grpSpPr>
            <a:xfrm>
              <a:off x="3486240" y="954000"/>
              <a:ext cx="945000" cy="709560"/>
              <a:chOff x="3486240" y="954000"/>
              <a:chExt cx="945000" cy="709560"/>
            </a:xfrm>
          </p:grpSpPr>
          <p:sp>
            <p:nvSpPr>
              <p:cNvPr id="178" name="Овал 4"/>
              <p:cNvSpPr/>
              <p:nvPr/>
            </p:nvSpPr>
            <p:spPr>
              <a:xfrm>
                <a:off x="3486240" y="954000"/>
                <a:ext cx="9450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79" name="Овал 5"/>
              <p:cNvSpPr/>
              <p:nvPr/>
            </p:nvSpPr>
            <p:spPr>
              <a:xfrm>
                <a:off x="3825720" y="126576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Группа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Группа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Группа 8"/>
                <p:cNvGrpSpPr/>
                <p:nvPr/>
              </p:nvGrpSpPr>
              <p:grpSpPr>
                <a:xfrm>
                  <a:off x="3736800" y="1267200"/>
                  <a:ext cx="3598200" cy="2651040"/>
                  <a:chOff x="3736800" y="1267200"/>
                  <a:chExt cx="3598200" cy="2651040"/>
                </a:xfrm>
              </p:grpSpPr>
              <p:sp>
                <p:nvSpPr>
                  <p:cNvPr id="183" name="Овал 9"/>
                  <p:cNvSpPr/>
                  <p:nvPr/>
                </p:nvSpPr>
                <p:spPr>
                  <a:xfrm>
                    <a:off x="3736800" y="1267200"/>
                    <a:ext cx="359820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Овал 10"/>
                  <p:cNvSpPr/>
                  <p:nvPr/>
                </p:nvSpPr>
                <p:spPr>
                  <a:xfrm>
                    <a:off x="511020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Группа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Группа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Полилиния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Полилиния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Группа 15"/>
                  <p:cNvGrpSpPr/>
                  <p:nvPr/>
                </p:nvGrpSpPr>
                <p:grpSpPr>
                  <a:xfrm>
                    <a:off x="5788080" y="2149200"/>
                    <a:ext cx="3039480" cy="2528640"/>
                    <a:chOff x="5788080" y="2149200"/>
                    <a:chExt cx="3039480" cy="2528640"/>
                  </a:xfrm>
                </p:grpSpPr>
                <p:sp>
                  <p:nvSpPr>
                    <p:cNvPr id="190" name="Полилиния 16"/>
                    <p:cNvSpPr/>
                    <p:nvPr/>
                  </p:nvSpPr>
                  <p:spPr>
                    <a:xfrm rot="2103600">
                      <a:off x="5707440" y="2752920"/>
                      <a:ext cx="223704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Полилиния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Группа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Полилиния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Полилиния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Группа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Полилиния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Полилиния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Группа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Полилиния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Полилиния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Группа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Полилиния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Полилиния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Группа 30"/>
                  <p:cNvGrpSpPr/>
                  <p:nvPr/>
                </p:nvGrpSpPr>
                <p:grpSpPr>
                  <a:xfrm>
                    <a:off x="5788440" y="1305720"/>
                    <a:ext cx="2363400" cy="785160"/>
                    <a:chOff x="5788440" y="1305720"/>
                    <a:chExt cx="2363400" cy="785160"/>
                  </a:xfrm>
                </p:grpSpPr>
                <p:sp>
                  <p:nvSpPr>
                    <p:cNvPr id="205" name="Полилиния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Полилиния 32"/>
                    <p:cNvSpPr/>
                    <p:nvPr/>
                  </p:nvSpPr>
                  <p:spPr>
                    <a:xfrm rot="20797200">
                      <a:off x="7299720" y="1394280"/>
                      <a:ext cx="81504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Группа 33"/>
                  <p:cNvGrpSpPr/>
                  <p:nvPr/>
                </p:nvGrpSpPr>
                <p:grpSpPr>
                  <a:xfrm>
                    <a:off x="2646000" y="2474640"/>
                    <a:ext cx="2556720" cy="2741760"/>
                    <a:chOff x="2646000" y="2474640"/>
                    <a:chExt cx="2556720" cy="2741760"/>
                  </a:xfrm>
                </p:grpSpPr>
                <p:sp>
                  <p:nvSpPr>
                    <p:cNvPr id="208" name="Полилиния 34"/>
                    <p:cNvSpPr/>
                    <p:nvPr/>
                  </p:nvSpPr>
                  <p:spPr>
                    <a:xfrm flipH="1" rot="18888600">
                      <a:off x="3254400" y="3171960"/>
                      <a:ext cx="212580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Полилиния 35"/>
                    <p:cNvSpPr/>
                    <p:nvPr/>
                  </p:nvSpPr>
                  <p:spPr>
                    <a:xfrm flipH="1" rot="18888600">
                      <a:off x="2691000" y="4297320"/>
                      <a:ext cx="114156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Группа 36"/>
                  <p:cNvGrpSpPr/>
                  <p:nvPr/>
                </p:nvGrpSpPr>
                <p:grpSpPr>
                  <a:xfrm>
                    <a:off x="2085120" y="2366640"/>
                    <a:ext cx="3041280" cy="2530440"/>
                    <a:chOff x="2085120" y="2366640"/>
                    <a:chExt cx="3041280" cy="2530440"/>
                  </a:xfrm>
                </p:grpSpPr>
                <p:sp>
                  <p:nvSpPr>
                    <p:cNvPr id="211" name="Полилиния 37"/>
                    <p:cNvSpPr/>
                    <p:nvPr/>
                  </p:nvSpPr>
                  <p:spPr>
                    <a:xfrm flipH="1" rot="19496400">
                      <a:off x="2969280" y="2970000"/>
                      <a:ext cx="223668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Полилиния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Группа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Полилиния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Полилиния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Группа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Полилиния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Полилиния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Группа 45"/>
                  <p:cNvGrpSpPr/>
                  <p:nvPr/>
                </p:nvGrpSpPr>
                <p:grpSpPr>
                  <a:xfrm>
                    <a:off x="2167560" y="2098080"/>
                    <a:ext cx="2940120" cy="1000800"/>
                    <a:chOff x="2167560" y="2098080"/>
                    <a:chExt cx="2940120" cy="1000800"/>
                  </a:xfrm>
                </p:grpSpPr>
                <p:sp>
                  <p:nvSpPr>
                    <p:cNvPr id="220" name="Полилиния 46"/>
                    <p:cNvSpPr/>
                    <p:nvPr/>
                  </p:nvSpPr>
                  <p:spPr>
                    <a:xfrm flipH="1" rot="21136800">
                      <a:off x="3185280" y="222408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Полилиния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Группа 48"/>
                  <p:cNvGrpSpPr/>
                  <p:nvPr/>
                </p:nvGrpSpPr>
                <p:grpSpPr>
                  <a:xfrm>
                    <a:off x="2402280" y="2032560"/>
                    <a:ext cx="2660400" cy="447120"/>
                    <a:chOff x="2402280" y="2032560"/>
                    <a:chExt cx="2660400" cy="447120"/>
                  </a:xfrm>
                </p:grpSpPr>
                <p:sp>
                  <p:nvSpPr>
                    <p:cNvPr id="223" name="Полилиния 49"/>
                    <p:cNvSpPr/>
                    <p:nvPr/>
                  </p:nvSpPr>
                  <p:spPr>
                    <a:xfrm flipH="1" rot="84600">
                      <a:off x="3328200" y="2069640"/>
                      <a:ext cx="173124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Полилиния 50"/>
                    <p:cNvSpPr/>
                    <p:nvPr/>
                  </p:nvSpPr>
                  <p:spPr>
                    <a:xfrm flipH="1" rot="84600">
                      <a:off x="240732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Группа 51"/>
                  <p:cNvGrpSpPr/>
                  <p:nvPr/>
                </p:nvGrpSpPr>
                <p:grpSpPr>
                  <a:xfrm>
                    <a:off x="2760840" y="1522800"/>
                    <a:ext cx="2363760" cy="786960"/>
                    <a:chOff x="2760840" y="1522800"/>
                    <a:chExt cx="2363760" cy="786960"/>
                  </a:xfrm>
                </p:grpSpPr>
                <p:sp>
                  <p:nvSpPr>
                    <p:cNvPr id="226" name="Полилиния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Полилиния 53"/>
                    <p:cNvSpPr/>
                    <p:nvPr/>
                  </p:nvSpPr>
                  <p:spPr>
                    <a:xfrm flipH="1" rot="802800">
                      <a:off x="2797560" y="161136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Группа 54"/>
                  <p:cNvGrpSpPr/>
                  <p:nvPr/>
                </p:nvGrpSpPr>
                <p:grpSpPr>
                  <a:xfrm>
                    <a:off x="2887200" y="1237680"/>
                    <a:ext cx="2325240" cy="1082880"/>
                    <a:chOff x="2887200" y="1237680"/>
                    <a:chExt cx="2325240" cy="1082880"/>
                  </a:xfrm>
                </p:grpSpPr>
                <p:sp>
                  <p:nvSpPr>
                    <p:cNvPr id="229" name="Полилиния 55"/>
                    <p:cNvSpPr/>
                    <p:nvPr/>
                  </p:nvSpPr>
                  <p:spPr>
                    <a:xfrm flipH="1" rot="1278000">
                      <a:off x="369576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Полилиния 56"/>
                    <p:cNvSpPr/>
                    <p:nvPr/>
                  </p:nvSpPr>
                  <p:spPr>
                    <a:xfrm flipH="1" rot="1278000">
                      <a:off x="2934360" y="1371960"/>
                      <a:ext cx="8175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Группа 57"/>
                  <p:cNvGrpSpPr/>
                  <p:nvPr/>
                </p:nvGrpSpPr>
                <p:grpSpPr>
                  <a:xfrm>
                    <a:off x="3160440" y="832680"/>
                    <a:ext cx="2170800" cy="1506600"/>
                    <a:chOff x="3160440" y="832680"/>
                    <a:chExt cx="2170800" cy="1506600"/>
                  </a:xfrm>
                </p:grpSpPr>
                <p:sp>
                  <p:nvSpPr>
                    <p:cNvPr id="232" name="Полилиния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Полилиния 59"/>
                    <p:cNvSpPr/>
                    <p:nvPr/>
                  </p:nvSpPr>
                  <p:spPr>
                    <a:xfrm flipH="1" rot="2028600">
                      <a:off x="3206520" y="1024200"/>
                      <a:ext cx="81504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Группа 60"/>
                  <p:cNvGrpSpPr/>
                  <p:nvPr/>
                </p:nvGrpSpPr>
                <p:grpSpPr>
                  <a:xfrm>
                    <a:off x="3436200" y="436320"/>
                    <a:ext cx="1988640" cy="1831320"/>
                    <a:chOff x="3436200" y="436320"/>
                    <a:chExt cx="1988640" cy="1831320"/>
                  </a:xfrm>
                </p:grpSpPr>
                <p:sp>
                  <p:nvSpPr>
                    <p:cNvPr id="235" name="Полилиния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Полилиния 62"/>
                    <p:cNvSpPr/>
                    <p:nvPr/>
                  </p:nvSpPr>
                  <p:spPr>
                    <a:xfrm flipH="1" rot="2664600">
                      <a:off x="346392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Группа 63"/>
                  <p:cNvGrpSpPr/>
                  <p:nvPr/>
                </p:nvGrpSpPr>
                <p:grpSpPr>
                  <a:xfrm>
                    <a:off x="4027680" y="335880"/>
                    <a:ext cx="1460880" cy="1886040"/>
                    <a:chOff x="4027680" y="335880"/>
                    <a:chExt cx="1460880" cy="1886040"/>
                  </a:xfrm>
                </p:grpSpPr>
                <p:sp>
                  <p:nvSpPr>
                    <p:cNvPr id="238" name="Полилиния 64"/>
                    <p:cNvSpPr/>
                    <p:nvPr/>
                  </p:nvSpPr>
                  <p:spPr>
                    <a:xfrm flipH="1" rot="3474000">
                      <a:off x="4336560" y="144396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Полилиния 65"/>
                    <p:cNvSpPr/>
                    <p:nvPr/>
                  </p:nvSpPr>
                  <p:spPr>
                    <a:xfrm flipH="1" rot="3474000">
                      <a:off x="4032720" y="546840"/>
                      <a:ext cx="72900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Группа 66"/>
                  <p:cNvGrpSpPr/>
                  <p:nvPr/>
                </p:nvGrpSpPr>
                <p:grpSpPr>
                  <a:xfrm>
                    <a:off x="4448160" y="245520"/>
                    <a:ext cx="1122120" cy="1946880"/>
                    <a:chOff x="4448160" y="245520"/>
                    <a:chExt cx="1122120" cy="1946880"/>
                  </a:xfrm>
                </p:grpSpPr>
                <p:sp>
                  <p:nvSpPr>
                    <p:cNvPr id="241" name="Полилиния 67"/>
                    <p:cNvSpPr/>
                    <p:nvPr/>
                  </p:nvSpPr>
                  <p:spPr>
                    <a:xfrm flipH="1" rot="4126800">
                      <a:off x="455580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Полилиния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Группа 69"/>
                  <p:cNvGrpSpPr/>
                  <p:nvPr/>
                </p:nvGrpSpPr>
                <p:grpSpPr>
                  <a:xfrm>
                    <a:off x="5661720" y="952560"/>
                    <a:ext cx="2316240" cy="1112040"/>
                    <a:chOff x="5661720" y="952560"/>
                    <a:chExt cx="2316240" cy="1112040"/>
                  </a:xfrm>
                </p:grpSpPr>
                <p:sp>
                  <p:nvSpPr>
                    <p:cNvPr id="244" name="Полилиния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Полилиния 71"/>
                    <p:cNvSpPr/>
                    <p:nvPr/>
                  </p:nvSpPr>
                  <p:spPr>
                    <a:xfrm rot="20274000">
                      <a:off x="7114320" y="1090440"/>
                      <a:ext cx="81504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Группа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Полилиния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Полилиния 74"/>
                    <p:cNvSpPr/>
                    <p:nvPr/>
                  </p:nvSpPr>
                  <p:spPr>
                    <a:xfrm rot="19678800">
                      <a:off x="6865200" y="810720"/>
                      <a:ext cx="81504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Полилиния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Полилиния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Группа 77"/>
                  <p:cNvGrpSpPr/>
                  <p:nvPr/>
                </p:nvGrpSpPr>
                <p:grpSpPr>
                  <a:xfrm>
                    <a:off x="5356800" y="270360"/>
                    <a:ext cx="1195560" cy="1900800"/>
                    <a:chOff x="5356800" y="270360"/>
                    <a:chExt cx="1195560" cy="1900800"/>
                  </a:xfrm>
                </p:grpSpPr>
                <p:sp>
                  <p:nvSpPr>
                    <p:cNvPr id="252" name="Полилиния 78"/>
                    <p:cNvSpPr/>
                    <p:nvPr/>
                  </p:nvSpPr>
                  <p:spPr>
                    <a:xfrm rot="17742000">
                      <a:off x="508788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Полилиния 79"/>
                    <p:cNvSpPr/>
                    <p:nvPr/>
                  </p:nvSpPr>
                  <p:spPr>
                    <a:xfrm rot="17742000">
                      <a:off x="588852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Группа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Полилиния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Полилиния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Группа 83"/>
                  <p:cNvGrpSpPr/>
                  <p:nvPr/>
                </p:nvGrpSpPr>
                <p:grpSpPr>
                  <a:xfrm>
                    <a:off x="5458320" y="292680"/>
                    <a:ext cx="425880" cy="1795320"/>
                    <a:chOff x="5458320" y="292680"/>
                    <a:chExt cx="425880" cy="1795320"/>
                  </a:xfrm>
                </p:grpSpPr>
                <p:sp>
                  <p:nvSpPr>
                    <p:cNvPr id="258" name="Полилиния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Полилиния 223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Группа 86"/>
                  <p:cNvGrpSpPr/>
                  <p:nvPr/>
                </p:nvGrpSpPr>
                <p:grpSpPr>
                  <a:xfrm>
                    <a:off x="3062160" y="2530080"/>
                    <a:ext cx="2196000" cy="3002400"/>
                    <a:chOff x="3062160" y="2530080"/>
                    <a:chExt cx="2196000" cy="3002400"/>
                  </a:xfrm>
                </p:grpSpPr>
                <p:sp>
                  <p:nvSpPr>
                    <p:cNvPr id="261" name="Полилиния 87"/>
                    <p:cNvSpPr/>
                    <p:nvPr/>
                  </p:nvSpPr>
                  <p:spPr>
                    <a:xfrm flipH="1" rot="18336000">
                      <a:off x="3419640" y="3313440"/>
                      <a:ext cx="212544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Полилиния 88"/>
                    <p:cNvSpPr/>
                    <p:nvPr/>
                  </p:nvSpPr>
                  <p:spPr>
                    <a:xfrm flipH="1" rot="18336000">
                      <a:off x="306936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Группа 89"/>
                  <p:cNvGrpSpPr/>
                  <p:nvPr/>
                </p:nvGrpSpPr>
                <p:grpSpPr>
                  <a:xfrm>
                    <a:off x="3791520" y="2650320"/>
                    <a:ext cx="1483920" cy="2999160"/>
                    <a:chOff x="3791520" y="2650320"/>
                    <a:chExt cx="1483920" cy="2999160"/>
                  </a:xfrm>
                </p:grpSpPr>
                <p:sp>
                  <p:nvSpPr>
                    <p:cNvPr id="264" name="Полилиния 90"/>
                    <p:cNvSpPr/>
                    <p:nvPr/>
                  </p:nvSpPr>
                  <p:spPr>
                    <a:xfrm flipH="1" rot="17543400">
                      <a:off x="373896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Полилиния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Группа 92"/>
                  <p:cNvGrpSpPr/>
                  <p:nvPr/>
                </p:nvGrpSpPr>
                <p:grpSpPr>
                  <a:xfrm>
                    <a:off x="4507920" y="2702160"/>
                    <a:ext cx="872280" cy="2926800"/>
                    <a:chOff x="4507920" y="2702160"/>
                    <a:chExt cx="872280" cy="2926800"/>
                  </a:xfrm>
                </p:grpSpPr>
                <p:sp>
                  <p:nvSpPr>
                    <p:cNvPr id="267" name="Полилиния 93"/>
                    <p:cNvSpPr/>
                    <p:nvPr/>
                  </p:nvSpPr>
                  <p:spPr>
                    <a:xfrm flipH="1" rot="16870800">
                      <a:off x="4084200" y="3488040"/>
                      <a:ext cx="188676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Полилиния 94"/>
                    <p:cNvSpPr/>
                    <p:nvPr/>
                  </p:nvSpPr>
                  <p:spPr>
                    <a:xfrm flipH="1" rot="16870800">
                      <a:off x="4365720" y="4808160"/>
                      <a:ext cx="1012320" cy="54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Группа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Полилиния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Полилиния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Группа 98"/>
                  <p:cNvGrpSpPr/>
                  <p:nvPr/>
                </p:nvGrpSpPr>
                <p:grpSpPr>
                  <a:xfrm>
                    <a:off x="5648400" y="2594520"/>
                    <a:ext cx="1757520" cy="3030120"/>
                    <a:chOff x="5648400" y="2594520"/>
                    <a:chExt cx="1757520" cy="3030120"/>
                  </a:xfrm>
                </p:grpSpPr>
                <p:sp>
                  <p:nvSpPr>
                    <p:cNvPr id="273" name="Полилиния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Полилиния 100"/>
                    <p:cNvSpPr/>
                    <p:nvPr/>
                  </p:nvSpPr>
                  <p:spPr>
                    <a:xfrm rot="3745200">
                      <a:off x="635328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Группа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Полилиния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Полилиния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Группа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Полилиния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Полилиния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Группа 107"/>
                  <p:cNvGrpSpPr/>
                  <p:nvPr/>
                </p:nvGrpSpPr>
                <p:grpSpPr>
                  <a:xfrm>
                    <a:off x="4959360" y="2887560"/>
                    <a:ext cx="664920" cy="2717640"/>
                    <a:chOff x="4959360" y="2887560"/>
                    <a:chExt cx="664920" cy="2717640"/>
                  </a:xfrm>
                </p:grpSpPr>
                <p:sp>
                  <p:nvSpPr>
                    <p:cNvPr id="282" name="Полилиния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Полилиния 109"/>
                    <p:cNvSpPr/>
                    <p:nvPr/>
                  </p:nvSpPr>
                  <p:spPr>
                    <a:xfrm rot="5755200">
                      <a:off x="471348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Группа 110"/>
              <p:cNvGrpSpPr/>
              <p:nvPr/>
            </p:nvGrpSpPr>
            <p:grpSpPr>
              <a:xfrm>
                <a:off x="2176920" y="682560"/>
                <a:ext cx="6730200" cy="4521240"/>
                <a:chOff x="2176920" y="682560"/>
                <a:chExt cx="6730200" cy="4521240"/>
              </a:xfrm>
            </p:grpSpPr>
            <p:grpSp>
              <p:nvGrpSpPr>
                <p:cNvPr id="285" name="Группа 111"/>
                <p:cNvGrpSpPr/>
                <p:nvPr/>
              </p:nvGrpSpPr>
              <p:grpSpPr>
                <a:xfrm>
                  <a:off x="2176920" y="682560"/>
                  <a:ext cx="6730200" cy="4521240"/>
                  <a:chOff x="2176920" y="682560"/>
                  <a:chExt cx="6730200" cy="4521240"/>
                </a:xfrm>
              </p:grpSpPr>
              <p:sp>
                <p:nvSpPr>
                  <p:cNvPr id="286" name="Дуга 112"/>
                  <p:cNvSpPr/>
                  <p:nvPr/>
                </p:nvSpPr>
                <p:spPr>
                  <a:xfrm flipV="1">
                    <a:off x="5741640" y="857880"/>
                    <a:ext cx="31654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Дуга 113"/>
                  <p:cNvSpPr/>
                  <p:nvPr/>
                </p:nvSpPr>
                <p:spPr>
                  <a:xfrm flipH="1">
                    <a:off x="256320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Дуга 114"/>
                  <p:cNvSpPr/>
                  <p:nvPr/>
                </p:nvSpPr>
                <p:spPr>
                  <a:xfrm>
                    <a:off x="581940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Дуга 115"/>
                  <p:cNvSpPr/>
                  <p:nvPr/>
                </p:nvSpPr>
                <p:spPr>
                  <a:xfrm flipH="1">
                    <a:off x="2176920" y="1297800"/>
                    <a:ext cx="313200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Дуга 116"/>
                  <p:cNvSpPr/>
                  <p:nvPr/>
                </p:nvSpPr>
                <p:spPr>
                  <a:xfrm flipH="1">
                    <a:off x="3057840" y="682560"/>
                    <a:ext cx="228132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Дуга 117"/>
                  <p:cNvSpPr/>
                  <p:nvPr/>
                </p:nvSpPr>
                <p:spPr>
                  <a:xfrm>
                    <a:off x="549252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Полилиния 118"/>
                  <p:cNvSpPr/>
                  <p:nvPr/>
                </p:nvSpPr>
                <p:spPr>
                  <a:xfrm flipH="1">
                    <a:off x="430344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Полилиния 119"/>
                <p:cNvSpPr/>
                <p:nvPr/>
              </p:nvSpPr>
              <p:spPr>
                <a:xfrm rot="20253000">
                  <a:off x="612864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Группа 120"/>
            <p:cNvGrpSpPr/>
            <p:nvPr/>
          </p:nvGrpSpPr>
          <p:grpSpPr>
            <a:xfrm>
              <a:off x="2347560" y="719280"/>
              <a:ext cx="6407280" cy="4708080"/>
              <a:chOff x="2347560" y="719280"/>
              <a:chExt cx="6407280" cy="4708080"/>
            </a:xfrm>
          </p:grpSpPr>
          <p:sp>
            <p:nvSpPr>
              <p:cNvPr id="295" name="Полилиния 121"/>
              <p:cNvSpPr/>
              <p:nvPr/>
            </p:nvSpPr>
            <p:spPr>
              <a:xfrm flipH="1">
                <a:off x="4472640" y="324108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6" name="Дуга 122"/>
              <p:cNvSpPr/>
              <p:nvPr/>
            </p:nvSpPr>
            <p:spPr>
              <a:xfrm flipH="1">
                <a:off x="3387240" y="2586240"/>
                <a:ext cx="2615400" cy="28411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7" name="Дуга 123"/>
              <p:cNvSpPr/>
              <p:nvPr/>
            </p:nvSpPr>
            <p:spPr>
              <a:xfrm flipH="1">
                <a:off x="3648600" y="2128680"/>
                <a:ext cx="15332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8" name="Дуга 124"/>
              <p:cNvSpPr/>
              <p:nvPr/>
            </p:nvSpPr>
            <p:spPr>
              <a:xfrm flipH="1">
                <a:off x="2347560" y="1745280"/>
                <a:ext cx="292896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299" name="Дуга 125"/>
              <p:cNvSpPr/>
              <p:nvPr/>
            </p:nvSpPr>
            <p:spPr>
              <a:xfrm>
                <a:off x="5589360" y="2157120"/>
                <a:ext cx="469440" cy="293400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0" name="Дуга 126"/>
              <p:cNvSpPr/>
              <p:nvPr/>
            </p:nvSpPr>
            <p:spPr>
              <a:xfrm>
                <a:off x="5712840" y="2143440"/>
                <a:ext cx="1237320" cy="29340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1" name="Полилиния 127"/>
              <p:cNvSpPr/>
              <p:nvPr/>
            </p:nvSpPr>
            <p:spPr>
              <a:xfrm>
                <a:off x="6156360" y="3553200"/>
                <a:ext cx="597600" cy="182376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2" name="Полилиния 128"/>
              <p:cNvSpPr/>
              <p:nvPr/>
            </p:nvSpPr>
            <p:spPr>
              <a:xfrm flipV="1" rot="19660800">
                <a:off x="5227920" y="2952720"/>
                <a:ext cx="543240" cy="103356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3" name="Полилиния 129"/>
              <p:cNvSpPr/>
              <p:nvPr/>
            </p:nvSpPr>
            <p:spPr>
              <a:xfrm flipH="1">
                <a:off x="2690640" y="3390480"/>
                <a:ext cx="133740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4" name="Полилиния 130"/>
              <p:cNvSpPr/>
              <p:nvPr/>
            </p:nvSpPr>
            <p:spPr>
              <a:xfrm flipH="1">
                <a:off x="3320640" y="1404720"/>
                <a:ext cx="857880" cy="18792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5" name="Полилиния 131"/>
              <p:cNvSpPr/>
              <p:nvPr/>
            </p:nvSpPr>
            <p:spPr>
              <a:xfrm>
                <a:off x="7513560" y="3114360"/>
                <a:ext cx="1241280" cy="1974240"/>
              </a:xfrm>
              <a:prstGeom prst="pie">
                <a:avLst/>
              </a:pr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6" name="Полилиния 132"/>
              <p:cNvSpPr/>
              <p:nvPr/>
            </p:nvSpPr>
            <p:spPr>
              <a:xfrm>
                <a:off x="6869160" y="2116440"/>
                <a:ext cx="1870920" cy="131580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7" name="Полилиния 133"/>
              <p:cNvSpPr/>
              <p:nvPr/>
            </p:nvSpPr>
            <p:spPr>
              <a:xfrm>
                <a:off x="6937920" y="719280"/>
                <a:ext cx="818280" cy="1768320"/>
              </a:xfrm>
              <a:prstGeom prst="pie">
                <a:avLst/>
              </a:pr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08" name="Полилиния 134"/>
              <p:cNvSpPr/>
              <p:nvPr/>
            </p:nvSpPr>
            <p:spPr>
              <a:xfrm flipH="1" rot="1347000">
                <a:off x="4185720" y="21603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739-9E0E-497A-80ED-83F986189E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              </a:t>
            </a:r>
            <a:r>
              <a:rPr b="1" lang="ru-RU" sz="2800" spc="-1" strike="noStrike">
                <a:solidFill>
                  <a:srgbClr val="ff9966"/>
                </a:solidFill>
                <a:latin typeface="Arial Black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 Black"/>
              </a:rPr>
              <a:t>Учебные вопросы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Аварии на пожаро- и взрывоопасных объекта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взрыв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бщие сведения о пожаре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ичины возникновения пожаров и взрывов и их последств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сновные поражающие факторы пожаров и взрыв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авила безопасного поведения при пожарах и взрыва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жары и паник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Цели: по окончании изучения темы учащиеся должны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а) Знать: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 </a:t>
            </a: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правила безопасного поведения при пожаре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основные мероприятия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б) владеть навыками выполнения мероприятий по защите населения от пожаров и взрывов;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9966"/>
                </a:solidFill>
                <a:latin typeface="Arial Black"/>
              </a:rPr>
              <a:t>в) иметь представление о последствиях пожаров и взрывов, мерах, принимаемых по защите от них населени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2" name="Рисунок 4" descr="вода"/>
          <p:cNvPicPr/>
          <p:nvPr/>
        </p:nvPicPr>
        <p:blipFill>
          <a:blip r:embed="rId1"/>
          <a:stretch/>
        </p:blipFill>
        <p:spPr>
          <a:xfrm>
            <a:off x="0" y="0"/>
            <a:ext cx="28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" dur="500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7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2525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9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26684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. 4"/>
          <p:cNvSpPr/>
          <p:nvPr/>
        </p:nvSpPr>
        <p:spPr>
          <a:xfrm>
            <a:off x="250920" y="1773360"/>
            <a:ext cx="8532720" cy="482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Автофигура 5"/>
          <p:cNvSpPr/>
          <p:nvPr/>
        </p:nvSpPr>
        <p:spPr>
          <a:xfrm>
            <a:off x="2268360" y="1844640"/>
            <a:ext cx="1143000" cy="64764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Горюче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вещество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Автофигура 6"/>
          <p:cNvSpPr/>
          <p:nvPr/>
        </p:nvSpPr>
        <p:spPr>
          <a:xfrm>
            <a:off x="396720" y="3860640"/>
            <a:ext cx="1257480" cy="56700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точник воспламе-нения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Автофигура 7"/>
          <p:cNvSpPr/>
          <p:nvPr/>
        </p:nvSpPr>
        <p:spPr>
          <a:xfrm>
            <a:off x="3708360" y="3932280"/>
            <a:ext cx="1295280" cy="57780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Окислител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Рисунок 8" descr=""/>
          <p:cNvPicPr/>
          <p:nvPr/>
        </p:nvPicPr>
        <p:blipFill>
          <a:blip r:embed="rId6"/>
          <a:stretch/>
        </p:blipFill>
        <p:spPr>
          <a:xfrm>
            <a:off x="2341440" y="2924280"/>
            <a:ext cx="1081080" cy="1025280"/>
          </a:xfrm>
          <a:prstGeom prst="rect">
            <a:avLst/>
          </a:prstGeom>
          <a:ln w="0">
            <a:noFill/>
          </a:ln>
        </p:spPr>
      </p:pic>
      <p:sp>
        <p:nvSpPr>
          <p:cNvPr id="435" name="Линия 9"/>
          <p:cNvSpPr/>
          <p:nvPr/>
        </p:nvSpPr>
        <p:spPr>
          <a:xfrm flipV="1">
            <a:off x="468360" y="1916280"/>
            <a:ext cx="1873080" cy="2016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Линия 10"/>
          <p:cNvSpPr/>
          <p:nvPr/>
        </p:nvSpPr>
        <p:spPr>
          <a:xfrm>
            <a:off x="3349800" y="1987560"/>
            <a:ext cx="1582560" cy="2089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Линия 11"/>
          <p:cNvSpPr/>
          <p:nvPr/>
        </p:nvSpPr>
        <p:spPr>
          <a:xfrm>
            <a:off x="1332000" y="4435560"/>
            <a:ext cx="2736720" cy="73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Прямоуг. 12"/>
          <p:cNvSpPr/>
          <p:nvPr/>
        </p:nvSpPr>
        <p:spPr>
          <a:xfrm>
            <a:off x="5219640" y="2060640"/>
            <a:ext cx="3240000" cy="2232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 воспламенения –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який тепловой импульс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ющий температуру 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ас тепла, достат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нагревания вещест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озникновения гор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Автофигура 13"/>
          <p:cNvSpPr/>
          <p:nvPr/>
        </p:nvSpPr>
        <p:spPr>
          <a:xfrm>
            <a:off x="3276720" y="620640"/>
            <a:ext cx="3497040" cy="102888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словия возникнов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жар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Прямоуг. 14"/>
          <p:cNvSpPr/>
          <p:nvPr/>
        </p:nvSpPr>
        <p:spPr>
          <a:xfrm>
            <a:off x="900000" y="4581360"/>
            <a:ext cx="7345440" cy="1800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Горение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имическая реакция окисления вещества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аяся большим выделением тепла и ярк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ение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ожар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это неконтролируемый процесс горения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ровождающийся уничтожением материальных ценносте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оздающий опасность для жизни и здоровья людей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38862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59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Основные причины возникновения пожар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2. На промышленных предприятия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, допущенные при проектировании и строительстве зданий и сооружений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соблюдение простейших мер пожарной безопасности производственным персонало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осторожное обращение с огн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технологической дисциплины (напр. сварочные работы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е правил безопасности при эксплуатации электрооборудования и электроустановок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эксплуатация неисправного оборудования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3" name="Рисунок 4" descr="File0029"/>
          <p:cNvPicPr/>
          <p:nvPr/>
        </p:nvPicPr>
        <p:blipFill>
          <a:blip r:embed="rId1"/>
          <a:stretch/>
        </p:blipFill>
        <p:spPr>
          <a:xfrm>
            <a:off x="6202440" y="1557360"/>
            <a:ext cx="2754360" cy="4176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641480" y="4114440"/>
            <a:ext cx="3816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8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8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8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8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8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800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8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5" name="Автофигура 2"/>
          <p:cNvCxnSpPr>
            <a:stCxn id="446" idx="0"/>
            <a:endCxn id="447" idx="0"/>
          </p:cNvCxnSpPr>
          <p:nvPr/>
        </p:nvCxnSpPr>
        <p:spPr>
          <a:xfrm flipH="1">
            <a:off x="2700000" y="2597040"/>
            <a:ext cx="194544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48" name="Автофигура 3"/>
          <p:cNvCxnSpPr>
            <a:stCxn id="446" idx="1"/>
            <a:endCxn id="449" idx="0"/>
          </p:cNvCxnSpPr>
          <p:nvPr/>
        </p:nvCxnSpPr>
        <p:spPr>
          <a:xfrm>
            <a:off x="4644720" y="2597040"/>
            <a:ext cx="1873800" cy="23313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7320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1" name="Рисунок 5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446" name="Автофигура 6"/>
          <p:cNvSpPr/>
          <p:nvPr/>
        </p:nvSpPr>
        <p:spPr>
          <a:xfrm>
            <a:off x="3492360" y="1700280"/>
            <a:ext cx="2303640" cy="1008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28440">
            <a:solidFill>
              <a:srgbClr val="d159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ажающие факторы 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Автофигура 7"/>
          <p:cNvSpPr/>
          <p:nvPr/>
        </p:nvSpPr>
        <p:spPr>
          <a:xfrm>
            <a:off x="395280" y="3429000"/>
            <a:ext cx="2448000" cy="1141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льшое количество тепла, выделяемого в зоне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Автофигура 8"/>
          <p:cNvSpPr/>
          <p:nvPr/>
        </p:nvSpPr>
        <p:spPr>
          <a:xfrm>
            <a:off x="6443640" y="3429000"/>
            <a:ext cx="2305080" cy="11523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ысокая токсичность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дуктов 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Автофигура 9"/>
          <p:cNvSpPr/>
          <p:nvPr/>
        </p:nvSpPr>
        <p:spPr>
          <a:xfrm>
            <a:off x="1258920" y="4941720"/>
            <a:ext cx="2881440" cy="89244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теря видимост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ледствие задым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Автофигура 10"/>
          <p:cNvSpPr/>
          <p:nvPr/>
        </p:nvSpPr>
        <p:spPr>
          <a:xfrm>
            <a:off x="5076720" y="4941720"/>
            <a:ext cx="2881440" cy="8636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чительное пониж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центрации кислород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Автофигура 11"/>
          <p:cNvSpPr/>
          <p:nvPr/>
        </p:nvSpPr>
        <p:spPr>
          <a:xfrm>
            <a:off x="3346560" y="3429000"/>
            <a:ext cx="2592360" cy="1152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сокая температура в результате интенсивного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пловыдел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55" name="Автофигура 12"/>
          <p:cNvCxnSpPr>
            <a:stCxn id="446" idx="2"/>
            <a:endCxn id="453" idx="0"/>
          </p:cNvCxnSpPr>
          <p:nvPr/>
        </p:nvCxnSpPr>
        <p:spPr>
          <a:xfrm>
            <a:off x="4645080" y="2722680"/>
            <a:ext cx="295200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6" name="Автофигура 13"/>
          <p:cNvCxnSpPr>
            <a:stCxn id="446" idx="3"/>
            <a:endCxn id="452" idx="0"/>
          </p:cNvCxnSpPr>
          <p:nvPr/>
        </p:nvCxnSpPr>
        <p:spPr>
          <a:xfrm flipH="1">
            <a:off x="1618560" y="2722680"/>
            <a:ext cx="3026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457" name="Автофигура 14"/>
          <p:cNvCxnSpPr>
            <a:stCxn id="446" idx="4"/>
            <a:endCxn id="454" idx="0"/>
          </p:cNvCxnSpPr>
          <p:nvPr/>
        </p:nvCxnSpPr>
        <p:spPr>
          <a:xfrm flipH="1">
            <a:off x="4642560" y="2722680"/>
            <a:ext cx="2520" cy="69264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зрывы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ткрытый огонь воздействует редко. Наибольшую опасность представляет тепловое излуч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вдыхание нагретого воздуха приводит к поражению верхних дыхательных путей, удушью и смерт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нагретый воздух при температуре свыше 100 С приводит к потере сознания и гибели уже через несколько минут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 Black"/>
              </a:rPr>
              <a:t>ожоги кожи – при площади ожогов кожи человека 30 % и более  - возникает опасность смер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Токсичные продукты гор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оксид углерода – вступает в реакцию с гемоглобином крови человека в 200-300 раз быстрее, чем кислород и наступает кислородное голодание – оцепенение, апатия, равнодушие к происходящему, депрессия, головокружение, нарушение координации движений, остановка дыхания – смерть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ff33"/>
                </a:solidFill>
                <a:latin typeface="Arial Black"/>
              </a:rPr>
              <a:t>продукты горения полимерных материалов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Потеря видимости вследствие задымления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движения людей становятся хаотичными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затрудняется эвакуация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угроза паник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Понижение концентрации кислорода: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кислород “выгорает” вместе с продуктами горения (вступает в реакцию)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3 % -е понижение концентрации вызывает ухудшение двигательных функций организма;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ff"/>
                </a:solidFill>
                <a:latin typeface="Arial Black"/>
              </a:rPr>
              <a:t>14 % и более – нарушение мозговой деятельност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8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8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8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8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6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8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8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8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2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6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0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4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8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/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800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800" fill="hold"/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800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800" fill="hold"/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800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800" fill="hold"/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800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Дата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049A-C8C3-497D-9C73-E405C69B024E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0F8-FD26-4D71-8EB9-6F0F116BF3D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2736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41440" cy="1335240"/>
          </a:xfrm>
          <a:prstGeom prst="rect">
            <a:avLst/>
          </a:prstGeom>
          <a:ln w="0">
            <a:noFill/>
          </a:ln>
        </p:spPr>
      </p:pic>
      <p:sp>
        <p:nvSpPr>
          <p:cNvPr id="464" name="Овал 4"/>
          <p:cNvSpPr/>
          <p:nvPr/>
        </p:nvSpPr>
        <p:spPr>
          <a:xfrm>
            <a:off x="1135080" y="1549440"/>
            <a:ext cx="1942920" cy="9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Овал 5"/>
          <p:cNvSpPr/>
          <p:nvPr/>
        </p:nvSpPr>
        <p:spPr>
          <a:xfrm>
            <a:off x="3763800" y="1663560"/>
            <a:ext cx="1600200" cy="800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дукт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рения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Автофигура 6"/>
          <p:cNvSpPr/>
          <p:nvPr/>
        </p:nvSpPr>
        <p:spPr>
          <a:xfrm>
            <a:off x="2163600" y="879480"/>
            <a:ext cx="1943280" cy="45720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е 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Автофигура 7"/>
          <p:cNvSpPr/>
          <p:nvPr/>
        </p:nvSpPr>
        <p:spPr>
          <a:xfrm>
            <a:off x="5364000" y="7650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укты, НЕ способ-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ые больше 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Автофигура 8"/>
          <p:cNvSpPr/>
          <p:nvPr/>
        </p:nvSpPr>
        <p:spPr>
          <a:xfrm>
            <a:off x="2411280" y="2781360"/>
            <a:ext cx="1828800" cy="6062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еполное горени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Автофигура 9"/>
          <p:cNvSpPr/>
          <p:nvPr/>
        </p:nvSpPr>
        <p:spPr>
          <a:xfrm>
            <a:off x="5364000" y="2365200"/>
            <a:ext cx="1600200" cy="914400"/>
          </a:xfrm>
          <a:prstGeom prst="foldedCorner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лучаются продуты ЕЩЁ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ПОСОБНЫЕ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гореть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70" name="Автофигура 10"/>
          <p:cNvCxnSpPr>
            <a:stCxn id="464" idx="0"/>
            <a:endCxn id="466" idx="2"/>
          </p:cNvCxnSpPr>
          <p:nvPr/>
        </p:nvCxnSpPr>
        <p:spPr>
          <a:xfrm flipV="1">
            <a:off x="2106360" y="1350360"/>
            <a:ext cx="1028880" cy="184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1" name="Автофигура 11"/>
          <p:cNvCxnSpPr>
            <a:stCxn id="464" idx="4"/>
            <a:endCxn id="468" idx="0"/>
          </p:cNvCxnSpPr>
          <p:nvPr/>
        </p:nvCxnSpPr>
        <p:spPr>
          <a:xfrm>
            <a:off x="2106720" y="2478240"/>
            <a:ext cx="1219680" cy="289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2" name="Автофигура 12"/>
          <p:cNvCxnSpPr>
            <a:stCxn id="466" idx="3"/>
            <a:endCxn id="465" idx="0"/>
          </p:cNvCxnSpPr>
          <p:nvPr/>
        </p:nvCxnSpPr>
        <p:spPr>
          <a:xfrm>
            <a:off x="4121280" y="1108080"/>
            <a:ext cx="443520" cy="5421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3" name="Автофигура 13"/>
          <p:cNvCxnSpPr>
            <a:stCxn id="468" idx="3"/>
            <a:endCxn id="465" idx="4"/>
          </p:cNvCxnSpPr>
          <p:nvPr/>
        </p:nvCxnSpPr>
        <p:spPr>
          <a:xfrm flipV="1">
            <a:off x="4254480" y="2477880"/>
            <a:ext cx="310320" cy="60696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4" name="Автофигура 14"/>
          <p:cNvCxnSpPr>
            <a:stCxn id="466" idx="3"/>
            <a:endCxn id="467" idx="1"/>
          </p:cNvCxnSpPr>
          <p:nvPr/>
        </p:nvCxnSpPr>
        <p:spPr>
          <a:xfrm>
            <a:off x="4120920" y="1107720"/>
            <a:ext cx="122940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5" name="Автофигура 15"/>
          <p:cNvCxnSpPr>
            <a:stCxn id="468" idx="3"/>
            <a:endCxn id="469" idx="1"/>
          </p:cNvCxnSpPr>
          <p:nvPr/>
        </p:nvCxnSpPr>
        <p:spPr>
          <a:xfrm flipV="1">
            <a:off x="4254120" y="2822040"/>
            <a:ext cx="1096200" cy="262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6" name="Автофигура 16"/>
          <p:cNvCxnSpPr>
            <a:stCxn id="465" idx="5"/>
            <a:endCxn id="469" idx="1"/>
          </p:cNvCxnSpPr>
          <p:nvPr/>
        </p:nvCxnSpPr>
        <p:spPr>
          <a:xfrm>
            <a:off x="5128920" y="2360160"/>
            <a:ext cx="221400" cy="4626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477" name="Автофигура 17"/>
          <p:cNvCxnSpPr>
            <a:stCxn id="465" idx="7"/>
            <a:endCxn id="467" idx="1"/>
          </p:cNvCxnSpPr>
          <p:nvPr/>
        </p:nvCxnSpPr>
        <p:spPr>
          <a:xfrm flipV="1">
            <a:off x="5128920" y="1221480"/>
            <a:ext cx="221400" cy="545400"/>
          </a:xfrm>
          <a:prstGeom prst="straightConnector1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</p:cxnSp>
      <p:graphicFrame>
        <p:nvGraphicFramePr>
          <p:cNvPr id="478" name=""/>
          <p:cNvGraphicFramePr/>
          <p:nvPr/>
        </p:nvGraphicFramePr>
        <p:xfrm>
          <a:off x="324000" y="3789360"/>
          <a:ext cx="8497800" cy="3108240"/>
        </p:xfrm>
        <a:graphic>
          <a:graphicData uri="http://schemas.openxmlformats.org/drawingml/2006/table">
            <a:tbl>
              <a:tblPr/>
              <a:tblGrid>
                <a:gridCol w="2160360"/>
                <a:gridCol w="1008000"/>
                <a:gridCol w="53294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ИМЕНОВА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ТКАЯ ХАРАКТЕРИСТИК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ЧАЛЬНАЯ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-3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ебольшая температура горения и скорость распространения ог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АЗГОРАНИ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-60 МИ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езкое увеличение температуры горения  (до1000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с )  и  скорости распространения огня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ЗАВЕРШАЮЩ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слабление силы пожара по мере выгорания огнеопасных материалов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9" name="Прямоуг. 40"/>
          <p:cNvSpPr/>
          <p:nvPr/>
        </p:nvSpPr>
        <p:spPr>
          <a:xfrm>
            <a:off x="2484360" y="2781360"/>
            <a:ext cx="4083120" cy="50472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ДИИ РАЗВИТИЯ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6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4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4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6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2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4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6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20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0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6607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Рисунок 3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482" name="Автофигура 4"/>
          <p:cNvSpPr/>
          <p:nvPr/>
        </p:nvSpPr>
        <p:spPr>
          <a:xfrm>
            <a:off x="1547640" y="907920"/>
            <a:ext cx="576108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внешни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изнакам гор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Автофигура 5"/>
          <p:cNvSpPr/>
          <p:nvPr/>
        </p:nvSpPr>
        <p:spPr>
          <a:xfrm>
            <a:off x="1403280" y="20606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жны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Автофигура 6"/>
          <p:cNvSpPr/>
          <p:nvPr/>
        </p:nvSpPr>
        <p:spPr>
          <a:xfrm>
            <a:off x="1403280" y="4460760"/>
            <a:ext cx="1600200" cy="684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Автофигура 7"/>
          <p:cNvSpPr/>
          <p:nvPr/>
        </p:nvSpPr>
        <p:spPr>
          <a:xfrm>
            <a:off x="1403280" y="286056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ие пожары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Автофигура 8"/>
          <p:cNvSpPr/>
          <p:nvPr/>
        </p:nvSpPr>
        <p:spPr>
          <a:xfrm>
            <a:off x="1403280" y="3660840"/>
            <a:ext cx="1600200" cy="6858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е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Автофигура 9"/>
          <p:cNvSpPr/>
          <p:nvPr/>
        </p:nvSpPr>
        <p:spPr>
          <a:xfrm>
            <a:off x="1403280" y="5259240"/>
            <a:ext cx="1728720" cy="109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новременно наружные и внутренние пожа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Автофигура 10"/>
          <p:cNvSpPr/>
          <p:nvPr/>
        </p:nvSpPr>
        <p:spPr>
          <a:xfrm>
            <a:off x="3232080" y="286056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озникают и развиваются внутри зданий. Могут быть открытыми и скрытыми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Автофигура 11"/>
          <p:cNvSpPr/>
          <p:nvPr/>
        </p:nvSpPr>
        <p:spPr>
          <a:xfrm>
            <a:off x="3232080" y="20606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(пламя, дым ) можно установить визуально. ВСЕГДА ОТКРЫТЫЕ ПОЖАРЫ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Автофигура 12"/>
          <p:cNvSpPr/>
          <p:nvPr/>
        </p:nvSpPr>
        <p:spPr>
          <a:xfrm>
            <a:off x="3232080" y="3660840"/>
            <a:ext cx="4795920" cy="68580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знаки горения можно установить осмотром помещений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Автофигура 13"/>
          <p:cNvSpPr/>
          <p:nvPr/>
        </p:nvSpPr>
        <p:spPr>
          <a:xfrm>
            <a:off x="3232080" y="4460760"/>
            <a:ext cx="4795920" cy="1632240"/>
          </a:xfrm>
          <a:prstGeom prst="foldedCorner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орение протекает в пустотах строительных конструкций, вентиляционных шахтах, внутри торфяной залеж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знаки горения: 1 выход дыма сквозь щели,  2  нагретость конструкций, 3 изменение цвета штукатурки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Линия 14"/>
          <p:cNvSpPr/>
          <p:nvPr/>
        </p:nvSpPr>
        <p:spPr>
          <a:xfrm>
            <a:off x="3003480" y="40035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Линия 15"/>
          <p:cNvSpPr/>
          <p:nvPr/>
        </p:nvSpPr>
        <p:spPr>
          <a:xfrm>
            <a:off x="3003480" y="49179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Линия 16"/>
          <p:cNvSpPr/>
          <p:nvPr/>
        </p:nvSpPr>
        <p:spPr>
          <a:xfrm>
            <a:off x="3003480" y="3203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Линия 17"/>
          <p:cNvSpPr/>
          <p:nvPr/>
        </p:nvSpPr>
        <p:spPr>
          <a:xfrm>
            <a:off x="3003480" y="24033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C3F-2519-4488-B5B1-31EC3BB69BB9}" type="datetime">
              <a:rPr b="0" lang="ru-RU" sz="1400" spc="-1" strike="noStrike">
                <a:solidFill>
                  <a:srgbClr val="ffffff"/>
                </a:solidFill>
                <a:latin typeface="Arial Black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Номер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83EB-92DD-4448-8E30-7BB7225D850B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9696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в зданиях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на промышленных сооружения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на открытых площадках склад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на сгораемых массивах (лесных, степных, торфяных, хлебных полях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5. на транспор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Прямоуг. 3"/>
          <p:cNvSpPr/>
          <p:nvPr/>
        </p:nvSpPr>
        <p:spPr>
          <a:xfrm>
            <a:off x="324000" y="260280"/>
            <a:ext cx="281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0" name="Рисунок 4" descr="BD06711_"/>
          <p:cNvPicPr/>
          <p:nvPr/>
        </p:nvPicPr>
        <p:blipFill>
          <a:blip r:embed="rId1"/>
          <a:stretch/>
        </p:blipFill>
        <p:spPr>
          <a:xfrm>
            <a:off x="7596360" y="333360"/>
            <a:ext cx="1095120" cy="1014480"/>
          </a:xfrm>
          <a:prstGeom prst="rect">
            <a:avLst/>
          </a:prstGeom>
          <a:ln w="0">
            <a:noFill/>
          </a:ln>
        </p:spPr>
      </p:pic>
      <p:sp>
        <p:nvSpPr>
          <p:cNvPr id="501" name="Автофигура 5"/>
          <p:cNvSpPr/>
          <p:nvPr/>
        </p:nvSpPr>
        <p:spPr>
          <a:xfrm>
            <a:off x="755640" y="981000"/>
            <a:ext cx="6121440" cy="64944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пожаров по месту возникнов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Автофигура 6"/>
          <p:cNvSpPr/>
          <p:nvPr/>
        </p:nvSpPr>
        <p:spPr>
          <a:xfrm>
            <a:off x="1332000" y="4581360"/>
            <a:ext cx="6481800" cy="792360"/>
          </a:xfrm>
          <a:prstGeom prst="horizontalScroll">
            <a:avLst>
              <a:gd name="adj" fmla="val 12500"/>
            </a:avLst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Классификация  пожаров по охвату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асштабам распростран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3" name="Рисунок 7" descr="j0205462"/>
          <p:cNvPicPr/>
          <p:nvPr/>
        </p:nvPicPr>
        <p:blipFill>
          <a:blip r:embed="rId2"/>
          <a:stretch/>
        </p:blipFill>
        <p:spPr>
          <a:xfrm>
            <a:off x="4910040" y="2136600"/>
            <a:ext cx="2519640" cy="241308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. 8"/>
          <p:cNvSpPr/>
          <p:nvPr/>
        </p:nvSpPr>
        <p:spPr>
          <a:xfrm>
            <a:off x="1258920" y="5445000"/>
            <a:ext cx="7128000" cy="1130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Отдельные ( в здании или сооружени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Массовые ( совокупность отдельных пожаров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ватывающих более 90% зданий комплексной застройки 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9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10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3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6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59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6" name="Рисунок 3" descr="BD06711_"/>
          <p:cNvPicPr/>
          <p:nvPr/>
        </p:nvPicPr>
        <p:blipFill>
          <a:blip r:embed="rId1"/>
          <a:stretch/>
        </p:blipFill>
        <p:spPr>
          <a:xfrm>
            <a:off x="7236000" y="333360"/>
            <a:ext cx="1461960" cy="13543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4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1476360" cy="18194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. 5"/>
          <p:cNvSpPr/>
          <p:nvPr/>
        </p:nvSpPr>
        <p:spPr>
          <a:xfrm>
            <a:off x="2195640" y="4149720"/>
            <a:ext cx="6624360" cy="223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жаровзрывоопасными  являются промышлен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 и объекты,  использующие в производств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чатые и легковоспламеняющиеся вещества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также железнодорожный, трубопроводный, морской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ной и другой транспорт, используемый дл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озки (перекачки ) пожаро- и взрывоопас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ществ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Автофигура 6"/>
          <p:cNvSpPr/>
          <p:nvPr/>
        </p:nvSpPr>
        <p:spPr>
          <a:xfrm>
            <a:off x="2411280" y="907920"/>
            <a:ext cx="4753080" cy="790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егории пожаровзрывоопасност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ышленных производст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Автофигура 7"/>
          <p:cNvSpPr/>
          <p:nvPr/>
        </p:nvSpPr>
        <p:spPr>
          <a:xfrm>
            <a:off x="900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    Б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Автофигура 8"/>
          <p:cNvSpPr/>
          <p:nvPr/>
        </p:nvSpPr>
        <p:spPr>
          <a:xfrm>
            <a:off x="658800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     Д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Автофигура 9"/>
          <p:cNvSpPr/>
          <p:nvPr/>
        </p:nvSpPr>
        <p:spPr>
          <a:xfrm>
            <a:off x="3708360" y="1844640"/>
            <a:ext cx="1600200" cy="5716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Автофигура 10"/>
          <p:cNvSpPr/>
          <p:nvPr/>
        </p:nvSpPr>
        <p:spPr>
          <a:xfrm>
            <a:off x="3635280" y="2852640"/>
            <a:ext cx="1728720" cy="1059120"/>
          </a:xfrm>
          <a:prstGeom prst="foldedCorner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жар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Автофигура 11"/>
          <p:cNvSpPr/>
          <p:nvPr/>
        </p:nvSpPr>
        <p:spPr>
          <a:xfrm>
            <a:off x="6227640" y="2924280"/>
            <a:ext cx="2376720" cy="1058760"/>
          </a:xfrm>
          <a:prstGeom prst="foldedCorner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изводства с непожароопасными  технологическими   процессами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Автофигура 12"/>
          <p:cNvSpPr/>
          <p:nvPr/>
        </p:nvSpPr>
        <p:spPr>
          <a:xfrm>
            <a:off x="755640" y="2852640"/>
            <a:ext cx="1871640" cy="1059120"/>
          </a:xfrm>
          <a:prstGeom prst="foldedCorner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зрывоопасные производственные процесс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516" name="Автофигура 13"/>
          <p:cNvCxnSpPr>
            <a:stCxn id="512" idx="2"/>
            <a:endCxn id="513" idx="0"/>
          </p:cNvCxnSpPr>
          <p:nvPr/>
        </p:nvCxnSpPr>
        <p:spPr>
          <a:xfrm flipH="1">
            <a:off x="450036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7" name="Автофигура 14"/>
          <p:cNvCxnSpPr>
            <a:stCxn id="510" idx="2"/>
            <a:endCxn id="515" idx="0"/>
          </p:cNvCxnSpPr>
          <p:nvPr/>
        </p:nvCxnSpPr>
        <p:spPr>
          <a:xfrm flipH="1">
            <a:off x="1692000" y="2430360"/>
            <a:ext cx="8640" cy="40896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18" name="Автофигура 15"/>
          <p:cNvCxnSpPr>
            <a:stCxn id="511" idx="2"/>
            <a:endCxn id="514" idx="0"/>
          </p:cNvCxnSpPr>
          <p:nvPr/>
        </p:nvCxnSpPr>
        <p:spPr>
          <a:xfrm>
            <a:off x="7387920" y="2430360"/>
            <a:ext cx="29160" cy="48024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nodeType="clickEffect" fill="hold">
                      <p:stCondLst>
                        <p:cond delay="indefinite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nodeType="clickEffect" fill="hold">
                      <p:stCondLst>
                        <p:cond delay="indefinite"/>
                      </p:stCondLst>
                      <p:childTnLst>
                        <p:par>
                          <p:cTn id="2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2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439640" cy="1332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9322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Чаще всего пожары и взрывы происходят на предприятиях, использующих в своем производстве взрывчатые и легковоспламеняющиеся вещест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 Black"/>
              </a:rPr>
              <a:t>Виды аварий на пожаро- и взрывоопасных объекта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, на коммуникациях и технологическом оборудовании промышленных предприятий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добычи, переработки и хранения легковоспламеняющихся и взрывчатых вещест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, взрывы на транспорте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шахтах, подземных и горных выработках, метрополитенах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в зданиях и сооружениях жилого, социально-бытового и культурного назначения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объектах ,использующих в производстве аварийные химически опасные вещества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33"/>
                </a:solidFill>
                <a:latin typeface="Arial Black"/>
              </a:rPr>
              <a:t>пожары (взрывы) на радиационно опасных объектах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3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2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2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2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4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2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2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2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20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20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2000" fill="hold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20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6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2000" fill="hold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2389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Рисунок 3" descr="BD06711_"/>
          <p:cNvPicPr/>
          <p:nvPr/>
        </p:nvPicPr>
        <p:blipFill>
          <a:blip r:embed="rId1"/>
          <a:stretch/>
        </p:blipFill>
        <p:spPr>
          <a:xfrm>
            <a:off x="7308720" y="404640"/>
            <a:ext cx="1582920" cy="1465560"/>
          </a:xfrm>
          <a:prstGeom prst="rect">
            <a:avLst/>
          </a:prstGeom>
          <a:ln w="0">
            <a:noFill/>
          </a:ln>
        </p:spPr>
      </p:pic>
      <p:sp>
        <p:nvSpPr>
          <p:cNvPr id="355" name="Автофигура 4"/>
          <p:cNvSpPr/>
          <p:nvPr/>
        </p:nvSpPr>
        <p:spPr>
          <a:xfrm>
            <a:off x="324000" y="1125360"/>
            <a:ext cx="7057800" cy="1224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зрыв это освобождение большого количеств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нергии в  ограниченном  объёме за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ороткий промежуток времен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3276720" y="3357720"/>
            <a:ext cx="2808000" cy="91440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Виды взрывов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Прямоуг. 6"/>
          <p:cNvSpPr/>
          <p:nvPr/>
        </p:nvSpPr>
        <p:spPr>
          <a:xfrm>
            <a:off x="324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а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Прямоуг. 7"/>
          <p:cNvSpPr/>
          <p:nvPr/>
        </p:nvSpPr>
        <p:spPr>
          <a:xfrm>
            <a:off x="1908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зем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Прямоуг. 8"/>
          <p:cNvSpPr/>
          <p:nvPr/>
        </p:nvSpPr>
        <p:spPr>
          <a:xfrm>
            <a:off x="3780000" y="5805360"/>
            <a:ext cx="1800000" cy="50508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уш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Прямоуг. 9"/>
          <p:cNvSpPr/>
          <p:nvPr/>
        </p:nvSpPr>
        <p:spPr>
          <a:xfrm>
            <a:off x="5580000" y="4869000"/>
            <a:ext cx="1800360" cy="50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Прямоуг. 10"/>
          <p:cNvSpPr/>
          <p:nvPr/>
        </p:nvSpPr>
        <p:spPr>
          <a:xfrm>
            <a:off x="7020000" y="4149720"/>
            <a:ext cx="1800000" cy="504720"/>
          </a:xfrm>
          <a:prstGeom prst="rect">
            <a:avLst/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вод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62" name="Автофигура 11"/>
          <p:cNvCxnSpPr>
            <a:stCxn id="356" idx="4"/>
            <a:endCxn id="359" idx="0"/>
          </p:cNvCxnSpPr>
          <p:nvPr/>
        </p:nvCxnSpPr>
        <p:spPr>
          <a:xfrm flipH="1">
            <a:off x="4679640" y="4271760"/>
            <a:ext cx="2160" cy="153396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3" name="Автофигура 12"/>
          <p:cNvCxnSpPr>
            <a:stCxn id="356" idx="4"/>
            <a:endCxn id="358" idx="0"/>
          </p:cNvCxnSpPr>
          <p:nvPr/>
        </p:nvCxnSpPr>
        <p:spPr>
          <a:xfrm flipH="1">
            <a:off x="2807640" y="4272120"/>
            <a:ext cx="187380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4" name="Автофигура 13"/>
          <p:cNvCxnSpPr>
            <a:stCxn id="356" idx="4"/>
            <a:endCxn id="360" idx="0"/>
          </p:cNvCxnSpPr>
          <p:nvPr/>
        </p:nvCxnSpPr>
        <p:spPr>
          <a:xfrm>
            <a:off x="4681440" y="4272120"/>
            <a:ext cx="1799280" cy="59760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5" name="Автофигура 14"/>
          <p:cNvCxnSpPr>
            <a:stCxn id="356" idx="4"/>
            <a:endCxn id="361" idx="1"/>
          </p:cNvCxnSpPr>
          <p:nvPr/>
        </p:nvCxnSpPr>
        <p:spPr>
          <a:xfrm>
            <a:off x="4681440" y="4271760"/>
            <a:ext cx="233928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  <p:cxnSp>
        <p:nvCxnSpPr>
          <p:cNvPr id="366" name="Автофигура 15"/>
          <p:cNvCxnSpPr>
            <a:stCxn id="356" idx="4"/>
            <a:endCxn id="357" idx="3"/>
          </p:cNvCxnSpPr>
          <p:nvPr/>
        </p:nvCxnSpPr>
        <p:spPr>
          <a:xfrm flipH="1">
            <a:off x="2124000" y="4271760"/>
            <a:ext cx="2557800" cy="130680"/>
          </a:xfrm>
          <a:prstGeom prst="straightConnector1">
            <a:avLst/>
          </a:prstGeom>
          <a:ln w="57240">
            <a:solidFill>
              <a:srgbClr val="d1594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32036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3" name="Рисунок 3" descr="BD06711_"/>
          <p:cNvPicPr/>
          <p:nvPr/>
        </p:nvPicPr>
        <p:blipFill>
          <a:blip r:embed="rId1"/>
          <a:stretch/>
        </p:blipFill>
        <p:spPr>
          <a:xfrm>
            <a:off x="7380360" y="333360"/>
            <a:ext cx="1295280" cy="1200240"/>
          </a:xfrm>
          <a:prstGeom prst="rect">
            <a:avLst/>
          </a:prstGeom>
          <a:ln w="0">
            <a:noFill/>
          </a:ln>
        </p:spPr>
      </p:pic>
      <p:sp>
        <p:nvSpPr>
          <p:cNvPr id="524" name="Автофигура 4"/>
          <p:cNvSpPr/>
          <p:nvPr/>
        </p:nvSpPr>
        <p:spPr>
          <a:xfrm>
            <a:off x="468360" y="1484280"/>
            <a:ext cx="6840360" cy="792360"/>
          </a:xfrm>
          <a:prstGeom prst="horizontalScroll">
            <a:avLst>
              <a:gd name="adj" fmla="val 125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, способствующие распространению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Автофигура 5"/>
          <p:cNvSpPr/>
          <p:nvPr/>
        </p:nvSpPr>
        <p:spPr>
          <a:xfrm>
            <a:off x="250920" y="2565360"/>
            <a:ext cx="8497800" cy="37432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 Скопление значительного количества горючих веществ 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ов на производственных и складских площадях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  Наличие путей, создающих возможность распространени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амени и продуктов горения на смежные установки и помещ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  Внезапное появление факторов, ускоряющих развит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 Запоздалое обнаружение пожара и сообщение о нём 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ную часть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 Отсутствие или неисправность стационарных или первичных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 пожаротушения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  Неправильные действия людей при тушении пожара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2951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Автофигура 4"/>
          <p:cNvSpPr/>
          <p:nvPr/>
        </p:nvSpPr>
        <p:spPr>
          <a:xfrm>
            <a:off x="1252440" y="5119560"/>
            <a:ext cx="2400480" cy="1257480"/>
          </a:xfrm>
          <a:prstGeom prst="rightArrowCallout">
            <a:avLst>
              <a:gd name="adj1" fmla="val 21233"/>
              <a:gd name="adj2" fmla="val 25000"/>
              <a:gd name="adj3" fmla="val 47724"/>
              <a:gd name="adj4" fmla="val 6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жаров в зданиях и сооружениях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Автофигура 5"/>
          <p:cNvSpPr/>
          <p:nvPr/>
        </p:nvSpPr>
        <p:spPr>
          <a:xfrm>
            <a:off x="3635280" y="51195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строе повышение температ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Автофигура 6"/>
          <p:cNvSpPr/>
          <p:nvPr/>
        </p:nvSpPr>
        <p:spPr>
          <a:xfrm>
            <a:off x="3635280" y="5805360"/>
            <a:ext cx="244944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остранение огня скрытыми  путям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Автофигура 7"/>
          <p:cNvSpPr/>
          <p:nvPr/>
        </p:nvSpPr>
        <p:spPr>
          <a:xfrm>
            <a:off x="6300720" y="5084640"/>
            <a:ext cx="23749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льное задымлени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Автофигура 8"/>
          <p:cNvSpPr/>
          <p:nvPr/>
        </p:nvSpPr>
        <p:spPr>
          <a:xfrm>
            <a:off x="6300720" y="5805360"/>
            <a:ext cx="2376720" cy="5716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теря конструкциями несущей способност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Автофигура 9"/>
          <p:cNvSpPr/>
          <p:nvPr/>
        </p:nvSpPr>
        <p:spPr>
          <a:xfrm>
            <a:off x="250920" y="2421000"/>
            <a:ext cx="2565360" cy="216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Линейн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загорелся пролитый на пол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еросин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Автофигура 10"/>
          <p:cNvSpPr/>
          <p:nvPr/>
        </p:nvSpPr>
        <p:spPr>
          <a:xfrm>
            <a:off x="6156360" y="2565360"/>
            <a:ext cx="2682720" cy="2032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бъём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(от пролитого керосина огонь распространился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о всему помещению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Овал 11"/>
          <p:cNvSpPr/>
          <p:nvPr/>
        </p:nvSpPr>
        <p:spPr>
          <a:xfrm>
            <a:off x="2901960" y="2892600"/>
            <a:ext cx="3168720" cy="1257120"/>
          </a:xfrm>
          <a:prstGeom prst="ellipse">
            <a:avLst/>
          </a:prstGeom>
          <a:gradFill rotWithShape="0">
            <a:gsLst>
              <a:gs pos="0">
                <a:srgbClr val="99ff33"/>
              </a:gs>
              <a:gs pos="100000">
                <a:srgbClr val="477618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ение пожар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Автофигура 12"/>
          <p:cNvSpPr/>
          <p:nvPr/>
        </p:nvSpPr>
        <p:spPr>
          <a:xfrm>
            <a:off x="5364000" y="2565360"/>
            <a:ext cx="136872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Автофигура 13"/>
          <p:cNvSpPr/>
          <p:nvPr/>
        </p:nvSpPr>
        <p:spPr>
          <a:xfrm rot="10800000">
            <a:off x="2339640" y="2565000"/>
            <a:ext cx="1368360" cy="485640"/>
          </a:xfrm>
          <a:prstGeom prst="pi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8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1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6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7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8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9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2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5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nodeType="clickEffect" fill="hold">
                      <p:stCondLst>
                        <p:cond delay="indefinite"/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6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nodeType="clickEffect" fill="hold">
                      <p:stCondLst>
                        <p:cond delay="indefinite"/>
                      </p:stCondLst>
                      <p:childTnLst>
                        <p:par>
                          <p:cTn id="2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3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nodeType="clickEffect" fill="hold">
                      <p:stCondLst>
                        <p:cond delay="indefinite"/>
                      </p:stCondLst>
                      <p:childTnLst>
                        <p:par>
                          <p:cTn id="2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nodeType="clickEffect" fill="hold">
                      <p:stCondLst>
                        <p:cond delay="indefinite"/>
                      </p:stCondLst>
                      <p:childTnLst>
                        <p:par>
                          <p:cTn id="2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7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8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9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436248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9" name="Рисунок 3" descr="File0026"/>
          <p:cNvPicPr/>
          <p:nvPr/>
        </p:nvPicPr>
        <p:blipFill>
          <a:blip r:embed="rId1"/>
          <a:stretch/>
        </p:blipFill>
        <p:spPr>
          <a:xfrm>
            <a:off x="4800600" y="533520"/>
            <a:ext cx="3871800" cy="59752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4" descr="File0032"/>
          <p:cNvPicPr/>
          <p:nvPr/>
        </p:nvPicPr>
        <p:blipFill>
          <a:blip r:embed="rId2"/>
          <a:stretch/>
        </p:blipFill>
        <p:spPr>
          <a:xfrm>
            <a:off x="395280" y="4005360"/>
            <a:ext cx="3889440" cy="2462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5" descr="File0030"/>
          <p:cNvPicPr/>
          <p:nvPr/>
        </p:nvPicPr>
        <p:blipFill>
          <a:blip r:embed="rId3"/>
          <a:stretch/>
        </p:blipFill>
        <p:spPr>
          <a:xfrm>
            <a:off x="395280" y="1052640"/>
            <a:ext cx="388944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4" dur="8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5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8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nodeType="clickEffect" fill="hold">
                      <p:stCondLst>
                        <p:cond delay="indefinite"/>
                      </p:stCondLst>
                      <p:childTnLst>
                        <p:par>
                          <p:cTn id="2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1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2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2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7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8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3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4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0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2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5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2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4" dur="8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5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8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nodeType="clickEffect" fill="hold">
                      <p:stCondLst>
                        <p:cond delay="indefinite"/>
                      </p:stCondLst>
                      <p:childTnLst>
                        <p:par>
                          <p:cTn id="2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nodeType="clickEffect" fill="hold">
                      <p:stCondLst>
                        <p:cond delay="indefinite"/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nodeType="clickEffect" fill="hold">
                      <p:stCondLst>
                        <p:cond delay="indefinite"/>
                      </p:stCondLst>
                      <p:childTnLst>
                        <p:par>
                          <p:cTn id="2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1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2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7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2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3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9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0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2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5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20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4" dur="800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5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6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800" fill="hold"/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1000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5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nodeType="clickEffect" fill="hold">
                      <p:stCondLst>
                        <p:cond delay="indefinite"/>
                      </p:stCondLst>
                      <p:childTnLst>
                        <p:par>
                          <p:cTn id="2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1000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5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nodeType="clickEffect" fill="hold">
                      <p:stCondLst>
                        <p:cond delay="indefinite"/>
                      </p:stCondLst>
                      <p:childTnLst>
                        <p:par>
                          <p:cTn id="2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5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8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4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7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0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3" dur="5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6" dur="5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9" dur="5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2" dur="500"/>
                                        <p:tgtEl>
                                          <p:spTgt spid="5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6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9" dur="8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9" dur="1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nodeType="clickEffect" fill="hold">
                      <p:stCondLst>
                        <p:cond delay="indefinite"/>
                      </p:stCondLst>
                      <p:childTnLst>
                        <p:par>
                          <p:cTn id="2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5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9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3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7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4" dur="500"/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500"/>
                                        <p:tgtEl>
                                          <p:spTgt spid="5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500"/>
                                        <p:tgtEl>
                                          <p:spTgt spid="5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2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5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8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52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nodeType="clickEffect" fill="hold">
                      <p:stCondLst>
                        <p:cond delay="indefinite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8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8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9" dur="8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0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8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nodeType="clickEffect" fill="hold">
                      <p:stCondLst>
                        <p:cond delay="indefinite"/>
                      </p:stCondLst>
                      <p:childTnLst>
                        <p:par>
                          <p:cTn id="2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nodeType="clickEffect" fill="hold">
                      <p:stCondLst>
                        <p:cond delay="indefinite"/>
                      </p:stCondLst>
                      <p:childTnLst>
                        <p:par>
                          <p:cTn id="2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8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8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nodeType="clickEffect" fill="hold">
                      <p:stCondLst>
                        <p:cond delay="indefinite"/>
                      </p:stCondLst>
                      <p:childTnLst>
                        <p:par>
                          <p:cTn id="2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4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nodeType="clickEffect" fill="hold">
                      <p:stCondLst>
                        <p:cond delay="indefinite"/>
                      </p:stCondLst>
                      <p:childTnLst>
                        <p:par>
                          <p:cTn id="2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0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nodeType="clickEffect" fill="hold">
                      <p:stCondLst>
                        <p:cond delay="indefinite"/>
                      </p:stCondLst>
                      <p:childTnLst>
                        <p:par>
                          <p:cTn id="2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3" dur="8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4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8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nodeType="clickEffect" fill="hold">
                      <p:stCondLst>
                        <p:cond delay="indefinite"/>
                      </p:stCondLst>
                      <p:childTnLst>
                        <p:par>
                          <p:cTn id="2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2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8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8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8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4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7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0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3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8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2" nodeType="clickEffect" fill="hold">
                      <p:stCondLst>
                        <p:cond delay="indefinite"/>
                      </p:stCondLst>
                      <p:childTnLst>
                        <p:par>
                          <p:cTn id="2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nodeType="clickEffect" fill="hold">
                      <p:stCondLst>
                        <p:cond delay="indefinite"/>
                      </p:stCondLst>
                      <p:childTnLst>
                        <p:par>
                          <p:cTn id="2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nodeType="clickEffect" fill="hold">
                      <p:stCondLst>
                        <p:cond delay="indefinite"/>
                      </p:stCondLst>
                      <p:childTnLst>
                        <p:par>
                          <p:cTn id="2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9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9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2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5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1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7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0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3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6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delay="indefinite"/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nodeType="clickEffect" fill="hold">
                      <p:stCondLst>
                        <p:cond delay="indefinite"/>
                      </p:stCondLst>
                      <p:childTnLst>
                        <p:par>
                          <p:cTn id="2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9" dur="5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5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7" dur="5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5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nodeType="clickEffect" fill="hold">
                      <p:stCondLst>
                        <p:cond delay="indefinite"/>
                      </p:stCondLst>
                      <p:childTnLst>
                        <p:par>
                          <p:cTn id="2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Объект 2"/>
          <p:cNvGraphicFramePr/>
          <p:nvPr/>
        </p:nvGraphicFramePr>
        <p:xfrm>
          <a:off x="6253200" y="47628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47628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6778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При возникновении пожар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цените обстановку, убедитесь в наличии опасности, определите, откуда она исходи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дите в сторону, противоположную пожа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Двигайтесь в сторону не задымлённой лестничной клетки или выхо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Решив спасаться через задымлённый корид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накройтесь мокрой плотной ткань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ышите через носовой платок, одежд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Двигайтесь к выходу пригнувшись или ползк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 algn="just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Arial Black"/>
              </a:rPr>
              <a:t>При движении держитесь за стен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3. На вас надвигается огненный вал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мешкая, падай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голову тканью, одежд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-5119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Не дышит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11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nodeType="clickEffect" fill="hold">
                      <p:stCondLst>
                        <p:cond delay="indefinite"/>
                      </p:stCondLst>
                      <p:childTnLst>
                        <p:par>
                          <p:cTn id="2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0" dur="8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8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6" nodeType="clickEffect" fill="hold">
                      <p:stCondLst>
                        <p:cond delay="indefinite"/>
                      </p:stCondLst>
                      <p:childTnLst>
                        <p:par>
                          <p:cTn id="2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nodeType="clickEffect" fill="hold">
                      <p:stCondLst>
                        <p:cond delay="indefinite"/>
                      </p:stCondLst>
                      <p:childTnLst>
                        <p:par>
                          <p:cTn id="2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7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nodeType="clickEffect" fill="hold">
                      <p:stCondLst>
                        <p:cond delay="indefinite"/>
                      </p:stCondLst>
                      <p:childTnLst>
                        <p:par>
                          <p:cTn id="2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nodeType="clickEffect" fill="hold">
                      <p:stCondLst>
                        <p:cond delay="indefinite"/>
                      </p:stCondLst>
                      <p:childTnLst>
                        <p:par>
                          <p:cTn id="2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7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8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3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4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9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0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2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5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6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2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1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2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0" dur="8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1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8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nodeType="clickEffect" fill="hold">
                      <p:stCondLst>
                        <p:cond delay="indefinite"/>
                      </p:stCondLst>
                      <p:childTnLst>
                        <p:par>
                          <p:cTn id="3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nodeType="clickEffect" fill="hold">
                      <p:stCondLst>
                        <p:cond delay="indefinite"/>
                      </p:stCondLst>
                      <p:childTnLst>
                        <p:par>
                          <p:cTn id="3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5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4" nodeType="clickEffect" fill="hold">
                      <p:stCondLst>
                        <p:cond delay="indefinite"/>
                      </p:stCondLst>
                      <p:childTnLst>
                        <p:par>
                          <p:cTn id="3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7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2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3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4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2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9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2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5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20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1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2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20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0" dur="800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800" fill="hold"/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0" dur="1000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5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nodeType="clickEffect" fill="hold">
                      <p:stCondLst>
                        <p:cond delay="indefinite"/>
                      </p:stCondLst>
                      <p:childTnLst>
                        <p:par>
                          <p:cTn id="3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1000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5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nodeType="clickEffect" fill="hold">
                      <p:stCondLst>
                        <p:cond delay="indefinite"/>
                      </p:stCondLst>
                      <p:childTnLst>
                        <p:par>
                          <p:cTn id="3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1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4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7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0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3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6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9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2" dur="5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5" dur="500"/>
                                        <p:tgtEl>
                                          <p:spTgt spid="5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8" dur="500"/>
                                        <p:tgtEl>
                                          <p:spTgt spid="5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Объект 2"/>
          <p:cNvGraphicFramePr/>
          <p:nvPr/>
        </p:nvGraphicFramePr>
        <p:xfrm>
          <a:off x="0" y="1341360"/>
          <a:ext cx="3693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3693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5636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626920" y="476280"/>
            <a:ext cx="6265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При опасной концентрации дыма и повышении температуры достаточно сделать несколько вдохов, и вы можете погибнуть!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1. Если не можете выйти к выходу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Вернитесь в помещ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Плотно закройте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Дверные щели и вентиляционные отверстия плотно закройте мокрыми тряпка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 Black"/>
              </a:rPr>
              <a:t>Защитив органы дыхания, ждите пожарных (спасателе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2. Если есть балкон (лоджия)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Выйдите на балкон (лоджию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Закройте плотно двер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 Black"/>
              </a:rPr>
              <a:t>Эвакуируйтесь по стационарной пожарной лестнице или через другую квартир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9" dur="indefinite" restart="never" nodeType="tmRoot">
          <p:childTnLst>
            <p:seq>
              <p:cTn id="3130" dur="indefinite" nodeType="mainSeq">
                <p:childTnLst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8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6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1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7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nodeType="clickEffect" fill="hold">
                      <p:stCondLst>
                        <p:cond delay="indefinite"/>
                      </p:stCondLst>
                      <p:childTnLst>
                        <p:par>
                          <p:cTn id="3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1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5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9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9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0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0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6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2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nodeType="clickEffect" fill="hold">
                      <p:stCondLst>
                        <p:cond delay="indefinite"/>
                      </p:stCondLst>
                      <p:childTnLst>
                        <p:par>
                          <p:cTn id="3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2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8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4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не следует делать при пожаре в здании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19280" y="1484280"/>
            <a:ext cx="490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огонь до прибытия пожар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ытаться выйти через задымлённую лестниц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льзоваться лифто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пускаться по водосточным трубам, простыням, верёвкам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ткрывать окна и двери (это увеличит приток кислорода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ыпрыгивать из окон верхних этаж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Тушить водой электрические приб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0" name="Объект 4"/>
          <p:cNvGraphicFramePr/>
          <p:nvPr/>
        </p:nvGraphicFramePr>
        <p:xfrm>
          <a:off x="900000" y="2136600"/>
          <a:ext cx="224316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6600"/>
                    <a:ext cx="224316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Объект 5"/>
          <p:cNvGraphicFramePr/>
          <p:nvPr/>
        </p:nvGraphicFramePr>
        <p:xfrm>
          <a:off x="5580000" y="5300640"/>
          <a:ext cx="2371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5300640"/>
                    <a:ext cx="2371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nodeType="clickEffect" fill="hold">
                      <p:stCondLst>
                        <p:cond delay="indefinite"/>
                      </p:stCondLst>
                      <p:childTnLst>
                        <p:par>
                          <p:cTn id="3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nodeType="clickEffect" fill="hold">
                      <p:stCondLst>
                        <p:cond delay="indefinite"/>
                      </p:stCondLst>
                      <p:childTnLst>
                        <p:par>
                          <p:cTn id="3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9" dur="8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0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nodeType="clickEffect" fill="hold">
                      <p:stCondLst>
                        <p:cond delay="indefinite"/>
                      </p:stCondLst>
                      <p:childTnLst>
                        <p:par>
                          <p:cTn id="3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nodeType="clickEffect" fill="hold">
                      <p:stCondLst>
                        <p:cond delay="indefinite"/>
                      </p:stCondLst>
                      <p:childTnLst>
                        <p:par>
                          <p:cTn id="3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5" dur="8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8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nodeType="clickEffect" fill="hold">
                      <p:stCondLst>
                        <p:cond delay="indefinite"/>
                      </p:stCondLst>
                      <p:childTnLst>
                        <p:par>
                          <p:cTn id="3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nodeType="clickEffect" fill="hold">
                      <p:stCondLst>
                        <p:cond delay="indefinite"/>
                      </p:stCondLst>
                      <p:childTnLst>
                        <p:par>
                          <p:cTn id="3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1" dur="8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2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8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0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nodeType="clickEffect" fill="hold">
                      <p:stCondLst>
                        <p:cond delay="indefinite"/>
                      </p:stCondLst>
                      <p:childTnLst>
                        <p:par>
                          <p:cTn id="3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7" dur="8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8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8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nodeType="clickEffect" fill="hold">
                      <p:stCondLst>
                        <p:cond delay="indefinite"/>
                      </p:stCondLst>
                      <p:childTnLst>
                        <p:par>
                          <p:cTn id="3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3" dur="8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4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8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2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8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nodeType="clickEffect" fill="hold">
                      <p:stCondLst>
                        <p:cond delay="indefinite"/>
                      </p:stCondLst>
                      <p:childTnLst>
                        <p:par>
                          <p:cTn id="3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8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9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nodeType="clickEffect" fill="hold">
                      <p:stCondLst>
                        <p:cond delay="indefinite"/>
                      </p:stCondLst>
                      <p:childTnLst>
                        <p:par>
                          <p:cTn id="3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5" dur="8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6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8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nodeType="clickEffect" fill="hold">
                      <p:stCondLst>
                        <p:cond delay="indefinite"/>
                      </p:stCondLst>
                      <p:childTnLst>
                        <p:par>
                          <p:cTn id="3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4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nodeType="clickEffect" fill="hold">
                      <p:stCondLst>
                        <p:cond delay="indefinite"/>
                      </p:stCondLst>
                      <p:childTnLst>
                        <p:par>
                          <p:cTn id="3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1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4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0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3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6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9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2" descr="BD06711_"/>
          <p:cNvPicPr/>
          <p:nvPr/>
        </p:nvPicPr>
        <p:blipFill>
          <a:blip r:embed="rId1"/>
          <a:stretch/>
        </p:blipFill>
        <p:spPr>
          <a:xfrm>
            <a:off x="7236000" y="260280"/>
            <a:ext cx="1618920" cy="1498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831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1. На взрывоопасных предприятиях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я и повреждения производственных емкостей и емкостей, работающих под давлением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оведение НИОКР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разрушение  и повреждение аппаратуры и трубопроводов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арушения технологической дисциплины (превышение температуры и давления, недосмотр и халатность персонала)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остоянного контроля за исправностью производственного оборудования и аппаратуры;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-32904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сутствие планово-предупредительных работ по ремонту и обслуживанию оборудования, приборов контрол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Arial Black"/>
              </a:rPr>
              <a:t>Особую опасность представляют предприятия химической, нефтеперерабатывающей  промышленности, атомной энергетик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3138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Что делать, есл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570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1. На человеке загорелась одежд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валите его на землю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Потушите на пострадавшем одежду (накинув плотную ткань, залив его водой, забросав снегом, землёй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Окажите неотложную медицинскую помощ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Вызовите скорую медицинскую помощ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ccff"/>
                </a:solidFill>
                <a:latin typeface="Arial Black"/>
              </a:rPr>
              <a:t>и сообщите в пожарную охра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2. Горит телевизор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Отключите телевизор от электропита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продолжении горения телевизора, накройте его плотной ткань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При усилении горения покиньте помещение, плотно закрыв двери и ок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Вызовите пожарную охран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76" name="Рисунок 4" descr="File0036"/>
          <p:cNvPicPr/>
          <p:nvPr/>
        </p:nvPicPr>
        <p:blipFill>
          <a:blip r:embed="rId1"/>
          <a:stretch/>
        </p:blipFill>
        <p:spPr>
          <a:xfrm>
            <a:off x="2844720" y="3352680"/>
            <a:ext cx="2737080" cy="274320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5" descr="File0033"/>
          <p:cNvPicPr/>
          <p:nvPr/>
        </p:nvPicPr>
        <p:blipFill>
          <a:blip r:embed="rId2"/>
          <a:stretch/>
        </p:blipFill>
        <p:spPr>
          <a:xfrm>
            <a:off x="5076720" y="476280"/>
            <a:ext cx="2382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0" dur="indefinite" restart="never" nodeType="tmRoot">
          <p:childTnLst>
            <p:seq>
              <p:cTn id="3401" dur="indefinite" nodeType="mainSeq">
                <p:childTnLst>
                  <p:par>
                    <p:cTn id="3402" nodeType="clickEffect" fill="hold">
                      <p:stCondLst>
                        <p:cond delay="indefinite"/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nodeType="clickEffect" fill="hold">
                      <p:stCondLst>
                        <p:cond delay="indefinite"/>
                      </p:stCondLst>
                      <p:childTnLst>
                        <p:par>
                          <p:cTn id="3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7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8" nodeType="clickEffect" fill="hold">
                      <p:stCondLst>
                        <p:cond delay="indefinite"/>
                      </p:stCondLst>
                      <p:childTnLst>
                        <p:par>
                          <p:cTn id="3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nodeType="clickEffect" fill="hold">
                      <p:stCondLst>
                        <p:cond delay="indefinite"/>
                      </p:stCondLst>
                      <p:childTnLst>
                        <p:par>
                          <p:cTn id="3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1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nodeType="clickEffect" fill="hold">
                      <p:stCondLst>
                        <p:cond delay="indefinite"/>
                      </p:stCondLst>
                      <p:childTnLst>
                        <p:par>
                          <p:cTn id="3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5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9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5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nodeType="clickEffect" fill="hold">
                      <p:stCondLst>
                        <p:cond delay="indefinite"/>
                      </p:stCondLst>
                      <p:childTnLst>
                        <p:par>
                          <p:cTn id="3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0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5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1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6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9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2" dur="5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nodeType="clickEffect" fill="hold">
                      <p:stCondLst>
                        <p:cond delay="indefinite"/>
                      </p:stCondLst>
                      <p:childTnLst>
                        <p:par>
                          <p:cTn id="3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8" dur="5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9" dur="5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nodeType="clickEffect" fill="hold">
                      <p:stCondLst>
                        <p:cond delay="indefinite"/>
                      </p:stCondLst>
                      <p:childTnLst>
                        <p:par>
                          <p:cTn id="3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delay="indefinite"/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2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5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5" dur="5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3" dur="5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1" dur="5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500" fill="hold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9" dur="5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307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r>
              <a:rPr b="1" i="1" lang="ru-RU" sz="24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Рисунок 3" descr="j0235319"/>
          <p:cNvPicPr/>
          <p:nvPr/>
        </p:nvPicPr>
        <p:blipFill>
          <a:blip r:embed="rId1"/>
          <a:stretch/>
        </p:blipFill>
        <p:spPr>
          <a:xfrm>
            <a:off x="324000" y="1268280"/>
            <a:ext cx="3085920" cy="4392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BD06711_"/>
          <p:cNvPicPr/>
          <p:nvPr/>
        </p:nvPicPr>
        <p:blipFill>
          <a:blip r:embed="rId2"/>
          <a:stretch/>
        </p:blipFill>
        <p:spPr>
          <a:xfrm>
            <a:off x="7524720" y="333360"/>
            <a:ext cx="1366920" cy="12654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47640" y="1196640"/>
            <a:ext cx="5327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Black"/>
              </a:rPr>
              <a:t>Основными причинами взрывов являются: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2. В жилых домах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опасное поведение самих граждан, особенно детей и подростко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наиболее часто взрывается бытовой газ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имеют место взрывы  взрывчатых веществ;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Black"/>
              </a:rPr>
              <a:t>террористические акты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4" name="Автофигура 2"/>
          <p:cNvCxnSpPr>
            <a:stCxn id="375" idx="2"/>
            <a:endCxn id="376" idx="0"/>
          </p:cNvCxnSpPr>
          <p:nvPr/>
        </p:nvCxnSpPr>
        <p:spPr>
          <a:xfrm>
            <a:off x="5327280" y="4654440"/>
            <a:ext cx="4690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7" name="Автофигура 3"/>
          <p:cNvCxnSpPr>
            <a:stCxn id="375" idx="2"/>
            <a:endCxn id="378" idx="0"/>
          </p:cNvCxnSpPr>
          <p:nvPr/>
        </p:nvCxnSpPr>
        <p:spPr>
          <a:xfrm>
            <a:off x="5327640" y="4654440"/>
            <a:ext cx="2486880" cy="12232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79" name="Автофигура 4"/>
          <p:cNvCxnSpPr>
            <a:stCxn id="375" idx="2"/>
            <a:endCxn id="380" idx="1"/>
          </p:cNvCxnSpPr>
          <p:nvPr/>
        </p:nvCxnSpPr>
        <p:spPr>
          <a:xfrm>
            <a:off x="5327280" y="4654080"/>
            <a:ext cx="1405440" cy="756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Рисунок 6" descr="BD06711_"/>
          <p:cNvPicPr/>
          <p:nvPr/>
        </p:nvPicPr>
        <p:blipFill>
          <a:blip r:embed="rId1"/>
          <a:stretch/>
        </p:blipFill>
        <p:spPr>
          <a:xfrm>
            <a:off x="7093080" y="33336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83" name="Автофигура 7"/>
          <p:cNvSpPr/>
          <p:nvPr/>
        </p:nvSpPr>
        <p:spPr>
          <a:xfrm>
            <a:off x="2124000" y="2565360"/>
            <a:ext cx="3816360" cy="1297080"/>
          </a:xfrm>
          <a:custGeom>
            <a:avLst/>
            <a:gdLst>
              <a:gd name="textAreaLeft" fmla="*/ 871200 w 3816360"/>
              <a:gd name="textAreaRight" fmla="*/ 2945160 w 3816360"/>
              <a:gd name="textAreaTop" fmla="*/ 295920 h 1297080"/>
              <a:gd name="textAreaBottom" fmla="*/ 10011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1847"/>
              </a:gs>
              <a:gs pos="50000">
                <a:srgbClr val="ff3399"/>
              </a:gs>
              <a:gs pos="100000">
                <a:srgbClr val="761847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ражающие факторы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зрыв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Автофигура 8"/>
          <p:cNvSpPr/>
          <p:nvPr/>
        </p:nvSpPr>
        <p:spPr>
          <a:xfrm>
            <a:off x="324000" y="836640"/>
            <a:ext cx="6119640" cy="163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рыв приводит к образованию сильно нагрет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за (плазмы) с очень высоким давлением, которы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сширении оказывает сильное механическ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ействие (давление, разрушение) 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ающие тел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Прямоуг. 9"/>
          <p:cNvSpPr/>
          <p:nvPr/>
        </p:nvSpPr>
        <p:spPr>
          <a:xfrm>
            <a:off x="900000" y="4076640"/>
            <a:ext cx="2232000" cy="504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477618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Прямоуг. 10"/>
          <p:cNvSpPr/>
          <p:nvPr/>
        </p:nvSpPr>
        <p:spPr>
          <a:xfrm>
            <a:off x="4211640" y="4149720"/>
            <a:ext cx="2232000" cy="50472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ичны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Автофигура 11"/>
          <p:cNvSpPr/>
          <p:nvPr/>
        </p:nvSpPr>
        <p:spPr>
          <a:xfrm>
            <a:off x="2124000" y="5229360"/>
            <a:ext cx="1656000" cy="936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здуш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ударна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олна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Автофигура 12"/>
          <p:cNvSpPr/>
          <p:nvPr/>
        </p:nvSpPr>
        <p:spPr>
          <a:xfrm>
            <a:off x="250920" y="5229360"/>
            <a:ext cx="1657080" cy="8636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сколочны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л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Прямоуг. 13"/>
          <p:cNvSpPr/>
          <p:nvPr/>
        </p:nvSpPr>
        <p:spPr>
          <a:xfrm>
            <a:off x="4211640" y="5157720"/>
            <a:ext cx="2233440" cy="57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ушение 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оруже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Прямоуг. 14"/>
          <p:cNvSpPr/>
          <p:nvPr/>
        </p:nvSpPr>
        <p:spPr>
          <a:xfrm>
            <a:off x="6732720" y="5121360"/>
            <a:ext cx="2017440" cy="576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раж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Прямоуг. 15"/>
          <p:cNvSpPr/>
          <p:nvPr/>
        </p:nvSpPr>
        <p:spPr>
          <a:xfrm>
            <a:off x="6732720" y="4365720"/>
            <a:ext cx="2017440" cy="576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ёкла, облом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дани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Прямоуг. 16"/>
          <p:cNvSpPr/>
          <p:nvPr/>
        </p:nvSpPr>
        <p:spPr>
          <a:xfrm>
            <a:off x="4859280" y="5877000"/>
            <a:ext cx="1873440" cy="576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жар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Прямоуг. 17"/>
          <p:cNvSpPr/>
          <p:nvPr/>
        </p:nvSpPr>
        <p:spPr>
          <a:xfrm>
            <a:off x="6877080" y="5877000"/>
            <a:ext cx="1873080" cy="5763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плени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390" name="Автофигура 18"/>
          <p:cNvCxnSpPr>
            <a:stCxn id="385" idx="2"/>
            <a:endCxn id="386" idx="0"/>
          </p:cNvCxnSpPr>
          <p:nvPr/>
        </p:nvCxnSpPr>
        <p:spPr>
          <a:xfrm>
            <a:off x="2016000" y="4581360"/>
            <a:ext cx="93744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1" name="Автофигура 19"/>
          <p:cNvCxnSpPr>
            <a:stCxn id="385" idx="2"/>
            <a:endCxn id="387" idx="0"/>
          </p:cNvCxnSpPr>
          <p:nvPr/>
        </p:nvCxnSpPr>
        <p:spPr>
          <a:xfrm flipH="1">
            <a:off x="1078920" y="4581360"/>
            <a:ext cx="937080" cy="64836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2" name="Автофигура 20"/>
          <p:cNvCxnSpPr>
            <a:stCxn id="375" idx="2"/>
            <a:endCxn id="388" idx="0"/>
          </p:cNvCxnSpPr>
          <p:nvPr/>
        </p:nvCxnSpPr>
        <p:spPr>
          <a:xfrm>
            <a:off x="5327640" y="4654440"/>
            <a:ext cx="2160" cy="50400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3" name="Автофигура 21"/>
          <p:cNvCxnSpPr>
            <a:stCxn id="375" idx="3"/>
            <a:endCxn id="389" idx="1"/>
          </p:cNvCxnSpPr>
          <p:nvPr/>
        </p:nvCxnSpPr>
        <p:spPr>
          <a:xfrm>
            <a:off x="6443280" y="4401720"/>
            <a:ext cx="289440" cy="253080"/>
          </a:xfrm>
          <a:prstGeom prst="straightConnector1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4" name="Автофигура 22"/>
          <p:cNvCxnSpPr>
            <a:stCxn id="383" idx="0"/>
            <a:endCxn id="385" idx="0"/>
          </p:cNvCxnSpPr>
          <p:nvPr/>
        </p:nvCxnSpPr>
        <p:spPr>
          <a:xfrm flipH="1">
            <a:off x="2015280" y="3862080"/>
            <a:ext cx="2017080" cy="21492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  <p:cxnSp>
        <p:nvCxnSpPr>
          <p:cNvPr id="395" name="Автофигура 23"/>
          <p:cNvCxnSpPr>
            <a:stCxn id="383" idx="1"/>
            <a:endCxn id="375" idx="0"/>
          </p:cNvCxnSpPr>
          <p:nvPr/>
        </p:nvCxnSpPr>
        <p:spPr>
          <a:xfrm>
            <a:off x="4032360" y="3862440"/>
            <a:ext cx="1296000" cy="288000"/>
          </a:xfrm>
          <a:prstGeom prst="straightConnector1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6607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Рисунок 3" descr="BD06711_"/>
          <p:cNvPicPr/>
          <p:nvPr/>
        </p:nvPicPr>
        <p:blipFill>
          <a:blip r:embed="rId1"/>
          <a:stretch/>
        </p:blipFill>
        <p:spPr>
          <a:xfrm>
            <a:off x="7093080" y="260280"/>
            <a:ext cx="1757160" cy="1627200"/>
          </a:xfrm>
          <a:prstGeom prst="rect">
            <a:avLst/>
          </a:prstGeom>
          <a:ln w="0">
            <a:noFill/>
          </a:ln>
        </p:spPr>
      </p:pic>
      <p:sp>
        <p:nvSpPr>
          <p:cNvPr id="398" name="Автофигура 4"/>
          <p:cNvSpPr/>
          <p:nvPr/>
        </p:nvSpPr>
        <p:spPr>
          <a:xfrm>
            <a:off x="2700360" y="907920"/>
            <a:ext cx="3384360" cy="792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50000">
                <a:srgbClr val="765e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енности взрыв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Автофигура 5"/>
          <p:cNvSpPr/>
          <p:nvPr/>
        </p:nvSpPr>
        <p:spPr>
          <a:xfrm rot="16200000">
            <a:off x="575280" y="224028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имическог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враще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Автофигура 6"/>
          <p:cNvSpPr/>
          <p:nvPr/>
        </p:nvSpPr>
        <p:spPr>
          <a:xfrm rot="16200000">
            <a:off x="2556000" y="2275920"/>
            <a:ext cx="1368360" cy="1800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зообразных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дукт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Автофигура 7"/>
          <p:cNvSpPr/>
          <p:nvPr/>
        </p:nvSpPr>
        <p:spPr>
          <a:xfrm rot="16200000">
            <a:off x="4752000" y="2311560"/>
            <a:ext cx="1368360" cy="172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ьный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ффек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Автофигура 8"/>
          <p:cNvSpPr/>
          <p:nvPr/>
        </p:nvSpPr>
        <p:spPr>
          <a:xfrm rot="16200000">
            <a:off x="6768360" y="2311560"/>
            <a:ext cx="1368360" cy="1729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3399"/>
              </a:gs>
              <a:gs pos="100000">
                <a:srgbClr val="761847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щно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бяще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действ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cxnSp>
        <p:nvCxnSpPr>
          <p:cNvPr id="403" name="Автофигура 9"/>
          <p:cNvCxnSpPr>
            <a:stCxn id="398" idx="0"/>
            <a:endCxn id="399" idx="3"/>
          </p:cNvCxnSpPr>
          <p:nvPr/>
        </p:nvCxnSpPr>
        <p:spPr>
          <a:xfrm flipH="1">
            <a:off x="1258200" y="1714680"/>
            <a:ext cx="3134520" cy="7084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4" name="Автофигура 10"/>
          <p:cNvCxnSpPr>
            <a:stCxn id="398" idx="1"/>
            <a:endCxn id="402" idx="3"/>
          </p:cNvCxnSpPr>
          <p:nvPr/>
        </p:nvCxnSpPr>
        <p:spPr>
          <a:xfrm>
            <a:off x="4392360" y="1714320"/>
            <a:ext cx="3059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5" name="Автофигура 11"/>
          <p:cNvCxnSpPr>
            <a:stCxn id="398" idx="2"/>
            <a:endCxn id="400" idx="3"/>
          </p:cNvCxnSpPr>
          <p:nvPr/>
        </p:nvCxnSpPr>
        <p:spPr>
          <a:xfrm flipH="1">
            <a:off x="3238200" y="1714680"/>
            <a:ext cx="1154880" cy="778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406" name="Автофигура 12"/>
          <p:cNvCxnSpPr>
            <a:stCxn id="398" idx="3"/>
            <a:endCxn id="401" idx="3"/>
          </p:cNvCxnSpPr>
          <p:nvPr/>
        </p:nvCxnSpPr>
        <p:spPr>
          <a:xfrm>
            <a:off x="4392360" y="1714320"/>
            <a:ext cx="1043640" cy="7801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407" name="Автофигура 13"/>
          <p:cNvSpPr/>
          <p:nvPr/>
        </p:nvSpPr>
        <p:spPr>
          <a:xfrm>
            <a:off x="324000" y="4149720"/>
            <a:ext cx="8351640" cy="609480"/>
          </a:xfrm>
          <a:custGeom>
            <a:avLst/>
            <a:gdLst>
              <a:gd name="textAreaLeft" fmla="*/ 2088000 w 8351640"/>
              <a:gd name="textAreaRight" fmla="*/ 6264000 w 8351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472f00"/>
              </a:gs>
              <a:gs pos="50000">
                <a:srgbClr val="996600"/>
              </a:gs>
              <a:gs pos="100000">
                <a:srgbClr val="472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знаки установки взрывного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тройства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Автофигура 14"/>
          <p:cNvSpPr/>
          <p:nvPr/>
        </p:nvSpPr>
        <p:spPr>
          <a:xfrm>
            <a:off x="684360" y="4941720"/>
            <a:ext cx="18716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есхозные сумки,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акеты и др. вещи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Автофигура 15"/>
          <p:cNvSpPr/>
          <p:nvPr/>
        </p:nvSpPr>
        <p:spPr>
          <a:xfrm>
            <a:off x="61128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орчащие над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емлёй «усики»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Автофигура 16"/>
          <p:cNvSpPr/>
          <p:nvPr/>
        </p:nvSpPr>
        <p:spPr>
          <a:xfrm>
            <a:off x="356400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угорки на грунте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Автофигура 17"/>
          <p:cNvSpPr/>
          <p:nvPr/>
        </p:nvSpPr>
        <p:spPr>
          <a:xfrm>
            <a:off x="6443640" y="595008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рушение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ернового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оя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Автофигура 18"/>
          <p:cNvSpPr/>
          <p:nvPr/>
        </p:nvSpPr>
        <p:spPr>
          <a:xfrm>
            <a:off x="3564000" y="4941720"/>
            <a:ext cx="194472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татки проволоки,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оленты и т.п.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Автофигура 19"/>
          <p:cNvSpPr/>
          <p:nvPr/>
        </p:nvSpPr>
        <p:spPr>
          <a:xfrm>
            <a:off x="6443640" y="5013360"/>
            <a:ext cx="1871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472f"/>
              </a:gs>
              <a:gs pos="50000">
                <a:srgbClr val="ff9966"/>
              </a:gs>
              <a:gs pos="100000">
                <a:srgbClr val="764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тянутые шнуры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провода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459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Пожары и взрывы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Автофигура 3"/>
          <p:cNvSpPr/>
          <p:nvPr/>
        </p:nvSpPr>
        <p:spPr>
          <a:xfrm rot="16200000">
            <a:off x="3491640" y="-2259360"/>
            <a:ext cx="1224000" cy="7416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душная ударная волна- распространяющаяся со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рхзвуковой скоростью тонкая переходная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ь, в которой происходит резкое увеличени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тности, давления и температуры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250920" y="2205000"/>
          <a:ext cx="8497800" cy="4638600"/>
        </p:xfrm>
        <a:graphic>
          <a:graphicData uri="http://schemas.openxmlformats.org/drawingml/2006/table">
            <a:tbl>
              <a:tblPr/>
              <a:tblGrid>
                <a:gridCol w="2241360"/>
                <a:gridCol w="625644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иды поражен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Характеристика пораж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Лёгкая контузия, временная потеря слуха, ушибы и вывихи конечностей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редне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 мозга с потерей сознания, повреждением органов слуха, кровотечение из носа и ушей, сильные переломы и вывихи конеч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яжёло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ильная контузия всего организма, ПОВРЕЖДЕНИЕ внутренних органов и мозга, тяжёлые переломы конечностей. Возможны смертельные исходы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райне тяжёло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вмы, обычно приводящие к смертельному исходу.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7" name="Рисунок 28" descr="j0211949"/>
          <p:cNvPicPr/>
          <p:nvPr/>
        </p:nvPicPr>
        <p:blipFill>
          <a:blip r:embed="rId2"/>
          <a:stretch/>
        </p:blipFill>
        <p:spPr>
          <a:xfrm>
            <a:off x="7704000" y="260280"/>
            <a:ext cx="144000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Объект 2"/>
          <p:cNvGraphicFramePr/>
          <p:nvPr/>
        </p:nvGraphicFramePr>
        <p:xfrm>
          <a:off x="250920" y="404640"/>
          <a:ext cx="28810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28810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7632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то дел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Обнаружив предмет, похожий на взрывное устройство</a:t>
            </a:r>
            <a:r>
              <a:rPr b="1" lang="ru-RU" sz="2000" spc="-1" strike="noStrike">
                <a:solidFill>
                  <a:srgbClr val="ffff00"/>
                </a:solidFill>
                <a:latin typeface="Arial Black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трогайте ег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Не создавая паники, предупредите окружающих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ccff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Arial Black"/>
              </a:rPr>
              <a:t>Сообщите о находке в милицию, любому должностному лиц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 Black"/>
              </a:rPr>
              <a:t>При угрозе взрыва: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 подходите к взрывоопасному предмету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Немедленно покиньте опасное место, предупредите окружающих об опас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Сообщите в милицию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-380880">
              <a:spcBef>
                <a:spcPts val="499"/>
              </a:spcBef>
              <a:buClr>
                <a:srgbClr val="ff9966"/>
              </a:buClr>
              <a:buFont typeface="Arial Black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Arial Black"/>
              </a:rPr>
              <a:t>Если взрыв неизбежен, лягте, прикрыв голову рук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2" dur="1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6" dur="1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1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Что делать, если вы в завал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411280" y="981000"/>
            <a:ext cx="640872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 u="sng">
                <a:solidFill>
                  <a:srgbClr val="ff9966"/>
                </a:solidFill>
                <a:uFillTx/>
                <a:latin typeface="Arial Black"/>
              </a:rPr>
              <a:t>Р</a:t>
            </a: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анены, получили травму:</a:t>
            </a:r>
            <a:br>
              <a:rPr sz="2000"/>
            </a:br>
            <a:r>
              <a:rPr b="1" lang="ru-RU" sz="1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цените травм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2. Окажите себе посильную помощ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3. Растирайте придавленные конечност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Перевернитесь на живот, ослабьте давление на грудь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Нет возможности выбраться: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Постарайтесь найти и надеть теплые вещи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мотритесь, нет ли просветов, лазов, проёмов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Укрепите завал, установите подпорки под конструкцию над вам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Голосом и стуком привлекайте внимани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66"/>
                </a:solidFill>
                <a:uFillTx/>
                <a:latin typeface="Arial Black"/>
              </a:rPr>
              <a:t>Есть возможность выбратьс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1. осмотритесь, нет ли просветов, лазов, проём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2. осторожно выбирайтесь из завала, не вызывая нового обвала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3. выйдите на открытое мес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4.  зарегистрируйтесь в штабе спасателей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23" name="Объект 4"/>
          <p:cNvGraphicFramePr/>
          <p:nvPr/>
        </p:nvGraphicFramePr>
        <p:xfrm>
          <a:off x="250920" y="836640"/>
          <a:ext cx="258588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25858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8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1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5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8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1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Николай</cp:lastModifiedBy>
  <dcterms:modified xsi:type="dcterms:W3CDTF">2013-04-25T11:51:3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