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C56-0483-4FD0-BA4A-612EF7AB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536-E714-4C41-8C43-C0E8B77D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294-5A9D-4E8F-8F31-BD3BAC2C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BC2-AAC8-46FB-B35F-96669872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F83-7FBB-4808-94F0-9596769D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31F-CC77-42A1-84D7-38DA88E0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9C5-6334-4B92-A7DF-F9C9D59E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6A8-ACB1-4856-967A-8A63700E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26B-28E4-43CF-B51B-ACC12653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DDF-7A23-4904-AE7B-DDF517D6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30D-6621-4B84-A377-BAB91911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300-7024-4205-BBF8-6399EF72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CA1F-F61B-4DF5-A064-5F31601C5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45054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3280" y="476280"/>
            <a:ext cx="43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Первая помощь при травмах ске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60440"/>
            <a:ext cx="9144000" cy="4597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ммобилизация верхней конечности при повреждении плечевого сустава с помощью косынки: а, б — этапы иммобил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440000"/>
            <a:ext cx="7740720" cy="541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92160" y="-268200"/>
            <a:ext cx="941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0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Иммобилизация при помощи подручных средств: а, б — при переломе позвоночника; в, г — иммобилизация бедра; д — предплечья; е — ключицы; ж — голени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676520"/>
            <a:ext cx="6667560" cy="51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260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Иммобилизация пострадавшего при ранении в груд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2038320"/>
            <a:ext cx="9036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837040" cy="568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8000" y="1159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ние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9, обобщение, раб. тетрадь - №31,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15:00Z</dcterms:created>
  <dc:creator>Виктор</dc:creator>
  <dc:description/>
  <dc:language>en-US</dc:language>
  <cp:lastModifiedBy>Виктор</cp:lastModifiedBy>
  <dcterms:modified xsi:type="dcterms:W3CDTF">2010-10-03T17:44:22Z</dcterms:modified>
  <cp:revision>4</cp:revision>
  <dc:subject/>
  <dc:title>Слайд 1</dc:title>
</cp:coreProperties>
</file>