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D26E-2C61-4C92-A161-B6650063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64D-88DD-4E0F-823B-ECD2EDF5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4990-F1E9-49B7-8705-3FA8BBC1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E39-F046-4DB4-B571-254B53D2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2BE-02D4-4338-8E5E-6C991F2C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BD7D-1630-4777-92B1-11210712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7B7-B6C0-40AE-B606-CE039636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6E5-92BF-43DB-B90F-22ABC194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B532-73F4-4EFC-BBCB-C9C78F08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314-2C42-4EBC-9E4E-4DC5BE3B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FBF7-18B3-4282-B508-518F7B7F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E25-9BCE-4010-BFD6-5CC22260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5E90-86F8-430A-8F7A-C9A8C4928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45054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43280" y="476280"/>
            <a:ext cx="43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Первая помощь при травмах скел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260440"/>
            <a:ext cx="9144000" cy="4597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33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Иммобилизация верхней конечности при повреждении плечевого сустава с помощью косынки: а, б — этапы иммобилиз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440000"/>
            <a:ext cx="7740720" cy="541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92160" y="-268200"/>
            <a:ext cx="941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0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Иммобилизация при помощи подручных средств: а, б — при переломе позвоночника; в, г — иммобилизация бедра; д — предплечья; е — ключицы; ж — голени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1676520"/>
            <a:ext cx="6667560" cy="5181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260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Иммобилизация пострадавшего при ранении в груд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8000" y="2038320"/>
            <a:ext cx="90360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837040" cy="568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8000" y="11592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дание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9, обобщение, раб. тетрадь - №31,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7:15:00Z</dcterms:created>
  <dc:creator>Виктор</dc:creator>
  <dc:description/>
  <dc:language>en-US</dc:language>
  <cp:lastModifiedBy>Виктор</cp:lastModifiedBy>
  <dcterms:modified xsi:type="dcterms:W3CDTF">2010-10-03T17:44:22Z</dcterms:modified>
  <cp:revision>4</cp:revision>
  <dc:subject/>
  <dc:title>Слайд 1</dc:title>
</cp:coreProperties>
</file>