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926-912E-4BBE-B4D8-612624E1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B4C-DB13-4436-94A3-6CEFBAD6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C81-4982-46E2-9844-E20AEFBC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2C7-2930-447B-B7D4-59266A59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B65-D3FA-413F-B842-53BB83C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A7A-8500-4162-9FD4-2E7DDD0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626-0566-48D9-9333-F96632C6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626-29AF-4B26-9C1D-0082BCC7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305-86BF-4EE4-AC8F-7766194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5C0-9822-46BE-9D41-8DD5CFE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1C1-EB86-42DD-8808-4614352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7D9-CEA2-4200-AA7B-6228309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E4A-3A22-4BD5-90F5-4A885492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505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476280"/>
            <a:ext cx="43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ервая помощь при травмах ске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ммобилизация верхней конечности при повреждении плечевого сустава с помощью косынки: а, б — этапы иммобил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40000"/>
            <a:ext cx="7740720" cy="541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92160" y="-268200"/>
            <a:ext cx="941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0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Иммобилизация при помощи подручных средств: а, б — при переломе позвоночника; в, г — иммобилизация бедра; д — предплечья; е — ключицы; ж — голени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676520"/>
            <a:ext cx="6667560" cy="51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ммобилизация пострадавшего при ранении в груд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2038320"/>
            <a:ext cx="9036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837040" cy="568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1159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ние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9, обобщение, раб. тетрадь - №31,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15:00Z</dcterms:created>
  <dc:creator>Виктор</dc:creator>
  <dc:description/>
  <dc:language>en-US</dc:language>
  <cp:lastModifiedBy>Виктор</cp:lastModifiedBy>
  <dcterms:modified xsi:type="dcterms:W3CDTF">2010-10-03T17:44:22Z</dcterms:modified>
  <cp:revision>4</cp:revision>
  <dc:subject/>
  <dc:title>Слайд 1</dc:title>
</cp:coreProperties>
</file>