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13AD59-D56D-4B9A-936A-B598209B1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ED1AC6-1028-4E99-9677-615BE89EC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B9D6AE-0706-4CDA-9081-45EB9E9CD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C30616-605A-4ED5-82DA-C161CF42D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2888A-5D33-49AA-97CB-989A0E83B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DE441-F696-45A5-A354-59CB00605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D9E15-7984-4EEE-A1FD-FEB75F925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71382-CBC1-43D0-974C-17BAA4D79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6D107-83ED-45EC-B1DD-C79D3F38D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48F53-4581-41B5-86DD-06646CAA0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94147-5BA0-49E9-85EF-58A516D1A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742F0F-8F23-47C2-A41E-E5781F5AC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96184-F5B9-4BDC-AFBB-A16EEED8B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31D2D-EDDD-491B-8621-419237205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A46FA-6AEF-4E1E-8D5E-62C44AD69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E1DD3-A8F2-4109-9404-6D643376A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E40E8-A22B-49D0-A3E7-2A69C5379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F1B7FF-61CA-457D-8846-D347E470A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FA7F63-FE49-4698-BCA4-884E27843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961D8B-0336-4E41-886F-F22C096E8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CCD547-9AE9-4094-9EE3-E399EC2F0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8AC6B4-A316-4557-B897-9567FD083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4ADE25-E731-4446-9AF7-6816DB40E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116FA6-DE37-45FC-ADCE-4119A768D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48C25-742E-4D6C-9A2F-E15F50D2434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AD299-7446-457C-9A7B-50F06CC3F3B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1;&#1091;&#1095;&#1077;&#1074;&#1072;&#1103;_&#1082;&#1086;&#1089;&#1090;&#1100;" TargetMode="External"/><Relationship Id="rId2" Type="http://schemas.openxmlformats.org/officeDocument/2006/relationships/hyperlink" Target="http://ru.wikipedia.org/wiki/&#1055;&#1083;&#1077;&#1095;&#1086;_(&#1095;&#1072;&#1089;&#1090;&#1100;_&#1090;&#1077;&#1083;&#1072;)" TargetMode="External"/><Relationship Id="rId3" Type="http://schemas.openxmlformats.org/officeDocument/2006/relationships/hyperlink" Target="http://ru.wikipedia.org/wiki/&#1043;&#1086;&#1083;&#1077;&#1085;&#1100;" TargetMode="External"/><Relationship Id="rId4" Type="http://schemas.openxmlformats.org/officeDocument/2006/relationships/hyperlink" Target="http://ru.wikipedia.org/wiki/&#1051;&#1086;&#1076;&#1099;&#1078;&#1082;&#1072;" TargetMode="External"/><Relationship Id="rId5" Type="http://schemas.openxmlformats.org/officeDocument/2006/relationships/hyperlink" Target="http://ru.wikipedia.org/wiki/&#1041;&#1077;&#1076;&#1088;&#1086;" TargetMode="External"/><Relationship Id="rId6" Type="http://schemas.openxmlformats.org/officeDocument/2006/relationships/hyperlink" Target="http://ru.wikipedia.org/wiki/&#1057;&#1090;&#1072;&#1088;&#1086;&#1089;&#1090;&#1100;" TargetMode="External"/><Relationship Id="rId7" Type="http://schemas.openxmlformats.org/officeDocument/2006/relationships/hyperlink" Target="http://ru.wikipedia.org/wiki/&#1063;&#1077;&#1088;&#1077;&#1087;" TargetMode="External"/><Relationship Id="rId8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0;&#1088;&#1086;&#1074;&#1086;&#1090;&#1077;&#1095;&#1077;&#1085;&#1080;&#1077;" TargetMode="External"/><Relationship Id="rId2" Type="http://schemas.openxmlformats.org/officeDocument/2006/relationships/hyperlink" Target="http://ru.wikipedia.org/wiki/&#1043;&#1086;&#1083;&#1077;&#1085;&#1100;" TargetMode="External"/><Relationship Id="rId3" Type="http://schemas.openxmlformats.org/officeDocument/2006/relationships/hyperlink" Target="http://ru.wikipedia.org/wiki/&#1043;&#1077;&#1084;&#1072;&#1090;&#1086;&#1084;&#1072;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4;&#1090;&#1105;&#1082;" TargetMode="External"/><Relationship Id="rId2" Type="http://schemas.openxmlformats.org/officeDocument/2006/relationships/hyperlink" Target="http://ru.wikipedia.org/wiki/&#1060;&#1080;&#1073;&#1088;&#1080;&#1085;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1;&#1086;&#1083;&#1100;" TargetMode="External"/><Relationship Id="rId2" Type="http://schemas.openxmlformats.org/officeDocument/2006/relationships/hyperlink" Target="http://ru.wikipedia.org/wiki/&#1054;&#1090;&#1105;&#1082;" TargetMode="External"/><Relationship Id="rId3" Type="http://schemas.openxmlformats.org/officeDocument/2006/relationships/hyperlink" Target="http://ru.wikipedia.org/wiki/&#1043;&#1077;&#1084;&#1072;&#1090;&#1086;&#1084;&#1072;" TargetMode="External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7;&#1091;&#1089;&#1090;&#1072;&#1074;" TargetMode="External"/><Relationship Id="rId2" Type="http://schemas.openxmlformats.org/officeDocument/2006/relationships/hyperlink" Target="http://ru.wikipedia.org/wiki/&#1050;&#1088;&#1077;&#1087;&#1080;&#1090;&#1072;&#1094;&#1080;&#1103;" TargetMode="External"/><Relationship Id="rId3" Type="http://schemas.openxmlformats.org/officeDocument/2006/relationships/hyperlink" Target="http://ru.wikipedia.org/wiki/&#1060;&#1086;&#1085;&#1077;&#1085;&#1076;&#1086;&#1089;&#1082;&#1086;&#1087;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4;&#1089;&#1090;&#1072;&#1085;&#1086;&#1074;&#1082;&#1072;_&#1082;&#1088;&#1086;&#1074;&#1086;&#1090;&#1077;&#1095;&#1077;&#1085;&#1080;&#1103;" TargetMode="External"/><Relationship Id="rId2" Type="http://schemas.openxmlformats.org/officeDocument/2006/relationships/hyperlink" Target="http://ru.wikipedia.org/w/index.php?title=&#1050;&#1074;&#1072;&#1083;&#1080;&#1092;&#1080;&#1094;&#1080;&#1088;&#1086;&#1074;&#1072;&#1085;&#1085;&#1072;&#1103;_&#1084;&#1077;&#1076;&#1080;&#1094;&#1080;&#1085;&#1089;&#1082;&#1072;&#1103;_&#1087;&#1086;&#1084;&#1086;&#1097;&#1100;&amp;action=edit&amp;redlink=1" TargetMode="External"/><Relationship Id="rId3" Type="http://schemas.openxmlformats.org/officeDocument/2006/relationships/hyperlink" Target="http://ru.wikipedia.org/w/index.php?title=&#1058;&#1088;&#1072;&#1074;&#1084;&#1099;_&#1087;&#1086;&#1079;&#1074;&#1086;&#1085;&#1086;&#1095;&#1085;&#1080;&#1082;&#1072;&amp;action=edit&amp;redlink=1" TargetMode="External"/><Relationship Id="rId4" Type="http://schemas.openxmlformats.org/officeDocument/2006/relationships/hyperlink" Target="http://ru.wikipedia.org/w/index.php?title=&#1048;&#1084;&#1084;&#1086;&#1073;&#1080;&#1083;&#1080;&#1079;&#1072;&#1094;&#1080;&#1103;&amp;action=edit&amp;redlink=1" TargetMode="External"/><Relationship Id="rId5" Type="http://schemas.openxmlformats.org/officeDocument/2006/relationships/hyperlink" Target="http://ru.wikipedia.org/wiki/&#1057;&#1091;&#1089;&#1090;&#1072;&#1074;&#1099;" TargetMode="External"/><Relationship Id="rId6" Type="http://schemas.openxmlformats.org/officeDocument/2006/relationships/hyperlink" Target="http://ru.wikipedia.org/wiki/&#1053;&#1086;&#1089;&#1080;&#1083;&#1082;&#1080;" TargetMode="External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ru.wikipedia.org/w/index.php?title=&#1058;&#1088;&#1072;&#1074;&#1084;&#1087;&#1091;&#1085;&#1082;&#1090;&amp;action=edit&amp;redlink=1" TargetMode="External"/><Relationship Id="rId2" Type="http://schemas.openxmlformats.org/officeDocument/2006/relationships/hyperlink" Target="http://ru.wikipedia.org/w/index.php?title=&#1057;&#1090;&#1072;&#1094;&#1080;&#1086;&#1085;&#1072;&#1088;&amp;action=edit&amp;redlink=1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ru.wikipedia.org/w/index.php?title=&#1048;&#1084;&#1084;&#1086;&#1073;&#1080;&#1083;&#1080;&#1079;&#1072;&#1094;&#1080;&#1103;&amp;action=edit&amp;redlink=1" TargetMode="External"/><Relationship Id="rId2" Type="http://schemas.openxmlformats.org/officeDocument/2006/relationships/hyperlink" Target="http://ru.wikipedia.org/wiki/&#1050;&#1086;&#1085;&#1077;&#1095;&#1085;&#1086;&#1089;&#1090;&#1080;" TargetMode="External"/><Relationship Id="rId3" Type="http://schemas.openxmlformats.org/officeDocument/2006/relationships/hyperlink" Target="http://ru.wikipedia.org/wiki/&#1057;&#1091;&#1089;&#1090;&#1072;&#1074;" TargetMode="External"/><Relationship Id="rId4" Type="http://schemas.openxmlformats.org/officeDocument/2006/relationships/hyperlink" Target="http://ru.wikipedia.org/w/index.php?title=&#1055;&#1077;&#1088;&#1077;&#1083;&#1086;&#1084;_&#1073;&#1077;&#1076;&#1088;&#1077;&#1085;&#1085;&#1086;&#1081;_&#1082;&#1086;&#1089;&#1090;&#1080;&amp;action=edit&amp;redlink=1" TargetMode="External"/><Relationship Id="rId5" Type="http://schemas.openxmlformats.org/officeDocument/2006/relationships/hyperlink" Target="http://ru.wikipedia.org/w/index.php?title=&#1055;&#1077;&#1088;&#1077;&#1083;&#1086;&#1084;_&#1087;&#1083;&#1077;&#1095;&#1077;&#1074;&#1086;&#1081;_&#1082;&#1086;&#1089;&#1090;&#1080;&amp;action=edit&amp;redlink=1" TargetMode="External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0;&#1086;&#1089;&#1090;&#1100;" TargetMode="External"/><Relationship Id="rId2" Type="http://schemas.openxmlformats.org/officeDocument/2006/relationships/hyperlink" Target="http://ru.wikipedia.org/wiki/&#1052;&#1077;&#1093;&#1072;&#1085;&#1080;&#1095;&#1077;&#1089;&#1082;&#1086;&#1077;_&#1085;&#1072;&#1087;&#1088;&#1103;&#1078;&#1077;&#1085;&#1080;&#1077;" TargetMode="External"/><Relationship Id="rId3" Type="http://schemas.openxmlformats.org/officeDocument/2006/relationships/hyperlink" Target="http://ru.wikipedia.org/wiki/&#1057;&#1082;&#1077;&#1083;&#1077;&#1090;" TargetMode="External"/><Relationship Id="rId4" Type="http://schemas.openxmlformats.org/officeDocument/2006/relationships/hyperlink" Target="http://ru.wikipedia.org/wiki/&#1058;&#1088;&#1072;&#1074;&#1084;&#1072;" TargetMode="External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5;&#1072;&#1090;&#1086;&#1083;&#1086;&#1075;&#1080;&#1103;" TargetMode="External"/><Relationship Id="rId2" Type="http://schemas.openxmlformats.org/officeDocument/2006/relationships/hyperlink" Target="http://ru.wikipedia.org/wiki/&#1058;&#1091;&#1073;&#1077;&#1088;&#1082;&#1091;&#1083;&#1105;&#1079;" TargetMode="External"/><Relationship Id="rId3" Type="http://schemas.openxmlformats.org/officeDocument/2006/relationships/hyperlink" Target="http://ru.wikipedia.org/wiki/&#1054;&#1087;&#1091;&#1093;&#1086;&#1083;&#1100;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ru.wikipedia.org/w/index.php?title=&#1053;&#1072;&#1076;&#1082;&#1086;&#1089;&#1090;&#1085;&#1080;&#1094;&#1072;&amp;action=edit&amp;redlink=1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5;&#1077;&#1088;&#1087;&#1077;&#1085;&#1076;&#1080;&#1082;&#1091;&#1083;&#1103;&#1088;" TargetMode="External"/><Relationship Id="rId2" Type="http://schemas.openxmlformats.org/officeDocument/2006/relationships/hyperlink" Target="http://ru.wikipedia.org/wiki/&#1054;&#1089;&#1090;&#1088;&#1099;&#1081;_&#1091;&#1075;&#1086;&#1083;" TargetMode="External"/><Relationship Id="rId3" Type="http://schemas.openxmlformats.org/officeDocument/2006/relationships/hyperlink" Target="http://ru.wikipedia.org/wiki/&#1055;&#1086;&#1079;&#1074;&#1086;&#1085;&#1086;&#1095;&#1085;&#1080;&#1082;" TargetMode="External"/><Relationship Id="rId4" Type="http://schemas.openxmlformats.org/officeDocument/2006/relationships/hyperlink" Target="http://ru.wikipedia.org/w/index.php?title=&#1043;&#1091;&#1073;&#1095;&#1072;&#1090;&#1072;&#1103;_&#1082;&#1086;&#1089;&#1090;&#1100;&amp;action=edit&amp;redlink=1" TargetMode="External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8;&#1088;&#1072;&#1074;&#1084;&#1072;&#1090;&#1080;&#1095;&#1077;&#1089;&#1082;&#1080;&#1081;_&#1096;&#1086;&#1082;" TargetMode="External"/><Relationship Id="rId2" Type="http://schemas.openxmlformats.org/officeDocument/2006/relationships/hyperlink" Target="http://ru.wikipedia.org/wiki/&#1054;&#1089;&#1090;&#1077;&#1086;&#1084;&#1080;&#1077;&#1083;&#1080;&#1090;" TargetMode="External"/><Relationship Id="rId3" Type="http://schemas.openxmlformats.org/officeDocument/2006/relationships/hyperlink" Target="http://ru.wikipedia.org/wiki/&#1057;&#1077;&#1087;&#1089;&#1080;&#1089;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5;&#1088;&#1086;&#1095;&#1085;&#1086;&#1089;&#1090;&#1100;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520" y="2133720"/>
            <a:ext cx="7772400" cy="32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Arial"/>
              </a:rPr>
              <a:t>Первая помощь при переломах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Подготовила : Братенкова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Людмила  Михайловна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886200" y="2666880"/>
            <a:ext cx="15048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684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30456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Перелом </a:t>
            </a:r>
            <a:r>
              <a:rPr b="0" lang="en-US" sz="24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лучевой кости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в типичном месте. В 70 % случаях по механизму травмы он является разгибательным переломо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Перелом </a:t>
            </a:r>
            <a:r>
              <a:rPr b="0" lang="en-US" sz="24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хирургической шейки плеча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Оскольчатый перелом </a:t>
            </a:r>
            <a:r>
              <a:rPr b="0" lang="en-US" sz="24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голени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в средней трети — так называемый «бамперный перелом» — широко распространённый вид травмы, возникающий, как правило, при автодорожных травма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Перелом медиальной и латеральной </a:t>
            </a:r>
            <a:r>
              <a:rPr b="0" lang="en-US" sz="24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лодыжек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Перелом шейки </a:t>
            </a:r>
            <a:r>
              <a:rPr b="0" lang="en-US" sz="24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бедра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. Трудноизлечимый, но довольно распространённый перелом, в настоящее время широко распространён у </a:t>
            </a:r>
            <a:r>
              <a:rPr b="0" lang="en-US" sz="2400" spc="-1" strike="noStrike" u="sng">
                <a:solidFill>
                  <a:srgbClr val="666699"/>
                </a:solidFill>
                <a:uFillTx/>
                <a:latin typeface="Arial"/>
                <a:hlinkClick r:id="rId6"/>
              </a:rPr>
              <a:t>пожилых людей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, наиболее эффективным способом лечения — установка искусственного тазобедренного сустав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Различные переломы костей </a:t>
            </a:r>
            <a:r>
              <a:rPr b="0" lang="en-US" sz="2400" spc="-1" strike="noStrike" u="sng">
                <a:solidFill>
                  <a:srgbClr val="666699"/>
                </a:solidFill>
                <a:uFillTx/>
                <a:latin typeface="Arial"/>
                <a:hlinkClick r:id="rId7"/>
              </a:rPr>
              <a:t>черепа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1684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685800"/>
            <a:ext cx="5105520" cy="54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бычно при переломе костной ткани возникает </a:t>
            </a:r>
            <a:r>
              <a:rPr b="0" lang="en-US" sz="24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кровотечение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, которое плохо останавливается из-за того, что сосуды фиксированы в минеральной части кости и не могут спадаться. Объём кровотечения зависит от типа перелома и его локализации, так, например, при переломах </a:t>
            </a:r>
            <a:r>
              <a:rPr b="0" lang="en-US" sz="24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костей голени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пострадавший теряет 500—700 мл крови. В результате этого кровоизлияния формируется </a:t>
            </a:r>
            <a:r>
              <a:rPr b="0" lang="en-US" sz="24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гематома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, которая впоследствии окружает костные отлом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343400" y="837720"/>
            <a:ext cx="449568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4"/>
          <a:stretch/>
        </p:blipFill>
        <p:spPr>
          <a:xfrm>
            <a:off x="6553080" y="2743200"/>
            <a:ext cx="1414440" cy="16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-1148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510552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месте кровотечения возникает </a:t>
            </a:r>
            <a:r>
              <a:rPr b="0" lang="ru-RU" sz="24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отёк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происходит выпадение </a:t>
            </a:r>
            <a:r>
              <a:rPr b="0" lang="ru-RU" sz="24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нитей фибрин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которые служат впоследствии основой для формирования белкового матрикса костной ткани. Остановка кровотечения из костной ткани представляет собой нелёгкую задачу и при сложных оскольчатых открытых переломах возможна только в оборудованной операционн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4832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6248520" y="2057400"/>
            <a:ext cx="1752480" cy="17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01000" cy="12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Относительные признаки перелома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Относительные признаки перело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Боль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 — усиливается в месте перелома при имитации осевой нагрузки. Например, при постукивании по пятке резко усилится боль при переломе голен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Отёк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 — возникает в области повреждения, как правило, не сразу. Несёт относительно мало диагностической информац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4832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Гематома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 — появляется в области перелома (чаще не сразу). Пульсирующая гематома свидетельствует о продолжающемся интенсивном кровотечен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арушение функции повреждённой конечности — подразумевается невозможность нагрузки на повреждённую часть тела и значительное ограничение подвиж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4"/>
          <a:stretch/>
        </p:blipFill>
        <p:spPr>
          <a:xfrm>
            <a:off x="3505320" y="4800600"/>
            <a:ext cx="13716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Абсолютные признаки перелома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5638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еестественное положение конечност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атологическая подвижность (при не полных переломах определяется не всегда) — конечность подвижна в том месте, где нет </a:t>
            </a:r>
            <a:r>
              <a:rPr b="0" lang="en-US" sz="20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сустава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Крепитация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(своеобразный хруст) — ощущается под рукой в месте перелома, иногда слышна ухом. Хорошо слышна при надавливании </a:t>
            </a:r>
            <a:r>
              <a:rPr b="0" lang="en-US" sz="20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фонендоскопом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на место поврежде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остные отломки — при открытом переломе они могут быть видны в ран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4832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4"/>
          <a:stretch/>
        </p:blipFill>
        <p:spPr>
          <a:xfrm>
            <a:off x="6324480" y="2057400"/>
            <a:ext cx="198144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ервая доврачебная помощ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Человек, оказывающий первую доврачебную помощь может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ценить тяжесть состояния пострадавшего и локализацию повреждени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и наличии кровотечения — </a:t>
            </a:r>
            <a:r>
              <a:rPr b="0" lang="en-US" sz="18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остановить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ег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пределить, возможно ли перемещение пострадавшего, до прибытия </a:t>
            </a:r>
            <a:r>
              <a:rPr b="0" lang="en-US" sz="18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квалифицированного медицинского персонала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 Не рекомендуется переносить или передвигать больного при </a:t>
            </a:r>
            <a:r>
              <a:rPr b="0" lang="en-US" sz="18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травмах позвоночника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и множественных переломах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и изолированной травме </a:t>
            </a:r>
            <a:r>
              <a:rPr b="0" lang="en-US" sz="18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иммобилизовать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повреждённого участка, накладывает шину. Шиной может служить любой предмет, который предотвратит движения в повреждённой конечности (захватывая </a:t>
            </a:r>
            <a:r>
              <a:rPr b="0" lang="en-US" sz="18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суставы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выше и ниже места перелома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и отсутствии противопоказаний к перемещению пострадавшего транспортируют в медицинское учреждени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Если доступ медицинского персонала затруднён или невозможен и имеются противопоказания к перемещению пострадавшего, обеспечивает по возможности полную иммобилизацию повреждённых участков, после чего используются </a:t>
            </a:r>
            <a:r>
              <a:rPr b="0" lang="en-US" sz="1800" spc="-1" strike="noStrike" u="sng">
                <a:solidFill>
                  <a:srgbClr val="666699"/>
                </a:solidFill>
                <a:uFillTx/>
                <a:latin typeface="Arial"/>
                <a:hlinkClick r:id="rId6"/>
              </a:rPr>
              <a:t>носилки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с твёрдым основанием, к которым надёжно фиксируется пострадавши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Первая врачебная помощ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рвая врачебная помощь может быть оказана как на месте, так и в </a:t>
            </a:r>
            <a:r>
              <a:rPr b="0" lang="ru-RU" sz="20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травмпункт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ли </a:t>
            </a:r>
            <a:r>
              <a:rPr b="0" lang="ru-RU" sz="20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стационар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В этот момент важно оценить тяжесть состояния пострадавшего, предотвратить или облегчить осложнениями травмы, определеить объём дальнейшего леч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4832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5181480" y="2666880"/>
            <a:ext cx="3048120" cy="16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Правила иммобилизации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533412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и осуществлении транспортной (временной) </a:t>
            </a:r>
            <a:r>
              <a:rPr b="0" lang="en-US" sz="20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иммобилизации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20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конечностей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человек, осуществляющий её, должен соблюдать следующие правил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Фиксировать конечность в том положении, в котором она находится после травмы, но не пытаться вправить кость на место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Фиксировать минимум 2 </a:t>
            </a:r>
            <a:r>
              <a:rPr b="0" lang="en-US" sz="20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сустава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(выше и ниже перелома). При </a:t>
            </a:r>
            <a:r>
              <a:rPr b="0" lang="en-US" sz="20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травме бедра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и </a:t>
            </a:r>
            <a:r>
              <a:rPr b="0" lang="en-US" sz="20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плеча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фиксировать 3 сустав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и наложении шины и наличии ран сначала обработать раны и остановить кровотечени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006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6"/>
          <a:stretch/>
        </p:blipFill>
        <p:spPr>
          <a:xfrm>
            <a:off x="5943600" y="1219320"/>
            <a:ext cx="2209680" cy="213336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7"/>
          <a:stretch/>
        </p:blipFill>
        <p:spPr>
          <a:xfrm>
            <a:off x="6172200" y="3581280"/>
            <a:ext cx="190512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5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50292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случае перелома очень важно своевременное оказание медицинской помощи. Вовремя оказанная медицинская помощь может спасти жизнь пострадавшему и предотвратить развитие серьёзных осложнений. Зачастую опасны не сами переломы, а сопровождающие их патологические состояния, такие как травматический шок и кровотеч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4832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6019920" y="2209680"/>
            <a:ext cx="205740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3520" y="5331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ерело́м ко́ст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— полное или частичное нарушение целостности </a:t>
            </a:r>
            <a:r>
              <a:rPr b="0" lang="ru-RU" sz="32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кост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при </a:t>
            </a:r>
            <a:r>
              <a:rPr b="0" lang="ru-RU" sz="32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нагрузк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превышающей прочность травмируемого участка </a:t>
            </a:r>
            <a:r>
              <a:rPr b="0" lang="ru-RU" sz="32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скелет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Переломы могут возникать как вследствие </a:t>
            </a:r>
            <a:r>
              <a:rPr b="0" lang="ru-RU" sz="32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травмы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так и в результате различных заболеваний, сопровождающихся изменениями в прочностных характеристиках костной ткан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изображение"/>
          <p:cNvPicPr/>
          <p:nvPr/>
        </p:nvPicPr>
        <p:blipFill>
          <a:blip r:embed="rId5"/>
          <a:stretch/>
        </p:blipFill>
        <p:spPr>
          <a:xfrm>
            <a:off x="3276720" y="4648320"/>
            <a:ext cx="5105160" cy="18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Классификация перелом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 причине возникнов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 тяжести поражен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 форме и направлению перелом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 целостности кожных покров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 осложнения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о причине возникновения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Травматически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— вызванные внешним воздействие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Патологически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— возникающие при минимальном внешнем воздействии вследствие разрушения кости каким-нибудь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патологическим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процессом (например,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туберкулёзным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,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опухолевым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или другим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о тяжести пораж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лны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Без смещения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например, под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надкостницей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Со смещением отломко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еполные — трещины и надлом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3581280" y="4952880"/>
            <a:ext cx="3353040" cy="116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По форме и направлению перелом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оперечны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— линия перелома условно </a:t>
            </a:r>
            <a:r>
              <a:rPr b="0" lang="ru-RU" sz="20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перпендикулярн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оси трубчатой кост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родольные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— линия перелома условно параллельна оси трубчатой кост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Косы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— линия перелома проходит под </a:t>
            </a:r>
            <a:r>
              <a:rPr b="0" lang="ru-RU" sz="20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острым угло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к оси трубчатой кост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интообразные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— происходит вращение костных отломков, костные отломки «повёрнуты» относительно своего нормального положе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Оскольчатые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— нет единой линии перелома, кость в месте повреждения раздроблена на отдельные отломк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Клиновидные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— как правило возникает при переломах </a:t>
            </a:r>
            <a:r>
              <a:rPr b="0" lang="ru-RU" sz="20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позвоночник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когда одна кость вдавливается в другую, образуя клиновидную деформацию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колоченные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— костные отломки смещаются проксимальней по оси трубчатой кости или располагаются вне основной плоскости </a:t>
            </a:r>
            <a:r>
              <a:rPr b="0" lang="ru-RU" sz="20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губчатой кост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Компрессионны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— костные отломки мелкие, чёткой, единой линии перелома нет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о целостности кожных покров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Закрыты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— без сообщения с внешней средо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Открыты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— сообщающиеся с внешней средо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4267080" y="3429000"/>
            <a:ext cx="38862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о осложнениям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Осложнённы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травматическим шоком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вреждением внутренних органов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ровотечение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жировой эмболие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невой инфекцией, </a:t>
            </a:r>
            <a:r>
              <a:rPr b="0" lang="ru-RU" sz="32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остеомиелитом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32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сепсисом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Неосложнённы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Существуют типичные места переломов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80880" y="1828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ак правило, они находятся в тех местах, где кость испытывает наибольшую нагрузку, или там, где её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прочность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ниже. К наиболее распространённым переломам относятс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Наталья</cp:lastModifiedBy>
  <dcterms:modified xsi:type="dcterms:W3CDTF">2009-03-19T20:09:5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