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3D418-30D4-4B83-B4AA-36C745FF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B773D-3633-4C7C-81B8-2564632F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9799B-6EB3-4FD6-9B1E-7A3FFD8E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EE35E-686F-4841-AA28-90B70118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FAE0-890C-4996-B6C2-2AB9327B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83B5-A38D-41C0-8FFE-F84997DC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9B63-EF2B-4338-9134-90FF0F09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652F-D97D-4693-9741-27AF79CD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DFCC-C64C-4F09-AE9D-A9D53C56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168D-59DE-4A31-96BB-D7D1D28E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B882-C2F6-4F12-A8B1-FC796155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CAEF7-5C35-44BA-B75F-4D1AB50B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B664-556D-475D-A281-11BCD39A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C0C4-5BB4-42B4-93CA-54CA61E0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3A2C-D099-4843-8EBC-EDF8D635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E6FF-A31F-4762-B5AA-A1BF0F2F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88C5-E309-4880-8A2C-4B547B09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14FA3-CEA4-42DE-88FD-5B6B90F5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74915-B53B-43FC-8ECE-2444C5F1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C98D8-E06B-4B4C-8413-F60F19D5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D9E13-ED0A-428D-A944-1B9601DB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3B495-466C-4649-84C6-9B94A81E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B6B76-FAC9-4D67-9252-9D7D3C69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4381A-7261-42A6-9256-EA3B21A9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69E7-1520-42A2-9665-0B66B521E5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CE4C-5BCF-41BB-A722-3709B4B672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91;&#1095;&#1077;&#1074;&#1072;&#1103;_&#1082;&#1086;&#1089;&#1090;&#1100;" TargetMode="External"/><Relationship Id="rId2" Type="http://schemas.openxmlformats.org/officeDocument/2006/relationships/hyperlink" Target="http://ru.wikipedia.org/wiki/&#1055;&#1083;&#1077;&#1095;&#1086;_(&#1095;&#1072;&#1089;&#1090;&#1100;_&#1090;&#1077;&#1083;&#1072;)" TargetMode="External"/><Relationship Id="rId3" Type="http://schemas.openxmlformats.org/officeDocument/2006/relationships/hyperlink" Target="http://ru.wikipedia.org/wiki/&#1043;&#1086;&#1083;&#1077;&#1085;&#1100;" TargetMode="External"/><Relationship Id="rId4" Type="http://schemas.openxmlformats.org/officeDocument/2006/relationships/hyperlink" Target="http://ru.wikipedia.org/wiki/&#1051;&#1086;&#1076;&#1099;&#1078;&#1082;&#1072;" TargetMode="External"/><Relationship Id="rId5" Type="http://schemas.openxmlformats.org/officeDocument/2006/relationships/hyperlink" Target="http://ru.wikipedia.org/wiki/&#1041;&#1077;&#1076;&#1088;&#1086;" TargetMode="External"/><Relationship Id="rId6" Type="http://schemas.openxmlformats.org/officeDocument/2006/relationships/hyperlink" Target="http://ru.wikipedia.org/wiki/&#1057;&#1090;&#1072;&#1088;&#1086;&#1089;&#1090;&#1100;" TargetMode="External"/><Relationship Id="rId7" Type="http://schemas.openxmlformats.org/officeDocument/2006/relationships/hyperlink" Target="http://ru.wikipedia.org/wiki/&#1063;&#1077;&#1088;&#1077;&#1087;" TargetMode="Externa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8;&#1086;&#1074;&#1086;&#1090;&#1077;&#1095;&#1077;&#1085;&#1080;&#1077;" TargetMode="External"/><Relationship Id="rId2" Type="http://schemas.openxmlformats.org/officeDocument/2006/relationships/hyperlink" Target="http://ru.wikipedia.org/wiki/&#1043;&#1086;&#1083;&#1077;&#1085;&#1100;" TargetMode="External"/><Relationship Id="rId3" Type="http://schemas.openxmlformats.org/officeDocument/2006/relationships/hyperlink" Target="http://ru.wikipedia.org/wiki/&#1043;&#1077;&#1084;&#1072;&#1090;&#1086;&#1084;&#1072;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90;&#1105;&#1082;" TargetMode="External"/><Relationship Id="rId2" Type="http://schemas.openxmlformats.org/officeDocument/2006/relationships/hyperlink" Target="http://ru.wikipedia.org/wiki/&#1060;&#1080;&#1073;&#1088;&#1080;&#1085;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6;&#1083;&#1100;" TargetMode="External"/><Relationship Id="rId2" Type="http://schemas.openxmlformats.org/officeDocument/2006/relationships/hyperlink" Target="http://ru.wikipedia.org/wiki/&#1054;&#1090;&#1105;&#1082;" TargetMode="External"/><Relationship Id="rId3" Type="http://schemas.openxmlformats.org/officeDocument/2006/relationships/hyperlink" Target="http://ru.wikipedia.org/wiki/&#1043;&#1077;&#1084;&#1072;&#1090;&#1086;&#1084;&#1072;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91;&#1089;&#1090;&#1072;&#1074;" TargetMode="External"/><Relationship Id="rId2" Type="http://schemas.openxmlformats.org/officeDocument/2006/relationships/hyperlink" Target="http://ru.wikipedia.org/wiki/&#1050;&#1088;&#1077;&#1087;&#1080;&#1090;&#1072;&#1094;&#1080;&#1103;" TargetMode="External"/><Relationship Id="rId3" Type="http://schemas.openxmlformats.org/officeDocument/2006/relationships/hyperlink" Target="http://ru.wikipedia.org/wiki/&#1060;&#1086;&#1085;&#1077;&#1085;&#1076;&#1086;&#1089;&#1082;&#1086;&#1087;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9;&#1090;&#1072;&#1085;&#1086;&#1074;&#1082;&#1072;_&#1082;&#1088;&#1086;&#1074;&#1086;&#1090;&#1077;&#1095;&#1077;&#1085;&#1080;&#1103;" TargetMode="External"/><Relationship Id="rId2" Type="http://schemas.openxmlformats.org/officeDocument/2006/relationships/hyperlink" Target="http://ru.wikipedia.org/w/index.php?title=&#1050;&#1074;&#1072;&#1083;&#1080;&#1092;&#1080;&#1094;&#1080;&#1088;&#1086;&#1074;&#1072;&#1085;&#1085;&#1072;&#1103;_&#1084;&#1077;&#1076;&#1080;&#1094;&#1080;&#1085;&#1089;&#1082;&#1072;&#1103;_&#1087;&#1086;&#1084;&#1086;&#1097;&#1100;&amp;action=edit&amp;redlink=1" TargetMode="External"/><Relationship Id="rId3" Type="http://schemas.openxmlformats.org/officeDocument/2006/relationships/hyperlink" Target="http://ru.wikipedia.org/w/index.php?title=&#1058;&#1088;&#1072;&#1074;&#1084;&#1099;_&#1087;&#1086;&#1079;&#1074;&#1086;&#1085;&#1086;&#1095;&#1085;&#1080;&#1082;&#1072;&amp;action=edit&amp;redlink=1" TargetMode="External"/><Relationship Id="rId4" Type="http://schemas.openxmlformats.org/officeDocument/2006/relationships/hyperlink" Target="http://ru.wikipedia.org/w/index.php?title=&#1048;&#1084;&#1084;&#1086;&#1073;&#1080;&#1083;&#1080;&#1079;&#1072;&#1094;&#1080;&#1103;&amp;action=edit&amp;redlink=1" TargetMode="External"/><Relationship Id="rId5" Type="http://schemas.openxmlformats.org/officeDocument/2006/relationships/hyperlink" Target="http://ru.wikipedia.org/wiki/&#1057;&#1091;&#1089;&#1090;&#1072;&#1074;&#1099;" TargetMode="External"/><Relationship Id="rId6" Type="http://schemas.openxmlformats.org/officeDocument/2006/relationships/hyperlink" Target="http://ru.wikipedia.org/wiki/&#1053;&#1086;&#1089;&#1080;&#1083;&#1082;&#1080;" TargetMode="External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8;&#1088;&#1072;&#1074;&#1084;&#1087;&#1091;&#1085;&#1082;&#1090;&amp;action=edit&amp;redlink=1" TargetMode="External"/><Relationship Id="rId2" Type="http://schemas.openxmlformats.org/officeDocument/2006/relationships/hyperlink" Target="http://ru.wikipedia.org/w/index.php?title=&#1057;&#1090;&#1072;&#1094;&#1080;&#1086;&#1085;&#1072;&#1088;&amp;action=edit&amp;redlink=1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8;&#1084;&#1084;&#1086;&#1073;&#1080;&#1083;&#1080;&#1079;&#1072;&#1094;&#1080;&#1103;&amp;action=edit&amp;redlink=1" TargetMode="External"/><Relationship Id="rId2" Type="http://schemas.openxmlformats.org/officeDocument/2006/relationships/hyperlink" Target="http://ru.wikipedia.org/wiki/&#1050;&#1086;&#1085;&#1077;&#1095;&#1085;&#1086;&#1089;&#1090;&#1080;" TargetMode="External"/><Relationship Id="rId3" Type="http://schemas.openxmlformats.org/officeDocument/2006/relationships/hyperlink" Target="http://ru.wikipedia.org/wiki/&#1057;&#1091;&#1089;&#1090;&#1072;&#1074;" TargetMode="External"/><Relationship Id="rId4" Type="http://schemas.openxmlformats.org/officeDocument/2006/relationships/hyperlink" Target="http://ru.wikipedia.org/w/index.php?title=&#1055;&#1077;&#1088;&#1077;&#1083;&#1086;&#1084;_&#1073;&#1077;&#1076;&#1088;&#1077;&#1085;&#1085;&#1086;&#1081;_&#1082;&#1086;&#1089;&#1090;&#1080;&amp;action=edit&amp;redlink=1" TargetMode="External"/><Relationship Id="rId5" Type="http://schemas.openxmlformats.org/officeDocument/2006/relationships/hyperlink" Target="http://ru.wikipedia.org/w/index.php?title=&#1055;&#1077;&#1088;&#1077;&#1083;&#1086;&#1084;_&#1087;&#1083;&#1077;&#1095;&#1077;&#1074;&#1086;&#1081;_&#1082;&#1086;&#1089;&#1090;&#1080;&amp;action=edit&amp;redlink=1" TargetMode="External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9;&#1090;&#1100;" TargetMode="External"/><Relationship Id="rId2" Type="http://schemas.openxmlformats.org/officeDocument/2006/relationships/hyperlink" Target="http://ru.wikipedia.org/wiki/&#1052;&#1077;&#1093;&#1072;&#1085;&#1080;&#1095;&#1077;&#1089;&#1082;&#1086;&#1077;_&#1085;&#1072;&#1087;&#1088;&#1103;&#1078;&#1077;&#1085;&#1080;&#1077;" TargetMode="External"/><Relationship Id="rId3" Type="http://schemas.openxmlformats.org/officeDocument/2006/relationships/hyperlink" Target="http://ru.wikipedia.org/wiki/&#1057;&#1082;&#1077;&#1083;&#1077;&#1090;" TargetMode="External"/><Relationship Id="rId4" Type="http://schemas.openxmlformats.org/officeDocument/2006/relationships/hyperlink" Target="http://ru.wikipedia.org/wiki/&#1058;&#1088;&#1072;&#1074;&#1084;&#1072;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72;&#1090;&#1086;&#1083;&#1086;&#1075;&#1080;&#1103;" TargetMode="External"/><Relationship Id="rId2" Type="http://schemas.openxmlformats.org/officeDocument/2006/relationships/hyperlink" Target="http://ru.wikipedia.org/wiki/&#1058;&#1091;&#1073;&#1077;&#1088;&#1082;&#1091;&#1083;&#1105;&#1079;" TargetMode="External"/><Relationship Id="rId3" Type="http://schemas.openxmlformats.org/officeDocument/2006/relationships/hyperlink" Target="http://ru.wikipedia.org/wiki/&#1054;&#1087;&#1091;&#1093;&#1086;&#1083;&#1100;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3;&#1072;&#1076;&#1082;&#1086;&#1089;&#1090;&#1085;&#1080;&#1094;&#1072;&amp;action=edit&amp;redlink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77;&#1088;&#1087;&#1077;&#1085;&#1076;&#1080;&#1082;&#1091;&#1083;&#1103;&#1088;" TargetMode="External"/><Relationship Id="rId2" Type="http://schemas.openxmlformats.org/officeDocument/2006/relationships/hyperlink" Target="http://ru.wikipedia.org/wiki/&#1054;&#1089;&#1090;&#1088;&#1099;&#1081;_&#1091;&#1075;&#1086;&#1083;" TargetMode="External"/><Relationship Id="rId3" Type="http://schemas.openxmlformats.org/officeDocument/2006/relationships/hyperlink" Target="http://ru.wikipedia.org/wiki/&#1055;&#1086;&#1079;&#1074;&#1086;&#1085;&#1086;&#1095;&#1085;&#1080;&#1082;" TargetMode="External"/><Relationship Id="rId4" Type="http://schemas.openxmlformats.org/officeDocument/2006/relationships/hyperlink" Target="http://ru.wikipedia.org/w/index.php?title=&#1043;&#1091;&#1073;&#1095;&#1072;&#1090;&#1072;&#1103;_&#1082;&#1086;&#1089;&#1090;&#1100;&amp;action=edit&amp;redlink=1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2;&#1074;&#1084;&#1072;&#1090;&#1080;&#1095;&#1077;&#1089;&#1082;&#1080;&#1081;_&#1096;&#1086;&#1082;" TargetMode="External"/><Relationship Id="rId2" Type="http://schemas.openxmlformats.org/officeDocument/2006/relationships/hyperlink" Target="http://ru.wikipedia.org/wiki/&#1054;&#1089;&#1090;&#1077;&#1086;&#1084;&#1080;&#1077;&#1083;&#1080;&#1090;" TargetMode="External"/><Relationship Id="rId3" Type="http://schemas.openxmlformats.org/officeDocument/2006/relationships/hyperlink" Target="http://ru.wikipedia.org/wiki/&#1057;&#1077;&#1087;&#1089;&#1080;&#1089;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86;&#1095;&#1085;&#1086;&#1089;&#1090;&#1100;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133720"/>
            <a:ext cx="777240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Первая помощь при переломах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дготовила : Братенков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Людмила  Михайловн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86200" y="2666880"/>
            <a:ext cx="15048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8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Перелом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лучевой кост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в типичном месте. В 70 % случаях по механизму травмы он является разгибательным перелом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Перелом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хирургической шейки плеч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Оскольчатый перелом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голен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в средней трети — так называемый «бамперный перелом» — широко распространённый вид травмы, возникающий, как правило, при автодорожных травм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Перелом медиальной и латеральной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лодыжек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Перелом шейки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бедр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Трудноизлечимый, но довольно распространённый перелом, в настоящее время широко распространён у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пожилых людей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наиболее эффективным способом лечения — установка искусственного тазобедренного суста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Различные переломы костей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череп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8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510552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ычно при переломе костной ткани возникает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кровотечение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которое плохо останавливается из-за того, что сосуды фиксированы в минеральной части кости и не могут спадаться. Объём кровотечения зависит от типа перелома и его локализации, так, например, при переломах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костей голен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пострадавший теряет 500—700 мл крови. В результате этого кровоизлияния формируется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гематом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которая впоследствии окружает костные отлом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43400" y="837720"/>
            <a:ext cx="44956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553080" y="2743200"/>
            <a:ext cx="14144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51055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сте кровотечения возникает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отё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роисходит выпадение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нитей фибр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е служат впоследствии основой для формирования белкового матрикса костной ткани. Остановка кровотечения из костной ткани представляет собой нелёгкую задачу и при сложных оскольчатых открытых переломах возможна только в оборудованной операцион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248520" y="2057400"/>
            <a:ext cx="175248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носительные признаки перелом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носительные признаки перел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Боль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 — усиливается в месте перелома при имитации осевой нагрузки. Например, при постукивании по пятке резко усилится боль при переломе гол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Отёк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 — возникает в области повреждения, как правило, не сразу. Несёт относительно мало диагностической информ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Гематом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 — появляется в области перелома (чаще не сразу). Пульсирующая гематома свидетельствует о продолжающемся интенсивном кровотеч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рушение функции повреждённой конечности — подразумевается невозможность нагрузки на повреждённую часть тела и значительное ограничение подви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1371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бсолютные признаки перелом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естественное положение коне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тологическая подвижность (при не полных переломах определяется не всегда) — конечность подвижна в том месте, где нет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сустав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Крепитация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своеобразный хруст) — ощущается под рукой в месте перелома, иногда слышна ухом. Хорошо слышна при надавливании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фонендоскопом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на место повреж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стные отломки — при открытом переломе они могут быть видны в ра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6324480" y="2057400"/>
            <a:ext cx="19814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ервая доврачебная помощ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ловек, оказывающий первую доврачебную помощь мож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ценить тяжесть состояния пострадавшего и локализацию поврежд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наличии кровотечения —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остановит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е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ить, возможно ли перемещение пострадавшего, до прибытия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квалифицированного медицинского персонал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 Не рекомендуется переносить или передвигать больного при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травмах позвоночник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и множественных перелом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изолированной травме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иммобилизоват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повреждённого участка, накладывает шину. Шиной может служить любой предмет, который предотвратит движения в повреждённой конечности (захватывая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суставы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выше и ниже места перелом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отсутствии противопоказаний к перемещению пострадавшего транспортируют в медицинское учрежд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доступ медицинского персонала затруднён или невозможен и имеются противопоказания к перемещению пострадавшего, обеспечивает по возможности полную иммобилизацию повреждённых участков, после чего используются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носилки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с твёрдым основанием, к которым надёжно фиксируется пострадавш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ервая врачебная помощ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ая врачебная помощь может быть оказана как на месте, так и в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травмпункт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стациона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этот момент важно оценить тяжесть состояния пострадавшего, предотвратить или облегчить осложнениями травмы, определеить объём дальнейшего ле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181480" y="2666880"/>
            <a:ext cx="3048120" cy="16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авила иммобилизац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53341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осуществлении транспортной (временной)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иммобилизации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конечностей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человек, осуществляющий её, должен соблюдать следующие пра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ксировать конечность в том положении, в котором она находится после травмы, но не пытаться вправить кость на мест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ксировать минимум 2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сустав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выше и ниже перелома). При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травме бедр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и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плеч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фиксировать 3 суста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наложении шины и наличии ран сначала обработать раны и остановить кровотеч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5943600" y="1219320"/>
            <a:ext cx="2209680" cy="2133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6172200" y="3581280"/>
            <a:ext cx="1905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50292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лучае перелома очень важно своевременное оказание медицинской помощи. Вовремя оказанная медицинская помощь может спасти жизнь пострадавшему и предотвратить развитие серьёзных осложнений. Зачастую опасны не сами переломы, а сопровождающие их патологические состояния, такие как травматический шок и кровоте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19920" y="2209680"/>
            <a:ext cx="20574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533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ло́м ко́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— полное или частичное нарушение целостности </a:t>
            </a: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к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и </a:t>
            </a: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нагрузк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евышающей прочность травмируемого участка </a:t>
            </a: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скеле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Переломы могут возникать как вследствие </a:t>
            </a: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трав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ак и в результате различных заболеваний, сопровождающихся изменениями в прочностных характеристиках костной тк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изображение"/>
          <p:cNvPicPr/>
          <p:nvPr/>
        </p:nvPicPr>
        <p:blipFill>
          <a:blip r:embed="rId5"/>
          <a:stretch/>
        </p:blipFill>
        <p:spPr>
          <a:xfrm>
            <a:off x="3276720" y="4648320"/>
            <a:ext cx="51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перело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причине возникнов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тяжести пораж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форме и направлению перело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целостности кожных покров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осложнен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 причине возникнов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Травматическ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— вызванные внешним воздействи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атологическ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— возникающие при минимальном внешнем воздействии вследствие разрушения кости каким-нибудь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патологическим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процессом (например,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туберкулёзным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опухолевым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или другим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 тяжести по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Без смещ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например, под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надкостницей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о смещением отломк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полные — трещины и надло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581280" y="4952880"/>
            <a:ext cx="33530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 форме и направлению перел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переч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линия перелома условно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перпендикуляр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си трубчатой 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доль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линия перелома условно параллельна оси трубчатой 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с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линия перелома проходит под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острым угл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оси трубчатой 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нтообраз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происходит вращение костных отломков, костные отломки «повёрнуты» относительно своего нормального поло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кольчат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нет единой линии перелома, кость в месте повреждения раздроблена на отдельные отлом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линовид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как правило возникает при переломах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позвоночн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гда одна кость вдавливается в другую, образуя клиновидную деформа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колочен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костные отломки смещаются проксимальней по оси трубчатой кости или располагаются вне основной плоскости </a:t>
            </a: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губчатой к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прессио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костные отломки мелкие, чёткой, единой линии перелома н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 целостности кожных покров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Закрыт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— без сообщения с внешней сред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ткрыт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— сообщающиеся с внешней сред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67080" y="3429000"/>
            <a:ext cx="3886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 осложнениям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сложнён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травматическим шок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реждением внутренних орган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вотечени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ровой эмболи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невой инфекцией, </a:t>
            </a: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остеомиелит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сепсис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осложнён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уществуют типичные места перелом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правило, они находятся в тех местах, где кость испытывает наибольшую нагрузку, или там, где её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прочность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ниже. К наиболее распространённым переломам относя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09-03-19T20:09:5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