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386F-DE9E-4A85-A8F9-D78CBE75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0A34-1D99-4ABD-A369-721C9B51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B395-9109-441F-B668-A4101959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3D53-45D7-422F-9D1F-0091D8D7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4194-7A15-4690-91B4-3944C295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E718-3EC7-4DAF-A8E8-4E17BF6B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864E-170D-42B3-A6CD-36EE19F6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CC4F-1757-4B1F-8C60-FD138E8E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99F2-79DC-47EA-814A-BAE7D7AA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2BD4-F2A6-4D51-A402-474C5B81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4B1B-08BB-45AE-AAE5-65473DED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C6D1-4F70-48BC-B578-214BD565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9144-5A4A-49ED-AB3F-DC1F5FAB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3CD9-EF3A-4A47-B3B3-D8D91B7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48C8-2A4E-47F7-B24A-34FF9B66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F790-9913-47E8-B149-5B16664C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7C9A-CE08-49D3-B36D-DB7AED31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F2F0-598C-4462-9EE3-B531FA2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4147-9BEB-4BDB-B419-0D627461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CC48-CC18-4501-A88A-C250DFD6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DAB6-5252-4993-9D99-B76DFC88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B42E-EFEB-4C65-996F-0C33ED8E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87DA-86D1-47C1-85CC-B84B1DF6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2700-36DF-403C-BA1A-B87BE79D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FBA6-B483-4116-8D01-39D6C24B1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467F-0D52-4599-9DF0-94EDAC9A4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91;&#1095;&#1077;&#1074;&#1072;&#1103;_&#1082;&#1086;&#1089;&#1090;&#1100;" TargetMode="External"/><Relationship Id="rId2" Type="http://schemas.openxmlformats.org/officeDocument/2006/relationships/hyperlink" Target="http://ru.wikipedia.org/wiki/&#1055;&#1083;&#1077;&#1095;&#1086;_(&#1095;&#1072;&#1089;&#1090;&#1100;_&#1090;&#1077;&#1083;&#1072;)" TargetMode="External"/><Relationship Id="rId3" Type="http://schemas.openxmlformats.org/officeDocument/2006/relationships/hyperlink" Target="http://ru.wikipedia.org/wiki/&#1043;&#1086;&#1083;&#1077;&#1085;&#1100;" TargetMode="External"/><Relationship Id="rId4" Type="http://schemas.openxmlformats.org/officeDocument/2006/relationships/hyperlink" Target="http://ru.wikipedia.org/wiki/&#1051;&#1086;&#1076;&#1099;&#1078;&#1082;&#1072;" TargetMode="External"/><Relationship Id="rId5" Type="http://schemas.openxmlformats.org/officeDocument/2006/relationships/hyperlink" Target="http://ru.wikipedia.org/wiki/&#1041;&#1077;&#1076;&#1088;&#1086;" TargetMode="External"/><Relationship Id="rId6" Type="http://schemas.openxmlformats.org/officeDocument/2006/relationships/hyperlink" Target="http://ru.wikipedia.org/wiki/&#1057;&#1090;&#1072;&#1088;&#1086;&#1089;&#1090;&#1100;" TargetMode="External"/><Relationship Id="rId7" Type="http://schemas.openxmlformats.org/officeDocument/2006/relationships/hyperlink" Target="http://ru.wikipedia.org/wiki/&#1063;&#1077;&#1088;&#1077;&#1087;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86;&#1074;&#1086;&#1090;&#1077;&#1095;&#1077;&#1085;&#1080;&#1077;" TargetMode="External"/><Relationship Id="rId2" Type="http://schemas.openxmlformats.org/officeDocument/2006/relationships/hyperlink" Target="http://ru.wikipedia.org/wiki/&#1043;&#1086;&#1083;&#1077;&#1085;&#1100;" TargetMode="External"/><Relationship Id="rId3" Type="http://schemas.openxmlformats.org/officeDocument/2006/relationships/hyperlink" Target="http://ru.wikipedia.org/wiki/&#1043;&#1077;&#1084;&#1072;&#1090;&#1086;&#1084;&#1072;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90;&#1105;&#1082;" TargetMode="External"/><Relationship Id="rId2" Type="http://schemas.openxmlformats.org/officeDocument/2006/relationships/hyperlink" Target="http://ru.wikipedia.org/wiki/&#1060;&#1080;&#1073;&#1088;&#1080;&#1085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100;" TargetMode="External"/><Relationship Id="rId2" Type="http://schemas.openxmlformats.org/officeDocument/2006/relationships/hyperlink" Target="http://ru.wikipedia.org/wiki/&#1054;&#1090;&#1105;&#1082;" TargetMode="External"/><Relationship Id="rId3" Type="http://schemas.openxmlformats.org/officeDocument/2006/relationships/hyperlink" Target="http://ru.wikipedia.org/wiki/&#1043;&#1077;&#1084;&#1072;&#1090;&#1086;&#1084;&#1072;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1;&#1089;&#1090;&#1072;&#1074;" TargetMode="External"/><Relationship Id="rId2" Type="http://schemas.openxmlformats.org/officeDocument/2006/relationships/hyperlink" Target="http://ru.wikipedia.org/wiki/&#1050;&#1088;&#1077;&#1087;&#1080;&#1090;&#1072;&#1094;&#1080;&#1103;" TargetMode="External"/><Relationship Id="rId3" Type="http://schemas.openxmlformats.org/officeDocument/2006/relationships/hyperlink" Target="http://ru.wikipedia.org/wiki/&#1060;&#1086;&#1085;&#1077;&#1085;&#1076;&#1086;&#1089;&#1082;&#1086;&#1087;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9;&#1090;&#1072;&#1085;&#1086;&#1074;&#1082;&#1072;_&#1082;&#1088;&#1086;&#1074;&#1086;&#1090;&#1077;&#1095;&#1077;&#1085;&#1080;&#1103;" TargetMode="External"/><Relationship Id="rId2" Type="http://schemas.openxmlformats.org/officeDocument/2006/relationships/hyperlink" Target="http://ru.wikipedia.org/w/index.php?title=&#1050;&#1074;&#1072;&#1083;&#1080;&#1092;&#1080;&#1094;&#1080;&#1088;&#1086;&#1074;&#1072;&#1085;&#1085;&#1072;&#1103;_&#1084;&#1077;&#1076;&#1080;&#1094;&#1080;&#1085;&#1089;&#1082;&#1072;&#1103;_&#1087;&#1086;&#1084;&#1086;&#1097;&#1100;&amp;action=edit&amp;redlink=1" TargetMode="External"/><Relationship Id="rId3" Type="http://schemas.openxmlformats.org/officeDocument/2006/relationships/hyperlink" Target="http://ru.wikipedia.org/w/index.php?title=&#1058;&#1088;&#1072;&#1074;&#1084;&#1099;_&#1087;&#1086;&#1079;&#1074;&#1086;&#1085;&#1086;&#1095;&#1085;&#1080;&#1082;&#1072;&amp;action=edit&amp;redlink=1" TargetMode="External"/><Relationship Id="rId4" Type="http://schemas.openxmlformats.org/officeDocument/2006/relationships/hyperlink" Target="http://ru.wikipedia.org/w/index.php?title=&#1048;&#1084;&#1084;&#1086;&#1073;&#1080;&#1083;&#1080;&#1079;&#1072;&#1094;&#1080;&#1103;&amp;action=edit&amp;redlink=1" TargetMode="External"/><Relationship Id="rId5" Type="http://schemas.openxmlformats.org/officeDocument/2006/relationships/hyperlink" Target="http://ru.wikipedia.org/wiki/&#1057;&#1091;&#1089;&#1090;&#1072;&#1074;&#1099;" TargetMode="External"/><Relationship Id="rId6" Type="http://schemas.openxmlformats.org/officeDocument/2006/relationships/hyperlink" Target="http://ru.wikipedia.org/wiki/&#1053;&#1086;&#1089;&#1080;&#1083;&#1082;&#1080;" TargetMode="Externa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8;&#1088;&#1072;&#1074;&#1084;&#1087;&#1091;&#1085;&#1082;&#1090;&amp;action=edit&amp;redlink=1" TargetMode="External"/><Relationship Id="rId2" Type="http://schemas.openxmlformats.org/officeDocument/2006/relationships/hyperlink" Target="http://ru.wikipedia.org/w/index.php?title=&#1057;&#1090;&#1072;&#1094;&#1080;&#1086;&#1085;&#1072;&#1088;&amp;action=edit&amp;redlink=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8;&#1084;&#1084;&#1086;&#1073;&#1080;&#1083;&#1080;&#1079;&#1072;&#1094;&#1080;&#1103;&amp;action=edit&amp;redlink=1" TargetMode="External"/><Relationship Id="rId2" Type="http://schemas.openxmlformats.org/officeDocument/2006/relationships/hyperlink" Target="http://ru.wikipedia.org/wiki/&#1050;&#1086;&#1085;&#1077;&#1095;&#1085;&#1086;&#1089;&#1090;&#1080;" TargetMode="External"/><Relationship Id="rId3" Type="http://schemas.openxmlformats.org/officeDocument/2006/relationships/hyperlink" Target="http://ru.wikipedia.org/wiki/&#1057;&#1091;&#1089;&#1090;&#1072;&#1074;" TargetMode="External"/><Relationship Id="rId4" Type="http://schemas.openxmlformats.org/officeDocument/2006/relationships/hyperlink" Target="http://ru.wikipedia.org/w/index.php?title=&#1055;&#1077;&#1088;&#1077;&#1083;&#1086;&#1084;_&#1073;&#1077;&#1076;&#1088;&#1077;&#1085;&#1085;&#1086;&#1081;_&#1082;&#1086;&#1089;&#1090;&#1080;&amp;action=edit&amp;redlink=1" TargetMode="External"/><Relationship Id="rId5" Type="http://schemas.openxmlformats.org/officeDocument/2006/relationships/hyperlink" Target="http://ru.wikipedia.org/w/index.php?title=&#1055;&#1077;&#1088;&#1077;&#1083;&#1086;&#1084;_&#1087;&#1083;&#1077;&#1095;&#1077;&#1074;&#1086;&#1081;_&#1082;&#1086;&#1089;&#1090;&#1080;&amp;action=edit&amp;redlink=1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90;&#1100;" TargetMode="External"/><Relationship Id="rId2" Type="http://schemas.openxmlformats.org/officeDocument/2006/relationships/hyperlink" Target="http://ru.wikipedia.org/wiki/&#1052;&#1077;&#1093;&#1072;&#1085;&#1080;&#1095;&#1077;&#1089;&#1082;&#1086;&#1077;_&#1085;&#1072;&#1087;&#1088;&#1103;&#1078;&#1077;&#1085;&#1080;&#1077;" TargetMode="External"/><Relationship Id="rId3" Type="http://schemas.openxmlformats.org/officeDocument/2006/relationships/hyperlink" Target="http://ru.wikipedia.org/wiki/&#1057;&#1082;&#1077;&#1083;&#1077;&#1090;" TargetMode="External"/><Relationship Id="rId4" Type="http://schemas.openxmlformats.org/officeDocument/2006/relationships/hyperlink" Target="http://ru.wikipedia.org/wiki/&#1058;&#1088;&#1072;&#1074;&#1084;&#1072;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90;&#1086;&#1083;&#1086;&#1075;&#1080;&#1103;" TargetMode="External"/><Relationship Id="rId2" Type="http://schemas.openxmlformats.org/officeDocument/2006/relationships/hyperlink" Target="http://ru.wikipedia.org/wiki/&#1058;&#1091;&#1073;&#1077;&#1088;&#1082;&#1091;&#1083;&#1105;&#1079;" TargetMode="External"/><Relationship Id="rId3" Type="http://schemas.openxmlformats.org/officeDocument/2006/relationships/hyperlink" Target="http://ru.wikipedia.org/wiki/&#1054;&#1087;&#1091;&#1093;&#1086;&#1083;&#1100;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3;&#1072;&#1076;&#1082;&#1086;&#1089;&#1090;&#1085;&#1080;&#1094;&#1072;&amp;action=edit&amp;redlink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8;&#1087;&#1077;&#1085;&#1076;&#1080;&#1082;&#1091;&#1083;&#1103;&#1088;" TargetMode="External"/><Relationship Id="rId2" Type="http://schemas.openxmlformats.org/officeDocument/2006/relationships/hyperlink" Target="http://ru.wikipedia.org/wiki/&#1054;&#1089;&#1090;&#1088;&#1099;&#1081;_&#1091;&#1075;&#1086;&#1083;" TargetMode="External"/><Relationship Id="rId3" Type="http://schemas.openxmlformats.org/officeDocument/2006/relationships/hyperlink" Target="http://ru.wikipedia.org/wiki/&#1055;&#1086;&#1079;&#1074;&#1086;&#1085;&#1086;&#1095;&#1085;&#1080;&#1082;" TargetMode="External"/><Relationship Id="rId4" Type="http://schemas.openxmlformats.org/officeDocument/2006/relationships/hyperlink" Target="http://ru.wikipedia.org/w/index.php?title=&#1043;&#1091;&#1073;&#1095;&#1072;&#1090;&#1072;&#1103;_&#1082;&#1086;&#1089;&#1090;&#1100;&amp;action=edit&amp;redlink=1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74;&#1084;&#1072;&#1090;&#1080;&#1095;&#1077;&#1089;&#1082;&#1080;&#1081;_&#1096;&#1086;&#1082;" TargetMode="External"/><Relationship Id="rId2" Type="http://schemas.openxmlformats.org/officeDocument/2006/relationships/hyperlink" Target="http://ru.wikipedia.org/wiki/&#1054;&#1089;&#1090;&#1077;&#1086;&#1084;&#1080;&#1077;&#1083;&#1080;&#1090;" TargetMode="External"/><Relationship Id="rId3" Type="http://schemas.openxmlformats.org/officeDocument/2006/relationships/hyperlink" Target="http://ru.wikipedia.org/wiki/&#1057;&#1077;&#1087;&#1089;&#1080;&#1089;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95;&#1085;&#1086;&#1089;&#1090;&#1100;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77724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Первая помощь при переломах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дготовила : Братенков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юдмила  Михайловн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150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Перелом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лучевой кост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в типичном месте. В 70 % случаях по механизму травмы он является разгибательным перело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Перелом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хирургической шейки плеч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Оскольчатый перелом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голе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в средней трети — так называемый «бамперный перелом» — широко распространённый вид травмы, возникающий, как правило, при автодорожных травм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Перелом медиальной и латеральной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лодыже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Перелом шейки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бедр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Трудноизлечимый, но довольно распространённый перелом, в настоящее время широко распространён у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пожилых люде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наиболее эффективным способом лечения — установка искусственного тазобедренного суст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Различные переломы костей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череп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51055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ычно при переломе костной ткани возникает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кровотечени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которое плохо останавливается из-за того, что сосуды фиксированы в минеральной части кости и не могут спадаться. Объём кровотечения зависит от типа перелома и его локализации, так, например, при переломах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остей голе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пострадавший теряет 500—700 мл крови. В результате этого кровоизлияния формируется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гематом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которая впоследствии окружает костные отло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400" y="837720"/>
            <a:ext cx="4495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553080" y="2743200"/>
            <a:ext cx="14144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51055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кровотечения возникает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отё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исходит выпадени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итей фибр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служат впоследствии основой для формирования белкового матрикса костной ткани. Остановка кровотечения из костной ткани представляет собой нелёгкую задачу и при сложных оскольчатых открытых переломах возможна только в оборудованной операцио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17524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носительные признаки перелом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носительные признаки перел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Боль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 усиливается в месте перелома при имитации осевой нагрузки. Например, при постукивании по пятке резко усилится боль при переломе гол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тёк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 возникает в области повреждения, как правило, не сразу. Несёт относительно мало диагностической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Гематом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 появляется в области перелома (чаще не сразу). Пульсирующая гематома свидетельствует о продолжающемся интенсивном кровотеч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рушение функции повреждённой конечности — подразумевается невозможность нагрузки на повреждённую часть тела и значительное ограничение подви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бсолютные признаки перело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естественное положение коне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тологическая подвижность (при не полных переломах определяется не всегда) — конечность подвижна в том месте, где нет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сустав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репитаци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своеобразный хруст) — ощущается под рукой в месте перелома, иногда слышна ухом. Хорошо слышна при надавливании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фонендоскопом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на место повре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тные отломки — при открытом переломе они могут быть видны в р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324480" y="2057400"/>
            <a:ext cx="19814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ая доврачебная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оказывающий первую доврачебную помощь мож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ить тяжесть состояния пострадавшего и локализацию повре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наличии кровотечения —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останови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ь, возможно ли перемещение пострадавшего, до прибытия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валифицированного медицинского персонал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Не рекомендуется переносить или передвигать больного при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травмах позвоночни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и множественных перелом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изолированной травме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иммобилизова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вреждённого участка, накладывает шину. Шиной может служить любой предмет, который предотвратит движения в повреждённой конечности (захватывая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суставы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выше и ниже места перелом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сутствии противопоказаний к перемещению пострадавшего транспортируют в медицинск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доступ медицинского персонала затруднён или невозможен и имеются противопоказания к перемещению пострадавшего, обеспечивает по возможности полную иммобилизацию повреждённых участков, после чего используются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носилк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с твёрдым основанием, к которым надёжно фиксируется пострадавш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вая врачебная помощ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врачебная помощь может быть оказана как на месте, так и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травмпунк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стациона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этот момент важно оценить тяжесть состояния пострадавшего, предотвратить или облегчить осложнениями травмы, определеить объём дальнейшего л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81480" y="2666880"/>
            <a:ext cx="304812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ила иммобилиз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334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существлении транспортной (временной)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иммобилизаци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онечносте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человек, осуществляющий её, должен соблюдать следующи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ксировать конечность в том положении, в котором она находится после травмы, но не пытаться вправить кость на ме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ксировать минимум 2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устав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выше и ниже перелома). При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травме бе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леч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фиксировать 3 суста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ложении шины и наличии ран сначала обработать раны и остановить кровоте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943600" y="12193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6172200" y="3581280"/>
            <a:ext cx="1905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5029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е перелома очень важно своевременное оказание медицинской помощи. Вовремя оказанная медицинская помощь может спасти жизнь пострадавшему и предотвратить развитие серьёзных осложнений. Зачастую опасны не сами переломы, а сопровождающие их патологические состояния, такие как травматический шок и кровоте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057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ло́м ко́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полное или частичное нарушение целостности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к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груз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евышающей прочность травмируемого участка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кел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ереломы могут возникать как вследствие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трав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ак и в результате различных заболеваний, сопровождающихся изменениями в прочностных характеристиках костной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изображение"/>
          <p:cNvPicPr/>
          <p:nvPr/>
        </p:nvPicPr>
        <p:blipFill>
          <a:blip r:embed="rId5"/>
          <a:stretch/>
        </p:blipFill>
        <p:spPr>
          <a:xfrm>
            <a:off x="3276720" y="4648320"/>
            <a:ext cx="51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перело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чине воз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тяжести пора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форме и направлению перел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целостности кожных покро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сложне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причине возникнов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равматичес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вызванные внешним воздейств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атологичес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возникающие при минимальном внешнем воздействии вследствие разрушения кости каким-нибудь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атологически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процессом (например,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туберкулёзны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опухолевы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или другим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тяжести по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з смещ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например, под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надкостнице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 смещением отлом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лные — трещины и надло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33530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форме и направлению перел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переч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линия перелома условно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ерпендикуляр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и трубчатой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доль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линия перелома условно параллельна оси трубчатой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с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линия перелома проходит под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стрым угл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оси трубчатой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нтообраз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происходит вращение костных отломков, костные отломки «повёрнуты» относительно своего нормального пол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кольчат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нет единой линии перелома, кость в месте повреждения раздроблена на отдельные отлом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иновид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как правило возникает при переломах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позвоноч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одна кость вдавливается в другую, образуя клиновидную де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колоче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костные отломки смещаются проксимальней по оси трубчатой кости или располагаются вне основной плоскост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губчатой к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ресс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стные отломки мелкие, чёткой, единой линии перелома н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целостности кожных покро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крыт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без сообщения с внешней сре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крыт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сообщающиеся с внешней сре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7080" y="342900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осложнениям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ложнё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травматическим шок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реждением внутренних орга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отеч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ровой эмбол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евой инфекцией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стеомиели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епсис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осложнё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ществуют типичные места перелом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авило, они находятся в тех местах, где кость испытывает наибольшую нагрузку, или там, где её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рочность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ниже. К наиболее распространённым переломам относ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9-03-19T20:09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