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035-10E2-427D-8C2A-55A837BA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ADC-6074-4DD0-8BBB-03F346F7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89B-C2EF-44AC-8D80-031B4AB1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B11-1DB2-410B-BF1A-618822E8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53D-7759-46C8-A56C-110BCD85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BD3-6EF4-40B6-BCE7-5200352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D49-2258-4DBA-A76F-04C238BD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B31-2B16-4FA6-9071-E9AE3071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4DB-980B-4526-A3DC-84866914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4FE-79C4-498F-9AC9-CB1A4B57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19F-2010-4112-BAFF-E6F72A3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F85-B237-4708-AA69-EE92CBE3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D64B-9BB3-433E-BA9D-7DC677553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13800" spc="-1" strike="noStrike">
                <a:solidFill>
                  <a:srgbClr val="000000"/>
                </a:solidFill>
                <a:latin typeface="Arbat"/>
              </a:rPr>
              <a:t>«Паводок»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ьте внимательн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56080" cy="269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2362320" y="31240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0099"/>
                </a:solidFill>
                <a:uFillTx/>
                <a:latin typeface="Arbat"/>
              </a:rPr>
              <a:t>Цели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Познакомить с основными понятиями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Р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Воспитывать чувство взаимопомощи, дисциплинированность и самосто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9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Весной, когда снег и лед начинают таять, уровень воды в реках и озерах повышается. Иногда реки выходят из берегов, затопляя окрестности. Это явление называю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паводк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Каждую весну паводки наносят огромный ущерб. Отменить их нельзя, зато можно и нужно заранее позаботиться о том, чтобы они причинили как можно меньше вреда. Поэтому по берегам рек возводят заградительные дамбы, а чтобы во время ледохода на реках не образовывались ледовые заторы, очень толстый лед заранее подрывают - не от слова "рыть", а от "взрывать"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4"/>
          <p:cNvSpPr/>
          <p:nvPr/>
        </p:nvSpPr>
        <p:spPr>
          <a:xfrm>
            <a:off x="250920" y="36162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А вот о своей собственной безопасности и своих вещах должны заботиться в первую очередь сами люди. Однако всегда находятся такие, кто надеется, что беда пройдет стороной. А потом они рыдают и загибают пальцы, подсчитывая, сколько всего испортила в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Об угрозе паводков жителей заранее предупреждают по радио и телевидению. Если район, в котором ты живешь, ежегодно страдает от паводков или наводнений, то внимательно следи за сообщениями по радио и каналам ТВ. Получив предупреждение об угрозе затопления, подумай, все ли меры безопасности приняли ты и твоя семья. Какие меры? А вот так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7030a0"/>
                </a:solidFill>
                <a:latin typeface="Arbat"/>
              </a:rPr>
              <a:t>He</a:t>
            </a: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 паникуйте!</a:t>
            </a: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Помощь обязательно придет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ВОЗЬМИТЕ С  СОБОЙ: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документы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лекарства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теплую одежду и обувь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фонарь и батарейк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свеч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еду и воду на 2-3 дн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6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4"/>
          <p:cNvSpPr/>
          <p:nvPr/>
        </p:nvSpPr>
        <p:spPr>
          <a:xfrm>
            <a:off x="762120" y="76212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bat"/>
              </a:rPr>
              <a:t>Добрые со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bat"/>
              </a:rPr>
              <a:t>Как сохранить себя и свой дом во время павод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Постоянно подавайте сигнал бедствия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днём – вывешиванием или размахиванием, хорошо видимым полотнищем, прибитым к древку (палк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в темное время – световым сигналом и периодически голос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при подходе спасателей спокойно, без паники и суеты, с соблюдением мер предосторожности переходите в плавательное средство, при этом неукоснительно соблюдайте требования спасателей, не допускайте перегрузки плавательных средст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самостоятельно выбираться из затопленного района рекомендуется только при наличии таких серьёзных причин, как необходимость оказания медицинской помощи пострадавшим, продолжающийся подъем уровня воды, при угрозе затопления верхних этажей (чердак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. 6"/>
          <p:cNvSpPr/>
          <p:nvPr/>
        </p:nvSpPr>
        <p:spPr>
          <a:xfrm>
            <a:off x="0" y="2766960"/>
            <a:ext cx="301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. 7"/>
          <p:cNvSpPr/>
          <p:nvPr/>
        </p:nvSpPr>
        <p:spPr>
          <a:xfrm>
            <a:off x="0" y="2766960"/>
            <a:ext cx="329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. 8"/>
          <p:cNvSpPr/>
          <p:nvPr/>
        </p:nvSpPr>
        <p:spPr>
          <a:xfrm>
            <a:off x="0" y="2766960"/>
            <a:ext cx="283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В</a:t>
            </a:r>
            <a:r>
              <a:rPr b="1" lang="ru-RU" sz="1800" spc="-1" strike="noStrike">
                <a:solidFill>
                  <a:srgbClr val="7030a0"/>
                </a:solidFill>
                <a:latin typeface="Arbat"/>
              </a:rPr>
              <a:t>О ВРЕМЯ ЭВАКУАЦИИ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bat"/>
              </a:rPr>
              <a:t>ПОДГОТОВЬТЕСЬ К ЭВАКУАЦИИ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Следите за тем, чтобы мобильный телефон всегда был полностью заряжен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Держите наготове транспортное средство. Если есть лодка, заранее подготовьте ее и необходимое спасательное оборудование: спасательные жилеты, спасательный круг, длинную веревку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Не выключайте радиоприемник, слушайте информационные сообщения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5867280" y="3505320"/>
            <a:ext cx="2632320" cy="3003480"/>
            <a:chOff x="5867280" y="3505320"/>
            <a:chExt cx="2632320" cy="3003480"/>
          </a:xfrm>
        </p:grpSpPr>
        <p:pic>
          <p:nvPicPr>
            <p:cNvPr id="59" name="Picture 12" descr=""/>
            <p:cNvPicPr/>
            <p:nvPr/>
          </p:nvPicPr>
          <p:blipFill>
            <a:blip r:embed="rId1"/>
            <a:stretch/>
          </p:blipFill>
          <p:spPr>
            <a:xfrm>
              <a:off x="5867280" y="3648240"/>
              <a:ext cx="263232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/>
            <p:cNvSpPr/>
            <p:nvPr/>
          </p:nvSpPr>
          <p:spPr>
            <a:xfrm>
              <a:off x="6019560" y="3505320"/>
              <a:ext cx="2138400" cy="79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ючите электричество во всем доме. Возьмите заранее подготовленные документы, вещи, продукты, лекарства и направляйтесь в эвакуационный пункт или выезжайте из зоны возможного бедствия на собственном транспо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яжите домашних животных. Примите меры для их эвак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рганизованная эвакуация невозможна, постарайтесь выйти на возвышенную местность, например, холм или на крышу своего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изируйте спасателям, размахивая ярким предмет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:\паводок\1363584_f496.jpg"/>
          <p:cNvPicPr/>
          <p:nvPr/>
        </p:nvPicPr>
        <p:blipFill>
          <a:blip r:embed="rId1"/>
          <a:stretch/>
        </p:blipFill>
        <p:spPr>
          <a:xfrm>
            <a:off x="3429000" y="259092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2-04-29T12:18:4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