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D06-6249-462D-A9C2-697EC124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ABD-FCA7-4FE9-9EF0-34935D6B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0F4-2007-4821-B879-9CBBF191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74D-C7AA-4451-ADCF-E3BEA3ED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8B9-2B14-4507-BA79-3B277316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26E-944D-456C-9ECB-2BCEEF96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C8B-0A7D-4488-BA3D-1A51D184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681-498D-42B4-9F0A-F30A44B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125-FA2A-45C3-915C-578916D3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A5D-A491-4AD9-BF5E-0EB8CF9B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342-BFEE-4272-A7DB-A53DE65E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ADE-EC72-4CB4-99C0-EC53ADA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0C21-2436-48A0-A0AE-E66FD4010B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095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 УРОКА  8  класс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504800"/>
            <a:ext cx="39607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варийно химически опасные вещества (АХОВ), их классификац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  ОБЖ  Кировской  СОШ  Синельникова  Марина  Михайловна.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Гз9702_32"/>
          <p:cNvPicPr/>
          <p:nvPr/>
        </p:nvPicPr>
        <p:blipFill>
          <a:blip r:embed="rId1"/>
          <a:srcRect l="2701" t="3993" r="0" b="6743"/>
          <a:stretch/>
        </p:blipFill>
        <p:spPr>
          <a:xfrm>
            <a:off x="4140360" y="1700280"/>
            <a:ext cx="4800600" cy="35971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йтропны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т на генерацию, проведение и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дачу нервного импуль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роуглерод Оксид этилена Фосфорорганические соединения (хлорофос, карбофос, тиофос, метафо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нейротропног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зывают токсический отек легких, на фон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ого формируется тяжелое поражение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вной систе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миак   Гепти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аболические яд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ушают обмен веществ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ксид этилена Дихлорэтан Диокс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68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АХОВ по взрыво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илен,  винилацетилен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гидраз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ацетилен нитрометан, окись пропилена,  изопропилнитрат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лена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нит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крилонитри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кроле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аммиак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тан,  бутилен,  пентадиен, бутадиен, пропан,  пропилен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угле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анэтилен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ир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диметиловый,  дивиниловый,  метилбутилов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цетальдегид,  ацетон,  бензин,  винилацетат,  винилхлорид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кс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ный газ,  изооктан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ами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метилацетат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етилбутилкетон,  метилпропил,  метилэтил,  октан,  пирид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роводород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рты: метиловый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овый,  пропиловый,  амиловый,  изобутиловый, изопропиловый,  циклогексан,  этилформиат,  этилхлор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кан, дизтопливо, дихлорбензол, додекан,  керосин,  метан, метилбенз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илмеркаптан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илхлорид,   нафталин,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ись углерода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фенол,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лорбензол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илбен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ХОВ 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0" y="228600"/>
            <a:ext cx="8915400" cy="69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особности к горению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Х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ятся на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 (диоксин, фосге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егорючие пожароопасн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орят в условиях нагревания до 90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 концентрации кислорода до 21%, но разлагаются с выделением горючих паров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лор, азотная кисло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водород фтористы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кись углерод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ернистый ангидрид, хлорпикрин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удно горючие вещест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ы возгораться только при действии источника огня 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жижен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водород цианистый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орюч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способны к самовозгоранию и горению даже после удаления источника огня (акрилонитрил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азообразный аммиа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гептил, дихлорэтан, сероуглерод, окислы азота и др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9640" y="209520"/>
            <a:ext cx="828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нимальные размеры санитарно-защитных з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едприятия первого класса – 10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2492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едприятия второго класса – 5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50920" y="35002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редприятия третьего класса – 3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редприятия пятого класса – 50 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50920" y="4581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едприятия четвертого класса – 100 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репле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ие  вы  знаете  АХОВ  по  стойкости  воздействия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 токсическому  проявлению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 урока: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комить  учащихся  с  АХОВ  и  их  классификацией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4000" y="3933720"/>
            <a:ext cx="8642160" cy="2531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пасное химическое веществ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ОХВ) – химическое вещество, прямое или косвенное воздействие которого на человека может вызвать острые и хронические их заболевания или гибе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50920" y="549360"/>
            <a:ext cx="8642160" cy="30801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варийно химически опасное веще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ХОВ) – опасное химическое вещество, применяемое в промышленности или сельском хозяйстве, при аварийном выбросе (разливе) которого может произойти заражение окружающей среды в поражающих живые организмы концентрация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11280" y="260280"/>
            <a:ext cx="80643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По степени воздействия на организм человека вредные вещества подразделяются на четыре класса опасност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чрезвычай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высоко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умеренно опасны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класс</a:t>
            </a:r>
            <a:r>
              <a:rPr b="1" lang="ru-RU" sz="3600" spc="-1" strike="noStrike">
                <a:solidFill>
                  <a:srgbClr val="f11136"/>
                </a:solidFill>
                <a:latin typeface="Arial"/>
              </a:rPr>
              <a:t> – малоопасны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1. По степени воздействия на организм АХ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9280" y="1865160"/>
            <a:ext cx="8713800" cy="8863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лас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чрезвычайно опас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 фтористый, свинец, ртуть, цианистая групп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0920" y="2873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ысоко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лор, мышьяк, фтор, сероуглерод, синильная кислот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4097160"/>
            <a:ext cx="8642160" cy="13737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меренно опасные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оводород, соляная кислота, хлористый водород, сернистый водород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568152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 клас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малоопас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ммиак, дихлорметан, метилакрилат и д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4360" y="836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По стойкости воз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050920" y="1413000"/>
            <a:ext cx="5329440" cy="204372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тойк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ляная кисл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тробенз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ная кислота и д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0920" y="3789360"/>
            <a:ext cx="5400720" cy="2531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Нестой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ильная кисло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циан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о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миа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1052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 По токсическому проявлению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ушающего действия (хлор, хлорпикри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душающего и общеядовит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3068640"/>
            <a:ext cx="8642160" cy="9471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щеядовитого действия (синильная кислот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4221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50920" y="49608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Удушающего и нейротроп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0920" y="58262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Метаболическ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39640" y="2095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АХОВ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30200" y="836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 По агрегатному состоя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79280" y="1628640"/>
            <a:ext cx="871380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азы (сжиженные и сжатые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50920" y="234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Жидк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0920" y="306864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Тверды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0920" y="443700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нгаляцион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0920" y="522936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еррораль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50920" y="5950080"/>
            <a:ext cx="8642160" cy="520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Кожно-резорбтивн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26920" y="37368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 По способу поступления в организм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-228600" y="228600"/>
            <a:ext cx="9372600" cy="82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лассификация АХОВ по преимущественному синдрому, складывающемуся при острой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с преимущественно удушающим действие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ует на дыхательные пути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ор Фосген Хлорпикр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преимущественно общеядовитого действия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ают энергетический об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род цианистый   Оксид углерода (угарный газ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а удушающего и обще ядовитого дей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ют отек легких при ингаляционном воздействии и нарушают энергетический обмен при резорб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рилонитрил Азотная кислота Оксиды азота Сернистый ангидрид  Водород фтористый Сероводор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6-28T09:47:29Z</dcterms:modified>
  <cp:revision>66</cp:revision>
  <dc:subject/>
  <dc:title>PowerPoint Presentation</dc:title>
</cp:coreProperties>
</file>