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599-9326-466C-A89F-C66ADF6A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A33E-CADB-4F81-8027-0427190E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9EC-6671-44C4-AF1B-74ED098F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CEF-CCF6-417E-86FF-1C234BA0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851E-74AF-43B4-91B8-F25C778B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7D11-616D-4A7C-BE6C-A123231D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921-51C4-4A87-8675-5A1AEA1D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DB3-3524-48DE-9FB7-D2870DA6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8ACB-6475-481B-A2CB-BF3D2BDC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EE88-4925-43DF-AC32-87AF8912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A97-BCCE-4DC5-A076-0590BACB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E34-E345-422C-BDFE-6299A587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4E97-FC6C-4A1B-BD01-F4205447D8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2095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 УРОКА  8  класс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50920" y="1504800"/>
            <a:ext cx="396072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варийно химически опасные вещества (АХОВ), их классификац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читель  ОБЖ  Кировской  СОШ  Синельникова  Марина  Михайловна.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Гз9702_32"/>
          <p:cNvPicPr/>
          <p:nvPr/>
        </p:nvPicPr>
        <p:blipFill>
          <a:blip r:embed="rId1"/>
          <a:srcRect l="2701" t="3993" r="0" b="6743"/>
          <a:stretch/>
        </p:blipFill>
        <p:spPr>
          <a:xfrm>
            <a:off x="4140360" y="1700280"/>
            <a:ext cx="4800600" cy="3597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228600"/>
            <a:ext cx="89154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йтропные яды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уют на генерацию, проведение и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дачу нервного импульс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оуглерод Оксид этилена Фосфорорганические соединения (хлорофос, карбофос, тиофос, метафо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удушающего и нейротропного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зывают токсический отек легких, на фоне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торого формируется тяжелое поражение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рвной систем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ммиак   Гепти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етаболические яды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рушают обмен веществ в организ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ксид этилена Дихлорэтан Диокс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8915400" cy="69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пособности к горению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Х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ятся на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 (диоксин, фосге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пожароопасны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, но разлагаются с выделением горючих паров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лор, азотная кисло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водород фтористый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кись углерода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ернистый ангидрид, хлорпикри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рудно горючие вещест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ны возгораться только при действии источника огня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жижен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 водород цианистый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 способны к самовозгоранию и горению даже после удаления источника огня (акрилонитрил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азообраз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гептил, дихлорэтан, сероуглерод, окислы азота и др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0"/>
            <a:ext cx="9144000" cy="68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кация АХОВ по взрыво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цетилен,  винилацетилен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дород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гидрази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илацетилен нитрометан, окись пропилена,  изопропилнитрат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кис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илена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илнитра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крилонитрил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акролеи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аммиак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тан,  бутилен,  пентадиен, бутадиен, пропан,  пропилен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роуглерод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анэтилен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и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диметиловый,  дивиниловый,  метилбутилов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цетальдегид,  ацетон,  бензин,  винилацетат,  винилхлорид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кса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торный газ,  изооктан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илами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метилацетат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етилбутилкетон,  метилпропил,  метилэтил,  октан,  пиридин,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роводород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ирты: метиловый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иловый,  пропиловый,  амиловый,  изобутиловый, изопропиловый,  циклогексан,  этилформиат,  этилхлори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нзол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кан, дизтопливо, дихлорбензол, додекан,  керосин,  метан, метилбензол,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илмеркапта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илхлорид,   нафталин,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кись углерода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фенол,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лорбензол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илбензо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АХОВ И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0" y="228600"/>
            <a:ext cx="8915400" cy="69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пособности к горению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Х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ятся на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 (диоксин, фосге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пожароопасны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, но разлагаются с выделением горючих паров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лор, азотная кисло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водород фтористый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кись углерода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ернистый ангидрид, хлорпикри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рудно горючие вещест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ны возгораться только при действии источника огня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жижен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 водород цианистый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 способны к самовозгоранию и горению даже после удаления источника огня (акрилонитрил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азообраз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гептил, дихлорэтан, сероуглерод, окислы азота и др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539640" y="209520"/>
            <a:ext cx="8280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инимальные размеры санитарно-защитных з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79280" y="1628640"/>
            <a:ext cx="871380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редприятия первого класса – 10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50920" y="249228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редприятия второго класса – 5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50920" y="350028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Предприятия третьего класса – 3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Предприятия пятого класса – 50 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50920" y="4581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редприятия четвертого класса – 1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крепление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ие  вы  знаете  АХОВ  по  стойкости  воздействия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  токсическому  проявлению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9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  урока: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знакомить  учащихся  с  АХОВ  и  их  классификацией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24000" y="3933720"/>
            <a:ext cx="8642160" cy="25311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пасное химическое веществ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ОХВ) – химическое вещество, прямое или косвенное воздействие которого на человека может вызвать острые и хронические их заболевания или гибе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50920" y="549360"/>
            <a:ext cx="8642160" cy="30801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варийно химически опасное веществ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АХОВ) – опасное химическое вещество, применяемое в промышленности или сельском хозяйстве, при аварийном выбросе (разливе) которого может произойти заражение окружающей среды в поражающих живые организмы концентрация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611280" y="260280"/>
            <a:ext cx="806436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По степени воздействия на организм человека вредные вещества подразделяются на четыре класса опасност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чрезвычайно опасны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высокоопасны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умеренно опасны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малоопасны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50920" y="1052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1. По степени воздействия на организм АХ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79280" y="1865160"/>
            <a:ext cx="8713800" cy="88632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 клас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чрезвычайно опасны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 фтористый, свинец, ртуть, цианистая группа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50920" y="2873520"/>
            <a:ext cx="86421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 клас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ысокоопасные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лор, мышьяк, фтор, сероуглерод, синильная кислота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50920" y="4097160"/>
            <a:ext cx="8642160" cy="13737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 клас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меренно опасные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оводород, соляная кислота, хлористый водород, сернистый водород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50920" y="5681520"/>
            <a:ext cx="86421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 клас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малоопас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ммиак, дихлорметан, метилакрилат и д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84360" y="836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По стойкости воз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050920" y="1413000"/>
            <a:ext cx="5329440" cy="204372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тойк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ля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тробензо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рная кислота и д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050920" y="3789360"/>
            <a:ext cx="5400720" cy="2531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Нестой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нильная кисло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лорциа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лор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ммиак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1052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. По токсическому проявлению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79280" y="1628640"/>
            <a:ext cx="871380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ушающего действия (хлор, хлорпикри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50920" y="2349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Удушающего и общеядовит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50920" y="3068640"/>
            <a:ext cx="86421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бщеядовитого действия (синильная кислот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422100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Нейротроп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50920" y="496080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Удушающего и нейротроп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50920" y="582624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Метаболическ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30200" y="836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. По агрегатному состоян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79280" y="1628640"/>
            <a:ext cx="871380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Газы (сжиженные и сжатые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50920" y="2349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Жидк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0920" y="306864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Тверды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50920" y="443700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Ингаляцион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50920" y="5229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еррораль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50920" y="595008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Кожно-резорбтив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826920" y="37368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. По способу поступления в организм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-228600" y="228600"/>
            <a:ext cx="9372600" cy="82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лассификация АХОВ по преимущественному синдрому, складывающемуся при острой интоксик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с преимущественно удушающим действием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ействует на дыхательные пути чело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лор Фосген Хлорпикри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преимущественно общеядовитого действия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ают энергетический обм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дород цианистый   Оксид углерода (угарный газ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удушающего и обще ядовитого действ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ывают отек легких при ингаляционном воздействии и нарушают энергетический обмен при резорб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рилонитрил Азотная кислота Оксиды азота Сернистый ангидрид  Водород фтористый Сероводоро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</cp:lastModifiedBy>
  <dcterms:modified xsi:type="dcterms:W3CDTF">2012-06-28T09:47:29Z</dcterms:modified>
  <cp:revision>66</cp:revision>
  <dc:subject/>
  <dc:title>PowerPoint Presentation</dc:title>
</cp:coreProperties>
</file>