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53F5CC-7FA3-4937-9DF6-60E2B615D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BA69BD-08A7-4946-96D6-7CED0A7EB58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188-FBEF-4547-B789-1E97F82F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2E5-C149-4C71-B746-C0CE9C3A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AFA-AFED-446D-B5F1-C96A2450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CD0-05F2-46C0-96C2-92F648E0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6D50-1886-4A64-A34E-EACA8BF2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0D4B-14B5-4492-B1DC-3DA614B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ABD4-A31E-4DC7-9BA2-BACCED85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8DF6-B5CE-4231-8A48-7FCE08C1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78DE-438D-453E-959C-F510EB3E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1680-B278-4016-96A9-E2478A55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F695-9A6D-43AB-80C6-A4A898CB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247-82DF-49A9-9766-57AC2368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0D36-98FD-49CD-9AC0-3DA38490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C6D8-FF1C-4161-8593-E6698AD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19AC-10A3-426A-A2D2-2A6CE4DD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6AD9-41F1-4A77-9312-528E1628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BD23-545E-41CA-A758-B6C22FB2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723-AF5B-4E1B-A085-E37AF02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A2A-64C7-45EE-9BFF-50C6918A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BBC-BF79-4562-BE78-00A79AFA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471-7724-4B04-A793-762329F9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C13-5BD1-4351-B43B-9094323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976-48F6-4521-83E0-EB764511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1C7-AB00-49F8-817B-7B24A7FA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98DC1B-28B9-4330-B8A1-233C6937AA46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321FC0-A175-4C0A-BD58-86E193DB8084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5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1500120" y="1000080"/>
            <a:ext cx="707184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0000" spc="-1" strike="noStrike">
                <a:solidFill>
                  <a:srgbClr val="4b3e21"/>
                </a:solidFill>
                <a:latin typeface="Gill Sans MT"/>
              </a:rPr>
              <a:t>Наркотики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0000" spc="-1" strike="noStrike">
                <a:solidFill>
                  <a:srgbClr val="4b3e21"/>
                </a:solidFill>
                <a:latin typeface="Gill Sans MT"/>
              </a:rPr>
              <a:t>и   дети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Камагаева Н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МОУ НОШ №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000160" y="4429080"/>
            <a:ext cx="2356920" cy="1767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428840" y="92880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4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000" spc="-1" strike="noStrike" u="sng">
                <a:solidFill>
                  <a:srgbClr val="4b3e21"/>
                </a:solidFill>
                <a:uFillTx/>
                <a:latin typeface="Gill Sans MT"/>
              </a:rPr>
              <a:t>Наркотики</a:t>
            </a:r>
            <a:r>
              <a:rPr b="0" i="1" lang="ru-RU" sz="6000" spc="-1" strike="noStrike">
                <a:solidFill>
                  <a:srgbClr val="4b3e21"/>
                </a:solidFill>
                <a:latin typeface="Gill Sans MT"/>
              </a:rPr>
              <a:t> - 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вещества, включенные в Список наркотиков Постоянно действующим Комитетом по Контролю за Наркотиками (ПККН) Российской Федерации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7429680" y="4786200"/>
            <a:ext cx="1213920" cy="1193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28840" y="78588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500" spc="-1" strike="noStrike">
                <a:solidFill>
                  <a:srgbClr val="4b3e21"/>
                </a:solidFill>
                <a:latin typeface="Gill Sans MT"/>
              </a:rPr>
              <a:t>Клиническая классификация наркотиков:</a:t>
            </a:r>
            <a:endParaRPr b="0" lang="ru-RU" sz="55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седативны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           </a:t>
            </a: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стимулирующи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                             </a:t>
            </a:r>
            <a:r>
              <a:rPr b="1" i="1" lang="ru-RU" sz="4000" spc="-1" strike="noStrike">
                <a:solidFill>
                  <a:srgbClr val="4b3e21"/>
                </a:solidFill>
                <a:latin typeface="Gill Sans MT"/>
              </a:rPr>
              <a:t>- психоделически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5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600" spc="-1" strike="noStrike">
                <a:solidFill>
                  <a:srgbClr val="4b3e21"/>
                </a:solidFill>
                <a:latin typeface="Gill Sans MT"/>
              </a:rPr>
              <a:t>КТО ЧАЩЕ СТАНОВИТСЯ НАРКОМАНОМ </a:t>
            </a:r>
            <a:endParaRPr b="0" lang="ru-RU" sz="8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428840" y="1428840"/>
            <a:ext cx="74977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4b3e21"/>
                </a:solidFill>
                <a:latin typeface="Gill Sans MT"/>
              </a:rPr>
              <a:t>«Факторы-предикторы» (</a:t>
            </a:r>
            <a:r>
              <a:rPr b="1" i="1" lang="ru-RU" sz="3600" spc="-1" strike="noStrike">
                <a:solidFill>
                  <a:srgbClr val="4b3e21"/>
                </a:solidFill>
                <a:latin typeface="Gill Sans MT"/>
              </a:rPr>
              <a:t>предрасполагающие факторы</a:t>
            </a:r>
            <a:r>
              <a:rPr b="1" i="1" lang="ru-RU" sz="4800" spc="-1" strike="noStrike">
                <a:solidFill>
                  <a:srgbClr val="4b3e21"/>
                </a:solidFill>
                <a:latin typeface="Gill Sans MT"/>
              </a:rPr>
              <a:t>)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4b3e21"/>
                </a:solidFill>
                <a:latin typeface="Gill Sans MT"/>
              </a:rPr>
              <a:t>биологические           социальные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41" name="Прямая со стрелкой 5"/>
          <p:cNvCxnSpPr/>
          <p:nvPr/>
        </p:nvCxnSpPr>
        <p:spPr>
          <a:xfrm flipH="1">
            <a:off x="3714480" y="2928600"/>
            <a:ext cx="929160" cy="10008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42" name="Прямая со стрелкой 7"/>
          <p:cNvCxnSpPr/>
          <p:nvPr/>
        </p:nvCxnSpPr>
        <p:spPr>
          <a:xfrm>
            <a:off x="5643360" y="2928600"/>
            <a:ext cx="1000440" cy="10008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57200" y="1071720"/>
            <a:ext cx="7643520" cy="52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9000"/>
          </a:bodyPr>
          <a:p>
            <a:pPr marL="326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1100" spc="-1" strike="noStrike">
                <a:solidFill>
                  <a:srgbClr val="4b3e21"/>
                </a:solidFill>
                <a:latin typeface="Gill Sans MT"/>
              </a:rPr>
              <a:t>Провоцирующие факторы:</a:t>
            </a:r>
            <a:endParaRPr b="0" lang="ru-RU" sz="111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экономическое либо социальное неблагополучие семь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неблагоприятное окружение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доступность наркотиков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семейная предрасположенность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протест и риск в подростковом возрасте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общение с употребляющими наркотики сверстникам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отсутствие учебной мотивации;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положительное отношения окружения к наркотикам;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- наличие у подростков друзей, употребляющих наркотики (как один из наиболее опасных факторов).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26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28840" y="121428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63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КАК НАРКОМАНЫ ДОБЫВАЮТ ДЕНЬГИ НА НАРКОТИКИ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643040" y="3500280"/>
            <a:ext cx="1142640" cy="97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428840" y="857160"/>
            <a:ext cx="735084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700" spc="-1" strike="noStrike">
                <a:solidFill>
                  <a:srgbClr val="4b3e21"/>
                </a:solidFill>
                <a:latin typeface="Gill Sans MT"/>
              </a:rPr>
              <a:t>Пути получения денег на наркотики: </a:t>
            </a:r>
            <a:endParaRPr b="0" lang="ru-RU" sz="57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1."Заем без отдачи"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2. "Домашние" краж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3. Кражи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4. Изготовление и перепродажа наркотико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5. Мошенничество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3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6. Проституция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000840" y="4857840"/>
            <a:ext cx="2071440" cy="128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57200" y="7142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КАК УЗНАТЬ, УПОТРЕБЛЯЕТ ЛИ  РЕБЕНОК НАРКОТИКИ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214880" y="5143680"/>
            <a:ext cx="1856880" cy="126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00120" y="1643040"/>
            <a:ext cx="714060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1500120" y="1214280"/>
            <a:ext cx="7497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5400" spc="-1" strike="noStrike">
                <a:solidFill>
                  <a:srgbClr val="4b3e21"/>
                </a:solidFill>
                <a:latin typeface="Gill Sans MT"/>
              </a:rPr>
              <a:t>Три группы признаков: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1. общ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2. специфически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        </a:t>
            </a:r>
            <a:r>
              <a:rPr b="0" i="1" lang="ru-RU" sz="4800" spc="-1" strike="noStrike">
                <a:solidFill>
                  <a:srgbClr val="4b3e21"/>
                </a:solidFill>
                <a:latin typeface="Gill Sans MT"/>
              </a:rPr>
              <a:t>3. «лабораторные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500040"/>
            <a:ext cx="742932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900" spc="-1" strike="noStrike" u="sng">
                <a:solidFill>
                  <a:srgbClr val="4b3e21"/>
                </a:solidFill>
                <a:uFillTx/>
                <a:latin typeface="Gill Sans MT"/>
              </a:rPr>
              <a:t>Общие:</a:t>
            </a:r>
            <a:endParaRPr b="0" lang="ru-RU" sz="69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растающая скрытность (возможно, без ухудшения отношений)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нижение успеваемост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увеличение финансовых запросов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овые подозрительные друзья или поведение старых становится подозрительным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длинные рукава одежды всегда, независимо от погоды и обстановк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еестественно узкие или широкие зрачки независимо от освещения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евнятная, "растянутая" речь или неуклюжие движения при отсутствии запаха алкоголя изо рт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резкость и непочтительность в ответах на вопросы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строение меняется по непонятным причинам, очень быстро и часто не соответствует ситуации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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леды инъекций (т.е. уколов) по ходу вен на руках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7572240" y="1500120"/>
            <a:ext cx="756720" cy="99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57200" y="2214720"/>
            <a:ext cx="7497720" cy="29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ЧТО ТАКОЕ НАРКОМАНИЯ 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071800" y="928800"/>
            <a:ext cx="1163160" cy="1128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85960" y="1071720"/>
            <a:ext cx="6714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6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endParaRPr b="0" lang="ru-RU" sz="8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1435680" y="500040"/>
            <a:ext cx="749772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2000"/>
          </a:bodyPr>
          <a:p>
            <a:pPr marL="322920" indent="-250200"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10500" spc="-1" strike="noStrike" u="sng">
                <a:solidFill>
                  <a:srgbClr val="4b3e21"/>
                </a:solidFill>
                <a:uFillTx/>
                <a:latin typeface="Gill Sans MT"/>
              </a:rPr>
              <a:t>Специфические: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производные конопли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 : повышенный, прямо-таки зверский аппетит. Расширение зрачков. Покраснение губ, склер глаз, лица. Подвижен, динамичен. Решения принимает легко и бездумно. Речь часто ускоренная, многословная, торопливая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 опийная группа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: необычная сонливость в самое неподходящее время. Очень добродушен, покладист, сговорчив и предупредителен. Замедленная речь, слова «растягивает». Зрачок  необычно узкий и совершенно не расширяется в темноте. Кожа бледная, сухая и теплая. Болевая чувствительность снижена. Стремится уединится. Тяжело уложить спать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- психостимуляторы</a:t>
            </a:r>
            <a:r>
              <a:rPr b="0" i="1" lang="ru-RU" sz="4200" spc="-1" strike="noStrike">
                <a:solidFill>
                  <a:srgbClr val="4b3e21"/>
                </a:solidFill>
                <a:latin typeface="Gill Sans MT"/>
              </a:rPr>
              <a:t>: необычайно оживлен, быстр в решениях и поступках. Движения порывистые, резкие. Быстро выполняет все дела, не может ни минутки посидеть на месте. Периодически начинает куда-нибудь собираться, но может так никуда и не уйти. Быстро говорит и перескакивает с одной темы на другую в разговоре. Расширенные зрачки. Сухая кожа. Очень частый пульс и повышено кровяное давление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2292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57200" y="1143000"/>
            <a:ext cx="7497360" cy="48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4b3e21"/>
                </a:solidFill>
                <a:latin typeface="Gill Sans MT"/>
              </a:rPr>
              <a:t>- снотворные: </a:t>
            </a:r>
            <a:r>
              <a:rPr b="0" i="1" lang="ru-RU" sz="2900" spc="-1" strike="noStrike">
                <a:solidFill>
                  <a:srgbClr val="4b3e21"/>
                </a:solidFill>
                <a:latin typeface="Gill Sans MT"/>
              </a:rPr>
              <a:t>при малых дозах определение по внешним признакам затруднительно. Поэтому речь пойдет о картине выраженного опьянения: снижение остроты восприятия окружающего мира, преходящим угнетением мыслительных способностей и потерей морально-нравственных ориентиров.</a:t>
            </a:r>
            <a:endParaRPr b="0" lang="ru-RU" sz="29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4b3e21"/>
                </a:solidFill>
                <a:latin typeface="Gill Sans MT"/>
              </a:rPr>
              <a:t>- Летучие Наркотически Действующие Вещества (ЛНДВ): </a:t>
            </a:r>
            <a:r>
              <a:rPr b="0" i="1" lang="ru-RU" sz="2900" spc="-1" strike="noStrike">
                <a:solidFill>
                  <a:srgbClr val="4b3e21"/>
                </a:solidFill>
                <a:latin typeface="Gill Sans MT"/>
              </a:rPr>
              <a:t>ведет себя крайне вызывающе и шумно: громко кричит, смеется и т.д., если принятая доза была небольшой. Запах алкоголя при этом отсутствует, зато иногда можно почувствовать слабый запах растворителя, ацетона или бензина - обычно от волос или одежды. При систематическом употреблении ЛНДВ - отставание в умственном развитии, замедление мышления, ухудшение успеваемости и поведения. </a:t>
            </a:r>
            <a:endParaRPr b="0" lang="ru-RU" sz="29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71760" y="1447920"/>
            <a:ext cx="736164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000" spc="-1" strike="noStrike" u="sng">
                <a:solidFill>
                  <a:srgbClr val="4b3e21"/>
                </a:solidFill>
                <a:uFillTx/>
                <a:latin typeface="Gill Sans MT"/>
              </a:rPr>
              <a:t>Лабораторные: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- проверка наличия наркотика в биологических средах (крови, моче, слюне) лабораторным путем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- экспресс-анализы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00840" y="4429080"/>
            <a:ext cx="2026440" cy="1404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57200" y="1928880"/>
            <a:ext cx="74977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ЧТО ДЕЛАТЬ?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2" descr="C:\Documents and Settings\наташа\Мои документы\Мои рисунки\Изображение\Изображение 012.jpg"/>
          <p:cNvPicPr/>
          <p:nvPr/>
        </p:nvPicPr>
        <p:blipFill>
          <a:blip r:embed="rId1"/>
          <a:stretch/>
        </p:blipFill>
        <p:spPr>
          <a:xfrm>
            <a:off x="3357720" y="3694320"/>
            <a:ext cx="3571560" cy="25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3"/>
          <p:cNvSpPr/>
          <p:nvPr/>
        </p:nvSpPr>
        <p:spPr>
          <a:xfrm>
            <a:off x="1428840" y="285840"/>
            <a:ext cx="757224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28840" y="571320"/>
            <a:ext cx="7497720" cy="50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24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600" spc="-1" strike="noStrike">
                <a:solidFill>
                  <a:srgbClr val="4b3e21"/>
                </a:solidFill>
                <a:latin typeface="Gill Sans MT"/>
              </a:rPr>
              <a:t>«Спасение утопающих – дело рук самих утопающих»</a:t>
            </a:r>
            <a:endParaRPr b="0" lang="ru-RU" sz="46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наблюдайте за поведением ребёнка;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консультируйтесь с врачами-наркологами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занимайтесь профилактикой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разговаривайте с ребенком о вреде наркотиков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4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†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ропагандируйте здоровый образ жизни на личном пример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3" descr="C:\Documents and Settings\наташа\Мои документы\Мои рисунки\Изображение\Изображение 014.jpg"/>
          <p:cNvPicPr/>
          <p:nvPr/>
        </p:nvPicPr>
        <p:blipFill>
          <a:blip r:embed="rId1"/>
          <a:stretch/>
        </p:blipFill>
        <p:spPr>
          <a:xfrm>
            <a:off x="5857920" y="5214960"/>
            <a:ext cx="20714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3"/>
          <p:cNvSpPr/>
          <p:nvPr/>
        </p:nvSpPr>
        <p:spPr>
          <a:xfrm>
            <a:off x="1428840" y="285840"/>
            <a:ext cx="750060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85920" y="1285920"/>
            <a:ext cx="7569000" cy="47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0000"/>
          </a:bodyPr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14800" spc="-1" strike="noStrike">
                <a:solidFill>
                  <a:srgbClr val="4b3e21"/>
                </a:solidFill>
                <a:latin typeface="Gill Sans MT"/>
              </a:rPr>
              <a:t>Профилактика </a:t>
            </a:r>
            <a:endParaRPr b="0" lang="ru-RU" sz="148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(</a:t>
            </a:r>
            <a:r>
              <a:rPr b="0" lang="ru-RU" sz="4200" spc="-1" strike="noStrike">
                <a:solidFill>
                  <a:srgbClr val="000000"/>
                </a:solidFill>
                <a:latin typeface="Gill Sans MT"/>
              </a:rPr>
              <a:t>система адекватных мер, направленных на предотвращение появления причин, прекращение роста и снижение уровня незаконного потребления наркотических средств, предупреждение совершения правонарушений лицами, употребляющими наркотические средства</a:t>
            </a:r>
            <a:r>
              <a:rPr b="1" i="1" lang="ru-RU" sz="4200" spc="-1" strike="noStrike">
                <a:solidFill>
                  <a:srgbClr val="4b3e21"/>
                </a:solidFill>
                <a:latin typeface="Gill Sans MT"/>
              </a:rPr>
              <a:t>)</a:t>
            </a:r>
            <a:endParaRPr b="0" lang="ru-RU" sz="4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2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100" spc="-1" strike="noStrike">
                <a:solidFill>
                  <a:srgbClr val="4b3e21"/>
                </a:solidFill>
                <a:latin typeface="Gill Sans MT"/>
              </a:rPr>
              <a:t>ПЕРВИЧНАЯ     ВТОРИЧНАЯ     ТРЕТИЧНАЯ </a:t>
            </a:r>
            <a:endParaRPr b="0" lang="ru-RU" sz="5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76" name="Прямая со стрелкой 6"/>
          <p:cNvCxnSpPr/>
          <p:nvPr/>
        </p:nvCxnSpPr>
        <p:spPr>
          <a:xfrm flipH="1">
            <a:off x="2643120" y="4143240"/>
            <a:ext cx="2071800" cy="78624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77" name="Прямая со стрелкой 7"/>
          <p:cNvCxnSpPr/>
          <p:nvPr/>
        </p:nvCxnSpPr>
        <p:spPr>
          <a:xfrm flipH="1">
            <a:off x="5072040" y="4143240"/>
            <a:ext cx="1080" cy="78696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78" name="Прямая со стрелкой 8"/>
          <p:cNvCxnSpPr/>
          <p:nvPr/>
        </p:nvCxnSpPr>
        <p:spPr>
          <a:xfrm>
            <a:off x="5357520" y="4143240"/>
            <a:ext cx="2429280" cy="71460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428840" y="928800"/>
            <a:ext cx="7357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marL="321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7700" spc="-1" strike="noStrike">
                <a:solidFill>
                  <a:srgbClr val="4b3e21"/>
                </a:solidFill>
                <a:latin typeface="Gill Sans MT"/>
              </a:rPr>
              <a:t>Подходы в профилактике наркомании:</a:t>
            </a:r>
            <a:endParaRPr b="0" lang="ru-RU" sz="77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информационный подход;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- подход, основанный на аффективном (эмоциональном) обучении;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роли социальных факторов;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формировании жизненных навыков;</a:t>
            </a: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альтернативной наркотикам деятельности; 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i="1" lang="ru-RU" sz="3800" spc="-1" strike="noStrike">
                <a:solidFill>
                  <a:srgbClr val="000000"/>
                </a:solidFill>
                <a:latin typeface="Gill Sans MT"/>
              </a:rPr>
              <a:t>подход, основанный на укреплении здоровья.</a:t>
            </a:r>
            <a:endParaRPr b="0" lang="ru-RU" sz="3800" spc="-1" strike="noStrike">
              <a:solidFill>
                <a:srgbClr val="000000"/>
              </a:solidFill>
              <a:latin typeface="Gill Sans MT"/>
            </a:endParaRPr>
          </a:p>
          <a:p>
            <a:pPr marL="321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2000160" y="1071720"/>
            <a:ext cx="6357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solidFill>
                  <a:srgbClr val="4b3e21"/>
                </a:solidFill>
                <a:latin typeface="Gill Sans MT"/>
              </a:rPr>
              <a:t>Разговаривайте с ребёнком о наркотиках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1857240" y="4143240"/>
            <a:ext cx="2376360" cy="170460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4572000" y="4286160"/>
            <a:ext cx="1499760" cy="121392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6286680" y="4071960"/>
            <a:ext cx="2356920" cy="1714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Скругленный прямоугольник 3"/>
          <p:cNvSpPr/>
          <p:nvPr/>
        </p:nvSpPr>
        <p:spPr>
          <a:xfrm>
            <a:off x="1428840" y="285840"/>
            <a:ext cx="750060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6600" spc="-1" strike="noStrike">
                <a:solidFill>
                  <a:srgbClr val="4b3e21"/>
                </a:solidFill>
                <a:latin typeface="Gill Sans MT"/>
              </a:rPr>
              <a:t>Пропаганда здорового образа жизни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>
            <a:lum bright="7000"/>
          </a:blip>
          <a:stretch/>
        </p:blipFill>
        <p:spPr>
          <a:xfrm>
            <a:off x="2643120" y="4643280"/>
            <a:ext cx="2214360" cy="1608840"/>
          </a:xfrm>
          <a:prstGeom prst="rect">
            <a:avLst/>
          </a:prstGeom>
          <a:ln w="9525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>
            <a:lum bright="9000"/>
          </a:blip>
          <a:stretch/>
        </p:blipFill>
        <p:spPr>
          <a:xfrm>
            <a:off x="5143680" y="4643280"/>
            <a:ext cx="2214360" cy="1642680"/>
          </a:xfrm>
          <a:prstGeom prst="rect">
            <a:avLst/>
          </a:prstGeom>
          <a:ln w="9525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643800" y="2857320"/>
            <a:ext cx="2071440" cy="151632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4">
            <a:lum bright="11000"/>
          </a:blip>
          <a:stretch/>
        </p:blipFill>
        <p:spPr>
          <a:xfrm>
            <a:off x="1500120" y="2892240"/>
            <a:ext cx="2071440" cy="153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00120" y="1143000"/>
            <a:ext cx="7214760" cy="42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НАША ШКОЛА-ТЕРРИТОРИЯ 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БЕЗ НАРКОТИКОВ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5" name="Picture 2" descr="S4020003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3929040" y="4500720"/>
            <a:ext cx="2285640" cy="1571400"/>
          </a:xfrm>
          <a:prstGeom prst="rect">
            <a:avLst/>
          </a:prstGeom>
          <a:ln w="9525">
            <a:noFill/>
          </a:ln>
        </p:spPr>
      </p:pic>
      <p:sp>
        <p:nvSpPr>
          <p:cNvPr id="196" name="Овал 4"/>
          <p:cNvSpPr/>
          <p:nvPr/>
        </p:nvSpPr>
        <p:spPr>
          <a:xfrm>
            <a:off x="3929040" y="5857920"/>
            <a:ext cx="2285640" cy="213840"/>
          </a:xfrm>
          <a:prstGeom prst="ellipse">
            <a:avLst/>
          </a:prstGeom>
          <a:solidFill>
            <a:schemeClr val="accent4">
              <a:lumMod val="75000"/>
            </a:schemeClr>
          </a:solidFill>
          <a:ln>
            <a:solidFill>
              <a:srgbClr val="84aa33">
                <a:lumMod val="75000"/>
                <a:alpha val="6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800" spc="-1" strike="noStrike">
                <a:solidFill>
                  <a:srgbClr val="1e190d"/>
                </a:solidFill>
                <a:latin typeface="Monotype Corsiva"/>
              </a:rPr>
              <a:t>Наша школа – территория без наркотик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6"/>
          <p:cNvSpPr/>
          <p:nvPr/>
        </p:nvSpPr>
        <p:spPr>
          <a:xfrm>
            <a:off x="1571760" y="285840"/>
            <a:ext cx="7214760" cy="614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i="1" lang="ru-RU" sz="2400" spc="-1" strike="noStrike">
              <a:solidFill>
                <a:srgbClr val="4b3e21"/>
              </a:solidFill>
              <a:latin typeface="Gill Sans M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43080" y="4857840"/>
            <a:ext cx="1826280" cy="111888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6429240" y="4857840"/>
            <a:ext cx="1826280" cy="111888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7"/>
          <p:cNvSpPr/>
          <p:nvPr/>
        </p:nvSpPr>
        <p:spPr>
          <a:xfrm>
            <a:off x="2000160" y="857160"/>
            <a:ext cx="64292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4b3e21"/>
                </a:solidFill>
                <a:latin typeface="Gill Sans MT"/>
              </a:rPr>
              <a:t>Наркома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4b3e21"/>
                </a:solidFill>
                <a:latin typeface="Gill Sans MT"/>
              </a:rPr>
              <a:t>narkē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(греч.) - оцепенение, 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4b3e21"/>
                </a:solidFill>
                <a:latin typeface="Gill Sans MT"/>
              </a:rPr>
              <a:t>mania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(греч.) - безумие, страсть, в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    </a:t>
            </a:r>
            <a:r>
              <a:rPr b="0" i="1" lang="ru-RU" sz="2400" spc="-1" strike="noStrike">
                <a:solidFill>
                  <a:srgbClr val="4b3e21"/>
                </a:solidFill>
                <a:latin typeface="Gill Sans MT"/>
              </a:rPr>
              <a:t>хроническое заболевание, вызываемое злоупотреблением лекарственными или нелекарственными наркотическими сред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Миша\Рабочий стол\картинки\bomb_1024.jpg"/>
          <p:cNvPicPr/>
          <p:nvPr/>
        </p:nvPicPr>
        <p:blipFill>
          <a:blip r:embed="rId3">
            <a:lum bright="15000"/>
          </a:blip>
          <a:stretch/>
        </p:blipFill>
        <p:spPr>
          <a:xfrm>
            <a:off x="4500720" y="4857840"/>
            <a:ext cx="1590120" cy="119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 rot="14140800">
            <a:off x="3369240" y="5122440"/>
            <a:ext cx="240840" cy="97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428840" y="642960"/>
            <a:ext cx="749772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Цель</a:t>
            </a:r>
            <a:r>
              <a:rPr b="0" lang="ru-RU" sz="4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оздание в молодежной среде ситуации, препятствующей злоупотреблению наркотиками и снижающей вред от их употребл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Gill Sans MT"/>
              </a:rPr>
              <a:t>Направления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распространение информации о причинах, формах и последствиях злоупотреблении наркотических средств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формирование у подростков навыка анализа и критической оценки информации, получаемой о наркотиках, и умения принимать правильные решения;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</a:rPr>
              <a:t>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предоставление альтернатив наркотизаци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кругленный прямоугольник 3"/>
          <p:cNvSpPr/>
          <p:nvPr/>
        </p:nvSpPr>
        <p:spPr>
          <a:xfrm>
            <a:off x="1357200" y="285840"/>
            <a:ext cx="757224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e7dec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71760" y="642960"/>
            <a:ext cx="736164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30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Список литературы 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6400" spc="-1" strike="noStrike">
                <a:solidFill>
                  <a:srgbClr val="4b3e21"/>
                </a:solidFill>
                <a:latin typeface="Gill Sans MT"/>
              </a:rPr>
              <a:t>и источников:</a:t>
            </a:r>
            <a:endParaRPr b="0" lang="ru-RU" sz="64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Белогуров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. «Популярно о наркотиках и наркоманиях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етренко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Л. «Коварный враг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Питина Т. «Профилактика наркомании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Сердюкова Н. «Наркотики и наркомания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Энтин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Г. «Когда человек себе враг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medicinform.ne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medafarm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ru-RU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beautytime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b3e21"/>
                </a:solidFill>
                <a:latin typeface="Symbol"/>
              </a:rPr>
              <a:t></a:t>
            </a:r>
            <a:r>
              <a:rPr b="0" i="1" lang="en-US" sz="32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en-US" sz="3200" spc="-1" strike="noStrike">
                <a:solidFill>
                  <a:srgbClr val="4b3e21"/>
                </a:solidFill>
                <a:latin typeface="Baskerville Old Face"/>
              </a:rPr>
              <a:t>www. bestreferat.ru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143760" y="4714920"/>
            <a:ext cx="1731240" cy="150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28840" y="285840"/>
            <a:ext cx="7504560" cy="6286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 w="25560">
            <a:solidFill>
              <a:srgbClr val="703204"/>
            </a:solidFill>
            <a:round/>
          </a:ln>
        </p:spPr>
        <p:txBody>
          <a:bodyPr lIns="90000" rIns="90000" tIns="45000" bIns="45000" anchor="ctr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500" spc="-1" strike="noStrike">
                <a:solidFill>
                  <a:srgbClr val="4b3e21"/>
                </a:solidFill>
                <a:latin typeface="Gill Sans MT"/>
              </a:rPr>
              <a:t>Факторы наркотизации</a:t>
            </a:r>
            <a:r>
              <a:rPr b="0" i="1" lang="ru-RU" sz="4500" spc="-1" strike="noStrike">
                <a:solidFill>
                  <a:srgbClr val="4b3e21"/>
                </a:solidFill>
                <a:latin typeface="Gill Sans MT"/>
              </a:rPr>
              <a:t>:</a:t>
            </a:r>
            <a:endParaRPr b="0" lang="ru-RU" sz="45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500" spc="-1" strike="noStrike">
                <a:solidFill>
                  <a:srgbClr val="4b3e21"/>
                </a:solidFill>
                <a:latin typeface="Gill Sans MT"/>
              </a:rPr>
              <a:t>-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соци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псих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биологический,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-субкультурный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3" name="Picture 3" descr="C:\Documents and Settings\наташа\Мои документы\Мои рисунки\Изображение\Изображение 016.jpg"/>
          <p:cNvPicPr/>
          <p:nvPr/>
        </p:nvPicPr>
        <p:blipFill>
          <a:blip r:embed="rId1">
            <a:lum bright="-7000"/>
          </a:blip>
          <a:stretch/>
        </p:blipFill>
        <p:spPr>
          <a:xfrm>
            <a:off x="6286680" y="4357800"/>
            <a:ext cx="2307240" cy="18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35680" y="285840"/>
            <a:ext cx="7497720" cy="62863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 w="25560">
            <a:solidFill>
              <a:srgbClr val="703204"/>
            </a:solidFill>
            <a:round/>
          </a:ln>
        </p:spPr>
        <p:txBody>
          <a:bodyPr lIns="90000" rIns="90000" tIns="45000" bIns="45000" anchor="ctr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71760" y="357120"/>
            <a:ext cx="714348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28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8800"/>
            </a:br>
            <a:r>
              <a:rPr b="1" i="1" lang="ru-RU" sz="9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1" i="1" lang="ru-RU" sz="7300" spc="-1" strike="noStrike">
                <a:solidFill>
                  <a:srgbClr val="4b3e21"/>
                </a:solidFill>
                <a:latin typeface="Gill Sans MT"/>
              </a:rPr>
              <a:t>Социологический:</a:t>
            </a:r>
            <a:br>
              <a:rPr sz="60000"/>
            </a:br>
            <a:r>
              <a:rPr b="0" lang="ru-RU" sz="2400" spc="-1" strike="noStrike">
                <a:solidFill>
                  <a:srgbClr val="4b3e21"/>
                </a:solidFill>
                <a:latin typeface="Gill Sans MT"/>
              </a:rPr>
              <a:t>1.</a:t>
            </a: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резкое изменение социального статуса - расслоение в обществе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2. развал системы детских и молодежных организаций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3. массированное влияние западной культуры и пропаганда западного стиля жизни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4. ценностный кризис в обществе - потеря жизненных ценностей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5. профессии, связанные с легким доступом к наркотикам;</a:t>
            </a:r>
            <a:br>
              <a:rPr sz="2400"/>
            </a:b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6. ослабление семейных связей. </a:t>
            </a:r>
            <a:br>
              <a:rPr sz="9800"/>
            </a:br>
            <a:r>
              <a:rPr b="1" i="1" lang="ru-RU" sz="9800" spc="-1" strike="noStrike">
                <a:solidFill>
                  <a:srgbClr val="4b3e21"/>
                </a:solidFill>
                <a:latin typeface="Gill Sans MT"/>
              </a:rPr>
              <a:t>  </a:t>
            </a:r>
            <a:br>
              <a:rPr sz="2400"/>
            </a:br>
            <a:br>
              <a:rPr sz="9800"/>
            </a:br>
            <a:br>
              <a:rPr sz="9800"/>
            </a:br>
            <a:br>
              <a:rPr sz="4300"/>
            </a:br>
            <a:br>
              <a:rPr sz="4300"/>
            </a:br>
            <a:endParaRPr b="0" lang="ru-RU" sz="9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7429680" y="4572000"/>
            <a:ext cx="1071360" cy="137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2"/>
          <p:cNvSpPr/>
          <p:nvPr/>
        </p:nvSpPr>
        <p:spPr>
          <a:xfrm>
            <a:off x="1357200" y="214200"/>
            <a:ext cx="7500600" cy="63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6500" spc="-1" strike="noStrike">
                <a:solidFill>
                  <a:srgbClr val="4b3e21"/>
                </a:solidFill>
                <a:latin typeface="Gill Sans MT"/>
              </a:rPr>
              <a:t>Психологический:</a:t>
            </a:r>
            <a:r>
              <a:rPr b="0" i="1" lang="ru-RU" sz="6500" spc="-1" strike="noStrike">
                <a:solidFill>
                  <a:srgbClr val="4b3e21"/>
                </a:solidFill>
                <a:latin typeface="Tahoma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400"/>
            </a:b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депресс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эмоциональные расстройства,</a:t>
            </a:r>
            <a:br>
              <a:rPr sz="3600"/>
            </a:br>
            <a:r>
              <a:rPr b="0" i="1" lang="ru-RU" sz="3600" spc="-1" strike="noStrike">
                <a:solidFill>
                  <a:srgbClr val="4b3e21"/>
                </a:solidFill>
                <a:latin typeface="Symbol"/>
              </a:rPr>
              <a:t></a:t>
            </a:r>
            <a:r>
              <a:rPr b="0" i="1" lang="ru-RU" sz="3600" spc="-1" strike="noStrike">
                <a:solidFill>
                  <a:srgbClr val="4b3e21"/>
                </a:solidFill>
                <a:latin typeface="Gill Sans MT"/>
              </a:rPr>
              <a:t> потребность выровнять настро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наташа\Мои документы\Мои рисунки\Изображение\Изображение 017.jpg"/>
          <p:cNvPicPr/>
          <p:nvPr/>
        </p:nvPicPr>
        <p:blipFill>
          <a:blip r:embed="rId1"/>
          <a:stretch/>
        </p:blipFill>
        <p:spPr>
          <a:xfrm>
            <a:off x="5929200" y="4714920"/>
            <a:ext cx="2285640" cy="162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Скругленный прямоугольник 3"/>
          <p:cNvSpPr/>
          <p:nvPr/>
        </p:nvSpPr>
        <p:spPr>
          <a:xfrm>
            <a:off x="1428840" y="285840"/>
            <a:ext cx="742932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7200" y="250020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Биологический:</a:t>
            </a:r>
            <a:br>
              <a:rPr sz="80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тип личности,</a:t>
            </a:r>
            <a:br>
              <a:rPr sz="44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особое предрасположение к тому или иному веществу, </a:t>
            </a:r>
            <a:br>
              <a:rPr sz="4400"/>
            </a:br>
            <a:r>
              <a:rPr b="0" i="1" lang="ru-RU" sz="4400" spc="-1" strike="noStrike">
                <a:solidFill>
                  <a:srgbClr val="4b3e21"/>
                </a:solidFill>
                <a:latin typeface="Symbol"/>
              </a:rPr>
              <a:t></a:t>
            </a: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  наследственность.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43280" y="5143680"/>
            <a:ext cx="1071360" cy="11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5960" y="1447920"/>
            <a:ext cx="67863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1428840" y="285840"/>
            <a:ext cx="7357680" cy="628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4b3e21"/>
              </a:solidFill>
              <a:latin typeface="Gill Sans MT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71760" y="1714320"/>
            <a:ext cx="714348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7200" spc="-1" strike="noStrike">
                <a:solidFill>
                  <a:srgbClr val="4b3e21"/>
                </a:solidFill>
                <a:latin typeface="Gill Sans MT"/>
              </a:rPr>
              <a:t>Субкультурный: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сверс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714920" y="3429000"/>
            <a:ext cx="37857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ru-RU" sz="4400" spc="-1" strike="noStrike">
                <a:solidFill>
                  <a:srgbClr val="4b3e21"/>
                </a:solidFill>
                <a:latin typeface="Gill Sans MT"/>
              </a:rPr>
              <a:t>мода на употребление  нарко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7"/>
          <p:cNvCxnSpPr/>
          <p:nvPr/>
        </p:nvCxnSpPr>
        <p:spPr>
          <a:xfrm flipH="1">
            <a:off x="3286080" y="2714400"/>
            <a:ext cx="1714680" cy="71496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cxnSp>
        <p:nvCxnSpPr>
          <p:cNvPr id="127" name="Прямая со стрелкой 8"/>
          <p:cNvCxnSpPr/>
          <p:nvPr/>
        </p:nvCxnSpPr>
        <p:spPr>
          <a:xfrm>
            <a:off x="5143320" y="2714400"/>
            <a:ext cx="1643400" cy="786240"/>
          </a:xfrm>
          <a:prstGeom prst="straightConnector1">
            <a:avLst/>
          </a:prstGeom>
          <a:ln>
            <a:solidFill>
              <a:srgbClr val="e7dec9">
                <a:lumMod val="25000"/>
              </a:srgbClr>
            </a:solidFill>
            <a:round/>
            <a:tailEnd len="med" type="arrow" w="med"/>
          </a:ln>
        </p:spPr>
      </p:cxnSp>
      <p:pic>
        <p:nvPicPr>
          <p:cNvPr id="128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57280" y="4572000"/>
            <a:ext cx="1840680" cy="1366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3"/>
          <p:cNvSpPr/>
          <p:nvPr/>
        </p:nvSpPr>
        <p:spPr>
          <a:xfrm>
            <a:off x="1357200" y="357120"/>
            <a:ext cx="7572240" cy="62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964305">
                <a:lumMod val="75000"/>
              </a:srgbClr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85920" y="2143080"/>
            <a:ext cx="749772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8000" spc="-1" strike="noStrike">
                <a:solidFill>
                  <a:srgbClr val="4b3e21"/>
                </a:solidFill>
                <a:latin typeface="Gill Sans MT"/>
              </a:rPr>
              <a:t>ЧТО ТАКОЕ НАРКОТИКИ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1928880" y="857160"/>
            <a:ext cx="1233000" cy="127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274</TotalTime>
  <Application>LibreOffice/7.4.7.2$Linux_X86_64 LibreOffice_project/40$Build-2</Application>
  <AppVersion>15.0000</AppVersion>
  <Words>930</Words>
  <Paragraphs>1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4-16T21:38:47Z</dcterms:modified>
  <cp:revision>1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1</vt:r8>
  </property>
</Properties>
</file>