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46BC0-FD84-45F3-940B-9844D8A9B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0B379-4B90-4E9B-BD14-C462115483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613-962E-4192-BAAE-7794533A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F40-DF2E-4811-AACA-14E8612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BC9-7021-420B-A5ED-62E22037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B73-CCC8-48E1-86E8-752B76B9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3171-F3FE-40F6-9F26-AB06EDC7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375-3CD2-4630-B511-F95D1E30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F0A-C710-4B1E-9EA9-CCB0FC9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F86-1709-48A4-A4AF-9A0BE11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F8E2-0584-4E72-90C0-DB6C06B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CE2-1348-48C6-A5A2-79A31153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68FE-D1E9-45A7-827A-83BB6EF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A1D-0D7E-4F17-B60D-64B66979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C1F4-A04A-409F-BECB-98A8286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6B8-E133-4795-A7AA-E0B04F8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D39-707D-4FB7-B233-8CFD16F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73E-989E-429B-8A86-0B77FD28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EF7B-4287-4443-9784-001008C2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1F4-31A0-4FBD-B788-9075881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246-70E1-4741-BADE-E755591E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E8A-8E17-46E8-A224-65A9244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8A9-0E74-4E6C-A07F-805DF35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58E-DCDC-4A4E-A569-198AE02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544-E4A6-497D-AAB9-B752339A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FB8-3F09-4624-A1AF-85AE8CC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DCD9F3-4BCA-46FB-B210-5BB9B24F054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AE2FE2-EB6F-4FE1-B024-84D5A43710D8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5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500120" y="1000080"/>
            <a:ext cx="707184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Наркотики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и   дет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Камагаева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МОУ НОШ №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000160" y="4429080"/>
            <a:ext cx="2356920" cy="176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000" spc="-1" strike="noStrike" u="sng">
                <a:solidFill>
                  <a:srgbClr val="4b3e21"/>
                </a:solidFill>
                <a:uFillTx/>
                <a:latin typeface="Gill Sans MT"/>
              </a:rPr>
              <a:t>Наркотики</a:t>
            </a:r>
            <a:r>
              <a:rPr b="0" i="1" lang="ru-RU" sz="6000" spc="-1" strike="noStrike">
                <a:solidFill>
                  <a:srgbClr val="4b3e21"/>
                </a:solidFill>
                <a:latin typeface="Gill Sans MT"/>
              </a:rPr>
              <a:t> - 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вещества, включенные в Список наркотиков Постоянно действующим Комитетом по Контролю за Наркотиками (ПККН) Российской Федерации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7429680" y="4786200"/>
            <a:ext cx="1213920" cy="119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28840" y="7858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500" spc="-1" strike="noStrike">
                <a:solidFill>
                  <a:srgbClr val="4b3e21"/>
                </a:solidFill>
                <a:latin typeface="Gill Sans MT"/>
              </a:rPr>
              <a:t>Клиническая классификация наркотиков:</a:t>
            </a:r>
            <a:endParaRPr b="0" lang="ru-RU" sz="55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едатив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тимулирующ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       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психоделическ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5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>
                <a:solidFill>
                  <a:srgbClr val="4b3e21"/>
                </a:solidFill>
                <a:latin typeface="Gill Sans MT"/>
              </a:rPr>
              <a:t>КТО ЧАЩЕ СТАНОВИТСЯ НАРКОМАНОМ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28840" y="1428840"/>
            <a:ext cx="74977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«Факторы-предикторы» (</a:t>
            </a:r>
            <a:r>
              <a:rPr b="1" i="1" lang="ru-RU" sz="3600" spc="-1" strike="noStrike">
                <a:solidFill>
                  <a:srgbClr val="4b3e21"/>
                </a:solidFill>
                <a:latin typeface="Gill Sans MT"/>
              </a:rPr>
              <a:t>предрасполагающие факторы</a:t>
            </a: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b3e21"/>
                </a:solidFill>
                <a:latin typeface="Gill Sans MT"/>
              </a:rPr>
              <a:t>биологические           социаль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41" name="Прямая со стрелкой 5"/>
          <p:cNvCxnSpPr/>
          <p:nvPr/>
        </p:nvCxnSpPr>
        <p:spPr>
          <a:xfrm flipH="1">
            <a:off x="3714480" y="2928600"/>
            <a:ext cx="92916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42" name="Прямая со стрелкой 7"/>
          <p:cNvCxnSpPr/>
          <p:nvPr/>
        </p:nvCxnSpPr>
        <p:spPr>
          <a:xfrm>
            <a:off x="5643360" y="2928600"/>
            <a:ext cx="100044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57200" y="1071720"/>
            <a:ext cx="76435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1100" spc="-1" strike="noStrike">
                <a:solidFill>
                  <a:srgbClr val="4b3e21"/>
                </a:solidFill>
                <a:latin typeface="Gill Sans MT"/>
              </a:rPr>
              <a:t>Провоцирующие факторы:</a:t>
            </a:r>
            <a:endParaRPr b="0" lang="ru-RU" sz="111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экономическое либо социальное неблагополучие семь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еблагоприятное окружени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доступность наркотиков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семейная предрасположенность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ротест и риск в подростковом возраст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бщение с употребляющими наркотики сверстникам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тсутствие учебной мотиваци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оложительное отношения окружения к наркотикам;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аличие у подростков друзей, употребляющих наркотики (как один из наиболее опасных факторов).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2884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НАРКОМАНЫ ДОБЫВАЮТ ДЕНЬГИ НА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643040" y="3500280"/>
            <a:ext cx="1142640" cy="97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428840" y="857160"/>
            <a:ext cx="73508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700" spc="-1" strike="noStrike">
                <a:solidFill>
                  <a:srgbClr val="4b3e21"/>
                </a:solidFill>
                <a:latin typeface="Gill Sans MT"/>
              </a:rPr>
              <a:t>Пути получения денег на наркотики: </a:t>
            </a:r>
            <a:endParaRPr b="0" lang="ru-RU" sz="57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1."Заем без отдачи"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2. "Домашние"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3.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4. Изготовление и перепродажа наркотико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5. Мошенничество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6. Проституц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000840" y="4857840"/>
            <a:ext cx="2071440" cy="128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57200" y="7142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УЗНАТЬ, УПОТРЕБЛЯЕТ ЛИ  РЕБЕНОК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14880" y="5143680"/>
            <a:ext cx="1856880" cy="126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00120" y="1643040"/>
            <a:ext cx="714060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50012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Три группы признаков: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1. общ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2. специфическ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3. «лабораторные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500040"/>
            <a:ext cx="742932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900" spc="-1" strike="noStrike" u="sng">
                <a:solidFill>
                  <a:srgbClr val="4b3e21"/>
                </a:solidFill>
                <a:uFillTx/>
                <a:latin typeface="Gill Sans MT"/>
              </a:rPr>
              <a:t>Общие:</a:t>
            </a:r>
            <a:endParaRPr b="0" lang="ru-RU" sz="69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растающая скрытность (возможно, без ухудшения отношений)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нижение успеваем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увеличение финансовых запрос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овые подозрительные друзья или поведение старых становится подозрительны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длинные рукава одежды всегда, независимо от погоды и обстановк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естественно узкие или широкие зрачки независимо от освеще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внятная, "растянутая" речь или неуклюжие движения при отсутствии запаха алкоголя изо р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езкость и непочтительность в ответах на вопросы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строение меняется по непонятным причинам, очень быстро и часто не соответствует ситуац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леды инъекций (т.е. уколов) по ходу вен на рука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572240" y="1500120"/>
            <a:ext cx="756720" cy="99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57200" y="2214720"/>
            <a:ext cx="74977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МАНИЯ 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1800" y="928800"/>
            <a:ext cx="1163160" cy="112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85960" y="1071720"/>
            <a:ext cx="6714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1435680" y="500040"/>
            <a:ext cx="749772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2000"/>
          </a:bodyPr>
          <a:p>
            <a:pPr marL="322920" indent="-25020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0500" spc="-1" strike="noStrike" u="sng">
                <a:solidFill>
                  <a:srgbClr val="4b3e21"/>
                </a:solidFill>
                <a:uFillTx/>
                <a:latin typeface="Gill Sans MT"/>
              </a:rPr>
              <a:t>Специфические: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производные конопли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 : повышенный, прямо-таки зверский аппетит. Расширение зрачков. Покраснение губ, склер глаз, лица. Подвижен, динамичен. Решения принимает легко и бездумно. Речь часто ускоренная, многословная, тороплива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опийная группа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ная сонливость в самое неподходящее время. Очень добродушен, покладист, сговорчив и предупредителен. Замедленная речь, слова «растягивает». Зрачок  необычно узкий и совершенно не расширяется в темноте. Кожа бледная, сухая и теплая. Болевая чувствительность снижена. Стремится уединится. Тяжело уложить спать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психостимуляторы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айно оживлен, быстр в решениях и поступках. Движения порывистые, резкие. Быстро выполняет все дела, не может ни минутки посидеть на месте. Периодически начинает куда-нибудь собираться, но может так никуда и не уйти. Быстро говорит и перескакивает с одной темы на другую в разговоре. Расширенные зрачки. Сухая кожа. Очень частый пульс и повышено кровяное давлени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57200" y="1143000"/>
            <a:ext cx="7497360" cy="48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снотворные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при малых дозах определение по внешним признакам затруднительно. Поэтому речь пойдет о картине выраженного опьянения: снижение остроты восприятия окружающего мира, преходящим угнетением мыслительных способностей и потерей морально-нравственных ориентиров.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Летучие Наркотически Действующие Вещества (ЛНДВ)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ведет себя крайне вызывающе и шумно: громко кричит, смеется и т.д., если принятая доза была небольшой. Запах алкоголя при этом отсутствует, зато иногда можно почувствовать слабый запах растворителя, ацетона или бензина - обычно от волос или одежды. При систематическом употреблении ЛНДВ - отставание в умственном развитии, замедление мышления, ухудшение успеваемости и поведения. 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71760" y="1447920"/>
            <a:ext cx="73616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000" spc="-1" strike="noStrike" u="sng">
                <a:solidFill>
                  <a:srgbClr val="4b3e21"/>
                </a:solidFill>
                <a:uFillTx/>
                <a:latin typeface="Gill Sans MT"/>
              </a:rPr>
              <a:t>Лабораторные: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проверка наличия наркотика в биологических средах (крови, моче, слюне) лабораторным путем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экспресс-анализы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00840" y="4429080"/>
            <a:ext cx="2026440" cy="140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57200" y="1928880"/>
            <a:ext cx="74977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ЧТО ДЕЛАТЬ?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2" descr="C:\Documents and Settings\наташа\Мои документы\Мои рисунки\Изображение\Изображение 012.jpg"/>
          <p:cNvPicPr/>
          <p:nvPr/>
        </p:nvPicPr>
        <p:blipFill>
          <a:blip r:embed="rId1"/>
          <a:stretch/>
        </p:blipFill>
        <p:spPr>
          <a:xfrm>
            <a:off x="3357720" y="3694320"/>
            <a:ext cx="3571560" cy="25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3"/>
          <p:cNvSpPr/>
          <p:nvPr/>
        </p:nvSpPr>
        <p:spPr>
          <a:xfrm>
            <a:off x="142884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28840" y="571320"/>
            <a:ext cx="7497720" cy="50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600" spc="-1" strike="noStrike">
                <a:solidFill>
                  <a:srgbClr val="4b3e21"/>
                </a:solidFill>
                <a:latin typeface="Gill Sans MT"/>
              </a:rPr>
              <a:t>«Спасение утопающих – дело рук самих утопающих»</a:t>
            </a:r>
            <a:endParaRPr b="0" lang="ru-RU" sz="46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блюдайте за поведением ребёнк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консультируйтесь с врачами-наркологам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занимайтесь профилактикой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азговаривайте с ребенком о вреде наркотико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ропагандируйте здоровый образ жизни на личном пример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3" descr="C:\Documents and Settings\наташа\Мои документы\Мои рисунки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5857920" y="5214960"/>
            <a:ext cx="20714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85920" y="1285920"/>
            <a:ext cx="756900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4800" spc="-1" strike="noStrike">
                <a:solidFill>
                  <a:srgbClr val="4b3e21"/>
                </a:solidFill>
                <a:latin typeface="Gill Sans MT"/>
              </a:rPr>
              <a:t>Профилактика </a:t>
            </a:r>
            <a:endParaRPr b="0" lang="ru-RU" sz="148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(</a:t>
            </a:r>
            <a:r>
              <a:rPr b="0" lang="ru-RU" sz="4200" spc="-1" strike="noStrike">
                <a:solidFill>
                  <a:srgbClr val="000000"/>
                </a:solidFill>
                <a:latin typeface="Gill Sans MT"/>
              </a:rPr>
              <a:t>система адекватных мер, направленных на предотвращение появления причин, прекращение роста и снижение уровня незаконного потребления наркотических средств, предупреждение совершения правонарушений лицами, употребляющими наркотические средства</a:t>
            </a: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100" spc="-1" strike="noStrike">
                <a:solidFill>
                  <a:srgbClr val="4b3e21"/>
                </a:solidFill>
                <a:latin typeface="Gill Sans MT"/>
              </a:rPr>
              <a:t>ПЕРВИЧНАЯ     ВТОРИЧНАЯ     ТРЕТИЧНАЯ 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76" name="Прямая со стрелкой 6"/>
          <p:cNvCxnSpPr/>
          <p:nvPr/>
        </p:nvCxnSpPr>
        <p:spPr>
          <a:xfrm flipH="1">
            <a:off x="2643120" y="4143240"/>
            <a:ext cx="20718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7" name="Прямая со стрелкой 7"/>
          <p:cNvCxnSpPr/>
          <p:nvPr/>
        </p:nvCxnSpPr>
        <p:spPr>
          <a:xfrm flipH="1">
            <a:off x="5072040" y="4143240"/>
            <a:ext cx="1080" cy="786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8" name="Прямая со стрелкой 8"/>
          <p:cNvCxnSpPr/>
          <p:nvPr/>
        </p:nvCxnSpPr>
        <p:spPr>
          <a:xfrm>
            <a:off x="5357520" y="4143240"/>
            <a:ext cx="2429280" cy="7146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357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700" spc="-1" strike="noStrike">
                <a:solidFill>
                  <a:srgbClr val="4b3e21"/>
                </a:solidFill>
                <a:latin typeface="Gill Sans MT"/>
              </a:rPr>
              <a:t>Подходы в профилактике наркомании:</a:t>
            </a:r>
            <a:endParaRPr b="0" lang="ru-RU" sz="77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информационный подход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- подход, основанный на аффективном (эмоциональном) обучении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роли социальных факторов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формировании жизненных навыков;</a:t>
            </a: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альтернативной наркотикам деятельности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укреплении здоровья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000160" y="107172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4b3e21"/>
                </a:solidFill>
                <a:latin typeface="Gill Sans MT"/>
              </a:rPr>
              <a:t>Разговаривайте с ребёнком о наркотиках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857240" y="4143240"/>
            <a:ext cx="2376360" cy="17046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4572000" y="4286160"/>
            <a:ext cx="1499760" cy="12139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286680" y="4071960"/>
            <a:ext cx="2356920" cy="17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4b3e21"/>
                </a:solidFill>
                <a:latin typeface="Gill Sans MT"/>
              </a:rPr>
              <a:t>Пропаганда здорового образа жизн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>
            <a:lum bright="7000"/>
          </a:blip>
          <a:stretch/>
        </p:blipFill>
        <p:spPr>
          <a:xfrm>
            <a:off x="2643120" y="4643280"/>
            <a:ext cx="2214360" cy="160884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>
            <a:lum bright="9000"/>
          </a:blip>
          <a:stretch/>
        </p:blipFill>
        <p:spPr>
          <a:xfrm>
            <a:off x="5143680" y="4643280"/>
            <a:ext cx="2214360" cy="164268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643800" y="2857320"/>
            <a:ext cx="2071440" cy="15163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>
            <a:lum bright="11000"/>
          </a:blip>
          <a:stretch/>
        </p:blipFill>
        <p:spPr>
          <a:xfrm>
            <a:off x="1500120" y="2892240"/>
            <a:ext cx="2071440" cy="153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00120" y="1143000"/>
            <a:ext cx="721476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НАША ШКОЛА-ТЕРРИТОРИЯ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БЕЗ НАРКОТИКОВ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S4020003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929040" y="4500720"/>
            <a:ext cx="2285640" cy="1571400"/>
          </a:xfrm>
          <a:prstGeom prst="rect">
            <a:avLst/>
          </a:prstGeom>
          <a:ln w="9525">
            <a:noFill/>
          </a:ln>
        </p:spPr>
      </p:pic>
      <p:sp>
        <p:nvSpPr>
          <p:cNvPr id="196" name="Овал 4"/>
          <p:cNvSpPr/>
          <p:nvPr/>
        </p:nvSpPr>
        <p:spPr>
          <a:xfrm>
            <a:off x="3929040" y="5857920"/>
            <a:ext cx="2285640" cy="213840"/>
          </a:xfrm>
          <a:prstGeom prst="ellipse">
            <a:avLst/>
          </a:prstGeom>
          <a:solidFill>
            <a:schemeClr val="accent4">
              <a:lumMod val="75000"/>
            </a:schemeClr>
          </a:solidFill>
          <a:ln>
            <a:solidFill>
              <a:srgbClr val="84aa33">
                <a:lumMod val="75000"/>
                <a:alpha val="6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1e190d"/>
                </a:solidFill>
                <a:latin typeface="Monotype Corsiva"/>
              </a:rPr>
              <a:t>Наша школа – территория без наркоти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6"/>
          <p:cNvSpPr/>
          <p:nvPr/>
        </p:nvSpPr>
        <p:spPr>
          <a:xfrm>
            <a:off x="1571760" y="285840"/>
            <a:ext cx="7214760" cy="61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i="1" lang="ru-RU" sz="2400" spc="-1" strike="noStrike">
              <a:solidFill>
                <a:srgbClr val="4b3e21"/>
              </a:solidFill>
              <a:latin typeface="Gill Sans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3080" y="4857840"/>
            <a:ext cx="1826280" cy="111888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429240" y="4857840"/>
            <a:ext cx="1826280" cy="111888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7"/>
          <p:cNvSpPr/>
          <p:nvPr/>
        </p:nvSpPr>
        <p:spPr>
          <a:xfrm>
            <a:off x="2000160" y="857160"/>
            <a:ext cx="6429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Нарком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narkē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оцепенение, 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mania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безумие, страсть, в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 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хроническое заболевание, вызываемое злоупотреблением лекарственными или нелекарственными наркотическими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Миша\Рабочий стол\картинки\bomb_1024.jpg"/>
          <p:cNvPicPr/>
          <p:nvPr/>
        </p:nvPicPr>
        <p:blipFill>
          <a:blip r:embed="rId3">
            <a:lum bright="15000"/>
          </a:blip>
          <a:stretch/>
        </p:blipFill>
        <p:spPr>
          <a:xfrm>
            <a:off x="4500720" y="4857840"/>
            <a:ext cx="1590120" cy="119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 rot="14140800">
            <a:off x="3369240" y="5122440"/>
            <a:ext cx="240840" cy="97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428840" y="642960"/>
            <a:ext cx="749772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Цель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оздание в молодежной среде ситуации, препятствующей злоупотреблению наркотиками и снижающей вред от их употребл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Направления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ение информации о причинах, формах и последствиях злоупотреблении наркотических средст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формирование у подростков навыка анализа и критической оценки информации, получаемой о наркотиках, и умения принимать правильные реше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редоставление альтернатив наркотизаци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кругленный прямоугольник 3"/>
          <p:cNvSpPr/>
          <p:nvPr/>
        </p:nvSpPr>
        <p:spPr>
          <a:xfrm>
            <a:off x="135720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71760" y="642960"/>
            <a:ext cx="736164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Список литературы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и источников: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Белогуров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. «Популярно о наркотиках и наркоманиях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етренко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Л. «Коварный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итина Т. «Профилактика наркомании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ердюкова Н. «Наркотики и наркомания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Энтин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Г. «Когда человек себе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icinform.ne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afarm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beautytime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 bestreferat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143760" y="4714920"/>
            <a:ext cx="1731240" cy="150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28840" y="285840"/>
            <a:ext cx="750456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500" spc="-1" strike="noStrike">
                <a:solidFill>
                  <a:srgbClr val="4b3e21"/>
                </a:solidFill>
                <a:latin typeface="Gill Sans MT"/>
              </a:rPr>
              <a:t>Факторы наркотизации</a:t>
            </a: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:</a:t>
            </a:r>
            <a:endParaRPr b="0" lang="ru-RU" sz="45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-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оц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псих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б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субкультурный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" name="Picture 3" descr="C:\Documents and Settings\наташа\Мои документы\Мои рисунки\Изображение\Изображение 016.jpg"/>
          <p:cNvPicPr/>
          <p:nvPr/>
        </p:nvPicPr>
        <p:blipFill>
          <a:blip r:embed="rId1">
            <a:lum bright="-7000"/>
          </a:blip>
          <a:stretch/>
        </p:blipFill>
        <p:spPr>
          <a:xfrm>
            <a:off x="6286680" y="4357800"/>
            <a:ext cx="230724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35680" y="285840"/>
            <a:ext cx="749772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71760" y="357120"/>
            <a:ext cx="71434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8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8800"/>
            </a:br>
            <a:r>
              <a:rPr b="1" i="1" lang="ru-RU" sz="9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1" i="1" lang="ru-RU" sz="7300" spc="-1" strike="noStrike">
                <a:solidFill>
                  <a:srgbClr val="4b3e21"/>
                </a:solidFill>
                <a:latin typeface="Gill Sans MT"/>
              </a:rPr>
              <a:t>Социологический:</a:t>
            </a:r>
            <a:br>
              <a:rPr sz="60000"/>
            </a:br>
            <a:r>
              <a:rPr b="0" lang="ru-RU" sz="2400" spc="-1" strike="noStrike">
                <a:solidFill>
                  <a:srgbClr val="4b3e21"/>
                </a:solidFill>
                <a:latin typeface="Gill Sans MT"/>
              </a:rPr>
              <a:t>1.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резкое изменение социального статуса - расслоение в обществе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2. развал системы детских и молодежных организаци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3. массированное влияние западной культуры и пропаганда западного стиля жизни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4. ценностный кризис в обществе - потеря жизненных ценносте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5. профессии, связанные с легким доступом к наркотикам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6. ослабление семейных связей. </a:t>
            </a:r>
            <a:br>
              <a:rPr sz="9800"/>
            </a:br>
            <a:r>
              <a:rPr b="1" i="1" lang="ru-RU" sz="9800" spc="-1" strike="noStrike">
                <a:solidFill>
                  <a:srgbClr val="4b3e21"/>
                </a:solidFill>
                <a:latin typeface="Gill Sans MT"/>
              </a:rPr>
              <a:t>  </a:t>
            </a:r>
            <a:br>
              <a:rPr sz="2400"/>
            </a:br>
            <a:br>
              <a:rPr sz="9800"/>
            </a:br>
            <a:br>
              <a:rPr sz="9800"/>
            </a:br>
            <a:br>
              <a:rPr sz="4300"/>
            </a:br>
            <a:br>
              <a:rPr sz="4300"/>
            </a:br>
            <a:endParaRPr b="0" lang="ru-RU" sz="9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429680" y="4572000"/>
            <a:ext cx="1071360" cy="137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57200" y="214200"/>
            <a:ext cx="7500600" cy="63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500" spc="-1" strike="noStrike">
                <a:solidFill>
                  <a:srgbClr val="4b3e21"/>
                </a:solidFill>
                <a:latin typeface="Gill Sans MT"/>
              </a:rPr>
              <a:t>Психологический:</a:t>
            </a:r>
            <a:r>
              <a:rPr b="0" i="1" lang="ru-RU" sz="6500" spc="-1" strike="noStrike">
                <a:solidFill>
                  <a:srgbClr val="4b3e21"/>
                </a:solidFill>
                <a:latin typeface="Tahoma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депресс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эмоциональные расстройства,</a:t>
            </a:r>
            <a:br>
              <a:rPr sz="36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потребность выровнять настро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наташа\Мои документы\Мои рисунки\Изображение\Изображение 017.jpg"/>
          <p:cNvPicPr/>
          <p:nvPr/>
        </p:nvPicPr>
        <p:blipFill>
          <a:blip r:embed="rId1"/>
          <a:stretch/>
        </p:blipFill>
        <p:spPr>
          <a:xfrm>
            <a:off x="5929200" y="4714920"/>
            <a:ext cx="22856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кругленный прямоугольник 3"/>
          <p:cNvSpPr/>
          <p:nvPr/>
        </p:nvSpPr>
        <p:spPr>
          <a:xfrm>
            <a:off x="1428840" y="285840"/>
            <a:ext cx="742932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7200" y="250020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Биологический:</a:t>
            </a:r>
            <a:br>
              <a:rPr sz="80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тип личности,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особое предрасположение к тому или иному веществу, 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наследственность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43280" y="5143680"/>
            <a:ext cx="1071360" cy="11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5960" y="1447920"/>
            <a:ext cx="67863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1428840" y="285840"/>
            <a:ext cx="735768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4b3e21"/>
              </a:solidFill>
              <a:latin typeface="Gill Sans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71760" y="1714320"/>
            <a:ext cx="71434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Субкультурный: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верс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3429000"/>
            <a:ext cx="37857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мода на употребление  нарко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7"/>
          <p:cNvCxnSpPr/>
          <p:nvPr/>
        </p:nvCxnSpPr>
        <p:spPr>
          <a:xfrm flipH="1">
            <a:off x="3286080" y="2714400"/>
            <a:ext cx="1714680" cy="714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143320" y="2714400"/>
            <a:ext cx="16434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pic>
        <p:nvPicPr>
          <p:cNvPr id="12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57280" y="4572000"/>
            <a:ext cx="1840680" cy="1366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85920" y="2143080"/>
            <a:ext cx="749772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ТИКИ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928880" y="857160"/>
            <a:ext cx="1233000" cy="127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274</TotalTime>
  <Application>LibreOffice/7.4.7.2$Linux_X86_64 LibreOffice_project/40$Build-2</Application>
  <AppVersion>15.0000</AppVersion>
  <Words>930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4-16T21:38:47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