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3433-054B-419D-8925-0248D674C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9D18-0E8F-4DAC-8CFA-521A38D7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EDB723-92DD-4251-BD3B-EBDC55DC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7F4F73-CC15-4E31-B6FD-D0AE9449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67AA2D-F2F7-4ACC-A793-CA50C91E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B23592-A2CE-4A14-A455-0441B03A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87F530-273D-4FE6-BA94-776628F4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B0C050-511A-4CDA-AF69-1F2899D2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54B44E-754E-43AB-9B06-35CB78FE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A519F3-4324-487C-8B09-91463B2D0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E71FFE-19E6-4E9A-A46D-38108BC19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548A40-20B7-4906-8C47-5FABE3A3B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2795-B113-4C72-BFF1-8248808D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3FFC28-2B02-4B07-914A-8696F3AD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C511DB-D2F5-4CF9-83C2-188A54A4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EAA975-7C75-434B-A9C4-A45921C5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8FD537-F7F0-4DD8-B9BA-1C7FA4E0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F9A38F-779D-4C36-8E5B-764E0CE0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D7FD13-55A5-4183-A2B4-2060454C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C4CE07-BC31-41C2-A1B4-21C77734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C69407-2C02-4347-9AB7-4ABC0BDB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6A53B2-0D2B-4AB9-9967-F9B650DA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854091-CBC6-4396-BD10-1CEF85C10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EA9B-1D00-444B-9F34-DD1828CE8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DB88C4-281C-4EDE-AB3F-C973F4D1F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EF94F-E217-4C2B-96FC-2A8CBAA6D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ECDDC-3606-42B4-B0FE-C34AA91D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8C7D4-F16D-4312-BB4B-32B56EF2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64DFB-C08B-474A-A7D9-C78DE5D4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8869A-D29A-4D0D-87D0-7C9FB3EE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0420CC-2C82-4C8F-ABE9-939721F0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510F4-1153-4774-BBE2-A44C4A65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1FF83-9535-4366-A2D0-BAF2CEAE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77971-7C90-4A5B-B421-21FA0AEE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0FB5-8CFB-44CE-9AE7-8092AF237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B2B7F-826F-444A-AA21-A4B67BA6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2162D-6E22-4297-B423-73EA5E3BD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C042C-7D22-4C3C-A52C-DF6928AFA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78C682-567C-4F95-B775-F26A7B4E2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10548C-09B8-4A0C-BC8E-67553A79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BEE1D3-CA4C-4275-B4B3-1FC5F5CD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70B441-4DEE-47F5-9D5D-C681CDCF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A33B7C-7594-4669-9D62-0C9A5875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3CBC99-F623-422F-80DD-84E50926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89EE76-C9A6-4889-82C2-98036CBF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09FA-B670-43CE-8711-9C2FAA95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F159B2-20C8-4A39-9C21-F29CDB20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47DAF1-2112-4B30-A702-C6572493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266F33-8DB2-46E9-B541-620CCCDB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63E670-1345-4EE6-962C-2C90F9723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C46F48-1301-4856-853D-1FAF3CC77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659F-5417-4E78-9D91-23347177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5736-C15B-43C9-9441-A2E867EF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9B85-C489-4B81-8206-39408820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0FE5-3E31-4F38-9D97-7D512834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6D96-DFE8-491B-A936-6F00AE2F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73BD-9DB0-4524-BA07-2E712A97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EC91D-7078-4DA8-99B3-B074E122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0557-C106-4075-8F12-1DC090AB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B737-7B37-4935-BCCB-5A7EAB66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90EC-667B-4DCB-89B6-6EF8A455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16F9-AD6A-4E3D-A18A-F15E8AAC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A58CA-D7F0-4FF9-9B1A-A063AEC70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AE352-4BE4-4F9A-9DA7-DA9B7D91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2F119-3CE2-4578-BD04-F24EFB21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9A687-E40B-443E-A742-9A9BB8D6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2AC85-CA82-4053-811B-9B9CB9DB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ECCA-1952-4570-999D-F48B97AE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548E2-2336-4232-BA67-938C85FE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49D8C-8088-4879-842E-93447086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9DA27-5440-4C6F-864B-51EA33EA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60529-9F92-4B5C-92E3-4AF82B16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5A53E-37DF-4105-927B-D04D3747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44592-7902-4252-B0B4-BE0B43F46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420FF-66A8-4DA7-864F-2C8F91765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9363B-DDAA-4731-8132-BFABD1E12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D5258-C331-4606-AF54-7311C6BF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A0728-5645-4C06-A945-38705FB4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A3EE-C2D9-4494-BFCC-A6176EF0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F5458-2332-4E4F-926B-EAC7C350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E7AC0-BCB7-4CEB-A8A3-1335A24D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4E177-4744-4D23-AACE-F18AF449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1B047-412F-4EDF-8C0A-B47D719C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63698-6FD8-40F6-BAEF-24D4235F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7BC68-DE96-482E-98FA-0C4D83EB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5764A-D9E4-4BAA-B83E-6CB20E1A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E19B3-6CDE-464E-A26B-0573D8324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5C9BF-B0F2-4AFA-8596-0F407EB99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BEE28-BF0E-47E3-A680-8B8B865B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7068-A61F-40DB-BA6E-0BB7200F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A8963-EFE6-403B-ABF3-2DBE53C1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DE014-4F3A-44F7-A2BD-D25145D4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9593E-A542-4FC3-8313-744FFD25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2115C-3D83-4E35-BFD5-029E1B20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AC41B-14FF-4BCA-9FB6-E34285C9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B200D-B67D-482D-9B47-0A11465A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39641-5364-472C-AA42-E8468576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353DD-746D-4A83-BD42-A7AD5A00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66287-B3C3-4218-94E8-F735624E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54197-ACD3-4EB6-AA62-05611CA25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3002-7EDF-4422-BC7C-5B047886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BE84B-90CC-48CD-BE8F-B060297C3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0FCBA-FF30-4D0B-B3D8-E0EA79E0B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94699-FFA3-496C-B9CC-5359FAE8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19FB6-7598-48F1-98AC-31A259A8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6B984-DCD0-49AF-A191-F71799B8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92BA6-016C-4648-85D6-F3443123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055FB-CF7C-45C6-B8B3-AA60C6B5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CE3A8-0155-46D3-938E-B7EF2E0F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31BAC-2240-4DE4-9D1B-7C770B0A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C020C-29A4-4098-9ACD-8CEE4960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8D3B-704E-49B8-998B-BDE15AB1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19827-7E33-40D1-848A-FBE026C2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AE36C-9887-48F9-95A4-4FAFC3CCA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BE6BC-AECD-4124-8381-744A00B1B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4D3B4-BC52-4F2D-8E30-2F86684DD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BBCC2-E0CF-4FD8-8C10-83063BCC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5563C-DF1E-4452-B3E6-B2D0D34C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B3462-8CDE-4E5C-8CF4-ED765CC1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AD0E5-B6BF-43D6-9751-78F445DE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B711D-D347-4720-A242-1E9FF841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61E16-DA64-4780-A3A0-B797E038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1CB8-A9CA-4500-AA6E-7EB4E353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B700E-B1EC-47C0-8A34-F3F676D1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83B95-AC2B-4124-A53B-23C49613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C9885-1B92-4C2E-A2AD-5DD5BF38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FED4E-EE4E-4C00-A861-9CB63D327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158A2-F7C7-46AC-BD8E-08022D03E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081C1-9A24-48D8-BD3C-FE3231246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5C384-5775-4946-88D2-C6806D44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700FA-7536-41CB-A418-1555F140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56884-512F-46AD-9ED8-18818E86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EB7C3-8D89-4C92-846E-3C107E09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00A9-32FF-48F7-B73D-65EC0CBF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9CC84-BACC-4168-95B3-7B7FE94D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25C38-519C-4B68-B137-7B868B9E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9D37D-0931-4AF9-9EF4-E612252C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02396-E1E7-443D-9B13-D9654C81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28706-6A43-456B-8DFB-C3B62379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0C9D2-2BC8-431E-ACBA-F93AA31A3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ED125-799E-4DAA-BDE2-8B63C33FF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B4C916-06F1-4540-8052-A6058E856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B9EE92-3C58-4A62-AD1A-4AAEB9DD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896031-5C42-4337-8509-0FC4D89C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6B4A-4609-4B6B-A824-A5568FFB74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A778-5FF8-4228-BCCC-2BDA7C512C0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BA78-DCA9-494A-94A3-C57A0AB19B1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B4A9-215A-4B71-9C3E-2A15AD8E8A2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6EE1-F8F1-4BF1-AAE6-C3C96F6D56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A9EF-479C-4E24-9952-D30C5E72ABC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5B9D-8758-47AA-B1C7-BFB3ED6C4C7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DB51-9795-4870-923A-E76ACBAFF17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2FD8-EE23-4FFF-95AD-6E54FC46462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AD98-EC15-4321-8E2D-59E4088F6E4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D4E7-8C12-4081-B74C-13EB0BD2AF9E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30F0-5018-4F54-BA01-2C8687C57E8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oudomlya.ru/wp-content/gallery/military_training/military_training_05_2010_8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sch-143.narod.ru/sbor/3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6071760" y="5071680"/>
            <a:ext cx="30718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УРОК ОБЖ В 10 КЛАССЕ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МБОУ СОШ № 6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Г. ВЛАДИМИР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БРАЙТ Е.Н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2060"/>
                </a:solidFill>
                <a:latin typeface="Georgia"/>
              </a:rPr>
              <a:t>Начальная военная подготовка</a:t>
            </a:r>
            <a:endParaRPr b="0" lang="en-US" sz="7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Georgia"/>
              </a:rPr>
              <a:t>Военная служба </a:t>
            </a:r>
            <a:r>
              <a:rPr b="0" lang="ru-RU" sz="3000" spc="-1" strike="noStrike">
                <a:solidFill>
                  <a:srgbClr val="002060"/>
                </a:solidFill>
                <a:latin typeface="Georgia"/>
              </a:rPr>
              <a:t>— это особый вид федеральной государственной службы. Она заключается в повседневном выполнении гражданами воинских обязанностей.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9" name="Picture 2" descr="http://www.partbilet.ru/userfiles/2e9bf21a275dbf884eff1b320186b1ba.jpg"/>
          <p:cNvPicPr/>
          <p:nvPr/>
        </p:nvPicPr>
        <p:blipFill>
          <a:blip r:embed="rId1"/>
          <a:stretch/>
        </p:blipFill>
        <p:spPr>
          <a:xfrm>
            <a:off x="714240" y="1643040"/>
            <a:ext cx="78217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2060"/>
                </a:solidFill>
                <a:latin typeface="Georgia"/>
              </a:rPr>
              <a:t>Главная задача военной службы</a:t>
            </a: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. Постоянная целенаправленная подготовка к вооруженной защите или вооруженная защита территории РФ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2" name="Picture 2" descr="http://pln-pskov.ru/pictures/0781112227.jpg"/>
          <p:cNvPicPr/>
          <p:nvPr/>
        </p:nvPicPr>
        <p:blipFill>
          <a:blip r:embed="rId1"/>
          <a:stretch/>
        </p:blipFill>
        <p:spPr>
          <a:xfrm>
            <a:off x="1500120" y="2857680"/>
            <a:ext cx="62150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Georgia"/>
              </a:rPr>
              <a:t>В соответствии с ФЗ «О военной обязанности и военной службе» от 28.03.1998 г. и ФЗ «Об образовании от 21.06.2005 г. предусмотрена подготовка обучающихся -  граждан мужского пола, не прошедших военной службы, по основам военной службы, а также проведение с ними учебных сборов после окончания 10 класса.</a:t>
            </a: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4" name="Picture 2" descr="Картинка 16 из 77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57200" y="2428920"/>
            <a:ext cx="66502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62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Georgia"/>
              </a:rPr>
              <a:t>Основная цель профессиональной подготовки: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680" y="1527120"/>
            <a:ext cx="6913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Ознакомить учащихся с основами военной службы и привить им знания и умения в выполнении ряда общих обязанностей военнослужащего, проходящего военную службу по призыву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2" descr="http://patriot-nvkz.ucoz.ru/meropriatie/sbory/sbori-1-.jpg"/>
          <p:cNvPicPr/>
          <p:nvPr/>
        </p:nvPicPr>
        <p:blipFill>
          <a:blip r:embed="rId1"/>
          <a:stretch/>
        </p:blipFill>
        <p:spPr>
          <a:xfrm>
            <a:off x="142920" y="4357800"/>
            <a:ext cx="3733920" cy="250020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4" descr="http://school648.org/Sbor/IMG_3442-320x200-.jpg"/>
          <p:cNvPicPr/>
          <p:nvPr/>
        </p:nvPicPr>
        <p:blipFill>
          <a:blip r:embed="rId2"/>
          <a:stretch/>
        </p:blipFill>
        <p:spPr>
          <a:xfrm>
            <a:off x="7238880" y="1000080"/>
            <a:ext cx="1905120" cy="28576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6" descr="Картинка 53 из 777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4120" y="40006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Georgia"/>
              </a:rPr>
              <a:t>Обязательная подготовка</a:t>
            </a:r>
            <a:r>
              <a:rPr b="0" lang="en-US" sz="3000" spc="-1" strike="noStrike">
                <a:solidFill>
                  <a:srgbClr val="002060"/>
                </a:solidFill>
                <a:latin typeface="Georgia"/>
              </a:rPr>
              <a:t> гражданина к военной службе предусматривает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получение начальных знаний в области обороны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подготовку по основам военной службы в образовательном учреждении и на учебных пунктах организаций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военно-патриотическое воспитание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подготовку по военно-учетным специальностям солдат, матросов, сержантов и старшин по направлению военного комиссариата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медицинское освидетельствование и медицинское обследование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проведение лечебно-оздоровительных мероприятий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Georgia"/>
              </a:rPr>
              <a:t>Учебные сборы: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Пятидневные учебные сборы проводятся в мае, после окончания учащимися 10 класса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В ходе учебных сборов учащиеся знакомятся: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С размещением военнослужащих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Правилами содержания помещения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С основными мероприятиями, направленными на обеспечение безопасности военной службы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С распорядком служебного времени и организацией повседневного распорядка жизнедеятельности военнослужащих в военной части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С организацией суточного наряда и нарядной службы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Изучают основные элементы строевой и тактической подготовки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Проходят огневую подготовку: изучение автомата Калашникова, порядок подготовки его к ведению огня, меры безопасности при стрельбе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Основами военно-медицинских знаний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Общевоинскими уставами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6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6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6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6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6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6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6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6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6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6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6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6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6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6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6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060"/>
                </a:solidFill>
                <a:latin typeface="Georgia"/>
              </a:rPr>
              <a:t>Домашнее задание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Параграф 8.1 «Основы подготовки граждан к военной службе. Начальная военная подготовка в войсках». Записи в тетрад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1-28T11:51:11Z</dcterms:modified>
  <cp:revision>6</cp:revision>
  <dc:subject/>
  <dc:title>Начальная военная подготовка</dc:title>
</cp:coreProperties>
</file>