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7E6-DC50-4443-9622-9DCE65D2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13E-AC20-4DF2-AE0E-21573CAC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11064-0628-4C73-9232-5F753FA9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F5463-5A8A-4118-92BD-95A00E95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3349C-5B25-4028-9388-806934DB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93456-D2BF-498A-B516-7887068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7D093-22F1-4769-B326-61E637B5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215866-F2A2-4071-ADEF-2B78E2B7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5EB852-6717-4DB0-AD9D-B4D9AAE5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DB1DE-B344-4347-AA55-90F64C18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E09BD-0A98-4332-9000-7181D11F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A49A4-519B-459E-868A-3A0018BC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1C7-8E20-477B-BE21-4C6B5149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4C2FA-9585-4BD7-A9C2-E087869A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1ED9E-3F1A-4C53-8AD9-35F7B60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C62AB2-E1D9-440E-B165-8D50CCCA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F12AF-FF71-42EE-B683-F82D7943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7F609-7300-49DE-BE0E-5823EA7F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83FA9-2FF0-4421-A71D-6CB0FA2F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5322F-6C7B-4A70-AA3A-AC877DDC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A2C1D-FCF0-4EF9-8033-C4FA274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383C7-30C5-47B4-AEBA-EEDBBCE3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659F2-07F4-4605-9C97-63A68D0E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E76-6BA1-47B2-B9EF-611C67A6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B076A-3763-4D4C-9BB2-6178A78D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95690-0AEF-4064-A7BE-1B7CB3CF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1C1A4-4748-43E2-BB90-01917250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6C038-EE5A-4E73-B98E-FE3F0E2C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3BD66-A141-41B6-A6F9-51934C19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01285-149A-4466-91B1-28DC4CCB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CD29A-1DEA-4E84-853C-84186169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E3568-33B7-4641-98C1-1AD9119B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6608A-DA5E-46A1-A54E-7C091AD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B63E6-0330-4F57-B8A4-4F1F2F96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54AB-15C6-4EC8-9D9E-44E4CEEC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91CA2-9978-4B1D-A87D-6C255E36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08E8A-B313-4B45-8249-2BAE27A6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440D6-A35D-4D13-BC9E-7A05030C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07F6F-1D61-4245-93B8-7EF20DA1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7682F-9406-45F6-A736-42DDE34C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CDA3F-9DEE-461C-9582-AB68F7C3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2C330-4C31-46A0-B9A9-9DF2F773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681FA-C11D-4A66-9CEA-B55A429D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17DD18-D9A8-4318-9776-DBAEC04E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8A717-B30A-4C53-8906-7A6A1356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EF17-42ED-4160-AFCF-1682B0D2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12748-6739-499E-851D-BDFD7B5F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6033C-0422-4266-82B8-91568C3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161EF1-D853-44BC-9515-9E200C99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38F2F-4FCC-4125-A8B5-3CD50CCF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B339C-30E4-4747-9479-BCBB91AE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25AD-0A57-40BE-9252-3E23F800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F001-5FCD-49D7-8C95-B999DB9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FACF-7848-4A0A-8C4D-CEFC68F5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FFAD-476A-4750-92A8-E74C4DA6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F0C6-8EFC-4276-9962-02916EF2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F3B-574F-496F-870D-212B5C6D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8840-82F0-4E95-9EE7-42CE3FA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01FE-A154-4759-B464-CDF8ECFD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E0CB-D015-4CA5-B7C2-87FEBC25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88B8-6387-4991-A744-A9954576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61E3-7C36-4D40-8A10-841D0FE9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CEC0-06CB-4878-B566-2F3586EB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38364-C7D7-4726-BBE8-407005D4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B2E3E-EEEC-4B08-85A8-176B1C02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4788-62E0-4686-B822-064A7E44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8C1C-1EF2-4E05-B6E3-498FDF2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2E5-9D21-460F-9A44-51E25318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68FC-1373-48C6-AA5F-689475BB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9D9A-478E-41D1-9731-F12D626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51D3-DD67-47CB-BA94-EB26A5A6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92F25-7CEC-4ECE-81E5-8D26E1C6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A8BF-EB32-4B85-8552-DAD642AA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CD0D-7F66-425A-A80A-8F34F094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0FB6-C2AE-44EF-A97E-0972FF7D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BAE1D-0B8D-4FB4-A2B3-FFBB2CE6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653F-8EF8-4D05-ABDD-9F11217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1978-CDED-4BE6-8D85-6055711B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251-37AD-4D61-9F35-2954632A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1C95-A9B1-482E-B5DC-7894E683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62BEE-CA33-4E78-BBB0-7343F052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9D01-7206-4831-AEEC-7A75FD73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1B96-305C-4310-AD97-8544A30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EBC9-74D3-401D-BDDA-3C505E33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D667-08CD-491C-8438-A64A7832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3F14A-54CC-49E3-B20D-A884632F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6D497-52F7-459F-B12F-A9E2DE5E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B96FD-488F-4008-A5A5-A4F87021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045EF-EFFF-47A1-BB88-C119B7C1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D09-E904-4D70-BF03-8C509589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93C3F-D8CC-4632-96E6-7F928DDF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89F2-1A6C-4956-83F7-D2FA4676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59CE-E6E8-4A56-923F-5062453F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D8B9-962C-4FCA-8DFB-485EC594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CA83-9B0F-4C34-89FA-1FBB6983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41590-53CF-4E76-86DB-DFA4148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C729B-8028-4812-B5F4-551FC88A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67F25-1571-4EA0-A7F1-28CB2DA9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F9002-5910-44A0-99C4-5FC5F082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D3221-EC68-4247-B53C-A8EE773E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619-F512-4705-837D-8AE9438B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637A-695F-4073-A754-7E8FC01B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15D2F-E463-4A00-8200-46AB0876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F2C76-1F72-4EA5-9723-74123E81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4A4E-17BC-4161-ACC2-78A2671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07002-598F-4E73-BAA9-13C4A1D0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AE32A-EC00-42FA-ABC6-9277DEF0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98FF-CBED-4A4E-A1F6-F159FA7D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001A4-5779-4361-A5D7-A55A5F9B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C0F19-9614-408F-A851-0DAA1AC6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AD344-65F8-483A-AC97-0AF07488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9A5-41FA-4C51-8283-E71A65F7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883A0-DA7F-4266-8B0F-88331D95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89C9-D2C8-4851-97BC-1FFB0EE3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53B79-0CDA-4EA8-9241-C58CBEAD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4E5D9-A76D-4F96-84C2-34AE882D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DA34-62C7-4F95-8690-EBE66EB5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3A14D-0965-46EA-B6A8-F952E71E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192C3-E30C-4EBA-BD23-88D4DEBC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ED28C-D7E0-4448-BB22-B9CAE52F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F7A50-6AB8-4528-9FEF-605F4AF8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D9B8-3F5A-4D89-B9E7-745F032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A7E-70F4-4A51-98F2-94AB7AE4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3858A-3C26-44A5-A180-89370CF0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3485-E54E-45AF-B266-30E4656E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08394-1C52-4AFE-920D-E8DC23D1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4F81C-D1C9-4D8F-BAB9-384CD151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A08DD-FBD3-46AD-B15D-8B14684A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46820-E83D-4479-B4BB-95EEC6B2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DAC08-16B0-4F04-ABBC-B9348A94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C4B3-4DCF-422B-B737-A42DA74E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C50E3-F5C8-4FF2-ACF0-C6E7CAA7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21CE1-A7E4-4082-9A7B-0AC7EBBA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245-6CA1-430B-AB9F-2FFF0DA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C4AB7-7DD8-47C1-AE1D-B75D095D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897E-BFCB-4DA8-A612-A9FECDF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49973-5C7A-44D0-94F3-23E23836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17A1F-E415-419E-95FE-ACDFE093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F3C5-69CC-4C76-80F7-4B551D50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D9701-4948-436E-AE08-104BBB4E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2669-C12D-439F-AC25-AB87B44B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B09E8-037F-4C9F-A5BB-99685F38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9A2067-D02F-4CEE-A0A1-D585EF35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309BC-FB84-45AE-BB31-AB199C56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8075-0B7F-4FBC-8B3D-FE681F6EDA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6B54-48E9-4A5E-BF98-8398A2C37DF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D417-5D67-4CC9-B6B4-6D8D27C925A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811E-080F-450A-A06B-C97D437870F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C98D-8071-466A-BC25-1B9345DD9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02A1-5ACC-4295-9742-6BA09DE71C3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6B28-EB5F-4D06-A6AB-E3F089AFD72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72A8-249B-4BA1-BA90-3EDA0ED52FB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D36C-91D1-4454-ABB6-2AB8CBCED00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9A7E-6AE9-4FE0-B027-0B185F3E780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AD8E-2717-41CF-9B1C-85DAE9F09C0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AF4E-A9CF-4857-B3A9-B4CD35A22CB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oudomlya.ru/wp-content/gallery/military_training/military_training_05_2010_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sch-143.narod.ru/sbor/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071760" y="5071680"/>
            <a:ext cx="3071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РОК ОБЖ В 10 КЛАСС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БОУ СОШ № 6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Г. ВЛАДИМИР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БРАЙТ Е.Н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Georgia"/>
              </a:rPr>
              <a:t>Начальная военная подготовка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Военная служба </a:t>
            </a:r>
            <a:r>
              <a:rPr b="0" lang="ru-RU" sz="3000" spc="-1" strike="noStrike">
                <a:solidFill>
                  <a:srgbClr val="002060"/>
                </a:solidFill>
                <a:latin typeface="Georgia"/>
              </a:rPr>
              <a:t>— это особый вид федеральной государственной службы. Она заключается в повседневном выполнении гражданами воинских обязанностей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icture 2" descr="http://www.partbilet.ru/userfiles/2e9bf21a275dbf884eff1b320186b1ba.jpg"/>
          <p:cNvPicPr/>
          <p:nvPr/>
        </p:nvPicPr>
        <p:blipFill>
          <a:blip r:embed="rId1"/>
          <a:stretch/>
        </p:blipFill>
        <p:spPr>
          <a:xfrm>
            <a:off x="714240" y="1643040"/>
            <a:ext cx="78217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Georgia"/>
              </a:rPr>
              <a:t>Главная задача военной службы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Постоянная целенаправленная подготовка к вооруженной защите или вооруженная защита территории РФ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http://pln-pskov.ru/pictures/0781112227.jpg"/>
          <p:cNvPicPr/>
          <p:nvPr/>
        </p:nvPicPr>
        <p:blipFill>
          <a:blip r:embed="rId1"/>
          <a:stretch/>
        </p:blipFill>
        <p:spPr>
          <a:xfrm>
            <a:off x="1500120" y="2857680"/>
            <a:ext cx="6215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Georgia"/>
              </a:rPr>
              <a:t>В соответствии с ФЗ «О военной обязанности и военной службе» от 28.03.1998 г. и ФЗ «Об образовании от 21.06.2005 г. предусмотрена подготовка обучающихся -  граждан мужского пола, не прошедших военной службы, по основам военной службы, а также проведение с ними учебных сборов после окончания 10 класса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2" descr="Картинка 16 из 77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428920"/>
            <a:ext cx="6650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62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Основная цель профессиональной подготовки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680" y="1527120"/>
            <a:ext cx="69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Ознакомить учащихся с основами военной службы и привить им знания и умения в выполнении ряда общих обязанностей военнослужащего, проходящего военную службу по призыв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2" descr="http://patriot-nvkz.ucoz.ru/meropriatie/sbory/sbori-1-.jpg"/>
          <p:cNvPicPr/>
          <p:nvPr/>
        </p:nvPicPr>
        <p:blipFill>
          <a:blip r:embed="rId1"/>
          <a:stretch/>
        </p:blipFill>
        <p:spPr>
          <a:xfrm>
            <a:off x="142920" y="43578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http://school648.org/Sbor/IMG_3442-320x200-.jpg"/>
          <p:cNvPicPr/>
          <p:nvPr/>
        </p:nvPicPr>
        <p:blipFill>
          <a:blip r:embed="rId2"/>
          <a:stretch/>
        </p:blipFill>
        <p:spPr>
          <a:xfrm>
            <a:off x="7238880" y="100008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Картинка 53 из 77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Georgia"/>
              </a:rPr>
              <a:t>Обязательная подготовка</a:t>
            </a:r>
            <a:r>
              <a:rPr b="0" lang="en-US" sz="3000" spc="-1" strike="noStrike">
                <a:solidFill>
                  <a:srgbClr val="002060"/>
                </a:solidFill>
                <a:latin typeface="Georgia"/>
              </a:rPr>
              <a:t> гражданина к военной службе предусматривает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лучение начальных знаний в области обороны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основам военной службы в образовательном учреждении и на учебных пунктах организаций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военно-патриотическое воспит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одготовку по военно-учетным специальностям солдат, матросов, сержантов и старшин по направлению военного комиссариата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медицинское освидетельствование и медицинское обследование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проведение лечебно-оздоровительных мероприятий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Georgia"/>
              </a:rPr>
              <a:t>Учебные сборы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ятидневные учебные сборы проводятся в мае, после окончания учащимися 10 класс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В ходе учебных сборов учащиеся знакомятся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змещением военнослужащи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авилами содержания помещения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сновными мероприятиями, направленными на обеспечение безопасности воен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распорядком служебного времени и организацией повседневного распорядка жизнедеятельности военнослужащих в военной част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С организацией суточного наряда и нарядной служб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Изучают основные элементы строевой и тактической подготовк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Проходят огневую подготовку: изучение автомата Калашникова, порядок подготовки его к ведению огня, меры безопасности при стрельб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сновами военно-медицинских зн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Общевоинскими уставам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060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Параграф 8.1 «Основы подготовки граждан к военной службе. Начальная военная подготовка в войсках». Записи в тетрад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1-28T11:51:11Z</dcterms:modified>
  <cp:revision>6</cp:revision>
  <dc:subject/>
  <dc:title>Начальная военная подготовка</dc:title>
</cp:coreProperties>
</file>