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4444-53D0-42BD-8FE3-0AE77E33F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B744-B7DD-4960-A599-1AE800E71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5651-D381-43D7-96EB-92AF96BD1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ACB0-67BB-40AE-8622-EAF6C4B10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0C2DA-A3C1-4C23-8B46-CD4475D54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9C987-C24A-49C4-8954-B2D5F5D9D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36823-FD36-4111-B7DE-80C5AC23C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D0781-8D8F-4380-9FAE-EB7863600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EF3F7-1CD7-4677-868A-10ECDD49E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5E692-575E-40B0-A6D5-0D8A29522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93CC7-930F-424A-B55C-21220F45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CC22-4B87-45CE-AD86-637993671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65FD4-04D9-4B4A-9D03-BF9D56F4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45CF6-58BE-4D5A-956B-D256C44B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E91CD-6090-40F2-88E6-A21665724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4BE86-CA0E-484D-ABF3-4D97992CB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6894A-F56D-4C02-9CCC-3D51086F7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67CD6-EE0F-45BC-AAF6-4FD5E22F1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707B3-8B95-47B2-AFD5-060F76F85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98134-BB27-46E4-9A8E-63BF289A1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C12D3-249F-407E-8F8D-04BC35817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990D0-5F0A-4934-A059-D812AC79B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DB8A-1320-4736-B3AC-D5AA5091F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5CC0C-730B-48C8-9858-3F2682B55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38B2A-BA09-413D-86CB-FE130DA8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EB92D-4F81-41E2-B846-4B8A044C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BB8ED-E450-4265-B87D-6E44B9AE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63AA7-1FE8-465B-B62E-A41D2FFE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3878B-B0C3-4C89-AFE2-0D2EAEF8E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774B4-7987-4481-9379-E9A27DAE3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F575-E691-44B5-8BAB-8D6CAA192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08B2-BAA4-494D-B45E-76CF10B2B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44D1-AEF9-4C16-B9C4-4AECAEA1E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CD5B-3EB5-4C1A-A44D-6C0AFDC1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692C-60FC-4341-B5F8-0C54FE5E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68E6-5BB9-4DB1-ADB8-69632270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A2E9F-3D01-47E3-A1F2-8CA3C03D68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1747A-DE7A-4F76-BD5B-A137D8ED36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383D7-CCAF-491A-AB1B-AA31C70552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0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7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Прямоугольник 2" descr=""/>
          <p:cNvPicPr/>
          <p:nvPr/>
        </p:nvPicPr>
        <p:blipFill>
          <a:blip r:embed="rId2"/>
          <a:stretch/>
        </p:blipFill>
        <p:spPr>
          <a:xfrm>
            <a:off x="2335320" y="1878120"/>
            <a:ext cx="5486400" cy="1901880"/>
          </a:xfrm>
          <a:prstGeom prst="rect">
            <a:avLst/>
          </a:prstGeom>
          <a:ln w="0">
            <a:noFill/>
          </a:ln>
        </p:spPr>
      </p:pic>
      <p:sp>
        <p:nvSpPr>
          <p:cNvPr id="124" name="TextBox 3"/>
          <p:cNvSpPr/>
          <p:nvPr/>
        </p:nvSpPr>
        <p:spPr>
          <a:xfrm>
            <a:off x="2268360" y="836640"/>
            <a:ext cx="359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0253f"/>
                </a:solidFill>
                <a:latin typeface="Calibri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4"/>
          <p:cNvSpPr/>
          <p:nvPr/>
        </p:nvSpPr>
        <p:spPr>
          <a:xfrm>
            <a:off x="2771640" y="450864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Calibri"/>
              </a:rPr>
              <a:t>Урок ОБЖ     7 кла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оугольник 2"/>
          <p:cNvSpPr/>
          <p:nvPr/>
        </p:nvSpPr>
        <p:spPr>
          <a:xfrm>
            <a:off x="1476360" y="620640"/>
            <a:ext cx="626436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Bookman Old Style"/>
              </a:rPr>
              <a:t>Большинство жертв схода лавин погибает очень скоро, так как снежная стена, мчащаяся со скоростью 100 км/час и выше, создает ударную волну; она моментально забивает снегом легкие и дыхательные пути жертвы, и человек умирает от удушья. Люди, пережившие этот первый натиск, погибают, оказавшись внутри лавины, которая с огромной скоростью швыряет их на скалы, деревья и другие препятств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ff"/>
                </a:solidFill>
                <a:latin typeface="Calibri"/>
              </a:rPr>
              <a:t>Жертвы задыхаются и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cc3300"/>
                </a:solidFill>
                <a:latin typeface="Bookman Old Style"/>
              </a:rPr>
              <a:t>Чем глубже человек оказывается погребенным под лавиной, тем меньше шансов  достать его оттуда живым. Ведь если кубометр свежевыпавшего снега весит всего 60-70 кг, то слежавшаяся снежная масса лавины давит на тело с тяжестью более тонны, не дает дышать и просто расплющивает человек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cc3300"/>
                </a:solidFill>
                <a:latin typeface="Bookman Old Style"/>
              </a:rPr>
              <a:t>Многие жертвы лавины задыхаются уже под метровым слоем снега, так как к ним не поступает свежий возду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cc3300"/>
                </a:solidFill>
                <a:latin typeface="Bookman Old Style"/>
              </a:rPr>
              <a:t>Поэтому спасатели советуют в случае несчастья по возможности  прижать ладони к лицу, чтобы создать хотя бы небольшое пространство для воздуха, и тогда пострадавший, если ему повезет, может продержаться до прихода спасателей.</a:t>
            </a:r>
            <a:r>
              <a:rPr b="0" lang="ru-RU" sz="2200" spc="-1" strike="noStrike">
                <a:solidFill>
                  <a:srgbClr val="cc3300"/>
                </a:solidFill>
                <a:latin typeface="Bookman Old Style"/>
              </a:rPr>
              <a:t> </a:t>
            </a:r>
            <a:r>
              <a:rPr b="1" i="1" lang="ru-RU" sz="2200" spc="-1" strike="noStrike">
                <a:solidFill>
                  <a:srgbClr val="cc3300"/>
                </a:solidFill>
                <a:latin typeface="Bookman Old Style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179280" y="189000"/>
            <a:ext cx="8748720" cy="1081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ff"/>
                </a:solidFill>
                <a:latin typeface="Arial"/>
              </a:rPr>
              <a:t>Жертвы задыхаются или бывают задавле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44000" cy="9414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Calibri"/>
              </a:rPr>
              <a:t>Счет идет на мину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563640" y="1600200"/>
            <a:ext cx="532908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Book Antiqua"/>
              </a:rPr>
              <a:t>Засыпанных лавиной людей разыскивают зондами. Делать это нужно быстро, так как через 20 минут половина пострадавших умирает. Шанс на спасение увеличивается, если спасатели и  жертвы имеют при себе «поисковые приборы для засыпанных», которые посылают и принимают сигнал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7" descr="счет идет на минуты"/>
          <p:cNvPicPr/>
          <p:nvPr/>
        </p:nvPicPr>
        <p:blipFill>
          <a:blip r:embed="rId3"/>
          <a:stretch/>
        </p:blipFill>
        <p:spPr>
          <a:xfrm>
            <a:off x="971640" y="1600200"/>
            <a:ext cx="2787480" cy="470844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Calibri"/>
              </a:rPr>
              <a:t>ЧТО НАДО ЗНАТЬ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44956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17375e"/>
                </a:solidFill>
                <a:uFillTx/>
                <a:latin typeface="Calibri"/>
              </a:rPr>
              <a:t>Лавиноопасное врем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течение 3-5 суток после сильного снегопа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тепель после моро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льный вете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есной с 12 до 18 час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356000" y="981000"/>
            <a:ext cx="4788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17375e"/>
                </a:solidFill>
                <a:uFillTx/>
                <a:latin typeface="Calibri"/>
              </a:rPr>
              <a:t>Признаки лавиноопас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рутизна склона от 20 до 50 градус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сутствие древесной и кустарниковой раститель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знаки ранее сходивших лав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Катышк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нежные карнизы и греб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6" descr="признаки"/>
          <p:cNvPicPr/>
          <p:nvPr/>
        </p:nvPicPr>
        <p:blipFill>
          <a:blip r:embed="rId2"/>
          <a:stretch/>
        </p:blipFill>
        <p:spPr>
          <a:xfrm>
            <a:off x="179280" y="4437000"/>
            <a:ext cx="1812960" cy="2232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снежн карнизы"/>
          <p:cNvPicPr/>
          <p:nvPr/>
        </p:nvPicPr>
        <p:blipFill>
          <a:blip r:embed="rId3"/>
          <a:stretch/>
        </p:blipFill>
        <p:spPr>
          <a:xfrm>
            <a:off x="2050920" y="4653000"/>
            <a:ext cx="22258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Calibri"/>
              </a:rPr>
              <a:t>ЛАВИНА НАСТИГ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58435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Избавься от всего, что может служить «парусом» (лыжи, доска, палк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Не сопротивляйся лавине, а попробуй «выплыть» на поверх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При замедлении хода сгруппируйся закрыв ро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После остановки определи верх и начинай освобождать пространство, не вытягивая ног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4" descr="{283401A6-149E-4DA1-8397-C28B6176D8D7}"/>
          <p:cNvPicPr/>
          <p:nvPr/>
        </p:nvPicPr>
        <p:blipFill>
          <a:blip r:embed="rId2"/>
          <a:stretch/>
        </p:blipFill>
        <p:spPr>
          <a:xfrm>
            <a:off x="6732720" y="907920"/>
            <a:ext cx="2411280" cy="19321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{B9237126-5EF5-420B-9872-06144768B473}"/>
          <p:cNvPicPr/>
          <p:nvPr/>
        </p:nvPicPr>
        <p:blipFill>
          <a:blip r:embed="rId3"/>
          <a:stretch/>
        </p:blipFill>
        <p:spPr>
          <a:xfrm>
            <a:off x="6622920" y="4581360"/>
            <a:ext cx="2521080" cy="20196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{A9A511B7-D422-4CF7-AE7C-4B7ED5F4B3F7}"/>
          <p:cNvPicPr/>
          <p:nvPr/>
        </p:nvPicPr>
        <p:blipFill>
          <a:blip r:embed="rId4"/>
          <a:stretch/>
        </p:blipFill>
        <p:spPr>
          <a:xfrm>
            <a:off x="6012000" y="2492280"/>
            <a:ext cx="259236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1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Calibri"/>
              </a:rPr>
              <a:t>СНЕГ, СНЕГ, СНЕГ, СНЕГ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755640" y="1239840"/>
            <a:ext cx="7993080" cy="22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7375e"/>
                </a:solidFill>
                <a:latin typeface="Calibri"/>
              </a:rPr>
              <a:t>Свежевыпавший снег кажется нам легким, как пух, его кубометр весит всего 50-60 к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7375e"/>
                </a:solidFill>
                <a:latin typeface="Calibri"/>
              </a:rPr>
              <a:t>Кубометр слежавшегося снега весит уже 300-400 к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7375e"/>
                </a:solidFill>
                <a:latin typeface="Calibri"/>
              </a:rPr>
              <a:t>Весенний, насыщенный водой, тот же кубометр становиться тяжелее почти в два раз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ffff"/>
                </a:solidFill>
                <a:latin typeface="Calibri"/>
              </a:rPr>
              <a:t>СНЕГ – ОПАСНОСТЬ? ДА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Чем опасен снег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Лави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Снежные карнизы и надув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Образование наледей и сосуле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Скрывает опас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Затрудняет движение транспор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Причина гололе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4" descr="лавина"/>
          <p:cNvPicPr/>
          <p:nvPr/>
        </p:nvPicPr>
        <p:blipFill>
          <a:blip r:embed="rId2"/>
          <a:stretch/>
        </p:blipFill>
        <p:spPr>
          <a:xfrm>
            <a:off x="6372360" y="5013360"/>
            <a:ext cx="2265120" cy="1844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сн карниз"/>
          <p:cNvPicPr/>
          <p:nvPr/>
        </p:nvPicPr>
        <p:blipFill>
          <a:blip r:embed="rId3"/>
          <a:stretch/>
        </p:blipFill>
        <p:spPr>
          <a:xfrm>
            <a:off x="0" y="5013360"/>
            <a:ext cx="1387440" cy="1844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последств"/>
          <p:cNvPicPr/>
          <p:nvPr/>
        </p:nvPicPr>
        <p:blipFill>
          <a:blip r:embed="rId4"/>
          <a:stretch/>
        </p:blipFill>
        <p:spPr>
          <a:xfrm>
            <a:off x="3780000" y="5021280"/>
            <a:ext cx="2447640" cy="1836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сосульки"/>
          <p:cNvPicPr/>
          <p:nvPr/>
        </p:nvPicPr>
        <p:blipFill>
          <a:blip r:embed="rId5"/>
          <a:stretch/>
        </p:blipFill>
        <p:spPr>
          <a:xfrm>
            <a:off x="1476360" y="4975200"/>
            <a:ext cx="230832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58ed5"/>
                </a:solidFill>
                <a:latin typeface="Calibri"/>
              </a:rPr>
              <a:t>ЛАВИ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384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7375e"/>
                </a:solidFill>
                <a:latin typeface="Calibri"/>
              </a:rPr>
              <a:t>Осов</a:t>
            </a: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снежный оползень. У него нет определенного канала схода. Часто снежный склон протяженностью в сотни метров отрывается и скользит вниз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7375e"/>
                </a:solidFill>
                <a:latin typeface="Calibri"/>
              </a:rPr>
              <a:t>Лотковые лавины</a:t>
            </a: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несут снег по строго определенному руслу, безлесным углублениям в склонах, лотка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7375e"/>
                </a:solidFill>
                <a:latin typeface="Calibri"/>
              </a:rPr>
              <a:t>Прыгающие лавины</a:t>
            </a: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свободно падают на дно долины через отвесные участки скал или льд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4" descr="1171970830_lavina"/>
          <p:cNvPicPr/>
          <p:nvPr/>
        </p:nvPicPr>
        <p:blipFill>
          <a:blip r:embed="rId2"/>
          <a:stretch/>
        </p:blipFill>
        <p:spPr>
          <a:xfrm>
            <a:off x="4716360" y="4005360"/>
            <a:ext cx="3816360" cy="2531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схема лавин"/>
          <p:cNvPicPr/>
          <p:nvPr/>
        </p:nvPicPr>
        <p:blipFill>
          <a:blip r:embed="rId3"/>
          <a:stretch/>
        </p:blipFill>
        <p:spPr>
          <a:xfrm>
            <a:off x="4716360" y="1125360"/>
            <a:ext cx="3816360" cy="2811600"/>
          </a:xfrm>
          <a:prstGeom prst="rect">
            <a:avLst/>
          </a:prstGeom>
          <a:ln w="0">
            <a:noFill/>
          </a:ln>
        </p:spPr>
      </p:pic>
      <p:pic>
        <p:nvPicPr>
          <p:cNvPr id="138" name="{CD967D23-E06D-4047-966B-A291164CF886}.avi" descr=""/>
          <p:cNvPicPr/>
          <p:nvPr/>
        </p:nvPicPr>
        <p:blipFill>
          <a:blip r:embed="rId4"/>
          <a:stretch/>
        </p:blipFill>
        <p:spPr>
          <a:xfrm>
            <a:off x="4716360" y="4005360"/>
            <a:ext cx="3816360" cy="28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7067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58ed5"/>
                </a:solidFill>
                <a:latin typeface="Calibri"/>
              </a:rPr>
              <a:t>КАК РОЖДАЮТСЯ ЛАВИН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4" descr="lavina1схема"/>
          <p:cNvPicPr/>
          <p:nvPr/>
        </p:nvPicPr>
        <p:blipFill>
          <a:blip r:embed="rId2"/>
          <a:stretch/>
        </p:blipFill>
        <p:spPr>
          <a:xfrm>
            <a:off x="250920" y="1413000"/>
            <a:ext cx="2482920" cy="517824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5"/>
          <p:cNvSpPr/>
          <p:nvPr/>
        </p:nvSpPr>
        <p:spPr>
          <a:xfrm>
            <a:off x="2771640" y="1169280"/>
            <a:ext cx="59770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c00000"/>
                </a:solidFill>
                <a:latin typeface="Calibri"/>
              </a:rPr>
              <a:t>Причины схода</a:t>
            </a:r>
            <a:r>
              <a:rPr b="1" lang="ru-RU" sz="2600" spc="-1" strike="noStrike">
                <a:solidFill>
                  <a:srgbClr val="c00000"/>
                </a:solidFill>
                <a:latin typeface="Calibri"/>
              </a:rPr>
              <a:t> снежной лавины</a:t>
            </a:r>
            <a:r>
              <a:rPr b="0" lang="ru-RU" sz="2600" spc="-1" strike="noStrike">
                <a:solidFill>
                  <a:srgbClr val="c00000"/>
                </a:solidFill>
                <a:latin typeface="Calibri"/>
              </a:rPr>
              <a:t> 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10253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0253f"/>
                </a:solidFill>
                <a:latin typeface="Calibri"/>
              </a:rPr>
              <a:t>длительный снегопад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10253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0253f"/>
                </a:solidFill>
                <a:latin typeface="Calibri"/>
              </a:rPr>
              <a:t>интенсивное таяние снега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10253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0253f"/>
                </a:solidFill>
                <a:latin typeface="Calibri"/>
              </a:rPr>
              <a:t>землетрясение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10253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0253f"/>
                </a:solidFill>
                <a:latin typeface="Calibri"/>
              </a:rPr>
              <a:t>взрывы вызывающие сотрясение горных склонов и колебания воздушной сред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10253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0253f"/>
                </a:solidFill>
                <a:latin typeface="Calibri"/>
              </a:rPr>
              <a:t>  </a:t>
            </a:r>
            <a:r>
              <a:rPr b="0" lang="ru-RU" sz="2600" spc="-1" strike="noStrike">
                <a:solidFill>
                  <a:srgbClr val="10253f"/>
                </a:solidFill>
                <a:latin typeface="Calibri"/>
              </a:rPr>
              <a:t>деятельность людей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лыжн"/>
          <p:cNvPicPr/>
          <p:nvPr/>
        </p:nvPicPr>
        <p:blipFill>
          <a:blip r:embed="rId3"/>
          <a:stretch/>
        </p:blipFill>
        <p:spPr>
          <a:xfrm>
            <a:off x="2627280" y="4581360"/>
            <a:ext cx="2160720" cy="20685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лыжник"/>
          <p:cNvPicPr/>
          <p:nvPr/>
        </p:nvPicPr>
        <p:blipFill>
          <a:blip r:embed="rId4"/>
          <a:srcRect l="0" t="0" r="-141" b="-940"/>
          <a:stretch/>
        </p:blipFill>
        <p:spPr>
          <a:xfrm>
            <a:off x="6804000" y="4535640"/>
            <a:ext cx="2340000" cy="21175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лыжник и лавина"/>
          <p:cNvPicPr/>
          <p:nvPr/>
        </p:nvPicPr>
        <p:blipFill>
          <a:blip r:embed="rId5"/>
          <a:stretch/>
        </p:blipFill>
        <p:spPr>
          <a:xfrm>
            <a:off x="4427640" y="4562640"/>
            <a:ext cx="2520720" cy="20872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44000" cy="10936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ffff"/>
                </a:solidFill>
                <a:latin typeface="Calibri"/>
              </a:rPr>
              <a:t>Развитие</a:t>
            </a:r>
            <a:r>
              <a:rPr b="1" i="1" lang="ru-RU" sz="4400" spc="-1" strike="noStrike">
                <a:solidFill>
                  <a:srgbClr val="ccffff"/>
                </a:solidFill>
                <a:latin typeface="Calibri"/>
              </a:rPr>
              <a:t> лави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57200" y="1600200"/>
          <a:ext cx="8075520" cy="4697280"/>
        </p:xfrm>
        <a:graphic>
          <a:graphicData uri="http://schemas.openxmlformats.org/drawingml/2006/table">
            <a:tbl>
              <a:tblPr/>
              <a:tblGrid>
                <a:gridCol w="2692440"/>
                <a:gridCol w="2790720"/>
                <a:gridCol w="2592360"/>
              </a:tblGrid>
              <a:tr h="22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17375e"/>
                          </a:solidFill>
                          <a:latin typeface="Verdana"/>
                        </a:rPr>
                        <a:t>Рыхлый снег скользит по слою более плотного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17375e"/>
                          </a:solidFill>
                          <a:latin typeface="Verdana"/>
                        </a:rPr>
                        <a:t>Разогнавшись, масса снега может подняться в воздух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17375e"/>
                          </a:solidFill>
                          <a:latin typeface="Verdana"/>
                        </a:rPr>
                        <a:t>Лавина набирает скорость, доходящую порой до </a:t>
                      </a:r>
                      <a:r>
                        <a:rPr b="1" lang="ru-RU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350 км/час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7" name="Picture 23" descr="Развитие лавины 3"/>
          <p:cNvPicPr/>
          <p:nvPr/>
        </p:nvPicPr>
        <p:blipFill>
          <a:blip r:embed="rId3"/>
          <a:stretch/>
        </p:blipFill>
        <p:spPr>
          <a:xfrm>
            <a:off x="6012000" y="1700280"/>
            <a:ext cx="2447640" cy="20890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4" descr="Развитие  лавины  1"/>
          <p:cNvPicPr/>
          <p:nvPr/>
        </p:nvPicPr>
        <p:blipFill>
          <a:blip r:embed="rId4"/>
          <a:stretch/>
        </p:blipFill>
        <p:spPr>
          <a:xfrm>
            <a:off x="468360" y="1700280"/>
            <a:ext cx="2519280" cy="2097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5" descr="Развитие лавины 2"/>
          <p:cNvPicPr/>
          <p:nvPr/>
        </p:nvPicPr>
        <p:blipFill>
          <a:blip r:embed="rId5"/>
          <a:stretch/>
        </p:blipFill>
        <p:spPr>
          <a:xfrm>
            <a:off x="3203640" y="1628640"/>
            <a:ext cx="244800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44000" cy="9414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Calibri"/>
              </a:rPr>
              <a:t>Сход сухой лави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211280" y="1557000"/>
            <a:ext cx="471492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Сухие лавины состоят из рыхлого снега и мчатся особенно стремительн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Начинаются они с не-больших снежных ополз-ней, но из-за сотрясения грунта и возникновения ударной волны быстро увеличивают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36" descr="1"/>
          <p:cNvPicPr/>
          <p:nvPr/>
        </p:nvPicPr>
        <p:blipFill>
          <a:blip r:embed="rId3"/>
          <a:stretch/>
        </p:blipFill>
        <p:spPr>
          <a:xfrm>
            <a:off x="439560" y="1600200"/>
            <a:ext cx="3718080" cy="492444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Calibri"/>
              </a:rPr>
              <a:t>КТО ГИБНЕТ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64000" y="1599840"/>
            <a:ext cx="3780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татистика жертв белой смерти утверждает, что почти половина их гибнет под </a:t>
            </a:r>
            <a:r>
              <a:rPr b="1" lang="ru-RU" sz="3000" spc="-1" strike="noStrike">
                <a:solidFill>
                  <a:srgbClr val="ffc000"/>
                </a:solidFill>
                <a:latin typeface="Calibri"/>
              </a:rPr>
              <a:t>небольшими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лавинами, которые проходят путь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000" spc="-1" strike="noStrike">
                <a:solidFill>
                  <a:srgbClr val="ffc000"/>
                </a:solidFill>
                <a:latin typeface="Calibri"/>
              </a:rPr>
              <a:t>не более 200</a:t>
            </a:r>
            <a:r>
              <a:rPr b="0" lang="ru-RU" sz="30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етров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4" descr="диагр смертей"/>
          <p:cNvPicPr/>
          <p:nvPr/>
        </p:nvPicPr>
        <p:blipFill>
          <a:blip r:embed="rId2"/>
          <a:stretch/>
        </p:blipFill>
        <p:spPr>
          <a:xfrm>
            <a:off x="0" y="1125360"/>
            <a:ext cx="55800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Прямоугольник 1"/>
          <p:cNvSpPr/>
          <p:nvPr/>
        </p:nvSpPr>
        <p:spPr>
          <a:xfrm>
            <a:off x="755640" y="1197000"/>
            <a:ext cx="7561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46c0a"/>
                </a:solidFill>
                <a:latin typeface="Bookman Old Style"/>
              </a:rPr>
              <a:t>Лавина может нести со склона до миллиона тонн снега и гнать перед собой воздушную ударную волну, которая, как при взрыве бомбы, уничтожает все на своем пути. Кто встретится ей на дороге, будет раздавле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9T16:35:47Z</dcterms:created>
  <dc:creator>Сережа</dc:creator>
  <dc:description/>
  <dc:language>en-US</dc:language>
  <cp:lastModifiedBy>Сережа</cp:lastModifiedBy>
  <dcterms:modified xsi:type="dcterms:W3CDTF">2013-01-09T17:10:50Z</dcterms:modified>
  <cp:revision>4</cp:revision>
  <dc:subject/>
  <dc:title>Слайд 1</dc:title>
</cp:coreProperties>
</file>