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D27-F2A1-48D5-B736-D5DE3FE6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A2A-6CE7-486E-A0C6-67DACE35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D68-B744-4A33-AB86-FE653B8C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C01-A399-42C0-9786-F5589C09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8577-DAF0-4651-A76E-9BA4C4DA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7660-D534-49BE-8DB3-1626AABD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020-DFD9-46A7-9C65-CE86B23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9BF-6D93-4F94-BB34-74B2326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0A9C-A800-410F-89EA-A94BC717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61E-3E96-47F5-A74D-753D2961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20A8-AFEE-424D-9B4C-74AED09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117-E6C4-4371-8E2A-4B0AA20D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F3A8-5B93-45FA-B547-E22A3BF0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AD7F-B7EA-4E4A-9888-488E2D4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B14F-1892-4CC9-8521-B35D9649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68A-DCE2-4B49-B344-F2031091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8BA-AD86-4AA1-9E34-5EC9608E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6D9F-67C5-40BA-BBD8-81FEDE6F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6480-5C6D-4F7D-A798-092C7C54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9951-4866-427A-8532-0706AFDA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1AA4-882B-4B93-907B-A306A93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5A78-A42F-482F-B22E-A74678FC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471-3BBC-44E7-B2FA-4D34A887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C5A43-EC6F-4ACD-9D59-7ABE386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C894-18DE-4D89-B092-76FF64A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D69F9-5405-4E9C-947F-50DCC872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EF38-9C80-40CA-B679-D690D5D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9573-AAA9-431A-A1CD-F3D9E65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84F2-5ACB-4A19-910C-453DDD0E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2CB9-7939-4F1F-BBAF-49EDF68F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9B1-2B9A-436B-8F33-063F6A89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466-7A11-4131-BF1E-DE98F7FB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A75-EAFC-41E9-B2EA-A1F851CA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9D0-CCCD-4ECA-832D-865B86D4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F43-8CC0-42D9-81EC-AAF2048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01F-CE61-4DF4-B239-AD179BF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625-9E9C-47EA-A930-51E6451B9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B806-88E7-4F82-9E6E-B3C826E18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ED74-B939-4586-833E-23107B6B4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2" descr=""/>
          <p:cNvPicPr/>
          <p:nvPr/>
        </p:nvPicPr>
        <p:blipFill>
          <a:blip r:embed="rId2"/>
          <a:stretch/>
        </p:blipFill>
        <p:spPr>
          <a:xfrm>
            <a:off x="2335320" y="1878120"/>
            <a:ext cx="5486400" cy="19018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2268360" y="83664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2771640" y="4508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Урок ОБЖ     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1476360" y="620640"/>
            <a:ext cx="6264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Большинство жертв схода лавин погибает очень скоро, так как снежная стена, мчащаяся со скоростью 100 км/час и выше, создает ударную волну; она моментально забивает снегом легкие и дыхательные пути жертвы, и человек умирает от удушья. Люди, пережившие этот первый натиск, погибают, оказавшись внутри лавины, которая с огромной скоростью швыряет их на скалы, деревья и другие препят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alibri"/>
              </a:rPr>
              <a:t>Жертвы задыхаются 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Чем глубже человек оказывается погребенным под лавиной, тем меньше шансов  достать его оттуда живым. Ведь если кубометр свежевыпавшего снега весит всего 60-70 кг, то слежавшаяся снежная масса лавины давит на тело с тяжестью более тонны, не дает дышать и просто расплющивает челове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Многие жертвы лавины задыхаются уже под метровым слоем снега, так как к ним не поступает свежий возду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Поэтому спасатели советуют в случае несчастья по возможности  прижать ладони к лицу, чтобы создать хотя бы небольшое пространство для воздуха, и тогда пострадавший, если ему повезет, может продержаться до прихода спасателей.</a:t>
            </a:r>
            <a:r>
              <a:rPr b="0" lang="ru-RU" sz="22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189000"/>
            <a:ext cx="8748720" cy="108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Жертвы задыхаются или бывают задавл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44000" cy="9414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Счет идет на мину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63640" y="1600200"/>
            <a:ext cx="53290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 Antiqua"/>
              </a:rPr>
              <a:t>Засыпанных лавиной людей разыскивают зондами. Делать это нужно быстро, так как через 20 минут половина пострадавших умирает. Шанс на спасение увеличивается, если спасатели и  жертвы имеют при себе «поисковые приборы для засыпанных», которые посылают и принимают сигн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счет идет на минуты"/>
          <p:cNvPicPr/>
          <p:nvPr/>
        </p:nvPicPr>
        <p:blipFill>
          <a:blip r:embed="rId3"/>
          <a:stretch/>
        </p:blipFill>
        <p:spPr>
          <a:xfrm>
            <a:off x="971640" y="1600200"/>
            <a:ext cx="2787480" cy="4708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ЧТО НАДО ЗН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Лавиноопас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чение 3-5 суток после сильного снего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тепель после мо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льный ве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ной с 12 до 18 ча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56000" y="981000"/>
            <a:ext cx="4788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Признаки лавино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тизна склона от 20 до 50 граду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древесной и кустарниковой расти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ранее сходивших лав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атыш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ежные карнизы и греб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признаки"/>
          <p:cNvPicPr/>
          <p:nvPr/>
        </p:nvPicPr>
        <p:blipFill>
          <a:blip r:embed="rId2"/>
          <a:stretch/>
        </p:blipFill>
        <p:spPr>
          <a:xfrm>
            <a:off x="179280" y="4437000"/>
            <a:ext cx="181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снежн карнизы"/>
          <p:cNvPicPr/>
          <p:nvPr/>
        </p:nvPicPr>
        <p:blipFill>
          <a:blip r:embed="rId3"/>
          <a:stretch/>
        </p:blipFill>
        <p:spPr>
          <a:xfrm>
            <a:off x="2050920" y="4653000"/>
            <a:ext cx="2225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ЛАВИНА НАСТИГ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5843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Избавься от всего, что может служить «парусом» (лыжи, доска, пал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е сопротивляйся лавине, а попробуй «выплыть» на поверх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ри замедлении хода сгруппируйся закрыв 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сле остановки определи верх и начинай освобождать пространство, не вытягивая н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{283401A6-149E-4DA1-8397-C28B6176D8D7}"/>
          <p:cNvPicPr/>
          <p:nvPr/>
        </p:nvPicPr>
        <p:blipFill>
          <a:blip r:embed="rId2"/>
          <a:stretch/>
        </p:blipFill>
        <p:spPr>
          <a:xfrm>
            <a:off x="6732720" y="907920"/>
            <a:ext cx="2411280" cy="193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{B9237126-5EF5-420B-9872-06144768B473}"/>
          <p:cNvPicPr/>
          <p:nvPr/>
        </p:nvPicPr>
        <p:blipFill>
          <a:blip r:embed="rId3"/>
          <a:stretch/>
        </p:blipFill>
        <p:spPr>
          <a:xfrm>
            <a:off x="6622920" y="4581360"/>
            <a:ext cx="2521080" cy="2019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{A9A511B7-D422-4CF7-AE7C-4B7ED5F4B3F7}"/>
          <p:cNvPicPr/>
          <p:nvPr/>
        </p:nvPicPr>
        <p:blipFill>
          <a:blip r:embed="rId4"/>
          <a:stretch/>
        </p:blipFill>
        <p:spPr>
          <a:xfrm>
            <a:off x="6012000" y="2492280"/>
            <a:ext cx="2592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НЕГ, СНЕГ, СНЕГ, СНЕГ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55640" y="1239840"/>
            <a:ext cx="799308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вежевыпавший снег кажется нам легким, как пух, его кубометр весит всего 50-6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Кубометр слежавшегося снега весит уже 300-40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есенний, насыщенный водой, тот же кубометр становиться тяжелее почти в два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Calibri"/>
              </a:rPr>
              <a:t>СНЕГ – ОПАСНОСТЬ? Д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Чем опасен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Лав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нежные карнизы и надув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Образование наледей и сосул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крывает 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Затрудняет движение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ричина голол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лавина"/>
          <p:cNvPicPr/>
          <p:nvPr/>
        </p:nvPicPr>
        <p:blipFill>
          <a:blip r:embed="rId2"/>
          <a:stretch/>
        </p:blipFill>
        <p:spPr>
          <a:xfrm>
            <a:off x="6372360" y="5013360"/>
            <a:ext cx="2265120" cy="184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сн карниз"/>
          <p:cNvPicPr/>
          <p:nvPr/>
        </p:nvPicPr>
        <p:blipFill>
          <a:blip r:embed="rId3"/>
          <a:stretch/>
        </p:blipFill>
        <p:spPr>
          <a:xfrm>
            <a:off x="0" y="5013360"/>
            <a:ext cx="138744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последств"/>
          <p:cNvPicPr/>
          <p:nvPr/>
        </p:nvPicPr>
        <p:blipFill>
          <a:blip r:embed="rId4"/>
          <a:stretch/>
        </p:blipFill>
        <p:spPr>
          <a:xfrm>
            <a:off x="3780000" y="5021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сосульки"/>
          <p:cNvPicPr/>
          <p:nvPr/>
        </p:nvPicPr>
        <p:blipFill>
          <a:blip r:embed="rId5"/>
          <a:stretch/>
        </p:blipFill>
        <p:spPr>
          <a:xfrm>
            <a:off x="1476360" y="4975200"/>
            <a:ext cx="2308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Осов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нежный оползень. У него нет определенного канала схода. Часто снежный склон протяженностью в сотни метров отрывается и скользит вни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Лотковые лавин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сут снег по строго определенному руслу, безлесным углублениям в склонах, лотк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Прыгающие лавин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вободно падают на дно долины через отвесные участки скал или ль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1171970830_lavina"/>
          <p:cNvPicPr/>
          <p:nvPr/>
        </p:nvPicPr>
        <p:blipFill>
          <a:blip r:embed="rId2"/>
          <a:stretch/>
        </p:blipFill>
        <p:spPr>
          <a:xfrm>
            <a:off x="4716360" y="4005360"/>
            <a:ext cx="3816360" cy="253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схема лавин"/>
          <p:cNvPicPr/>
          <p:nvPr/>
        </p:nvPicPr>
        <p:blipFill>
          <a:blip r:embed="rId3"/>
          <a:stretch/>
        </p:blipFill>
        <p:spPr>
          <a:xfrm>
            <a:off x="4716360" y="1125360"/>
            <a:ext cx="3816360" cy="2811600"/>
          </a:xfrm>
          <a:prstGeom prst="rect">
            <a:avLst/>
          </a:prstGeom>
          <a:ln w="0">
            <a:noFill/>
          </a:ln>
        </p:spPr>
      </p:pic>
      <p:pic>
        <p:nvPicPr>
          <p:cNvPr id="138" name="{CD967D23-E06D-4047-966B-A291164CF886}.avi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6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КАК РОЖДАЮТСЯ ЛАВ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lavina1схема"/>
          <p:cNvPicPr/>
          <p:nvPr/>
        </p:nvPicPr>
        <p:blipFill>
          <a:blip r:embed="rId2"/>
          <a:stretch/>
        </p:blipFill>
        <p:spPr>
          <a:xfrm>
            <a:off x="250920" y="1413000"/>
            <a:ext cx="2482920" cy="5178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771640" y="1169280"/>
            <a:ext cx="5977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Причины схода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снежной лавины</a:t>
            </a: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длительный снегопа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интенсивное таяние снег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землетрясени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взрывы вызывающие сотрясение горных склонов и колебания воздушно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деятельность люд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ыжн"/>
          <p:cNvPicPr/>
          <p:nvPr/>
        </p:nvPicPr>
        <p:blipFill>
          <a:blip r:embed="rId3"/>
          <a:stretch/>
        </p:blipFill>
        <p:spPr>
          <a:xfrm>
            <a:off x="2627280" y="4581360"/>
            <a:ext cx="2160720" cy="2068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лыжник"/>
          <p:cNvPicPr/>
          <p:nvPr/>
        </p:nvPicPr>
        <p:blipFill>
          <a:blip r:embed="rId4"/>
          <a:srcRect l="0" t="0" r="-141" b="-940"/>
          <a:stretch/>
        </p:blipFill>
        <p:spPr>
          <a:xfrm>
            <a:off x="6804000" y="4535640"/>
            <a:ext cx="2340000" cy="2117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лыжник и лавина"/>
          <p:cNvPicPr/>
          <p:nvPr/>
        </p:nvPicPr>
        <p:blipFill>
          <a:blip r:embed="rId5"/>
          <a:stretch/>
        </p:blipFill>
        <p:spPr>
          <a:xfrm>
            <a:off x="4427640" y="4562640"/>
            <a:ext cx="2520720" cy="208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10936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ffff"/>
                </a:solidFill>
                <a:latin typeface="Calibri"/>
              </a:rPr>
              <a:t>Развитие</a:t>
            </a:r>
            <a:r>
              <a:rPr b="1" i="1" lang="ru-RU" sz="4400" spc="-1" strike="noStrike">
                <a:solidFill>
                  <a:srgbClr val="ccffff"/>
                </a:solidFill>
                <a:latin typeface="Calibri"/>
              </a:rPr>
              <a:t> 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075520" cy="4697280"/>
        </p:xfrm>
        <a:graphic>
          <a:graphicData uri="http://schemas.openxmlformats.org/drawingml/2006/table">
            <a:tbl>
              <a:tblPr/>
              <a:tblGrid>
                <a:gridCol w="2692440"/>
                <a:gridCol w="2790720"/>
                <a:gridCol w="259236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Рыхлый снег скользит по слою более плотн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Разогнавшись, масса снега может подняться в возду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Лавина набирает скорость, доходящую порой до 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50 км/ча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3" descr="Развитие лавины 3"/>
          <p:cNvPicPr/>
          <p:nvPr/>
        </p:nvPicPr>
        <p:blipFill>
          <a:blip r:embed="rId3"/>
          <a:stretch/>
        </p:blipFill>
        <p:spPr>
          <a:xfrm>
            <a:off x="6012000" y="1700280"/>
            <a:ext cx="2447640" cy="208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Развитие  лавины  1"/>
          <p:cNvPicPr/>
          <p:nvPr/>
        </p:nvPicPr>
        <p:blipFill>
          <a:blip r:embed="rId4"/>
          <a:stretch/>
        </p:blipFill>
        <p:spPr>
          <a:xfrm>
            <a:off x="468360" y="1700280"/>
            <a:ext cx="2519280" cy="2097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Развитие лавины 2"/>
          <p:cNvPicPr/>
          <p:nvPr/>
        </p:nvPicPr>
        <p:blipFill>
          <a:blip r:embed="rId5"/>
          <a:stretch/>
        </p:blipFill>
        <p:spPr>
          <a:xfrm>
            <a:off x="3203640" y="1628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9414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ход сухой 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11280" y="1557000"/>
            <a:ext cx="47149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Сухие лавины состоят из рыхлого снега и мчатся особенно стреми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Начинаются они с не-больших снежных ополз-ней, но из-за сотрясения грунта и возникновения ударной волны быстро увелич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6" descr="1"/>
          <p:cNvPicPr/>
          <p:nvPr/>
        </p:nvPicPr>
        <p:blipFill>
          <a:blip r:embed="rId3"/>
          <a:stretch/>
        </p:blipFill>
        <p:spPr>
          <a:xfrm>
            <a:off x="439560" y="1600200"/>
            <a:ext cx="3718080" cy="4924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КТО ГИБНЕ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64000" y="1599840"/>
            <a:ext cx="378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тистика жертв белой смерти утверждает, что почти половина их гибнет под </a:t>
            </a:r>
            <a:r>
              <a:rPr b="1" lang="ru-RU" sz="3000" spc="-1" strike="noStrike">
                <a:solidFill>
                  <a:srgbClr val="ffc000"/>
                </a:solidFill>
                <a:latin typeface="Calibri"/>
              </a:rPr>
              <a:t>небольшим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авинами, которые проходят пу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c000"/>
                </a:solidFill>
                <a:latin typeface="Calibri"/>
              </a:rPr>
              <a:t>не более 200</a:t>
            </a:r>
            <a:r>
              <a:rPr b="0" lang="ru-RU" sz="3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р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диагр смертей"/>
          <p:cNvPicPr/>
          <p:nvPr/>
        </p:nvPicPr>
        <p:blipFill>
          <a:blip r:embed="rId2"/>
          <a:stretch/>
        </p:blipFill>
        <p:spPr>
          <a:xfrm>
            <a:off x="0" y="1125360"/>
            <a:ext cx="5580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755640" y="119700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Bookman Old Style"/>
              </a:rPr>
              <a:t>Лавина может нести со склона до миллиона тонн снега и гнать перед собой воздушную ударную волну, которая, как при взрыве бомбы, уничтожает все на своем пути. Кто встретится ей на дороге, будет раздавл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6:35:47Z</dcterms:created>
  <dc:creator>Сережа</dc:creator>
  <dc:description/>
  <dc:language>en-US</dc:language>
  <cp:lastModifiedBy>Сережа</cp:lastModifiedBy>
  <dcterms:modified xsi:type="dcterms:W3CDTF">2013-01-09T17:10:50Z</dcterms:modified>
  <cp:revision>4</cp:revision>
  <dc:subject/>
  <dc:title>Слайд 1</dc:title>
</cp:coreProperties>
</file>