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C3E-A1BD-4CB4-83BD-1078456B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506-7A6A-4EBA-AC5F-562D8FE1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84B-ED92-4D04-BC7C-6F6A0588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44D-55A9-4CE3-8FD9-FE9BF1BD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B90-0267-4C76-ADF5-C5E5821A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2EA1-98D8-409C-9F79-A8E2400F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7946-D20F-483D-B4A7-8CB83FB5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1FC7-86BB-4570-9CE0-E95A7BF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563-E292-48A4-9174-4A1AEE6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88BD-C361-4F54-B6D2-7E022C4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295F-A462-4A75-A377-17F6113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00B-A3BC-4B93-A8FD-8D94FE87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9761-D99C-4B1C-A9B7-9625D58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0843-DB9E-49A2-8668-4DB97DAB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A3A-A1B8-4DF2-A436-6BE82CC6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AA2-5494-4DBC-A66B-C052BACD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4D66-210C-42CD-B0B5-11AB4A25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951-EF8A-4187-8667-4A88020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6DF-036A-4E8D-937C-A4A8A38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744A-FDB7-4EA0-A25B-55BA212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949-EF6F-4C11-AE9B-84A05EDB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375-EF84-452F-B466-7DC99A80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D66-4BC2-4A51-8F7B-75DCFCA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3E3-7111-43B8-9699-2DB8CDB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D2F8-712D-41B4-BAC6-3FA53C3B6A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7BAE-32E8-450A-9FAA-F964C74252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Admin</cp:lastModifiedBy>
  <dcterms:modified xsi:type="dcterms:W3CDTF">2012-05-13T16:24:06Z</dcterms:modified>
  <cp:revision>34</cp:revision>
  <dc:subject/>
  <dc:title>Слайд 1</dc:title>
</cp:coreProperties>
</file>