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E5260-0720-4CBE-96EF-0205E5AF5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05249-C4AF-48FB-B337-E36E98F99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C0671-1563-4E7D-B88B-62CF01C91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F3CA7-F0C7-4C1A-8218-E02D292DD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3BEB0-8EFA-4A25-BDD1-837AC40F4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CA216-54CB-426E-9338-EC61A6274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E9CB7-49B7-4911-9A3C-AF89BB6BA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D186F-3C83-4DF7-B079-0813DACBE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61832-27C4-4BC8-B1B8-70B215218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DFAB0-4444-426F-A90F-EECC26634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13552-3B20-4023-9FC9-660EFD4B7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157D4-3D4D-4876-BD58-273DEED13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D5FBD-95EE-4A4E-AD3B-78E4C641C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20CC4-25CE-4660-ABBB-D6E7D98C5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9ECF1-92D6-4622-997B-2CA4330F6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BF80B-653F-4B3B-A4F7-450BD6575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26ECF-4AB4-4A63-BE88-61B3047C1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052C0-49A8-4BC0-8764-1F74EA9B3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D49AD-A8FF-4436-AB3A-260397F24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70A3B-C386-41F4-AA33-4AF776892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E90C6-E8CB-4269-9C1B-7FA898175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88846-5AD1-49F3-BD76-D0C3F86FE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14121-61D3-4D87-B1DD-A202083C8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61895-D07F-4C6F-A4B8-CB97274FB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>
                <a:gd name="textAreaLeft" fmla="*/ 0 w 7122960"/>
                <a:gd name="textAreaRight" fmla="*/ 7123320 w 7122960"/>
                <a:gd name="textAreaTop" fmla="*/ 0 h 1055520"/>
                <a:gd name="textAreaBottom" fmla="*/ 1055880 h 1055520"/>
              </a:gdLst>
              <a:ahLst/>
              <a:rect l="textAreaLeft" t="textAreaTop" r="textAreaRight" b="textAreaBottom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>
                <a:gd name="textAreaLeft" fmla="*/ 0 w 7242120"/>
                <a:gd name="textAreaRight" fmla="*/ 7242480 w 7242120"/>
                <a:gd name="textAreaTop" fmla="*/ 0 h 1903320"/>
                <a:gd name="textAreaBottom" fmla="*/ 1903680 h 1903320"/>
              </a:gdLst>
              <a:ahLst/>
              <a:rect l="textAreaLeft" t="textAreaTop" r="textAreaRight" b="textAreaBottom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A57F7-B3CE-498F-9197-D458BB66F7D3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>
                <a:gd name="textAreaLeft" fmla="*/ 0 w 8183520"/>
                <a:gd name="textAreaRight" fmla="*/ 8183880 w 8183520"/>
                <a:gd name="textAreaTop" fmla="*/ 0 h 3657600"/>
                <a:gd name="textAreaBottom" fmla="*/ 3657960 h 3657600"/>
              </a:gdLst>
              <a:ahLst/>
              <a:rect l="textAreaLeft" t="textAreaTop" r="textAreaRight" b="textAreaBottom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>
                <a:gd name="textAreaLeft" fmla="*/ 0 w 8458200"/>
                <a:gd name="textAreaRight" fmla="*/ 8458560 w 8458200"/>
                <a:gd name="textAreaTop" fmla="*/ 0 h 5856120"/>
                <a:gd name="textAreaBottom" fmla="*/ 5856480 h 5856120"/>
              </a:gdLst>
              <a:ahLst/>
              <a:rect l="textAreaLeft" t="textAreaTop" r="textAreaRight" b="textAreaBottom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56690-8E15-4437-945A-BEB55E53C3C1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0" descr="post-591-1245698642_thumb"/>
          <p:cNvPicPr/>
          <p:nvPr/>
        </p:nvPicPr>
        <p:blipFill>
          <a:blip r:embed="rId1"/>
          <a:stretch/>
        </p:blipFill>
        <p:spPr>
          <a:xfrm>
            <a:off x="0" y="-38160"/>
            <a:ext cx="9252000" cy="689616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ff3399"/>
                </a:solidFill>
                <a:latin typeface="Monotype Corsiva"/>
              </a:rPr>
              <a:t>Ландшафтный</a:t>
            </a:r>
            <a:r>
              <a:rPr b="0" i="1" lang="ru-RU" sz="4000" spc="-1" strike="noStrike">
                <a:solidFill>
                  <a:srgbClr val="ff3399"/>
                </a:solidFill>
                <a:latin typeface="Monotype Corsiva"/>
              </a:rPr>
              <a:t> дизайн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-360" y="4984560"/>
            <a:ext cx="4259160" cy="187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99"/>
                </a:solidFill>
                <a:latin typeface="Tahoma"/>
              </a:rPr>
              <a:t>Выполнено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99"/>
                </a:solidFill>
                <a:latin typeface="Tahoma"/>
              </a:rPr>
              <a:t>Курепнёвой Юлие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Прямоугольник 4"/>
          <p:cNvSpPr/>
          <p:nvPr/>
        </p:nvSpPr>
        <p:spPr>
          <a:xfrm>
            <a:off x="3857760" y="6357960"/>
            <a:ext cx="2286000" cy="500040"/>
          </a:xfrm>
          <a:prstGeom prst="rect">
            <a:avLst/>
          </a:prstGeom>
          <a:solidFill>
            <a:srgbClr val="ff330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rezentacii.co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3399"/>
                </a:solidFill>
                <a:latin typeface="Monotype Corsiva"/>
              </a:rPr>
              <a:t>Дизайнерские</a:t>
            </a:r>
            <a:r>
              <a:rPr b="0" lang="ru-RU" sz="5400" spc="-1" strike="noStrike">
                <a:solidFill>
                  <a:srgbClr val="ffffcc"/>
                </a:solidFill>
                <a:latin typeface="Monotype Corsiva"/>
              </a:rPr>
              <a:t> </a:t>
            </a:r>
            <a:r>
              <a:rPr b="1" lang="ru-RU" sz="6000" spc="-1" strike="noStrike">
                <a:solidFill>
                  <a:srgbClr val="ff3399"/>
                </a:solidFill>
                <a:latin typeface="Monotype Corsiva"/>
              </a:rPr>
              <a:t>решения</a:t>
            </a:r>
            <a:endParaRPr b="0" lang="en-US" sz="6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21" name="Picture 12" descr="0_39f_167ad173_XL"/>
          <p:cNvPicPr/>
          <p:nvPr/>
        </p:nvPicPr>
        <p:blipFill>
          <a:blip r:embed="rId1"/>
          <a:stretch/>
        </p:blipFill>
        <p:spPr>
          <a:xfrm>
            <a:off x="179280" y="1916280"/>
            <a:ext cx="4319640" cy="47527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3" descr="curb-appeal-fall_house-e1286394205512"/>
          <p:cNvPicPr/>
          <p:nvPr/>
        </p:nvPicPr>
        <p:blipFill>
          <a:blip r:embed="rId2"/>
          <a:stretch/>
        </p:blipFill>
        <p:spPr>
          <a:xfrm>
            <a:off x="4643280" y="1557360"/>
            <a:ext cx="4500720" cy="453564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24000" y="244080"/>
            <a:ext cx="8496000" cy="232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000" spc="-1" strike="noStrike">
                <a:solidFill>
                  <a:srgbClr val="ff3399"/>
                </a:solidFill>
                <a:latin typeface="Monotype Corsiva"/>
              </a:rPr>
              <a:t>Использованные материалы</a:t>
            </a:r>
            <a:br>
              <a:rPr sz="6000"/>
            </a:br>
            <a:endParaRPr b="0" lang="en-US" sz="6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11280" y="1844280"/>
            <a:ext cx="8007120" cy="86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льзовалась материалами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нтернет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5" name="Picture 4" descr="137(1)"/>
          <p:cNvPicPr/>
          <p:nvPr/>
        </p:nvPicPr>
        <p:blipFill>
          <a:blip r:embed="rId1"/>
          <a:stretch/>
        </p:blipFill>
        <p:spPr>
          <a:xfrm>
            <a:off x="1763640" y="2781360"/>
            <a:ext cx="5832720" cy="36208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3399"/>
                </a:solidFill>
                <a:latin typeface="Monotype Corsiva"/>
              </a:rPr>
              <a:t>Ландшафтный дизайн</a:t>
            </a:r>
            <a:r>
              <a:rPr b="1" i="1" lang="ru-RU" sz="6000" spc="-1" strike="noStrike">
                <a:solidFill>
                  <a:srgbClr val="336600"/>
                </a:solidFill>
                <a:latin typeface="Monotype Corsiva"/>
              </a:rPr>
              <a:t> </a:t>
            </a:r>
            <a:r>
              <a:rPr b="1" i="1" lang="ru-RU" sz="6000" spc="-1" strike="noStrike">
                <a:solidFill>
                  <a:srgbClr val="ff3399"/>
                </a:solidFill>
                <a:latin typeface="Monotype Corsiva"/>
              </a:rPr>
              <a:t>- </a:t>
            </a:r>
            <a:endParaRPr b="0" lang="en-US" sz="6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11280" y="1197000"/>
            <a:ext cx="8229600" cy="341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это одновременно и искусство и работа по озеленению и благоустройству территории включающее в себя проектирование и создание садово-парковых насаждений, газонов.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4" name="Picture 9" descr="6175"/>
          <p:cNvPicPr/>
          <p:nvPr/>
        </p:nvPicPr>
        <p:blipFill>
          <a:blip r:embed="rId1"/>
          <a:stretch/>
        </p:blipFill>
        <p:spPr>
          <a:xfrm>
            <a:off x="5219640" y="3716280"/>
            <a:ext cx="3635280" cy="27273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0" descr="landscape6"/>
          <p:cNvPicPr/>
          <p:nvPr/>
        </p:nvPicPr>
        <p:blipFill>
          <a:blip r:embed="rId2"/>
          <a:stretch/>
        </p:blipFill>
        <p:spPr>
          <a:xfrm>
            <a:off x="108000" y="3448080"/>
            <a:ext cx="4824360" cy="322416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50752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000" spc="-1" strike="noStrike">
                <a:solidFill>
                  <a:srgbClr val="ff3399"/>
                </a:solidFill>
                <a:latin typeface="Monotype Corsiva"/>
              </a:rPr>
              <a:t>Стили ландшафтного дизайна:</a:t>
            </a:r>
            <a:endParaRPr b="0" lang="en-US" sz="6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97" name="Picture 4" descr="13"/>
          <p:cNvPicPr/>
          <p:nvPr/>
        </p:nvPicPr>
        <p:blipFill>
          <a:blip r:embed="rId1"/>
          <a:stretch/>
        </p:blipFill>
        <p:spPr>
          <a:xfrm>
            <a:off x="826920" y="1628640"/>
            <a:ext cx="7561440" cy="522936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3399"/>
                </a:solidFill>
                <a:latin typeface="Monotype Corsiva"/>
              </a:rPr>
              <a:t>Регулярный стиль</a:t>
            </a:r>
            <a:br>
              <a:rPr sz="6000"/>
            </a:br>
            <a:endParaRPr b="0" lang="en-US" sz="6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5364000" y="1773360"/>
            <a:ext cx="3600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сад имеет ярко выраженную основную ось композиции — стержень всего распланированного пространства, расположение элементов и конструкций подчинено строгой геометрии и симметрии.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Picture 7" descr="100"/>
          <p:cNvPicPr/>
          <p:nvPr/>
        </p:nvPicPr>
        <p:blipFill>
          <a:blip r:embed="rId1"/>
          <a:stretch/>
        </p:blipFill>
        <p:spPr>
          <a:xfrm>
            <a:off x="179280" y="1798560"/>
            <a:ext cx="4969080" cy="479916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3399"/>
                </a:solidFill>
                <a:latin typeface="Monotype Corsiva"/>
              </a:rPr>
              <a:t>Английский (пейзажный) сад</a:t>
            </a:r>
            <a:br>
              <a:rPr sz="4000"/>
            </a:br>
            <a:endParaRPr b="0" lang="en-US" sz="6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608000" y="2060640"/>
            <a:ext cx="453564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редполагает естественность в размещении элементов и большую плавность линий, имитируя природный ландшафт: извилистые дорожки, живописные водоемы, "натуральные" композиции из растений, которые высаживаются ярусами (деревья, кустарники, подлесок, цветы)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3" name="Picture 10" descr="landscape"/>
          <p:cNvPicPr/>
          <p:nvPr/>
        </p:nvPicPr>
        <p:blipFill>
          <a:blip r:embed="rId1"/>
          <a:stretch/>
        </p:blipFill>
        <p:spPr>
          <a:xfrm>
            <a:off x="395280" y="2060640"/>
            <a:ext cx="4321080" cy="45576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54936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3399"/>
                </a:solidFill>
                <a:latin typeface="Monotype Corsiva"/>
              </a:rPr>
              <a:t>Китайский сад</a:t>
            </a:r>
            <a:br>
              <a:rPr sz="6000"/>
            </a:br>
            <a:endParaRPr b="0" lang="en-US" sz="6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79280" y="1125000"/>
            <a:ext cx="4918320" cy="23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Это, прежде всего пейзажный сад, где отдельные архитектурные формы несут символическое значение.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Устройство ландшафта китайского сада подчинено законам фэн-шуй – законам гармонии и баланса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6" name="Picture 9" descr="438b1b7b7b4e"/>
          <p:cNvPicPr/>
          <p:nvPr/>
        </p:nvPicPr>
        <p:blipFill>
          <a:blip r:embed="rId1"/>
          <a:stretch/>
        </p:blipFill>
        <p:spPr>
          <a:xfrm>
            <a:off x="250920" y="3500280"/>
            <a:ext cx="4174920" cy="31276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yapon"/>
          <p:cNvPicPr/>
          <p:nvPr/>
        </p:nvPicPr>
        <p:blipFill>
          <a:blip r:embed="rId2"/>
          <a:stretch/>
        </p:blipFill>
        <p:spPr>
          <a:xfrm>
            <a:off x="4356000" y="2852640"/>
            <a:ext cx="4608720" cy="338472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3399"/>
                </a:solidFill>
                <a:latin typeface="Monotype Corsiva"/>
              </a:rPr>
              <a:t>Японский стиль</a:t>
            </a:r>
            <a:br>
              <a:rPr sz="4000"/>
            </a:b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64000" y="1557000"/>
            <a:ext cx="378000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В японском саду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на ограниченном пространстве создается модель мира; она представляет собой уменьшенную копию пейзажа. Основными элементами таких садов являются небольшие озера с арочными мостиками, павильоны с черепичными крышами, композиции из натуральных камней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0" name="Picture 13" descr="0_1c92b_e702ed24_XL"/>
          <p:cNvPicPr/>
          <p:nvPr/>
        </p:nvPicPr>
        <p:blipFill>
          <a:blip r:embed="rId1"/>
          <a:stretch/>
        </p:blipFill>
        <p:spPr>
          <a:xfrm>
            <a:off x="179280" y="907920"/>
            <a:ext cx="3888000" cy="29163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4" descr="0c0d61b4f588"/>
          <p:cNvPicPr/>
          <p:nvPr/>
        </p:nvPicPr>
        <p:blipFill>
          <a:blip r:embed="rId2"/>
          <a:stretch/>
        </p:blipFill>
        <p:spPr>
          <a:xfrm>
            <a:off x="324000" y="3260880"/>
            <a:ext cx="5292720" cy="359712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3399"/>
                </a:solidFill>
                <a:latin typeface="Monotype Corsiva"/>
              </a:rPr>
              <a:t>Стиль кантри</a:t>
            </a: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89200" y="1628280"/>
            <a:ext cx="375444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обрал в себя яркие пятна цветников, заброшенную скамейку в старом фруктовом саду, душистые заросли сирени и жасмина, залитые солнцем зеленые лужайки - в общем, все то, что дарит нашей душе ощущение радости и безмятежности и так привлекает в загородной жизни. Именно это направление ландшафтного дизайна наиболее близко менталитету и наиболее приемлемо для большинства наших отечественных садоводов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Picture 13" descr="17"/>
          <p:cNvPicPr/>
          <p:nvPr/>
        </p:nvPicPr>
        <p:blipFill>
          <a:blip r:embed="rId1"/>
          <a:stretch/>
        </p:blipFill>
        <p:spPr>
          <a:xfrm>
            <a:off x="468360" y="3284640"/>
            <a:ext cx="4537080" cy="3330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4" descr="0a1aaaaaa"/>
          <p:cNvPicPr/>
          <p:nvPr/>
        </p:nvPicPr>
        <p:blipFill>
          <a:blip r:embed="rId2"/>
          <a:stretch/>
        </p:blipFill>
        <p:spPr>
          <a:xfrm>
            <a:off x="179280" y="1413000"/>
            <a:ext cx="3348000" cy="237636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3399"/>
                </a:solidFill>
                <a:latin typeface="Monotype Corsiva"/>
              </a:rPr>
              <a:t>Немного</a:t>
            </a:r>
            <a:r>
              <a:rPr b="0" lang="ru-RU" sz="6000" spc="-1" strike="noStrike">
                <a:solidFill>
                  <a:srgbClr val="ff3399"/>
                </a:solidFill>
                <a:latin typeface="Monotype Corsiva"/>
              </a:rPr>
              <a:t> </a:t>
            </a:r>
            <a:r>
              <a:rPr b="1" lang="ru-RU" sz="6000" spc="-1" strike="noStrike">
                <a:solidFill>
                  <a:srgbClr val="ff3399"/>
                </a:solidFill>
                <a:latin typeface="Monotype Corsiva"/>
              </a:rPr>
              <a:t>фантазии…</a:t>
            </a:r>
            <a:endParaRPr b="0" lang="en-US" sz="6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7" name="Picture 10" descr="34"/>
          <p:cNvPicPr/>
          <p:nvPr/>
        </p:nvPicPr>
        <p:blipFill>
          <a:blip r:embed="rId1"/>
          <a:stretch/>
        </p:blipFill>
        <p:spPr>
          <a:xfrm>
            <a:off x="250920" y="1700280"/>
            <a:ext cx="3809880" cy="38098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1" descr="u_846864626"/>
          <p:cNvPicPr/>
          <p:nvPr/>
        </p:nvPicPr>
        <p:blipFill>
          <a:blip r:embed="rId2"/>
          <a:stretch/>
        </p:blipFill>
        <p:spPr>
          <a:xfrm>
            <a:off x="2987640" y="3284640"/>
            <a:ext cx="3456000" cy="33624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2" descr="59268377_9e2bc17d30de"/>
          <p:cNvPicPr/>
          <p:nvPr/>
        </p:nvPicPr>
        <p:blipFill>
          <a:blip r:embed="rId3"/>
          <a:stretch/>
        </p:blipFill>
        <p:spPr>
          <a:xfrm>
            <a:off x="5076720" y="1341360"/>
            <a:ext cx="3905280" cy="29242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6T05:55:10Z</dcterms:created>
  <dc:creator>User</dc:creator>
  <dc:description/>
  <dc:language>en-US</dc:language>
  <cp:lastModifiedBy>Admin</cp:lastModifiedBy>
  <dcterms:modified xsi:type="dcterms:W3CDTF">2012-05-13T16:24:06Z</dcterms:modified>
  <cp:revision>34</cp:revision>
  <dc:subject/>
  <dc:title>Слайд 1</dc:title>
</cp:coreProperties>
</file>