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B83-9E62-403A-AC33-4E305162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0BF-3964-4E70-A82C-E4A84AD3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E92-52F7-4CEB-B7A7-B01AB20A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530-BCF9-4C54-AC71-3FF1E79A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8F12-3AC2-4BE0-8421-8E14B4AF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B2F7-6BB7-461F-8ED9-C127C46D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04F9-C1CF-43C4-ADBD-1D3E564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4723-B9B3-4093-B4C1-B4C2325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5AC3-25ED-4615-8715-6B55D63B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B469-360E-4DD7-A23D-5E930609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1565-6042-449A-AE2B-B78DA39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535-668E-4108-9D6A-F3159B6E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9EE-EC53-4F35-AF4E-AB795A4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14F4-E4CF-435E-8DE5-FA1A035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F95-6AFF-49A3-8068-910EB30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917-A983-431D-B71F-493BC727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0364-7369-4307-A9CC-F165146F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AA0-C20D-43D9-8538-87F350D8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4F1-FCCD-4171-93A4-E91FA81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74A-67BD-4BFA-B604-635DA226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2FD-D435-4375-A072-12D19E6B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E5C-F5DF-414C-930E-0DFCC2BE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9ED-9247-4AF1-9F33-BBEAE2C7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2C5-4A39-461B-9E98-0CEF98BC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C8FC-E068-43DF-BA48-1EE2EDEEC09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824E-DF3D-4814-8ADD-CF10F21378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Admin</cp:lastModifiedBy>
  <dcterms:modified xsi:type="dcterms:W3CDTF">2012-05-13T16:24:06Z</dcterms:modified>
  <cp:revision>34</cp:revision>
  <dc:subject/>
  <dc:title>Слайд 1</dc:title>
</cp:coreProperties>
</file>