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8FB-4733-4A74-8BBF-9864E348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F87-5977-45B1-A44C-F6A4BED5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799-1FEC-4D29-B7F2-C60D9B34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B3D-E157-49B8-9B5E-61064B0C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FB0C-09D4-4C51-A112-5584DCF6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8AC-B3F1-41C3-B127-2A96C2B6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5D6-0776-44E2-9169-E231F262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F2B2-B39F-4C91-9278-81ADCB5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2F5E-A9F7-4205-ACF8-07DDDC16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34CE-F67B-4986-BB91-F70B661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D8D-0248-4F63-9803-CDFA6DC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3D1-9B92-4E46-B138-4E20937D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6D79-ACA6-4AB5-9370-F7E60E8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8CD5-7CA8-4A42-8E53-9EDD05D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EB3-1E90-45F9-895E-E138E170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3471-1101-4F83-96AE-0B59EEB7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ED0-A367-4D86-8A82-B8B7EC88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41E-BDCD-4338-B674-0229591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7F6-FC8E-4EC0-9B1D-22725C32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1DB-DB1B-4FB4-90BE-C9130D87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EB9-96F9-4D70-9694-20BB3CC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1BD-BCA7-40B8-B4B7-96EB1EFA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71C-B860-4865-99A6-9FF3103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2B5-8170-4BE3-AAEB-4973DA6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92C-6BE9-41C5-8CEB-F0C40E4C07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CFB-6F18-41EC-886D-3A8D539F2F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ак вести себя в природ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кум д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-6 класс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Полярной звезд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ярную звезду легко отыскать с помощью созвездия Большая Медвед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двух крайних звезд в ковше мысленно проведите прямую линию, длиной в 5 раз пр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ходящую отрез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жду этими двумя звездами. Линия окончится на крайней звезде ручки ковша Малой Медведицы. Это и есть Полярная звезда, которая всегда указывает направление на сев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4643280" y="1785960"/>
            <a:ext cx="3929400" cy="4651200"/>
          </a:xfrm>
          <a:prstGeom prst="rect">
            <a:avLst/>
          </a:prstGeom>
          <a:ln w="0">
            <a:noFill/>
          </a:ln>
        </p:spPr>
      </p:pic>
    </p:spTree>
  </p:cSld>
  <p:transition advTm="1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риентирование по местным признака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Мхи и лишайники на стволах старых деревьев, камнях, скалах размещаются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Кора деревьев с северной стороны, как правило, значительно груб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Муравейники расположены с южной стороны около пней и деревье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У созревающих лесных ягод бок, обращенный к югу, краснеет ран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а березах с южной стороны кора более светлая и менее груба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На стволах хвойных пород смола интенсивнее накапливается с юж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У отдельно стоящих деревьев сучья несколько короче и реже с северной сторон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Весной трава гуще растет с северной стороны из-за высокой влажности почвы, а летом—с юж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На открытой местности северный склон муравейника круче южног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правляясь отдыхать на природе, не забывайте, что вы идете к ней в гости, поэтому ведите себя так, чтобы не нанести ей вреда, ущерб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ущерб, нанесенный природе, закон предусматривает ответственность. Ущерб, причиненный детьми, возмещают родители. За любовь же к природе она сама одаривает человека здоровьем и счасть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мные советы для тех, кто любит отдыхать на приро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азводите костры в сухую погоду и при сильном ветр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бламывайте деревь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айтесь не засорять ле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трогайте полезных насеком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ходясь в лесу, не поднимайте ш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рвите растений, занесенных в Красную книг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сохранить бодрость духа, жизнь и здоровь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обирайте любую встретившуюся по пути пищ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Не употребляйте в пищу неизвестные вам грибы и яг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Экономно расходуйте спич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Берегите в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Не ложитесь спать или просто отдыхать на влажную земл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ередвигайтесь по лесу осторожно, чтобы не повредить глаза или не оступит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Object 13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500360" cy="5014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Рома\Desktop\исунок.png"/>
          <p:cNvPicPr/>
          <p:nvPr/>
        </p:nvPicPr>
        <p:blipFill>
          <a:blip r:embed="rId2"/>
          <a:stretch/>
        </p:blipFill>
        <p:spPr>
          <a:xfrm>
            <a:off x="4714920" y="1714680"/>
            <a:ext cx="3914640" cy="450036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избавиться от вредных насеком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ффективен едкий дым от костра, когда в него бросают ветки вместе с сухой листвой. Но этот способ имеет недостаток: хотя комары улетают, такого испытания не выдерживают и люди. Еще можно держать возле места ночлега пучки свежей полыни. Считается, что комары не выносят ее запах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357120" y="1785960"/>
            <a:ext cx="4071960" cy="450072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укрыться от непогоды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вес от непогоды, сделанный на скорую ру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езными для укрытия могут оказаться пещеры, естественные ниши и другие природные объек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сканирование0003"/>
          <p:cNvPicPr/>
          <p:nvPr/>
        </p:nvPicPr>
        <p:blipFill>
          <a:blip r:embed="rId1"/>
          <a:stretch/>
        </p:blipFill>
        <p:spPr>
          <a:xfrm>
            <a:off x="428760" y="1557360"/>
            <a:ext cx="4071960" cy="4586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забраться на дерево при отсутствии у него нижних ветв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ще всего это сделать, разыскав молодое дерево средней высоты. Надо приложить его  к стволу крупного дерева и использовать его вместо лестничной опоры. Ступеньками послужат ветки и суч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55436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ие растения можно употреблять в пищу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ъедобные грибы: белый гриб, подосиновик, рыжик, груздь, опенок, подберезовик, шампиньон и друг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корастущие плоды и ягоды: земляника, клюква, брусника, малина, смородина, черемуха, калина, ряб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приготовления напитков подходят гроздья рябины, плоды шиповника, листья смородины и д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обеспечить себя питьевой водо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з пищи человек способен прожить до 60 суток, а без воды только 2-3 дня. В лесу получение пресной воды возможно при помощи полиэтиленового пакета. Для этого надо плотно упаковать ветку лиственного дерева в пакет. Через несколько часов в пакете накопится 100-200 г во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особы ориентирования на местнос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ясную солнечную погоду стороны горизонта можно определить по солнцу и часам. Циферблат размещают таким образом, чтобы часовая стрелка была направлена на солнце. Угол между часовой стрелкой и цифрой 1 на циферблате нужно поделить пополам. Эта условная линия одним концом укажет на юг, а другим на сев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C:\Users\Рома\Desktop\исунок.png"/>
          <p:cNvPicPr/>
          <p:nvPr/>
        </p:nvPicPr>
        <p:blipFill>
          <a:blip r:embed="rId1"/>
          <a:stretch/>
        </p:blipFill>
        <p:spPr>
          <a:xfrm>
            <a:off x="571680" y="2286000"/>
            <a:ext cx="4014720" cy="364320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03:23Z</dcterms:created>
  <dc:creator>Admin</dc:creator>
  <dc:description/>
  <dc:language>en-US</dc:language>
  <cp:lastModifiedBy>Рома</cp:lastModifiedBy>
  <dcterms:modified xsi:type="dcterms:W3CDTF">2014-10-25T08:35:32Z</dcterms:modified>
  <cp:revision>10</cp:revision>
  <dc:subject/>
  <dc:title>Как вести себя в природе</dc:title>
</cp:coreProperties>
</file>