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C37B-0C21-49CE-9C32-331F9B86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2907-E669-4773-B110-ACD5F370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E562-3226-476B-9267-C54437FC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C452-93B0-4F56-A67C-1CC8E106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C66B-3791-485C-A7CD-612562F6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8F1A-8813-4E82-A14E-5571A174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C4B8-0D68-4D6E-8912-2FEBD3C6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6E81-12ED-44EE-BB18-89D30A1B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83F3-C848-42F9-BF05-F4DFA013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6CAC-43F5-4586-B7E5-96C4C17E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F6B6-4ABB-440F-8C0E-A4EC683A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D38C-FAD8-4FEA-ACB6-9019AC61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6F91-1143-4D92-A2F0-5EDB3E45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89CC-6D5B-4D3A-B5E8-C44571E0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13D9-CB9B-453B-9C26-6CC3DE6F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593D-ECCD-492B-9BCA-7DFB1BC1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56DF-8426-4811-BA61-95D71CB6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1BB9-629D-4A44-BA46-4C1BC067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879D-9195-40DA-96A3-46137815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55D7-B97D-4C46-8A26-E02FD45C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F63F-156A-43B2-90D4-063CEB0D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B77B-CAF1-4EA4-A93C-329F3AF4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3CA0-17EE-408D-93E9-01C4E26F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ED0E-8B53-4A6F-A334-A76B375B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8394-B5D7-4C9A-A166-C90A71BCB4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4DAE-384A-4EC8-840D-854DED3ACD0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Как вести себя в природе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ктикум дл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-6 класс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риентирование по Полярной звезд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ярную звезду легко отыскать с помощью созвездия Большая Медведиц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 двух крайних звезд в ковше мысленно проведите прямую линию, длиной в 5 раз пре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сходящую отрезо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жду этими двумя звездами. Линия окончится на крайней звезде ручки ковша Малой Медведицы. Это и есть Полярная звезда, которая всегда указывает направление на севе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6" descr="C:\Users\Рома\Desktop\исунок.png"/>
          <p:cNvPicPr/>
          <p:nvPr/>
        </p:nvPicPr>
        <p:blipFill>
          <a:blip r:embed="rId1"/>
          <a:stretch/>
        </p:blipFill>
        <p:spPr>
          <a:xfrm>
            <a:off x="4643280" y="1785960"/>
            <a:ext cx="3929400" cy="4651200"/>
          </a:xfrm>
          <a:prstGeom prst="rect">
            <a:avLst/>
          </a:prstGeom>
          <a:ln w="0">
            <a:noFill/>
          </a:ln>
        </p:spPr>
      </p:pic>
    </p:spTree>
  </p:cSld>
  <p:transition advTm="17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риентирование по местным признакам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Мхи и лишайники на стволах старых деревьев, камнях, скалах размещаются с северной сторон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Кора деревьев с северной стороны, как правило, значительно грубе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Муравейники расположены с южной стороны около пней и деревье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У созревающих лесных ягод бок, обращенный к югу, краснеет раньш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На березах с южной стороны кора более светлая и менее груба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.На стволах хвойных пород смола интенсивнее накапливается с южной сторон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.У отдельно стоящих деревьев сучья несколько короче и реже с северной сторон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8.Весной трава гуще растет с северной стороны из-за высокой влажности почвы, а летом—с южн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9.На открытой местности северный склон муравейника круче южног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ключ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правляясь отдыхать на природе, не забывайте, что вы идете к ней в гости, поэтому ведите себя так, чтобы не нанести ей вреда, ущерб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 ущерб, нанесенный природе, закон предусматривает ответственность. Ущерб, причиненный детьми, возмещают родители. За любовь же к природе она сама одаривает человека здоровьем и счастье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Умные советы для тех, кто любит отдыхать на природ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разводите костры в сухую погоду и при сильном ветр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обламывайте деревье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райтесь не засорять ле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трогайте полезных насекомы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ходясь в лесу, не поднимайте шу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рвите растений, занесенных в Красную книг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2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сохранить бодрость духа, жизнь и здоровь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Собирайте любую встретившуюся по пути пищ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Не употребляйте в пищу неизвестные вам грибы и ягод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Экономно расходуйте спич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Берегите вод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Не ложитесь спать или просто отдыхать на влажную земл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.Передвигайтесь по лесу осторожно, чтобы не повредить глаза или не оступить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Object 13" descr=""/>
          <p:cNvPicPr/>
          <p:nvPr/>
        </p:nvPicPr>
        <p:blipFill>
          <a:blip r:embed="rId1"/>
          <a:stretch/>
        </p:blipFill>
        <p:spPr>
          <a:xfrm>
            <a:off x="285840" y="1643040"/>
            <a:ext cx="4500360" cy="5014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C:\Users\Рома\Desktop\исунок.png"/>
          <p:cNvPicPr/>
          <p:nvPr/>
        </p:nvPicPr>
        <p:blipFill>
          <a:blip r:embed="rId2"/>
          <a:stretch/>
        </p:blipFill>
        <p:spPr>
          <a:xfrm>
            <a:off x="4714920" y="1714680"/>
            <a:ext cx="3914640" cy="4500360"/>
          </a:xfrm>
          <a:prstGeom prst="rect">
            <a:avLst/>
          </a:prstGeom>
          <a:ln w="0">
            <a:noFill/>
          </a:ln>
        </p:spPr>
      </p:pic>
    </p:spTree>
  </p:cSld>
  <p:transition advTm="15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избавиться от вредных насекомых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ффективен едкий дым от костра, когда в него бросают ветки вместе с сухой листвой. Но этот способ имеет недостаток: хотя комары улетают, такого испытания не выдерживают и люди. Еще можно держать возле места ночлега пучки свежей полыни. Считается, что комары не выносят ее запах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C:\Users\Рома\Desktop\исунок.png"/>
          <p:cNvPicPr/>
          <p:nvPr/>
        </p:nvPicPr>
        <p:blipFill>
          <a:blip r:embed="rId1"/>
          <a:stretch/>
        </p:blipFill>
        <p:spPr>
          <a:xfrm>
            <a:off x="357120" y="1785960"/>
            <a:ext cx="4071960" cy="450072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укрыться от непогоды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вес от непогоды, сделанный на скорую ру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езными для укрытия могут оказаться пещеры, естественные ниши и другие природные объек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сканирование0003"/>
          <p:cNvPicPr/>
          <p:nvPr/>
        </p:nvPicPr>
        <p:blipFill>
          <a:blip r:embed="rId1"/>
          <a:stretch/>
        </p:blipFill>
        <p:spPr>
          <a:xfrm>
            <a:off x="428760" y="1557360"/>
            <a:ext cx="4071960" cy="458640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забраться на дерево при отсутствии у него нижних ветвей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ще всего это сделать, разыскав молодое дерево средней высоты. Надо приложить его  к стволу крупного дерева и использовать его вместо лестничной опоры. Ступеньками послужат ветки и суч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10" descr="сканирование0001"/>
          <p:cNvPicPr/>
          <p:nvPr/>
        </p:nvPicPr>
        <p:blipFill>
          <a:blip r:embed="rId1"/>
          <a:stretch/>
        </p:blipFill>
        <p:spPr>
          <a:xfrm>
            <a:off x="4643280" y="1571760"/>
            <a:ext cx="4071960" cy="455436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     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ие растения можно употреблять в пищу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ъедобные грибы: белый гриб, подосиновик, рыжик, груздь, опенок, подберезовик, шампиньон и друг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корастущие плоды и ягоды: земляника, клюква, брусника, малина, смородина, черемуха, калина, ряб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я приготовления напитков подходят гроздья рябины, плоды шиповника, листья смородины и др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5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обеспечить себя питьевой водой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ез пищи человек способен прожить до 60 суток, а без воды только 2-3 дня. В лесу получение пресной воды возможно при помощи полиэтиленового пакета. Для этого надо плотно упаковать ветку лиственного дерева в пакет. Через несколько часов в пакете накопится 100-200 г во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пособы ориентирования на местност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ясную солнечную погоду стороны горизонта можно определить по солнцу и часам. Циферблат размещают таким образом, чтобы часовая стрелка была направлена на солнце. Угол между часовой стрелкой и цифрой 1 на циферблате нужно поделить пополам. Эта условная линия одним концом укажет на юг, а другим на севе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6" descr="C:\Users\Рома\Desktop\исунок.png"/>
          <p:cNvPicPr/>
          <p:nvPr/>
        </p:nvPicPr>
        <p:blipFill>
          <a:blip r:embed="rId1"/>
          <a:stretch/>
        </p:blipFill>
        <p:spPr>
          <a:xfrm>
            <a:off x="571680" y="2286000"/>
            <a:ext cx="4014720" cy="3643200"/>
          </a:xfrm>
          <a:prstGeom prst="rect">
            <a:avLst/>
          </a:prstGeom>
          <a:ln w="0">
            <a:noFill/>
          </a:ln>
        </p:spPr>
      </p:pic>
    </p:spTree>
  </p:cSld>
  <p:transition advTm="1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4:03:23Z</dcterms:created>
  <dc:creator>Admin</dc:creator>
  <dc:description/>
  <dc:language>en-US</dc:language>
  <cp:lastModifiedBy>Рома</cp:lastModifiedBy>
  <dcterms:modified xsi:type="dcterms:W3CDTF">2014-10-25T08:35:32Z</dcterms:modified>
  <cp:revision>10</cp:revision>
  <dc:subject/>
  <dc:title>Как вести себя в природе</dc:title>
</cp:coreProperties>
</file>