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F7D-25B9-4BF4-BA0A-B2E4643D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BF3-E7BD-4E29-8F5B-567B07AA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0D7-8D9E-4352-A1A5-C34931ED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039B-6BBB-4E9F-88D7-10D3821B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2A3C-2A2C-4C66-AA87-1107C2DD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4FB8-E2E3-4914-8CCB-E4D7FA2F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EBB0-4BAC-4F2D-A2E0-A8D053EA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4AA2-5F02-49CE-BEE9-B89571F3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085E-D300-4839-99C8-B3411A2C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5694-3FF3-44EE-B86D-7E04C5FC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AF40-D9D5-443B-B71D-E3EA9B78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376-D795-4019-A6CA-C90F82BF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D222-A80B-415D-8A8B-0EEADF7A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CCDC-FB54-4DD3-8DB0-7C0DC54F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1E2B-5CBD-462A-898A-516EBFDD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749F-758B-4359-9109-70660AA3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0353-7952-475C-82EA-38C75091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928-A59B-4A72-964C-D127B407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9E9-1AED-4413-B50D-10189F9A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D34-3B58-4A66-92CA-6CFA8D08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793-B353-48E1-A408-7E23FAF5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43E-4D38-45B6-9DEE-1855556D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A2E-E916-492C-9946-E46C0AE9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1E7-16C9-4F55-B974-7E73A37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A246-9F0C-457D-A34E-4F7AFAC70E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0540-1B3A-41ED-B5FC-08A1159C48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ак вести себя в природ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кум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-6 клас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риентирование по Полярной звезд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ярную звезду легко отыскать с помощью созвездия Большая Медвед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 двух крайних звезд в ковше мысленно проведите прямую линию, длиной в 5 раз пре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ходящую отрез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жду этими двумя звездами. Линия окончится на крайней звезде ручки ковша Малой Медведицы. Это и есть Полярная звезда, которая всегда указывает направление на сев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C:\Users\Рома\Desktop\исунок.png"/>
          <p:cNvPicPr/>
          <p:nvPr/>
        </p:nvPicPr>
        <p:blipFill>
          <a:blip r:embed="rId1"/>
          <a:stretch/>
        </p:blipFill>
        <p:spPr>
          <a:xfrm>
            <a:off x="4643280" y="1785960"/>
            <a:ext cx="3929400" cy="4651200"/>
          </a:xfrm>
          <a:prstGeom prst="rect">
            <a:avLst/>
          </a:prstGeom>
          <a:ln w="0">
            <a:noFill/>
          </a:ln>
        </p:spPr>
      </p:pic>
    </p:spTree>
  </p:cSld>
  <p:transition advTm="17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риентирование по местным признакам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Мхи и лишайники на стволах старых деревьев, камнях, скалах размещаются с северной сторо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Кора деревьев с северной стороны, как правило, значительно груб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Муравейники расположены с южной стороны около пней и деревье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У созревающих лесных ягод бок, обращенный к югу, краснеет раньш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На березах с южной стороны кора более светлая и менее груба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На стволах хвойных пород смола интенсивнее накапливается с южной сторо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У отдельно стоящих деревьев сучья несколько короче и реже с северной сторо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.Весной трава гуще растет с северной стороны из-за высокой влажности почвы, а летом—с юж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На открытой местности северный склон муравейника круче южног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ключ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правляясь отдыхать на природе, не забывайте, что вы идете к ней в гости, поэтому ведите себя так, чтобы не нанести ей вреда, ущерб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ущерб, нанесенный природе, закон предусматривает ответственность. Ущерб, причиненный детьми, возмещают родители. За любовь же к природе она сама одаривает человека здоровьем и счасть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мные советы для тех, кто любит отдыхать на приро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разводите костры в сухую погоду и при сильном ветр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бламывайте деревь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райтесь не засорять л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трогайте полезных насеком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ходясь в лесу, не поднимайте шу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рвите растений, занесенных в Красную книг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сохранить бодрость духа, жизнь и здоровь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обирайте любую встретившуюся по пути пищ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Не употребляйте в пищу неизвестные вам грибы и яго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Экономно расходуйте спич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Берегите в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Не ложитесь спать или просто отдыхать на влажную земл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Передвигайтесь по лесу осторожно, чтобы не повредить глаза или не оступить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Object 13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500360" cy="5014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Рома\Desktop\исунок.png"/>
          <p:cNvPicPr/>
          <p:nvPr/>
        </p:nvPicPr>
        <p:blipFill>
          <a:blip r:embed="rId2"/>
          <a:stretch/>
        </p:blipFill>
        <p:spPr>
          <a:xfrm>
            <a:off x="4714920" y="1714680"/>
            <a:ext cx="3914640" cy="450036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избавиться от вредных насекомых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ффективен едкий дым от костра, когда в него бросают ветки вместе с сухой листвой. Но этот способ имеет недостаток: хотя комары улетают, такого испытания не выдерживают и люди. Еще можно держать возле места ночлега пучки свежей полыни. Считается, что комары не выносят ее запах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C:\Users\Рома\Desktop\исунок.png"/>
          <p:cNvPicPr/>
          <p:nvPr/>
        </p:nvPicPr>
        <p:blipFill>
          <a:blip r:embed="rId1"/>
          <a:stretch/>
        </p:blipFill>
        <p:spPr>
          <a:xfrm>
            <a:off x="357120" y="1785960"/>
            <a:ext cx="4071960" cy="450072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укрыться от непогоды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вес от непогоды, сделанный на скорую ру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езными для укрытия могут оказаться пещеры, естественные ниши и другие природные объек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сканирование0003"/>
          <p:cNvPicPr/>
          <p:nvPr/>
        </p:nvPicPr>
        <p:blipFill>
          <a:blip r:embed="rId1"/>
          <a:stretch/>
        </p:blipFill>
        <p:spPr>
          <a:xfrm>
            <a:off x="428760" y="1557360"/>
            <a:ext cx="4071960" cy="45864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забраться на дерево при отсутствии у него нижних ветв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ще всего это сделать, разыскав молодое дерево средней высоты. Надо приложить его  к стволу крупного дерева и использовать его вместо лестничной опоры. Ступеньками послужат ветки и су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10" descr="сканирование0001"/>
          <p:cNvPicPr/>
          <p:nvPr/>
        </p:nvPicPr>
        <p:blipFill>
          <a:blip r:embed="rId1"/>
          <a:stretch/>
        </p:blipFill>
        <p:spPr>
          <a:xfrm>
            <a:off x="4643280" y="1571760"/>
            <a:ext cx="4071960" cy="45543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ие растения можно употреблять в пищу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ъедобные грибы: белый гриб, подосиновик, рыжик, груздь, опенок, подберезовик, шампиньон и друг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корастущие плоды и ягоды: земляника, клюква, брусника, малина, смородина, черемуха, калина, ряб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приготовления напитков подходят гроздья рябины, плоды шиповника, листья смородины и д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обеспечить себя питьевой водо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з пищи человек способен прожить до 60 суток, а без воды только 2-3 дня. В лесу получение пресной воды возможно при помощи полиэтиленового пакета. Для этого надо плотно упаковать ветку лиственного дерева в пакет. Через несколько часов в пакете накопится 100-200 г во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пособы ориентирования на местност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ясную солнечную погоду стороны горизонта можно определить по солнцу и часам. Циферблат размещают таким образом, чтобы часовая стрелка была направлена на солнце. Угол между часовой стрелкой и цифрой 1 на циферблате нужно поделить пополам. Эта условная линия одним концом укажет на юг, а другим на сев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C:\Users\Рома\Desktop\исунок.png"/>
          <p:cNvPicPr/>
          <p:nvPr/>
        </p:nvPicPr>
        <p:blipFill>
          <a:blip r:embed="rId1"/>
          <a:stretch/>
        </p:blipFill>
        <p:spPr>
          <a:xfrm>
            <a:off x="571680" y="2286000"/>
            <a:ext cx="4014720" cy="364320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4:03:23Z</dcterms:created>
  <dc:creator>Admin</dc:creator>
  <dc:description/>
  <dc:language>en-US</dc:language>
  <cp:lastModifiedBy>Рома</cp:lastModifiedBy>
  <dcterms:modified xsi:type="dcterms:W3CDTF">2014-10-25T08:35:32Z</dcterms:modified>
  <cp:revision>10</cp:revision>
  <dc:subject/>
  <dc:title>Как вести себя в природе</dc:title>
</cp:coreProperties>
</file>