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5ED-FB08-49BD-B2BF-5359F8D1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CE3-41FA-4604-8305-AD87350C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220-B712-4A2F-BBF6-1455D921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C70-D0C1-4924-9D8A-12B6FDC6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0F8-0831-4053-866B-D2C0EE85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687-9F9E-40E3-9A89-B7CBB613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1B3-8195-4EBB-BC28-59A7FED8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6E2-86DB-4250-947F-0CC5284C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F11-750C-465A-B2FF-1D805F42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068-4743-45CF-AB5C-991BB887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332-62B1-4F8A-B402-84EAAAF6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45C-AF42-4A10-8636-D64F78E8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1213-562F-4A21-81CC-30CE55EF7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838080" y="1295280"/>
            <a:ext cx="7772400" cy="3733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71600" y="2438280"/>
            <a:ext cx="67816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437" t="9522" r="55025" b="6348"/>
          <a:stretch/>
        </p:blipFill>
        <p:spPr>
          <a:xfrm>
            <a:off x="533520" y="1523880"/>
            <a:ext cx="3886200" cy="403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rcRect l="49783" t="3174" r="1311" b="11113"/>
          <a:stretch/>
        </p:blipFill>
        <p:spPr>
          <a:xfrm>
            <a:off x="4572000" y="15238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295280" y="228600"/>
            <a:ext cx="67820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09480" y="5715000"/>
            <a:ext cx="3581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у лифта стоят незнакомые люди, не садись в него иди пеш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572000" y="5715000"/>
            <a:ext cx="40384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ходя из дома выбрасывать мусор или забирать почту, запирай входную две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7391520" y="1295280"/>
            <a:ext cx="495360" cy="1447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2819520" y="1371600"/>
            <a:ext cx="3047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вый э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828800" y="152280"/>
            <a:ext cx="59436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амые распространенные места нападения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124080" y="2209680"/>
            <a:ext cx="2667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следний эт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2971800" y="4343400"/>
            <a:ext cx="952560" cy="140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5"/>
          <a:stretch/>
        </p:blipFill>
        <p:spPr>
          <a:xfrm>
            <a:off x="5029200" y="4267080"/>
            <a:ext cx="132084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2209680" y="5867280"/>
            <a:ext cx="2133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4495680" y="5867280"/>
            <a:ext cx="2590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рд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rcRect l="1460" t="9357" r="49224" b="13531"/>
          <a:stretch/>
        </p:blipFill>
        <p:spPr>
          <a:xfrm>
            <a:off x="457200" y="685800"/>
            <a:ext cx="3886200" cy="346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56077" t="8117" r="0" b="14771"/>
          <a:stretch/>
        </p:blipFill>
        <p:spPr>
          <a:xfrm>
            <a:off x="4952880" y="838080"/>
            <a:ext cx="3353040" cy="3353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181480" y="4724280"/>
            <a:ext cx="327672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осторонний человек предлагает тебе подняться с ним на лифте откаж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33520" y="4724280"/>
            <a:ext cx="36576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открывай дверь незнакомцам. Спроси: «Кто там?», или посмотри в гл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371600" y="380880"/>
            <a:ext cx="640080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помни эти номера телефон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2209680"/>
            <a:ext cx="35812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лиция 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191120" y="2514600"/>
            <a:ext cx="472428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ая медицинская помощь 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57200" y="3048120"/>
            <a:ext cx="350532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ужба спасения 9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76520" y="4495680"/>
            <a:ext cx="6400800" cy="174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ожный вызов по телефону милиции, службы спасения, скорой или пожарной помощи делать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3T19:52:4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