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B30-E153-4B90-8629-D8466FB7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76A-C1E5-4D91-8575-7769397C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A76D-D209-4925-BBB8-9E272694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AE1-7AA9-4D6F-9628-3D841C9A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7BF-299D-4FA7-84DB-CD2F58A6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3A3-2BD4-42E9-84A5-285F5EA8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136-B70B-4EAB-9B83-2C82BFE7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2B1-9057-48CD-BAA2-55B4A9B5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556-2B39-40B0-BD65-78D7D100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67E6-14A1-4C86-9D39-30B66D1C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D34-00CA-49F8-88DD-619B1F53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EDD-C209-448E-BAB8-596A392E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879D-D826-4AF9-8DE2-670EFF00B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838080" y="1295280"/>
            <a:ext cx="7772400" cy="3733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371600" y="2438280"/>
            <a:ext cx="678168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Как не оказаться жертвой нападения в до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rcRect l="437" t="9522" r="55025" b="6348"/>
          <a:stretch/>
        </p:blipFill>
        <p:spPr>
          <a:xfrm>
            <a:off x="533520" y="1523880"/>
            <a:ext cx="3886200" cy="403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rcRect l="49783" t="3174" r="1311" b="11113"/>
          <a:stretch/>
        </p:blipFill>
        <p:spPr>
          <a:xfrm>
            <a:off x="4572000" y="1523880"/>
            <a:ext cx="426708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295280" y="228600"/>
            <a:ext cx="678204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Как не оказаться жертвой нападения в до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09480" y="5715000"/>
            <a:ext cx="358164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у лифта стоят незнакомые люди, не садись в него иди пеш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572000" y="5715000"/>
            <a:ext cx="403848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ходя из дома выбрасывать мусор или забирать почту, запирай входную две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7391520" y="1295280"/>
            <a:ext cx="495360" cy="1447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2819520" y="1371600"/>
            <a:ext cx="3047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ервый э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828800" y="152280"/>
            <a:ext cx="59436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амые распространенные места нападения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124080" y="2209680"/>
            <a:ext cx="26672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следний эта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4"/>
          <a:stretch/>
        </p:blipFill>
        <p:spPr>
          <a:xfrm>
            <a:off x="2971800" y="4343400"/>
            <a:ext cx="952560" cy="1409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5"/>
          <a:stretch/>
        </p:blipFill>
        <p:spPr>
          <a:xfrm>
            <a:off x="5029200" y="4267080"/>
            <a:ext cx="132084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2209680" y="5867280"/>
            <a:ext cx="2133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4495680" y="5867280"/>
            <a:ext cx="25909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ерд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rcRect l="1460" t="9357" r="49224" b="13531"/>
          <a:stretch/>
        </p:blipFill>
        <p:spPr>
          <a:xfrm>
            <a:off x="457200" y="685800"/>
            <a:ext cx="3886200" cy="346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rcRect l="56077" t="8117" r="0" b="14771"/>
          <a:stretch/>
        </p:blipFill>
        <p:spPr>
          <a:xfrm>
            <a:off x="4952880" y="838080"/>
            <a:ext cx="3353040" cy="3353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5181480" y="4724280"/>
            <a:ext cx="327672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осторонний человек предлагает тебе подняться с ним на лифте откаж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33520" y="4724280"/>
            <a:ext cx="365760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 открывай дверь незнакомцам. Спроси: «Кто там?», или посмотри в глаз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371600" y="380880"/>
            <a:ext cx="6400800" cy="1312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Запомни эти номера телефон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7200" y="2209680"/>
            <a:ext cx="358128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лиция 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191120" y="2514600"/>
            <a:ext cx="472428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ая медицинская помощь 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57200" y="3048120"/>
            <a:ext cx="350532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ужба спасения 9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76520" y="4495680"/>
            <a:ext cx="6400800" cy="174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м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ожный вызов по телефону милиции, службы спасения, скорой или пожарной помощи делать нельз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3T19:52:4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