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5241-98C4-4154-92A5-87024590D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AF1B-3C1D-4F95-9DA2-7BC35755A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5982-AB80-40E0-A7B2-C1DE6F6B1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E26A-F7F4-49DA-8945-E0B502CF0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E514-0A25-4676-A02E-8D067B976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2032-6B1D-4A3F-8EDF-21A8B8808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5376-E825-4575-AB6F-AAF73E3A3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6A88-2763-4B53-B262-70ECB59C7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53D0-367D-46AC-8DD3-DED363D81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F3F7-A0ED-485E-AFC9-44705AEC7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724E-F822-4BB3-BC15-8C065F553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0935-535B-421A-BC33-595CD38DC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BDF6B-D217-42DC-9E50-CC36AB8EA9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5"/>
          <p:cNvSpPr/>
          <p:nvPr/>
        </p:nvSpPr>
        <p:spPr>
          <a:xfrm>
            <a:off x="838080" y="1295280"/>
            <a:ext cx="7772400" cy="3733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1371600" y="2438280"/>
            <a:ext cx="6781680" cy="1191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Как не оказаться жертвой нападения в дом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3714840" y="0"/>
            <a:ext cx="2286000" cy="500040"/>
          </a:xfrm>
          <a:prstGeom prst="rect">
            <a:avLst/>
          </a:prstGeom>
          <a:solidFill>
            <a:srgbClr val="bfbfbf"/>
          </a:solidFill>
          <a:ln w="38160">
            <a:solidFill>
              <a:srgbClr val="f1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ezentacii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rcRect l="437" t="9522" r="55025" b="6348"/>
          <a:stretch/>
        </p:blipFill>
        <p:spPr>
          <a:xfrm>
            <a:off x="533520" y="1523880"/>
            <a:ext cx="3886200" cy="4038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rcRect l="49783" t="3174" r="1311" b="11113"/>
          <a:stretch/>
        </p:blipFill>
        <p:spPr>
          <a:xfrm>
            <a:off x="4572000" y="1523880"/>
            <a:ext cx="4267080" cy="41148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6"/>
          <p:cNvSpPr/>
          <p:nvPr/>
        </p:nvSpPr>
        <p:spPr>
          <a:xfrm>
            <a:off x="1295280" y="228600"/>
            <a:ext cx="6782040" cy="1191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Как не оказаться жертвой нападения в дом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609480" y="5715000"/>
            <a:ext cx="3581640" cy="91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Если у лифта стоят незнакомые люди, не садись в него иди пеш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4572000" y="5715000"/>
            <a:ext cx="4038480" cy="91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Выходя из дома выбрасывать мусор или забирать почту, запирай входную двер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6400800" y="1143000"/>
            <a:ext cx="2171880" cy="2895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2"/>
          <a:stretch/>
        </p:blipFill>
        <p:spPr>
          <a:xfrm>
            <a:off x="685800" y="990720"/>
            <a:ext cx="2171880" cy="2895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3"/>
          <a:stretch/>
        </p:blipFill>
        <p:spPr>
          <a:xfrm>
            <a:off x="7391520" y="1295280"/>
            <a:ext cx="495360" cy="14479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7"/>
          <p:cNvSpPr/>
          <p:nvPr/>
        </p:nvSpPr>
        <p:spPr>
          <a:xfrm>
            <a:off x="2819520" y="1371600"/>
            <a:ext cx="30477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Первый эта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1828800" y="152280"/>
            <a:ext cx="5943600" cy="825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Самые распространенные места нападения в до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3124080" y="2209680"/>
            <a:ext cx="26672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Последний этаж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"/>
          <p:cNvPicPr/>
          <p:nvPr/>
        </p:nvPicPr>
        <p:blipFill>
          <a:blip r:embed="rId4"/>
          <a:stretch/>
        </p:blipFill>
        <p:spPr>
          <a:xfrm>
            <a:off x="2971800" y="4343400"/>
            <a:ext cx="952560" cy="1409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"/>
          <p:cNvPicPr/>
          <p:nvPr/>
        </p:nvPicPr>
        <p:blipFill>
          <a:blip r:embed="rId5"/>
          <a:stretch/>
        </p:blipFill>
        <p:spPr>
          <a:xfrm>
            <a:off x="5029200" y="4267080"/>
            <a:ext cx="1320840" cy="15242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2"/>
          <p:cNvSpPr/>
          <p:nvPr/>
        </p:nvSpPr>
        <p:spPr>
          <a:xfrm>
            <a:off x="2209680" y="5867280"/>
            <a:ext cx="2133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Лиф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3"/>
          <p:cNvSpPr/>
          <p:nvPr/>
        </p:nvSpPr>
        <p:spPr>
          <a:xfrm>
            <a:off x="4495680" y="5867280"/>
            <a:ext cx="25909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Черд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rcRect l="1460" t="9357" r="49224" b="13531"/>
          <a:stretch/>
        </p:blipFill>
        <p:spPr>
          <a:xfrm>
            <a:off x="457200" y="685800"/>
            <a:ext cx="3886200" cy="3460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"/>
          <p:cNvPicPr/>
          <p:nvPr/>
        </p:nvPicPr>
        <p:blipFill>
          <a:blip r:embed="rId2"/>
          <a:srcRect l="56077" t="8117" r="0" b="14771"/>
          <a:stretch/>
        </p:blipFill>
        <p:spPr>
          <a:xfrm>
            <a:off x="4952880" y="838080"/>
            <a:ext cx="3353040" cy="33530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5181480" y="4724280"/>
            <a:ext cx="3276720" cy="1191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Если посторонний человек предлагает тебе подняться с ним на лифте откаж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533520" y="4724280"/>
            <a:ext cx="3657600" cy="91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Не открывай дверь незнакомцам. Спроси: «Кто там?», или посмотри в глаз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1371600" y="380880"/>
            <a:ext cx="6400800" cy="1312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Запомни эти номера телефонов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457200" y="2209680"/>
            <a:ext cx="3581280" cy="581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илиция 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4191120" y="2514600"/>
            <a:ext cx="4724280" cy="10688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корая медицинская помощь 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457200" y="3048120"/>
            <a:ext cx="3505320" cy="10688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ужба спасения 9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1676520" y="4495680"/>
            <a:ext cx="6400800" cy="1747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Помн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Ложный вызов по телефону милиции, службы спасения, скорой или пожарной помощи делать нельз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6-23T19:52:44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