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4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9EF-6643-4BC5-AF06-43F851DA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95E-5E9E-46F0-941C-06CDE9B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DA4-723D-4915-8B03-64203E5F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729-5D27-4D2C-A067-B0533104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3C4-B170-4C61-AD5A-0AAD6E7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355-C4FF-4113-9EFA-7EACF3F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35B-9F36-48A0-ACB5-EDC5A63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655-C296-4F11-936D-223CB317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AB5-71B0-4637-B320-98334919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848-341A-42C8-9ACB-48CB036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9A8-3B5B-45C6-B576-46C5F02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98C-EB15-45DB-ABB2-B556592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9F4F-FF72-49A2-81AE-7783A58BF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Segoe Script"/>
              </a:rPr>
              <a:t>Изображение Земли из космо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География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http://www.fwsg.be/ag/images/space/rockets03.gif"/>
          <p:cNvPicPr/>
          <p:nvPr/>
        </p:nvPicPr>
        <p:blipFill>
          <a:blip r:embed="rId2"/>
          <a:stretch/>
        </p:blipFill>
        <p:spPr>
          <a:xfrm>
            <a:off x="6572160" y="0"/>
            <a:ext cx="857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ка Ангар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7214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сточная часть Финского залива (снимок из космос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5000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четвертой версии Googl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24400" y="3643200"/>
            <a:ext cx="381960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15001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 экрана версии Googl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072040" y="3357720"/>
            <a:ext cx="3809880" cy="32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5086440" cy="34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715000" y="1571760"/>
            <a:ext cx="257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59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Segoe Script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47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итать §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ние стр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ование информационной системы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Earth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Google Maps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971960" y="2071800"/>
            <a:ext cx="4172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стр.11 уче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Картинка 5 из 116"/>
          <p:cNvPicPr/>
          <p:nvPr/>
        </p:nvPicPr>
        <p:blipFill>
          <a:blip r:embed="rId1"/>
          <a:stretch/>
        </p:blipFill>
        <p:spPr>
          <a:xfrm>
            <a:off x="5143680" y="228600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Script"/>
              </a:rPr>
              <a:t>Съемки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im8-tub.yandex.net/i?id=154849694-01"/>
          <p:cNvPicPr/>
          <p:nvPr/>
        </p:nvPicPr>
        <p:blipFill>
          <a:blip r:embed="rId1"/>
          <a:stretch/>
        </p:blipFill>
        <p:spPr>
          <a:xfrm>
            <a:off x="324000" y="1484280"/>
            <a:ext cx="2955600" cy="295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im3-tub.yandex.net/i?id=96043100-04"/>
          <p:cNvPicPr/>
          <p:nvPr/>
        </p:nvPicPr>
        <p:blipFill>
          <a:blip r:embed="rId2"/>
          <a:stretch/>
        </p:blipFill>
        <p:spPr>
          <a:xfrm>
            <a:off x="4284720" y="1557360"/>
            <a:ext cx="4013280" cy="30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im2-tub.yandex.net/i?id=56262658-06"/>
          <p:cNvPicPr/>
          <p:nvPr/>
        </p:nvPicPr>
        <p:blipFill>
          <a:blip r:embed="rId3"/>
          <a:stretch/>
        </p:blipFill>
        <p:spPr>
          <a:xfrm>
            <a:off x="324000" y="4797360"/>
            <a:ext cx="1976400" cy="147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im7-tub.yandex.net/i?id=100320209-02"/>
          <p:cNvPicPr/>
          <p:nvPr/>
        </p:nvPicPr>
        <p:blipFill>
          <a:blip r:embed="rId4"/>
          <a:stretch/>
        </p:blipFill>
        <p:spPr>
          <a:xfrm>
            <a:off x="3132000" y="4905360"/>
            <a:ext cx="2087640" cy="142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im3-tub.yandex.net/i?id=58107830-05"/>
          <p:cNvPicPr/>
          <p:nvPr/>
        </p:nvPicPr>
        <p:blipFill>
          <a:blip r:embed="rId5"/>
          <a:stretch/>
        </p:blipFill>
        <p:spPr>
          <a:xfrm>
            <a:off x="6156360" y="4689360"/>
            <a:ext cx="26398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785880"/>
            <a:ext cx="52862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ъемки человек приспосабливал всё, что может подниматься и перемещаться над земной поверх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.yandex.net/i?id=8636693-05"/>
          <p:cNvPicPr/>
          <p:nvPr/>
        </p:nvPicPr>
        <p:blipFill>
          <a:blip r:embed="rId1"/>
          <a:stretch/>
        </p:blipFill>
        <p:spPr>
          <a:xfrm>
            <a:off x="5508720" y="170028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2-tub.yandex.net/i?id=37083081-01"/>
          <p:cNvPicPr/>
          <p:nvPr/>
        </p:nvPicPr>
        <p:blipFill>
          <a:blip r:embed="rId2"/>
          <a:stretch/>
        </p:blipFill>
        <p:spPr>
          <a:xfrm>
            <a:off x="7308720" y="2349360"/>
            <a:ext cx="17035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5-tub.yandex.net/i?id=226891045-02"/>
          <p:cNvPicPr/>
          <p:nvPr/>
        </p:nvPicPr>
        <p:blipFill>
          <a:blip r:embed="rId3"/>
          <a:stretch/>
        </p:blipFill>
        <p:spPr>
          <a:xfrm>
            <a:off x="6443640" y="3933720"/>
            <a:ext cx="1441440" cy="209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114 из 161"/>
          <p:cNvPicPr/>
          <p:nvPr/>
        </p:nvPicPr>
        <p:blipFill>
          <a:blip r:embed="rId4"/>
          <a:stretch/>
        </p:blipFill>
        <p:spPr>
          <a:xfrm rot="1294200">
            <a:off x="3596760" y="431136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Картинка 175 из 190"/>
          <p:cNvPicPr/>
          <p:nvPr/>
        </p:nvPicPr>
        <p:blipFill>
          <a:blip r:embed="rId5"/>
          <a:stretch/>
        </p:blipFill>
        <p:spPr>
          <a:xfrm>
            <a:off x="8358120" y="4500720"/>
            <a:ext cx="3812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Картинка 2 из 10"/>
          <p:cNvPicPr/>
          <p:nvPr/>
        </p:nvPicPr>
        <p:blipFill>
          <a:blip r:embed="rId6"/>
          <a:stretch/>
        </p:blipFill>
        <p:spPr>
          <a:xfrm>
            <a:off x="571680" y="3429000"/>
            <a:ext cx="2241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ше время на орбитах вокруг Земли вращаются одновременно сотни различных спутников, осуществляющих наблюдение и съемку ее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im6-tub.yandex.net/i?id=210040274-00"/>
          <p:cNvPicPr/>
          <p:nvPr/>
        </p:nvPicPr>
        <p:blipFill>
          <a:blip r:embed="rId1"/>
          <a:stretch/>
        </p:blipFill>
        <p:spPr>
          <a:xfrm>
            <a:off x="6372360" y="1619280"/>
            <a:ext cx="172080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4-tub.yandex.net/i?id=11876361-01"/>
          <p:cNvPicPr/>
          <p:nvPr/>
        </p:nvPicPr>
        <p:blipFill>
          <a:blip r:embed="rId2"/>
          <a:stretch/>
        </p:blipFill>
        <p:spPr>
          <a:xfrm>
            <a:off x="5796000" y="3754440"/>
            <a:ext cx="2952720" cy="220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4-tub.yandex.net/i?id=50853056-05"/>
          <p:cNvPicPr/>
          <p:nvPr/>
        </p:nvPicPr>
        <p:blipFill>
          <a:blip r:embed="rId3"/>
          <a:stretch/>
        </p:blipFill>
        <p:spPr>
          <a:xfrm>
            <a:off x="324000" y="169920"/>
            <a:ext cx="1800000" cy="135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8-tub.yandex.net/i?id=23269463-02"/>
          <p:cNvPicPr/>
          <p:nvPr/>
        </p:nvPicPr>
        <p:blipFill>
          <a:blip r:embed="rId4"/>
          <a:stretch/>
        </p:blipFill>
        <p:spPr>
          <a:xfrm>
            <a:off x="3348000" y="4941720"/>
            <a:ext cx="1944720" cy="15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im5-tub.yandex.net/i?id=19862533-01"/>
          <p:cNvPicPr/>
          <p:nvPr/>
        </p:nvPicPr>
        <p:blipFill>
          <a:blip r:embed="rId5"/>
          <a:stretch/>
        </p:blipFill>
        <p:spPr>
          <a:xfrm>
            <a:off x="3635280" y="201600"/>
            <a:ext cx="1501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На разных по типу снимках отображаются различные характеристики земной поверх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im2-tub.yandex.net/i?id=250086020-05"/>
          <p:cNvPicPr/>
          <p:nvPr/>
        </p:nvPicPr>
        <p:blipFill>
          <a:blip r:embed="rId1"/>
          <a:stretch/>
        </p:blipFill>
        <p:spPr>
          <a:xfrm>
            <a:off x="4211640" y="2178000"/>
            <a:ext cx="468144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Картинка 9 из 1168"/>
          <p:cNvPicPr/>
          <p:nvPr/>
        </p:nvPicPr>
        <p:blipFill>
          <a:blip r:embed="rId2"/>
          <a:stretch/>
        </p:blipFill>
        <p:spPr>
          <a:xfrm>
            <a:off x="0" y="2428920"/>
            <a:ext cx="40179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работы с космическими снимками используют ПК и специаль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http://im4-tub.yandex.net/i?id=37288951-04"/>
          <p:cNvPicPr/>
          <p:nvPr/>
        </p:nvPicPr>
        <p:blipFill>
          <a:blip r:embed="rId1"/>
          <a:stretch/>
        </p:blipFill>
        <p:spPr>
          <a:xfrm>
            <a:off x="7286760" y="1643040"/>
            <a:ext cx="102852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1 из 134637"/>
          <p:cNvPicPr/>
          <p:nvPr/>
        </p:nvPicPr>
        <p:blipFill>
          <a:blip r:embed="rId2"/>
          <a:stretch/>
        </p:blipFill>
        <p:spPr>
          <a:xfrm>
            <a:off x="5214960" y="28576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артинка 5 из 134637"/>
          <p:cNvPicPr/>
          <p:nvPr/>
        </p:nvPicPr>
        <p:blipFill>
          <a:blip r:embed="rId3"/>
          <a:stretch/>
        </p:blipFill>
        <p:spPr>
          <a:xfrm>
            <a:off x="928800" y="4857840"/>
            <a:ext cx="107928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ртинка 8 из 134637"/>
          <p:cNvPicPr/>
          <p:nvPr/>
        </p:nvPicPr>
        <p:blipFill>
          <a:blip r:embed="rId4"/>
          <a:stretch/>
        </p:blipFill>
        <p:spPr>
          <a:xfrm>
            <a:off x="4071960" y="571680"/>
            <a:ext cx="1824120" cy="206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Картинка 93 из 134637"/>
          <p:cNvPicPr/>
          <p:nvPr/>
        </p:nvPicPr>
        <p:blipFill>
          <a:blip r:embed="rId5"/>
          <a:stretch/>
        </p:blipFill>
        <p:spPr>
          <a:xfrm>
            <a:off x="3571920" y="4000680"/>
            <a:ext cx="14763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2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личии от карты, космический снимок не имеет условных обозна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шифровка космических снимков - учебник стр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http://im0-tub.yandex.net/i?id=110154456-06"/>
          <p:cNvPicPr/>
          <p:nvPr/>
        </p:nvPicPr>
        <p:blipFill>
          <a:blip r:embed="rId1"/>
          <a:stretch/>
        </p:blipFill>
        <p:spPr>
          <a:xfrm>
            <a:off x="4775040" y="1916280"/>
            <a:ext cx="39006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egoe Script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рисунки 2,3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5143680" cy="341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5572080" y="2143080"/>
            <a:ext cx="3424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0:24:40Z</dcterms:created>
  <dc:creator>татьяна</dc:creator>
  <dc:description/>
  <dc:language>en-US</dc:language>
  <cp:lastModifiedBy>учитель</cp:lastModifiedBy>
  <dcterms:modified xsi:type="dcterms:W3CDTF">2012-09-06T04:15:32Z</dcterms:modified>
  <cp:revision>17</cp:revision>
  <dc:subject/>
  <dc:title>Изображение Земли из космо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00000000000010250300207f7000400038000</vt:lpwstr>
  </property>
</Properties>
</file>