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3.wmf" ContentType="image/x-wmf"/>
  <Override PartName="/ppt/media/image15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F9DE-B794-45CE-9EDB-290E874AB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0663-000A-4953-8DFA-EE9E6D68FF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8E3-C50C-4048-8B05-99AE081B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89F-1956-492A-BCB0-898E6DBF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C1C-FC60-4205-93D3-6092AF37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8C0-7FA8-4440-AA6A-87A3C976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3DC-B53E-4F2A-9722-786F8088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AA4-5EEF-46FE-BC56-A82BE028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8EB-F00E-47F6-9B45-161E8CC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DE4-C92D-416B-A04B-B8990633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B27-7276-40C8-B8CC-AA2D8F4B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647-7078-40DA-A4EE-E4FB277D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D20-2B96-40D4-9688-FD57200D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3F6-9F92-4AC5-9147-DA5AAB68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2132-BEAD-482D-87D4-6B5EBD2E0D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рога без опасност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а дор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ям знать положе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, дружок доверься 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ешь цел и невред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7b"/>
          </a:solidFill>
          <a:ln w="38160">
            <a:solidFill>
              <a:srgbClr val="c2f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59280" y="691920"/>
            <a:ext cx="6084720" cy="86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ый круг: 1—2 — вид транспорта; 2—3 — место для движения транспорта и пешеходов; 3—4 —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д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нспорта   на колесах; 4—1 — команда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ый кру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— лицо, находящееся в транспорте, кроме води­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— лицо, регулирую­щее движение транспорта и пешехо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—4 — составная часть транспортного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360036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знаки вы знаете и что они означа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0" y="25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17"/>
          <p:cNvSpPr/>
          <p:nvPr/>
        </p:nvSpPr>
        <p:spPr>
          <a:xfrm>
            <a:off x="1800" y="34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22971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232596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0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628640"/>
          <a:ext cx="208080" cy="8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31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34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43"/>
          <p:cNvSpPr/>
          <p:nvPr/>
        </p:nvSpPr>
        <p:spPr>
          <a:xfrm>
            <a:off x="1800" y="43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4" descr=""/>
          <p:cNvPicPr/>
          <p:nvPr/>
        </p:nvPicPr>
        <p:blipFill>
          <a:blip r:embed="rId4"/>
          <a:stretch/>
        </p:blipFill>
        <p:spPr>
          <a:xfrm>
            <a:off x="2050920" y="5157720"/>
            <a:ext cx="51134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5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524960" y="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ыполнена учителем начальных классов МОУ СОШ № 26 ст. Челбасской Каневского района Краснодарского края  Деревянко Светланой Васильев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166560" y="167652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Переход дороги в неположенном 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50440" y="205740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подчинение сигналам  регул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215360" y="4952880"/>
            <a:ext cx="57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ожиданный выход на проезжую ча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дороги из-за стоящего транспор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Сооружений, зеленых насаж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678480" y="2924280"/>
            <a:ext cx="34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Игра на проезжей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33760" y="3716280"/>
            <a:ext cx="50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Ходьба по проезжей части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аправлению движения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EA005"/>
          <p:cNvPicPr/>
          <p:nvPr/>
        </p:nvPicPr>
        <p:blipFill>
          <a:blip r:embed="rId2"/>
          <a:stretch/>
        </p:blipFill>
        <p:spPr>
          <a:xfrm>
            <a:off x="826920" y="2133720"/>
            <a:ext cx="1198800" cy="1755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987640" y="26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чины несчастных случа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 аварий на улицах и дорог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 могут быть не только на улицах, но и во дворах, жилых зонах, где дороги не делятся на тротуары и проезжую часть. По­этому по ним могут ходить пеше­ходы и ездить при необходимости автомобили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ь всегда внима­тельным и осторожны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13388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489564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851280" y="3573360"/>
            <a:ext cx="4700520" cy="276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66360" rIns="1266480" tIns="-456840" bIns="-913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12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800" y="4769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08080" cy="2419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6"/>
          <p:cNvSpPr/>
          <p:nvPr/>
        </p:nvSpPr>
        <p:spPr>
          <a:xfrm>
            <a:off x="1800" y="2418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9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83280" cy="4897440"/>
          </a:xfrm>
          <a:prstGeom prst="rect">
            <a:avLst/>
          </a:prstGeom>
          <a:ln w="0">
            <a:noFill/>
          </a:ln>
        </p:spPr>
      </p:pic>
      <p:sp>
        <p:nvSpPr>
          <p:cNvPr id="73" name="Ink 32"/>
          <p:cNvSpPr/>
          <p:nvPr/>
        </p:nvSpPr>
        <p:spPr>
          <a:xfrm>
            <a:off x="8912160" y="6750000"/>
            <a:ext cx="223920" cy="108000"/>
          </a:xfrm>
          <a:custGeom>
            <a:avLst/>
            <a:gdLst/>
            <a:ahLst/>
            <a:rect l="l" t="t" r="r" b="b"/>
            <a:pathLst>
              <a:path w="621" h="299">
                <a:moveTo>
                  <a:pt x="25375" y="19025"/>
                </a:moveTo>
                <a:cubicBezTo>
                  <a:pt x="25309" y="19025"/>
                  <a:pt x="25126" y="18996"/>
                  <a:pt x="25102" y="19000"/>
                </a:cubicBezTo>
                <a:cubicBezTo>
                  <a:pt x="25006" y="19016"/>
                  <a:pt x="24924" y="19116"/>
                  <a:pt x="24854" y="18976"/>
                </a:cubicBezTo>
                <a:cubicBezTo>
                  <a:pt x="24821" y="18911"/>
                  <a:pt x="24881" y="18865"/>
                  <a:pt x="24805" y="18827"/>
                </a:cubicBezTo>
                <a:cubicBezTo>
                  <a:pt x="24745" y="18797"/>
                  <a:pt x="24755" y="18807"/>
                  <a:pt x="24755" y="187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вь подходящие по смыслу слова так, чтобы получился расска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имать     переходит     увидеть     маленький     заметить рассмотреть     пешком     внимателен     высоко    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9 лет. Он каждый день ходит в школу_____________________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и не всегда заранее могут___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го. Его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КИИ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шает ему_________________________приближающиеся  автомобили. Поэтому Саша очень__________________,когда____________________дор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 и дорожные знаки расположены  ____________________, 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ьчик вынужде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у для того, чтобы______________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4581360"/>
            <a:ext cx="854064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 внимательным и осторожным, знай, что опасность может быть везде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373068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335560" cy="615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пдд6"/>
          <p:cNvPicPr/>
          <p:nvPr/>
        </p:nvPicPr>
        <p:blipFill>
          <a:blip r:embed="rId3"/>
          <a:stretch/>
        </p:blipFill>
        <p:spPr>
          <a:xfrm>
            <a:off x="2050920" y="32115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822400" y="53640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ешеходный пере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114800" y="2565360"/>
            <a:ext cx="4344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о полоскам черно-б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 шагает см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Кто из вас, ребята, зн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Знак о чем предупрежд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Дай машине тихий 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ный пере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6:36:33Z</dcterms:created>
  <dc:creator>User</dc:creator>
  <dc:description/>
  <dc:language>en-US</dc:language>
  <cp:lastModifiedBy>Admin</cp:lastModifiedBy>
  <dcterms:modified xsi:type="dcterms:W3CDTF">2012-08-03T06:54:21Z</dcterms:modified>
  <cp:revision>5</cp:revision>
  <dc:subject/>
  <dc:title>Дорога без опасности.</dc:title>
</cp:coreProperties>
</file>