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1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3.wmf" ContentType="image/x-wmf"/>
  <Override PartName="/ppt/media/image15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959C-4F2C-4960-BE96-27520C6826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A86C-1529-4DDF-ABF5-CF90A5D557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ещающие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70F8-70BC-4BD5-A074-F43F67C12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8A62-5EA6-4339-9D8D-7D08B905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8A34-AD71-4CC2-B550-6FDD9621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8524-A23B-42E7-9A22-7F0233FD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4D9B-D6A8-4F2C-B040-B2BF0C20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44C8-F34B-4F24-A814-2FB34D19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D1BB-C2C5-40BE-8C06-ECD51BBE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EA6D-3AF6-4C59-86C3-39E900A0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61E5-F3E4-4B71-B6F8-7D01A6AB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4755-0E24-414C-B191-E95FDC13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D29F-3F17-49E6-AE7D-AF66B1DF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0E50-E089-4441-91D7-5C23D9EC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CA97-7FBB-4D59-842C-B1F687EE0C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Дорога без опасности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ила доро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ям знать положено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ы, дружок доверься и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дешь цел и невреди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00007b"/>
          </a:solidFill>
          <a:ln w="38160">
            <a:solidFill>
              <a:srgbClr val="c2f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  <a:hlinkClick r:id="rId1"/>
              </a:rPr>
              <a:t>Prezentacii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59280" y="691920"/>
            <a:ext cx="6084720" cy="86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171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сный круг: 1—2 — вид транспорта; 2—3 — место для движения транспорта и пешеходов; 3—4 —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д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анспорта   на колесах; 4—1 — команда остано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еленый кру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— лицо, находящееся в транспорте, кроме води­тел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— лицо, регулирую­щее движение транспорта и пешеход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—4 — составная часть транспортного сред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395280" y="0"/>
            <a:ext cx="3600360" cy="60213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himes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знаки вы знаете и что они означаю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1258920" y="3716280"/>
            <a:ext cx="619272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0" y="2529000"/>
          <a:ext cx="208080" cy="884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17"/>
          <p:cNvSpPr/>
          <p:nvPr/>
        </p:nvSpPr>
        <p:spPr>
          <a:xfrm>
            <a:off x="1800" y="34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19" descr=""/>
          <p:cNvPicPr/>
          <p:nvPr/>
        </p:nvPicPr>
        <p:blipFill>
          <a:blip r:embed="rId2"/>
          <a:stretch/>
        </p:blipFill>
        <p:spPr>
          <a:xfrm>
            <a:off x="1692360" y="2133720"/>
            <a:ext cx="2297160" cy="1158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"/>
          <p:cNvPicPr/>
          <p:nvPr/>
        </p:nvPicPr>
        <p:blipFill>
          <a:blip r:embed="rId3"/>
          <a:stretch/>
        </p:blipFill>
        <p:spPr>
          <a:xfrm>
            <a:off x="4716360" y="2133720"/>
            <a:ext cx="2325960" cy="1224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0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628640"/>
          <a:ext cx="208080" cy="8845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Rectangle 31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32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3429000"/>
          <a:ext cx="208080" cy="884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Rectangle 43"/>
          <p:cNvSpPr/>
          <p:nvPr/>
        </p:nvSpPr>
        <p:spPr>
          <a:xfrm>
            <a:off x="1800" y="43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45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4" descr=""/>
          <p:cNvPicPr/>
          <p:nvPr/>
        </p:nvPicPr>
        <p:blipFill>
          <a:blip r:embed="rId4"/>
          <a:stretch/>
        </p:blipFill>
        <p:spPr>
          <a:xfrm>
            <a:off x="2050920" y="5157720"/>
            <a:ext cx="511344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5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dotbordr"/>
          <p:cNvPicPr/>
          <p:nvPr/>
        </p:nvPicPr>
        <p:blipFill>
          <a:blip r:embed="rId2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1524960" y="0"/>
            <a:ext cx="34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орожный зна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9480" y="5943600"/>
            <a:ext cx="809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Comic Sans MS"/>
              </a:rPr>
              <a:t>Нужны для регулирования движения транспорта и пешехо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WordArt 6"/>
          <p:cNvSpPr txBox="1"/>
          <p:nvPr/>
        </p:nvSpPr>
        <p:spPr>
          <a:xfrm>
            <a:off x="2057400" y="685800"/>
            <a:ext cx="67057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-табличка со схематическим рисунком,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помогающим регулировать движение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5867280" y="1905120"/>
            <a:ext cx="2590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едупреждающие</a:t>
            </a:r>
            <a:endParaRPr b="1" i="1" lang="en-US" sz="20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1219320" y="1981080"/>
            <a:ext cx="2514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апрещающие </a:t>
            </a:r>
            <a:endParaRPr b="1" i="1" lang="en-US" sz="20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WordArt 9"/>
          <p:cNvSpPr txBox="1"/>
          <p:nvPr/>
        </p:nvSpPr>
        <p:spPr>
          <a:xfrm>
            <a:off x="1143000" y="2971800"/>
            <a:ext cx="2666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редписывающие 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WordArt 10"/>
          <p:cNvSpPr txBox="1"/>
          <p:nvPr/>
        </p:nvSpPr>
        <p:spPr>
          <a:xfrm>
            <a:off x="5867280" y="3048120"/>
            <a:ext cx="3048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наки приоритета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WordArt 11"/>
          <p:cNvSpPr txBox="1"/>
          <p:nvPr/>
        </p:nvSpPr>
        <p:spPr>
          <a:xfrm>
            <a:off x="2362320" y="4267080"/>
            <a:ext cx="4800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наки сервиса и 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дополнительной информации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in"/>
    <p:sndAc>
      <p:stSnd>
        <p:snd r:embed="rId3" name="chimes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500"/>
                            </p:stCondLst>
                            <p:childTnLst>
                              <p:par>
                                <p:cTn id="203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7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выполнена учителем начальных классов МОУ СОШ № 26 ст. Челбасской Каневского района Краснодарского края  Деревянко Светланой Васильев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3166560" y="1676520"/>
            <a:ext cx="55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Переход дороги в неположенном мес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250440" y="2057400"/>
            <a:ext cx="57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Неподчинение сигналам  регулир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215360" y="4952880"/>
            <a:ext cx="576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Неожиданный выход на проезжую ча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дороги из-за стоящего транспор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Сооружений, зеленых насажд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678480" y="2924280"/>
            <a:ext cx="34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Игра на проезжей ч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633760" y="3716280"/>
            <a:ext cx="508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Ходьба по проезжей части п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направлению движения трансп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8" descr="HEA005"/>
          <p:cNvPicPr/>
          <p:nvPr/>
        </p:nvPicPr>
        <p:blipFill>
          <a:blip r:embed="rId2"/>
          <a:stretch/>
        </p:blipFill>
        <p:spPr>
          <a:xfrm>
            <a:off x="826920" y="2133720"/>
            <a:ext cx="1198800" cy="1755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dotbordr"/>
          <p:cNvPicPr/>
          <p:nvPr/>
        </p:nvPicPr>
        <p:blipFill>
          <a:blip r:embed="rId3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0"/>
          <p:cNvSpPr/>
          <p:nvPr/>
        </p:nvSpPr>
        <p:spPr>
          <a:xfrm>
            <a:off x="2987640" y="260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ичины несчастных случае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 аварий на улицах и дорог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4" name="chimes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00720" y="620640"/>
            <a:ext cx="419400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ОМН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асности могут быть не только на улицах, но и во дворах, жилых зонах, где дороги не делятся на тротуары и проезжую часть. По­этому по ним могут ходить пеше­ходы и ездить при необходимости автомобили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дь всегда внима­тельным и осторожны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4133880" cy="39337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himes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4895640" cy="273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3851280" y="3573360"/>
            <a:ext cx="4700520" cy="2760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66360" rIns="1266480" tIns="-456840" bIns="-913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61128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1800" y="47692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0"/>
          <a:ext cx="208080" cy="2419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4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16"/>
          <p:cNvSpPr/>
          <p:nvPr/>
        </p:nvSpPr>
        <p:spPr>
          <a:xfrm>
            <a:off x="1800" y="2418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30"/>
          <p:cNvSpPr/>
          <p:nvPr/>
        </p:nvSpPr>
        <p:spPr>
          <a:xfrm>
            <a:off x="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29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83280" cy="4897440"/>
          </a:xfrm>
          <a:prstGeom prst="rect">
            <a:avLst/>
          </a:prstGeom>
          <a:ln w="0">
            <a:noFill/>
          </a:ln>
        </p:spPr>
      </p:pic>
      <p:sp>
        <p:nvSpPr>
          <p:cNvPr id="73" name="Ink 32"/>
          <p:cNvSpPr/>
          <p:nvPr/>
        </p:nvSpPr>
        <p:spPr>
          <a:xfrm>
            <a:off x="8912160" y="6750000"/>
            <a:ext cx="223920" cy="108000"/>
          </a:xfrm>
          <a:custGeom>
            <a:avLst/>
            <a:gdLst/>
            <a:ahLst/>
            <a:rect l="l" t="t" r="r" b="b"/>
            <a:pathLst>
              <a:path w="621" h="299">
                <a:moveTo>
                  <a:pt x="25375" y="19025"/>
                </a:moveTo>
                <a:cubicBezTo>
                  <a:pt x="25309" y="19025"/>
                  <a:pt x="25126" y="18996"/>
                  <a:pt x="25102" y="19000"/>
                </a:cubicBezTo>
                <a:cubicBezTo>
                  <a:pt x="25006" y="19016"/>
                  <a:pt x="24924" y="19116"/>
                  <a:pt x="24854" y="18976"/>
                </a:cubicBezTo>
                <a:cubicBezTo>
                  <a:pt x="24821" y="18911"/>
                  <a:pt x="24881" y="18865"/>
                  <a:pt x="24805" y="18827"/>
                </a:cubicBezTo>
                <a:cubicBezTo>
                  <a:pt x="24745" y="18797"/>
                  <a:pt x="24755" y="18807"/>
                  <a:pt x="24755" y="1875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одумай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тавь подходящие по смыслу слова так, чтобы получился рассказ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нимать     переходит     увидеть     маленький     заметить рассмотреть     пешком     внимателен     высоко     ро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9 лет. Он каждый день ходит в школу_____________________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ители не всегда заранее могут_______________________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его. Его н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ОКИИ____________________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шает ему_________________________приближающиеся  автомобили. Поэтому Саша очень__________________,когда____________________дорог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етофор и дорожные знаки расположены  ____________________, 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льчик вынужден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____________________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лову для того, чтобы______________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4581360"/>
            <a:ext cx="854064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дь внимательным и осторожным, знай, что опасность может быть везде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3730680" cy="40766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himes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5335560" cy="61516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dotbordr"/>
          <p:cNvPicPr/>
          <p:nvPr/>
        </p:nvPicPr>
        <p:blipFill>
          <a:blip r:embed="rId2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пдд6"/>
          <p:cNvPicPr/>
          <p:nvPr/>
        </p:nvPicPr>
        <p:blipFill>
          <a:blip r:embed="rId3"/>
          <a:stretch/>
        </p:blipFill>
        <p:spPr>
          <a:xfrm>
            <a:off x="2050920" y="321156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2822400" y="536400"/>
            <a:ext cx="46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Пешеходный перех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4114800" y="2565360"/>
            <a:ext cx="43448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По полоскам черно-бел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Пешеход шагает сме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Кто из вас, ребята, знае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Знак о чем предупреждае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Дай машине тихий х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Пешеходный перех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4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6:36:33Z</dcterms:created>
  <dc:creator>User</dc:creator>
  <dc:description/>
  <dc:language>en-US</dc:language>
  <cp:lastModifiedBy>Admin</cp:lastModifiedBy>
  <dcterms:modified xsi:type="dcterms:W3CDTF">2012-08-03T06:54:21Z</dcterms:modified>
  <cp:revision>5</cp:revision>
  <dc:subject/>
  <dc:title>Дорога без опасности.</dc:title>
</cp:coreProperties>
</file>