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7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3.jpeg" ContentType="image/jpeg"/>
  <Override PartName="/ppt/media/image4.png" ContentType="image/png"/>
  <Override PartName="/ppt/media/image10.jpeg" ContentType="image/jpeg"/>
  <Override PartName="/ppt/media/image8.jpeg" ContentType="image/jpeg"/>
  <Override PartName="/ppt/media/image1.jpeg" ContentType="image/jpeg"/>
  <Override PartName="/ppt/media/image16.jpeg" ContentType="image/jpeg"/>
  <Override PartName="/ppt/media/chimes.wav" ContentType="audio/x-wav"/>
  <Override PartName="/ppt/media/image6.jpeg" ContentType="image/jpeg"/>
  <Override PartName="/ppt/media/image3.wmf" ContentType="image/x-wmf"/>
  <Override PartName="/ppt/media/image15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2EABC-3DAF-407E-8F3F-4BD8FE8D20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AD292-0FC8-466C-A908-89A67573EED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рещающие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277B-4ADF-40C9-8DA2-7C37F9014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C5E4-C6CC-46E1-92B4-D86320E1E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B7E8-2FDE-4BD8-9F0A-C9C123304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B59C-6E3F-4053-94F7-857A383F1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4B35-4DC9-4ABE-8C4B-59B293656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0E4F-0964-4AB9-B4FC-87786B872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59E4-C3FF-4864-90AC-2864E49EA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4478-F20F-465A-8EF8-35AB3C895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9239-14DB-47D1-ADA5-A4DA3CD8A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525B-C5E7-4336-A821-DFB7079F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F44D-0918-48A1-A2AA-67CAB57A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FF3F-E86D-4694-876D-3494E96A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844AC-4C32-4A91-BCE3-85CB4B577C6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Дорога без опасности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авила дорож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тям знать положено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ы, дружок доверься им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удешь цел и невредим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059280" y="691920"/>
            <a:ext cx="6084720" cy="86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1718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асный круг: 1—2 — вид транспорта; 2—3 — место для движения транспорта и пешеходов; 3—4 —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ид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ранспорта   на колесах; 4—1 — команда остановить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еленый круг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 — лицо, находящееся в транспорте, кроме води­тел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 — лицо, регулирую­щее движение транспорта и пешеход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—4 — составная часть транспортного сред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395280" y="0"/>
            <a:ext cx="3600360" cy="602136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  <p:sndAc>
      <p:stSnd>
        <p:snd r:embed="rId2" name="chimes.wav"/>
      </p:stSnd>
    </p:sndAc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01680" y="259920"/>
            <a:ext cx="8540640" cy="58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ие знаки вы знаете и что они означают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1258920" y="3716280"/>
            <a:ext cx="619272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"/>
          <p:cNvGraphicFramePr/>
          <p:nvPr/>
        </p:nvGraphicFramePr>
        <p:xfrm>
          <a:off x="0" y="2529000"/>
          <a:ext cx="208080" cy="8841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Rectangle 17"/>
          <p:cNvSpPr/>
          <p:nvPr/>
        </p:nvSpPr>
        <p:spPr>
          <a:xfrm>
            <a:off x="1800" y="34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19" descr=""/>
          <p:cNvPicPr/>
          <p:nvPr/>
        </p:nvPicPr>
        <p:blipFill>
          <a:blip r:embed="rId2"/>
          <a:stretch/>
        </p:blipFill>
        <p:spPr>
          <a:xfrm>
            <a:off x="1692360" y="2133720"/>
            <a:ext cx="2297160" cy="1158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8" descr=""/>
          <p:cNvPicPr/>
          <p:nvPr/>
        </p:nvPicPr>
        <p:blipFill>
          <a:blip r:embed="rId3"/>
          <a:stretch/>
        </p:blipFill>
        <p:spPr>
          <a:xfrm>
            <a:off x="4716360" y="2133720"/>
            <a:ext cx="2325960" cy="1224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0"/>
          <p:cNvSpPr/>
          <p:nvPr/>
        </p:nvSpPr>
        <p:spPr>
          <a:xfrm>
            <a:off x="0" y="162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0" y="1628640"/>
          <a:ext cx="208080" cy="8845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Rectangle 31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2"/>
          <p:cNvSpPr/>
          <p:nvPr/>
        </p:nvSpPr>
        <p:spPr>
          <a:xfrm>
            <a:off x="0" y="162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0" y="3429000"/>
          <a:ext cx="208080" cy="8841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Rectangle 43"/>
          <p:cNvSpPr/>
          <p:nvPr/>
        </p:nvSpPr>
        <p:spPr>
          <a:xfrm>
            <a:off x="1800" y="43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45"/>
          <p:cNvSpPr/>
          <p:nvPr/>
        </p:nvSpPr>
        <p:spPr>
          <a:xfrm>
            <a:off x="0" y="296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4" descr=""/>
          <p:cNvPicPr/>
          <p:nvPr/>
        </p:nvPicPr>
        <p:blipFill>
          <a:blip r:embed="rId4"/>
          <a:stretch/>
        </p:blipFill>
        <p:spPr>
          <a:xfrm>
            <a:off x="2050920" y="5157720"/>
            <a:ext cx="5113440" cy="12240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  <p:sndAc>
      <p:stSnd>
        <p:snd r:embed="rId5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PASTE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dotbordr"/>
          <p:cNvPicPr/>
          <p:nvPr/>
        </p:nvPicPr>
        <p:blipFill>
          <a:blip r:embed="rId2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"/>
          <p:cNvSpPr/>
          <p:nvPr/>
        </p:nvSpPr>
        <p:spPr>
          <a:xfrm>
            <a:off x="1524960" y="0"/>
            <a:ext cx="347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Дорожный зна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609480" y="5943600"/>
            <a:ext cx="809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99"/>
                </a:solidFill>
                <a:latin typeface="Comic Sans MS"/>
              </a:rPr>
              <a:t>Нужны для регулирования движения транспорта и пешеход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WordArt 6"/>
          <p:cNvSpPr txBox="1"/>
          <p:nvPr/>
        </p:nvSpPr>
        <p:spPr>
          <a:xfrm>
            <a:off x="2057400" y="685800"/>
            <a:ext cx="670572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-табличка со схематическим рисунком, 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помогающим регулировать движение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106" name="WordArt 7"/>
          <p:cNvSpPr txBox="1"/>
          <p:nvPr/>
        </p:nvSpPr>
        <p:spPr>
          <a:xfrm>
            <a:off x="5867280" y="1905120"/>
            <a:ext cx="2590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редупреждающие</a:t>
            </a:r>
            <a:endParaRPr b="1" i="1" lang="en-US" sz="20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7" name="WordArt 8"/>
          <p:cNvSpPr txBox="1"/>
          <p:nvPr/>
        </p:nvSpPr>
        <p:spPr>
          <a:xfrm>
            <a:off x="1219320" y="1981080"/>
            <a:ext cx="25146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Запрещающие </a:t>
            </a:r>
            <a:endParaRPr b="1" i="1" lang="en-US" sz="20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8" name="WordArt 9"/>
          <p:cNvSpPr txBox="1"/>
          <p:nvPr/>
        </p:nvSpPr>
        <p:spPr>
          <a:xfrm>
            <a:off x="1143000" y="2971800"/>
            <a:ext cx="2666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Предписывающие </a:t>
            </a:r>
            <a:endParaRPr b="1" i="1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9" name="WordArt 10"/>
          <p:cNvSpPr txBox="1"/>
          <p:nvPr/>
        </p:nvSpPr>
        <p:spPr>
          <a:xfrm>
            <a:off x="5867280" y="3048120"/>
            <a:ext cx="30481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Знаки приоритета</a:t>
            </a:r>
            <a:endParaRPr b="1" i="1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0" name="WordArt 11"/>
          <p:cNvSpPr txBox="1"/>
          <p:nvPr/>
        </p:nvSpPr>
        <p:spPr>
          <a:xfrm>
            <a:off x="2362320" y="4267080"/>
            <a:ext cx="4800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Знаки сервиса и </a:t>
            </a:r>
            <a:endParaRPr b="1" i="1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дополнительной информации</a:t>
            </a:r>
            <a:endParaRPr b="1" i="1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zoom dir="in"/>
    <p:sndAc>
      <p:stSnd>
        <p:snd r:embed="rId3" name="chimes.wav"/>
      </p:stSnd>
    </p:sndAc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500"/>
                            </p:stCondLst>
                            <p:childTnLst>
                              <p:par>
                                <p:cTn id="195" nodeType="afterEffect" fill="hold" presetClass="entr" presetID="1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9" nodeType="afterEffect" fill="hold" presetClass="entr" presetID="1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8500"/>
                            </p:stCondLst>
                            <p:childTnLst>
                              <p:par>
                                <p:cTn id="203" nodeType="afterEffect" fill="hold" presetClass="entr" presetID="1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7" nodeType="afterEffect" fill="hold" presetClass="entr" presetID="1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3500"/>
                            </p:stCondLst>
                            <p:childTnLst>
                              <p:par>
                                <p:cTn id="211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а выполнена учителем начальных классов МОУ СОШ № 26 ст. Челбасской Каневского района Краснодарского края  Деревянко Светланой Васильевн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  <p:sndAc>
      <p:stSnd>
        <p:snd r:embed="rId1" name="chimes.wav"/>
      </p:stSnd>
    </p:sndAc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PASTE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3166560" y="1676520"/>
            <a:ext cx="551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Comic Sans MS"/>
              </a:rPr>
              <a:t>Переход дороги в неположенном мест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3250440" y="2057400"/>
            <a:ext cx="57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Comic Sans MS"/>
              </a:rPr>
              <a:t>Неподчинение сигналам  регулиров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1215360" y="4952880"/>
            <a:ext cx="5767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Comic Sans MS"/>
              </a:rPr>
              <a:t>Неожиданный выход на проезжую част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Comic Sans MS"/>
              </a:rPr>
              <a:t>дороги из-за стоящего транспорт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Comic Sans MS"/>
              </a:rPr>
              <a:t>Сооружений, зеленых насажде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3678480" y="2924280"/>
            <a:ext cx="34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Comic Sans MS"/>
              </a:rPr>
              <a:t>Игра на проезжей ча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2633760" y="3716280"/>
            <a:ext cx="508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Comic Sans MS"/>
              </a:rPr>
              <a:t>Ходьба по проезжей части п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Comic Sans MS"/>
              </a:rPr>
              <a:t>направлению движения транспор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8" descr="HEA005"/>
          <p:cNvPicPr/>
          <p:nvPr/>
        </p:nvPicPr>
        <p:blipFill>
          <a:blip r:embed="rId2"/>
          <a:stretch/>
        </p:blipFill>
        <p:spPr>
          <a:xfrm>
            <a:off x="826920" y="2133720"/>
            <a:ext cx="1198800" cy="1755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dotbordr"/>
          <p:cNvPicPr/>
          <p:nvPr/>
        </p:nvPicPr>
        <p:blipFill>
          <a:blip r:embed="rId3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0"/>
          <p:cNvSpPr/>
          <p:nvPr/>
        </p:nvSpPr>
        <p:spPr>
          <a:xfrm>
            <a:off x="2987640" y="2602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Причины несчастных случае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и аварий на улицах и дорог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  <p:sndAc>
      <p:stSnd>
        <p:snd r:embed="rId4" name="chimes.wav"/>
      </p:stSnd>
    </p:sndAc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500"/>
                            </p:stCondLst>
                            <p:childTnLst>
                              <p:par>
                                <p:cTn id="6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00720" y="620640"/>
            <a:ext cx="419400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ПОМНИ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асности могут быть не только на улицах, но и во дворах, жилых зонах, где дороги не делятся на тротуары и проезжую часть. По­этому по ним могут ходить пеше­ходы и ездить при необходимости автомобили.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удь всегда внима­тельным и осторожным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4133880" cy="393372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  <p:sndAc>
      <p:stSnd>
        <p:snd r:embed="rId2" name="chimes.wav"/>
      </p:stSnd>
    </p:sndAc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4895640" cy="2735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2"/>
          <a:stretch/>
        </p:blipFill>
        <p:spPr>
          <a:xfrm>
            <a:off x="3851280" y="3573360"/>
            <a:ext cx="4700520" cy="27608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66360" rIns="1266480" tIns="-456840" bIns="-913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61128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1800" y="47692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  <p:sndAc>
      <p:stSnd>
        <p:snd r:embed="rId3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0" y="0"/>
          <a:ext cx="208080" cy="2419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4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6"/>
          <p:cNvSpPr/>
          <p:nvPr/>
        </p:nvSpPr>
        <p:spPr>
          <a:xfrm>
            <a:off x="1800" y="24188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30"/>
          <p:cNvSpPr/>
          <p:nvPr/>
        </p:nvSpPr>
        <p:spPr>
          <a:xfrm>
            <a:off x="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29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983280" cy="4897440"/>
          </a:xfrm>
          <a:prstGeom prst="rect">
            <a:avLst/>
          </a:prstGeom>
          <a:ln w="0">
            <a:noFill/>
          </a:ln>
        </p:spPr>
      </p:pic>
      <p:sp>
        <p:nvSpPr>
          <p:cNvPr id="72" name="Ink 32"/>
          <p:cNvSpPr/>
          <p:nvPr/>
        </p:nvSpPr>
        <p:spPr>
          <a:xfrm>
            <a:off x="8912160" y="6750000"/>
            <a:ext cx="223920" cy="108000"/>
          </a:xfrm>
          <a:custGeom>
            <a:avLst/>
            <a:gdLst/>
            <a:ahLst/>
            <a:rect l="l" t="t" r="r" b="b"/>
            <a:pathLst>
              <a:path w="621" h="299">
                <a:moveTo>
                  <a:pt x="25375" y="19025"/>
                </a:moveTo>
                <a:cubicBezTo>
                  <a:pt x="25309" y="19025"/>
                  <a:pt x="25126" y="18996"/>
                  <a:pt x="25102" y="19000"/>
                </a:cubicBezTo>
                <a:cubicBezTo>
                  <a:pt x="25006" y="19016"/>
                  <a:pt x="24924" y="19116"/>
                  <a:pt x="24854" y="18976"/>
                </a:cubicBezTo>
                <a:cubicBezTo>
                  <a:pt x="24821" y="18911"/>
                  <a:pt x="24881" y="18865"/>
                  <a:pt x="24805" y="18827"/>
                </a:cubicBezTo>
                <a:cubicBezTo>
                  <a:pt x="24745" y="18797"/>
                  <a:pt x="24755" y="18807"/>
                  <a:pt x="24755" y="1875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Подумай!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ставь подходящие по смыслу слова так, чтобы получился рассказ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нимать     переходит     увидеть     маленький     заметить рассмотреть     пешком     внимателен     высоко     рос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9 лет. Он каждый день ходит в школу_____________________ 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дители не всегда заранее могут_______________________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его. Его не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ыСОКИИ_____________________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шает ему_________________________приближающиеся  автомобили. Поэтому Саша очень__________________,когда____________________дорог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ветофор и дорожные знаки расположены  ____________________, и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льчик вынужден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____________________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лову для того, чтобы______________и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  <p:sndAc>
      <p:stSnd>
        <p:snd r:embed="rId1" name="chimes.wav"/>
      </p:stSnd>
    </p:sndAc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24000" y="4581360"/>
            <a:ext cx="8540640" cy="31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удь внимательным и осторожным, знай, что опасность может быть везде.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2556000" y="260280"/>
            <a:ext cx="3730680" cy="407664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  <p:sndAc>
      <p:stSnd>
        <p:snd r:embed="rId2" name="chimes.wav"/>
      </p:stSnd>
    </p:sndAc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1835280" y="260280"/>
            <a:ext cx="5335560" cy="61516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PASTE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dotbordr"/>
          <p:cNvPicPr/>
          <p:nvPr/>
        </p:nvPicPr>
        <p:blipFill>
          <a:blip r:embed="rId2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пдд6"/>
          <p:cNvPicPr/>
          <p:nvPr/>
        </p:nvPicPr>
        <p:blipFill>
          <a:blip r:embed="rId3"/>
          <a:stretch/>
        </p:blipFill>
        <p:spPr>
          <a:xfrm>
            <a:off x="2050920" y="3211560"/>
            <a:ext cx="1297080" cy="129708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5"/>
          <p:cNvSpPr/>
          <p:nvPr/>
        </p:nvSpPr>
        <p:spPr>
          <a:xfrm>
            <a:off x="2822400" y="536400"/>
            <a:ext cx="462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Пешеходный перехо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4114800" y="2565360"/>
            <a:ext cx="434484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Times New Roman"/>
              </a:rPr>
              <a:t>По полоскам черно-белы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Times New Roman"/>
              </a:rPr>
              <a:t>Пешеход шагает смел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Times New Roman"/>
              </a:rPr>
              <a:t>Кто из вас, ребята, знает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Times New Roman"/>
              </a:rPr>
              <a:t>Знак о чем предупреждает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Times New Roman"/>
              </a:rPr>
              <a:t>Дай машине тихий х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Times New Roman"/>
              </a:rPr>
              <a:t>Пешеходный перехо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  <p:sndAc>
      <p:stSnd>
        <p:snd r:embed="rId4" name="chimes.wav"/>
      </p:stSnd>
    </p:sndAc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0T16:36:33Z</dcterms:created>
  <dc:creator>User</dc:creator>
  <dc:description/>
  <dc:language>en-US</dc:language>
  <cp:lastModifiedBy>Николай</cp:lastModifiedBy>
  <dcterms:modified xsi:type="dcterms:W3CDTF">2013-04-27T08:49:55Z</dcterms:modified>
  <cp:revision>6</cp:revision>
  <dc:subject/>
  <dc:title>Дорога без опасности.</dc:title>
</cp:coreProperties>
</file>