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FB75-D97F-41E8-A1AB-410A81546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459-CAFE-44AE-BD8D-94D068E6D8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344-6566-4258-8223-7786DA26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733-9C6E-4281-B091-E8C34ADE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11D-C924-40B7-9515-BDA416B0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4F1-11FE-4740-8E32-48B271E0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9AA-011D-4521-ADD0-36A2EC13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6E1-59F1-4EDF-A461-AFBA366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BD9-0DD2-4CC2-A8B0-5046A39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539-2D6E-4CDA-BCE6-D1B610F4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795-F8B1-42F5-AAC9-86D412C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738-A3ED-46BD-9700-AA1AE9E3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393-29A5-46D4-8581-6F8BCB7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E4C-8C10-4629-A8D1-9C7A02F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21A-08E1-49F2-AE91-ED428A1F11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рога без опаснос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дор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 знать положе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, дружок доверься 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59280" y="691920"/>
            <a:ext cx="6084720" cy="86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руг: 1—2 — вид транспорта; 2—3 — место для движения транспорта и пешеходов; 3—4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порта   на колесах; 4—1 — команда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й кр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— лицо, находящееся в транспорте, кроме води­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— лицо, регулирую­щее движение транспорта и пешех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—4 — составная часть транспортного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600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наки вы знаете и что они означ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0" y="25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17"/>
          <p:cNvSpPr/>
          <p:nvPr/>
        </p:nvSpPr>
        <p:spPr>
          <a:xfrm>
            <a:off x="1800" y="34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971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32596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0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28640"/>
          <a:ext cx="208080" cy="8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1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4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3"/>
          <p:cNvSpPr/>
          <p:nvPr/>
        </p:nvSpPr>
        <p:spPr>
          <a:xfrm>
            <a:off x="1800" y="43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4" descr=""/>
          <p:cNvPicPr/>
          <p:nvPr/>
        </p:nvPicPr>
        <p:blipFill>
          <a:blip r:embed="rId4"/>
          <a:stretch/>
        </p:blipFill>
        <p:spPr>
          <a:xfrm>
            <a:off x="2050920" y="5157720"/>
            <a:ext cx="5113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524960" y="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начальных классов МОУ СОШ № 26 ст. Челбасской Каневского района Краснодарского края  Деревянко Светланой Василье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166560" y="16765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Переход дороги в неположенном 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250440" y="20574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подчинение сигналам 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5360" y="4952880"/>
            <a:ext cx="57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ожиданный выход на проезжую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дороги из-за стоящего транспор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ооружений, зеленых наса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678480" y="2924280"/>
            <a:ext cx="34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гра на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633760" y="37162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Ходьба по проезжей част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аправлению движения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HEA005"/>
          <p:cNvPicPr/>
          <p:nvPr/>
        </p:nvPicPr>
        <p:blipFill>
          <a:blip r:embed="rId2"/>
          <a:stretch/>
        </p:blipFill>
        <p:spPr>
          <a:xfrm>
            <a:off x="826920" y="2133720"/>
            <a:ext cx="119880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2987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чины несчастных случа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аварий на улицах и дорог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 могут быть не только на улицах, но и во дворах, жилых зонах, где дороги не делятся на тротуары и проезжую часть. По­этому по ним могут ходить пеше­ходы и ездить при необходимости автомобили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ь всегда внима­тельным и осторо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338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95640" cy="27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700520" cy="2760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66360" rIns="1266480" tIns="-456840" bIns="-913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800" y="4769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0"/>
          <a:ext cx="208080" cy="241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6"/>
          <p:cNvSpPr/>
          <p:nvPr/>
        </p:nvSpPr>
        <p:spPr>
          <a:xfrm>
            <a:off x="1800" y="2418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9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3280" cy="4897440"/>
          </a:xfrm>
          <a:prstGeom prst="rect">
            <a:avLst/>
          </a:prstGeom>
          <a:ln w="0">
            <a:noFill/>
          </a:ln>
        </p:spPr>
      </p:pic>
      <p:sp>
        <p:nvSpPr>
          <p:cNvPr id="72" name="Ink 32"/>
          <p:cNvSpPr/>
          <p:nvPr/>
        </p:nvSpPr>
        <p:spPr>
          <a:xfrm>
            <a:off x="8912160" y="6750000"/>
            <a:ext cx="2239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25375" y="19025"/>
                </a:moveTo>
                <a:cubicBezTo>
                  <a:pt x="25309" y="19025"/>
                  <a:pt x="25126" y="18996"/>
                  <a:pt x="25102" y="19000"/>
                </a:cubicBezTo>
                <a:cubicBezTo>
                  <a:pt x="25006" y="19016"/>
                  <a:pt x="24924" y="19116"/>
                  <a:pt x="24854" y="18976"/>
                </a:cubicBezTo>
                <a:cubicBezTo>
                  <a:pt x="24821" y="18911"/>
                  <a:pt x="24881" y="18865"/>
                  <a:pt x="24805" y="18827"/>
                </a:cubicBezTo>
                <a:cubicBezTo>
                  <a:pt x="24745" y="18797"/>
                  <a:pt x="24755" y="18807"/>
                  <a:pt x="24755" y="187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ь подходящие по смыслу слова так, чтобы получился расска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имать     переходит     увидеть     маленький     заметить рассмотреть     пешком     внимателен     высоко    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9 лет. Он каждый день ходит в школу_____________________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и не всегда заранее могут___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го. Ег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И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шает ему_________________________приближающиеся  автомобили. Поэтому Саша очень__________________,когда____________________дор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и дорожные знаки расположены  ____________________, 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ьчик вынужде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у для того, чтобы______________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54064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ым и осторожным, знай, что опасность может быть везд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73068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35560" cy="615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пдд6"/>
          <p:cNvPicPr/>
          <p:nvPr/>
        </p:nvPicPr>
        <p:blipFill>
          <a:blip r:embed="rId3"/>
          <a:stretch/>
        </p:blipFill>
        <p:spPr>
          <a:xfrm>
            <a:off x="2050920" y="32115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822400" y="5364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114800" y="2565360"/>
            <a:ext cx="434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 шагает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Кто из вас, ребята, зн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Дай машине тихий 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ный пере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6:33Z</dcterms:created>
  <dc:creator>User</dc:creator>
  <dc:description/>
  <dc:language>en-US</dc:language>
  <cp:lastModifiedBy>Николай</cp:lastModifiedBy>
  <dcterms:modified xsi:type="dcterms:W3CDTF">2013-04-27T08:49:55Z</dcterms:modified>
  <cp:revision>6</cp:revision>
  <dc:subject/>
  <dc:title>Дорога без опасности.</dc:title>
</cp:coreProperties>
</file>