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3.wmf" ContentType="image/x-wmf"/>
  <Override PartName="/ppt/media/image15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8487-5CBE-49C0-8A20-25B5998B2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6C36-A816-4367-B4DC-BA7E22F229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AE0-8707-48F5-A096-2C9E1E12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3B9-44C5-4F8F-A2E3-3C62A0E0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AB0-1408-43B1-8A79-DA084EC3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FF4-E39B-450D-92C4-6463407F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E7D-A71D-4F5B-B0CC-25D53186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2E4-3B8B-4180-AB3E-4978640A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3E6-8549-4276-823F-42091CC1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4A1-CD14-4117-8790-B7F4A0E9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83D-4D65-477E-BD3B-5BCB7B5D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FF6-3050-4CAF-83BD-AC8FF445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233-AE71-47AD-A331-99FB592B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52A-7636-48C5-AD5E-2D89272C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4160-5AFE-4BAF-92D6-932B40E7C3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орога без опасност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а доро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тям знать положен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ы, дружок доверься и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ешь цел и невреди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59280" y="691920"/>
            <a:ext cx="6084720" cy="86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ный круг: 1—2 — вид транспорта; 2—3 — место для движения транспорта и пешеходов; 3—4 —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д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нспорта   на колесах; 4—1 — команда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ый кру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— лицо, находящееся в транспорте, кроме води­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— лицо, регулирую­щее движение транспорта и пешехо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—4 — составная часть транспортного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3600360" cy="6021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знаки вы знаете и что они означа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1258920" y="3716280"/>
            <a:ext cx="61927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0" y="25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17"/>
          <p:cNvSpPr/>
          <p:nvPr/>
        </p:nvSpPr>
        <p:spPr>
          <a:xfrm>
            <a:off x="1800" y="34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9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22971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232596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0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628640"/>
          <a:ext cx="208080" cy="8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1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2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3429000"/>
          <a:ext cx="208080" cy="8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43"/>
          <p:cNvSpPr/>
          <p:nvPr/>
        </p:nvSpPr>
        <p:spPr>
          <a:xfrm>
            <a:off x="1800" y="43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45"/>
          <p:cNvSpPr/>
          <p:nvPr/>
        </p:nvSpPr>
        <p:spPr>
          <a:xfrm>
            <a:off x="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4" descr=""/>
          <p:cNvPicPr/>
          <p:nvPr/>
        </p:nvPicPr>
        <p:blipFill>
          <a:blip r:embed="rId4"/>
          <a:stretch/>
        </p:blipFill>
        <p:spPr>
          <a:xfrm>
            <a:off x="2050920" y="5157720"/>
            <a:ext cx="511344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5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524960" y="0"/>
            <a:ext cx="34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рожный зн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9480" y="5943600"/>
            <a:ext cx="809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Comic Sans MS"/>
              </a:rPr>
              <a:t>Нужны для регулирования движения транспорта и пеше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2057400" y="685800"/>
            <a:ext cx="6705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-табличка со схематическим рисунком,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омогающим регулировать движение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5867280" y="1905120"/>
            <a:ext cx="2590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едупреждающие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1219320" y="19810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апрещающие </a:t>
            </a:r>
            <a:endParaRPr b="1" i="1" lang="en-US" sz="20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1143000" y="297180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едписывающие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0"/>
          <p:cNvSpPr txBox="1"/>
          <p:nvPr/>
        </p:nvSpPr>
        <p:spPr>
          <a:xfrm>
            <a:off x="5867280" y="3048120"/>
            <a:ext cx="3048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приоритета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2362320" y="4267080"/>
            <a:ext cx="4800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Знаки сервиса и 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дополнительной информации</a:t>
            </a:r>
            <a:endParaRPr b="1" i="1" lang="en-US" sz="20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03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nodeType="afterEffect" fill="hold" presetClass="entr" presetID="1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выполнена учителем начальных классов МОУ СОШ № 26 ст. Челбасской Каневского района Краснодарского края  Деревянко Светланой Васильев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166560" y="167652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Переход дороги в неположенном мес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250440" y="205740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подчинение сигналам  регул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215360" y="4952880"/>
            <a:ext cx="576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еожиданный выход на проезжую ча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дороги из-за стоящего транспор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Сооружений, зеленых насажд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678480" y="2924280"/>
            <a:ext cx="34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Игра на проезжей ч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633760" y="3716280"/>
            <a:ext cx="50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Ходьба по проезжей части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направлению движения трансп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8" descr="HEA005"/>
          <p:cNvPicPr/>
          <p:nvPr/>
        </p:nvPicPr>
        <p:blipFill>
          <a:blip r:embed="rId2"/>
          <a:stretch/>
        </p:blipFill>
        <p:spPr>
          <a:xfrm>
            <a:off x="826920" y="2133720"/>
            <a:ext cx="1198800" cy="1755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dotbordr"/>
          <p:cNvPicPr/>
          <p:nvPr/>
        </p:nvPicPr>
        <p:blipFill>
          <a:blip r:embed="rId3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2987640" y="260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чины несчастных случа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 аварий на улицах и дорог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и могут быть не только на улицах, но и во дворах, жилых зонах, где дороги не делятся на тротуары и проезжую часть. По­этому по ним могут ходить пеше­ходы и ездить при необходимости автомобили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ь всегда внима­тельным и осторожны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133880" cy="3933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4895640" cy="273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3851280" y="3573360"/>
            <a:ext cx="4700520" cy="2760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566360" rIns="1266480" tIns="-456840" bIns="-913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6112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1800" y="4769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0"/>
          <a:ext cx="208080" cy="2419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4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6"/>
          <p:cNvSpPr/>
          <p:nvPr/>
        </p:nvSpPr>
        <p:spPr>
          <a:xfrm>
            <a:off x="1800" y="24188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0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9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83280" cy="4897440"/>
          </a:xfrm>
          <a:prstGeom prst="rect">
            <a:avLst/>
          </a:prstGeom>
          <a:ln w="0">
            <a:noFill/>
          </a:ln>
        </p:spPr>
      </p:pic>
      <p:sp>
        <p:nvSpPr>
          <p:cNvPr id="72" name="Ink 32"/>
          <p:cNvSpPr/>
          <p:nvPr/>
        </p:nvSpPr>
        <p:spPr>
          <a:xfrm>
            <a:off x="8912160" y="6750000"/>
            <a:ext cx="223920" cy="108000"/>
          </a:xfrm>
          <a:custGeom>
            <a:avLst/>
            <a:gdLst/>
            <a:ahLst/>
            <a:rect l="l" t="t" r="r" b="b"/>
            <a:pathLst>
              <a:path w="621" h="299">
                <a:moveTo>
                  <a:pt x="25375" y="19025"/>
                </a:moveTo>
                <a:cubicBezTo>
                  <a:pt x="25309" y="19025"/>
                  <a:pt x="25126" y="18996"/>
                  <a:pt x="25102" y="19000"/>
                </a:cubicBezTo>
                <a:cubicBezTo>
                  <a:pt x="25006" y="19016"/>
                  <a:pt x="24924" y="19116"/>
                  <a:pt x="24854" y="18976"/>
                </a:cubicBezTo>
                <a:cubicBezTo>
                  <a:pt x="24821" y="18911"/>
                  <a:pt x="24881" y="18865"/>
                  <a:pt x="24805" y="18827"/>
                </a:cubicBezTo>
                <a:cubicBezTo>
                  <a:pt x="24745" y="18797"/>
                  <a:pt x="24755" y="18807"/>
                  <a:pt x="24755" y="18752"/>
                </a:cubicBezTo>
              </a:path>
            </a:pathLst>
          </a:custGeom>
          <a:noFill/>
          <a:ln cap="rnd" w="349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думай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вь подходящие по смыслу слова так, чтобы получился рассказ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имать     переходит     увидеть     маленький     заметить рассмотреть     пешком     внимателен     высоко    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9 лет. Он каждый день ходит в школу_____________________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ители не всегда заранее могут___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го. Его 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ОКИИ____________________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шает ему_________________________приближающиеся  автомобили. Поэтому Саша очень__________________,когда____________________дор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фор и дорожные знаки расположены  ____________________, 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ьчик вынужде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____________________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ву для того, чтобы______________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4581360"/>
            <a:ext cx="854064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ь внимательным и осторожным, знай, что опасность может быть везде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3730680" cy="4076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5335560" cy="61516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PAST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dotbordr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пдд6"/>
          <p:cNvPicPr/>
          <p:nvPr/>
        </p:nvPicPr>
        <p:blipFill>
          <a:blip r:embed="rId3"/>
          <a:stretch/>
        </p:blipFill>
        <p:spPr>
          <a:xfrm>
            <a:off x="2050920" y="321156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2822400" y="536400"/>
            <a:ext cx="46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Пешеходный пере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114800" y="2565360"/>
            <a:ext cx="4344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о полоскам черно-бел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 шагает см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Кто из вас, ребята, зн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Знак о чем предупрежда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Дай машине тихий х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Пешеходный пере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  <p:sndAc>
      <p:stSnd>
        <p:snd r:embed="rId4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6:36:33Z</dcterms:created>
  <dc:creator>User</dc:creator>
  <dc:description/>
  <dc:language>en-US</dc:language>
  <cp:lastModifiedBy>Николай</cp:lastModifiedBy>
  <dcterms:modified xsi:type="dcterms:W3CDTF">2013-04-27T08:49:55Z</dcterms:modified>
  <cp:revision>6</cp:revision>
  <dc:subject/>
  <dc:title>Дорога без опасности.</dc:title>
</cp:coreProperties>
</file>