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A7C-7656-4CAD-8041-8FAD1451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36B-6C31-4525-AD6D-203AAB6E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AC4-EC90-4B9B-823C-C1088FA7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04B-499D-47C6-9DC1-3400631B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43C-224D-4D0A-8D9B-72318760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677-C7F8-4F1C-826E-14BEA86F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F19-702C-4DF3-AA83-96B45D65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C60-C999-4564-BA4B-9090C37D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6CE-D1EF-43A5-9426-3F38F0A8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1ED-D0F3-4659-8A45-5149F3B4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D18-706B-42EA-A9DC-E4E19CC0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BD8-1B07-4731-B739-CD16E01D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6ABF-2780-4981-BE7E-F501FBCC85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Авария на Чернобыльской АЭС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6553440" cy="4611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462800" y="6216480"/>
            <a:ext cx="16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Аблов М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АВАРИЯ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мерно в 1:24 26 апреля 1986 года на 4-м энергоблоке Чернобыльской АЭС произошёл взрыв, который полностью разрушил реактор. Причиной этого стало проведение испытаний на безопасность на сверхнизкой мощности в 200 МВт, в то время как норма- 700 МВ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гда уровень мощности упал слишком низко, нажатием кнопки аварийного отключения был спровоцирован неудержимый рост мощности, приведший к разрушению 4 бло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дание энергоблока частично обрушилось. Впоследствии остатки активной зоны расплавились. Смесь из расплавленного металла, песка, бетона и частичек топлива растеклась по подреакторным помещения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результате аварии произошёл выброс в окружающую среду радиоактивных веществ, в том числе изотопов урана, плутония, иода-131 (период полураспада 8 дней), цезия-134 (период полураспада 2 года), цезия-137 (период полураспада 33 года), стронция-90 (период полураспада 28 лет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5105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bf1"/>
                </a:solidFill>
                <a:latin typeface="Arial"/>
              </a:rPr>
              <a:t>Некоторые факты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ановка реактора фактически не соответствовала действовавшим нормам безопасности во время проектирования и даже имела небезопасные конструктивные особ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ый анализ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ое внимание к независимому рассмотрению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ламенты по эксплуатации надлежащим образом не обоснованы в анализе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ый и неэффективный обмен важной информацией по безопасности, как между операторами, так и между операторами и проектировщи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ое понимание персоналом аспектов их станции, связанных с безопас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СГОРАЕМЫХ материалов в строительстве, с целью удешевления конструкции, что и сказалось на тушении здания энергоблока (тушение продолжалось всю ночь, многие пожарные получили смертельные дозы излуч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Безопасность была на 2-ом план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Недостатки реактора РБМК-1000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актор становится практически неуправляемым на сверхнизкой мощности, необходимо сразу его глушить, но результат был непредвиденным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ое количество трубопроводов и различных вспомогательных подсистем требует наличия большого количества высококвалифицированного персонала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обходимость проведения поканального регулирования расходов, что может повлечь за собой аварии, связанные с прекращением расхода теплоносителя через кана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ее высокая нагрузка на оперативный персонал, связанная с большим количеством узлов (например запорно-регулирующей арматуры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ее количество активированных конструкционных материалов из-за больших размеров АЗ и металлоёмкости РБМК, остающихся после вывода из эксплуатации и требующих утил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441972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первые часы после аварии, многие не сознавали, насколько сильно повреждён реактор, поэтому было принято ошибочное решение обеспечить подачу воды в активную зону реактора для её охлаждения. Эти усилия оказались бесполезны, так как и трубопроводы, и сама активная зона были разрушены, из-за чего требовалось вести работы в зонах с высокой радиацией. Другие действия персонала станции, такие как тушение локальных очагов пожаров в помещениях станции, меры, направленные на предотвращение возможного взрыва напротив, были необходимыми. Возможно, они предотвратили ещё более серьёзные последствия. При выполнении этих работ многие сотрудники станции получили большие дозы радиации, а некоторые даже смертельные. Выброс привёл к гибели деревьев рядом с АЭС на площади около 10 км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4165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жарные не дали огню перекинуться на третий блок (у 3-го и 4-го энергоблоков единые переходы). Из средств защиты у пожарных была только боёвка (брезентовая роба), каска и рукавицы. В противогазах работать было невозможно из-за высокой температуры горения, их пожарные сняли уже в первые 10 минут. Вместо огнестойкого покрытия, как было положено по инструкции, крыша машинного зала была залита обычным горючим битумом. Примерно к 2 часам ночи появились первые поражённые из числа пожарных. У них стала проявляться слабость, рвота, «ядерный загар», а после снятия рукавиц снималась и кожа с рук. Помощь им оказывали на месте, в медпункте станции, после чего переправляли в городскую больницу Припяти. 27 апреля первую группу пострадавших из 28 человек отправили самолетом в Москву, в 6-ю радиологическую больницу. Практически не пострадали водители пожарных автомоби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753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вое официальное сообщение было сделано по телевидению 28 апреля. В довольно сухом сообщении сообщалось о факте аварии и двух погибших, об истинных масштабах катастрофы стали сообщать позж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сле оценки масштабов радиоактивного загрязнения стало понятно, что потребуется эвакуация города Припять, которая была проведена 27 апреля. В первые дни после аварии было эвакуировано население 10-километровой зоны. В последующие дни было эвакуировано население других населённых пунктов 30-километровой зон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прещалось брать с собой вещи, многие были эвакуированы в домашней одежде. Чтобы не раздувать панику, сообщалось, что эвакуированные вернутся домой через три дня. Безопасные пути движения колонн эвакуированного населения определялись с учётом уже полученных данных радиационной разведки. Несмотря на это, ни 26, ни 27 апреля жителей не предупредили о существующей опасности и не дали никаких рекомендаций о том, как следует себя вести, чтобы уменьшить влияние радиоактивного загрязн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400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30-километровую зону вокруг ЧАЭС стали прибывать специалисты, командированные для проведения работ на аварийном блоке и вокруг него, а также воинские части, как регулярные, так и составленные из срочно призванных резервистов. Их всех позднее стали называть «ликвидаторами». Ликвидаторы работали в опасной зоне посменно: те, кто набрал максимально допустимую дозу радиации, уезжали, а на их место приезжали другие. Основная часть работ была выполнена в 1986—1987 годах, в них приняли участие примерно 240 000 человек. Общее количество ликвидаторов (включая последующие годы) составило около 600 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392200"/>
            <a:ext cx="5410080" cy="446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5000" y="6248520"/>
            <a:ext cx="44956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ЛАЯ ИМ ПАМЯ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остой пользователь</cp:lastModifiedBy>
  <dcterms:modified xsi:type="dcterms:W3CDTF">2011-03-11T06:07:5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